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34B4-86E1-4ECD-981C-2C5602CF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75B6-1CE1-4012-AF0E-FDD700C1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A35B-B2D6-4FDC-BD24-DD3A5CCC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2734-2750-4318-8A4F-7162FD80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F7AF-D8DC-4EF6-AB83-397844AE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BDFA-AA12-42D7-8B6B-EC4431D1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9B56-FB6C-4B35-9229-8CC84C1C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8E8-2F11-46C7-93C9-BD1E1E75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6867-E7DA-4929-BEBE-23F9C546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DD4-CE5B-4B35-A1DE-1F7D5C76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5836-1546-406E-B1D0-C53EF055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0BDA-4A92-4ED3-8956-091D232B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AD7F-1FCE-4B52-8CD2-047D67E365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76000"/>
          </a:xfrm>
          <a:prstGeom prst="rect">
            <a:avLst/>
          </a:prstGeom>
          <a:solidFill>
            <a:srgbClr val="fcd5b5"/>
          </a:solidFill>
          <a:ln w="9360">
            <a:solidFill>
              <a:srgbClr val="fac0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ГБОУИ «Лицей имени Кирилла и Мефоди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1412640"/>
            <a:ext cx="7777080" cy="4824360"/>
          </a:xfrm>
          <a:prstGeom prst="rect">
            <a:avLst/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Иванова Ольга Викто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к.ф.н., 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64a2"/>
                </a:solidFill>
                <a:latin typeface="Arial Black"/>
              </a:rPr>
              <a:t>МАСТЕР-КЛАС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64a2"/>
                </a:solidFill>
                <a:latin typeface="Arial Black"/>
              </a:rPr>
              <a:t>ОБЩЕКУЛЬТУРНОЕ ЗНАЧЕНИЕ ИМЕНИ МАР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64a2"/>
                </a:solidFill>
                <a:latin typeface="Arial Black"/>
              </a:rPr>
              <a:t>(коннотативное моделирование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4360" y="907560"/>
            <a:ext cx="7775280" cy="56898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Franklin Gothic Book"/>
              </a:rPr>
              <a:t>Этап мотивации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номастика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наука, изучающая имена собственные. От греч.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omastike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«искусство давать имена», или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omastikys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относящийся к наименова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еческое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лово </a:t>
            </a:r>
            <a:r>
              <a:rPr b="0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oma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ереводится как «имя, наречение», поэтому в научной литературе имя собственное принято называть словом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4360" y="907560"/>
            <a:ext cx="7775280" cy="56898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Franklin Gothic Book"/>
              </a:rPr>
              <a:t>Этап мотивации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нятие «имя»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чень древнее, и этимология его расплывчата. Это слово некоторые ученые сближают с древнерусским ИМЪТИ – «иметь», «считать», «принимать за кого-либо или за что-либо». Другие считают, что слово восходит к древнеиндийскому ИЮОТИ – «отделяет», т.е. имя дается для того, чтобы отличать людей или животных друг от дру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4360" y="907560"/>
            <a:ext cx="7775280" cy="56898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Franklin Gothic Book"/>
              </a:rPr>
              <a:t>Этап мотивации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7375e"/>
                </a:solidFill>
                <a:latin typeface="Franklin Gothic Book"/>
              </a:rPr>
              <a:t>Сила имени – дело политическ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 конце 10 века киевский князь Владимир искал сильного союзника против степных кочевников, совершавших опустошительные набеги на Русь. Такого союзника он увидел в лице Византийского императора. Чтобы скрепить союз, князь Владимир согласился на крещение Руси. В ходе крещения необходимо было заменить языческое имя на имя христианское. С этого времени на Руси появились Иваны и Марьи, Петры и Анны, Глебы и Зо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10920" y="1125360"/>
            <a:ext cx="7848360" cy="5183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учение </a:t>
            </a: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ецедентное имя </a:t>
            </a: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имя, событие общественно-политического, исторического значения, которое известно большинству. Это имена, формирующие особый, глубинный смысл всего высказывания. Прецедентные имена связаны с широко известным текстом (Обломов, Чичиков, Гамлет, Дон Кихот) или с ситуацией, широко известной носителям языка (Иван Сусанин), в том числе и топонимы (Аустерлиц, Куликово поле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10920" y="1125360"/>
            <a:ext cx="7848360" cy="5183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учение </a:t>
            </a: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азряды онимов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тропоним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поним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идроним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ооним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смонимы, астроним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оним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фонимы и други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Существует более 30 вариантов классификаций оним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Этап индук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10920" y="1125360"/>
            <a:ext cx="7848360" cy="5183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5972040" y="343044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"/>
          <p:cNvPicPr/>
          <p:nvPr/>
        </p:nvPicPr>
        <p:blipFill>
          <a:blip r:embed="rId2"/>
          <a:stretch/>
        </p:blipFill>
        <p:spPr>
          <a:xfrm>
            <a:off x="712800" y="3430440"/>
            <a:ext cx="2614680" cy="23749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"/>
          <p:cNvPicPr/>
          <p:nvPr/>
        </p:nvPicPr>
        <p:blipFill>
          <a:blip r:embed="rId3"/>
          <a:stretch/>
        </p:blipFill>
        <p:spPr>
          <a:xfrm>
            <a:off x="3327480" y="3625920"/>
            <a:ext cx="2644560" cy="19843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"/>
          <p:cNvPicPr/>
          <p:nvPr/>
        </p:nvPicPr>
        <p:blipFill>
          <a:blip r:embed="rId4"/>
          <a:stretch/>
        </p:blipFill>
        <p:spPr>
          <a:xfrm>
            <a:off x="3554280" y="1127160"/>
            <a:ext cx="196236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Этап индук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10920" y="1125360"/>
            <a:ext cx="7848360" cy="5183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ван да Марь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3" descr=""/>
          <p:cNvPicPr/>
          <p:nvPr/>
        </p:nvPicPr>
        <p:blipFill>
          <a:blip r:embed="rId1"/>
          <a:stretch/>
        </p:blipFill>
        <p:spPr>
          <a:xfrm>
            <a:off x="5972040" y="343044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"/>
          <p:cNvPicPr/>
          <p:nvPr/>
        </p:nvPicPr>
        <p:blipFill>
          <a:blip r:embed="rId2"/>
          <a:stretch/>
        </p:blipFill>
        <p:spPr>
          <a:xfrm>
            <a:off x="712800" y="3430440"/>
            <a:ext cx="2614680" cy="23749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"/>
          <p:cNvPicPr/>
          <p:nvPr/>
        </p:nvPicPr>
        <p:blipFill>
          <a:blip r:embed="rId3"/>
          <a:stretch/>
        </p:blipFill>
        <p:spPr>
          <a:xfrm>
            <a:off x="3327480" y="3625920"/>
            <a:ext cx="264456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Этап самоконструкции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 (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социоконструкци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8040" y="1267920"/>
            <a:ext cx="7848720" cy="48452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Овал 3"/>
          <p:cNvSpPr/>
          <p:nvPr/>
        </p:nvSpPr>
        <p:spPr>
          <a:xfrm>
            <a:off x="3056040" y="1508040"/>
            <a:ext cx="2952720" cy="141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alibri"/>
              </a:rPr>
              <a:t>МАР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ассоциативное п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Овал 4"/>
          <p:cNvSpPr/>
          <p:nvPr/>
        </p:nvSpPr>
        <p:spPr>
          <a:xfrm>
            <a:off x="971640" y="3500280"/>
            <a:ext cx="16812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Овал 5"/>
          <p:cNvSpPr/>
          <p:nvPr/>
        </p:nvSpPr>
        <p:spPr>
          <a:xfrm>
            <a:off x="2843280" y="4292640"/>
            <a:ext cx="151272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Овал 6"/>
          <p:cNvSpPr/>
          <p:nvPr/>
        </p:nvSpPr>
        <p:spPr>
          <a:xfrm>
            <a:off x="5099040" y="4273560"/>
            <a:ext cx="148896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7"/>
          <p:cNvSpPr/>
          <p:nvPr/>
        </p:nvSpPr>
        <p:spPr>
          <a:xfrm>
            <a:off x="6588000" y="3359160"/>
            <a:ext cx="16560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Прямая со стрелкой 9"/>
          <p:cNvCxnSpPr/>
          <p:nvPr/>
        </p:nvCxnSpPr>
        <p:spPr>
          <a:xfrm>
            <a:off x="5891040" y="2511360"/>
            <a:ext cx="9151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Прямая со стрелкой 11"/>
          <p:cNvCxnSpPr/>
          <p:nvPr/>
        </p:nvCxnSpPr>
        <p:spPr>
          <a:xfrm>
            <a:off x="4892400" y="2968560"/>
            <a:ext cx="523080" cy="1107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2" name="Прямая со стрелкой 15"/>
          <p:cNvCxnSpPr/>
          <p:nvPr/>
        </p:nvCxnSpPr>
        <p:spPr>
          <a:xfrm flipH="1">
            <a:off x="3660480" y="2925360"/>
            <a:ext cx="396000" cy="115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3" name="Прямая со стрелкой 17"/>
          <p:cNvCxnSpPr/>
          <p:nvPr/>
        </p:nvCxnSpPr>
        <p:spPr>
          <a:xfrm flipH="1">
            <a:off x="2012400" y="2361960"/>
            <a:ext cx="1369080" cy="11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Этап социализации (афиширования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000" y="1293840"/>
            <a:ext cx="7848360" cy="48448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Овал 3"/>
          <p:cNvSpPr/>
          <p:nvPr/>
        </p:nvSpPr>
        <p:spPr>
          <a:xfrm>
            <a:off x="3056040" y="1508040"/>
            <a:ext cx="2952720" cy="141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alibri"/>
              </a:rPr>
              <a:t>МАР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ассоциативное п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Овал 4"/>
          <p:cNvSpPr/>
          <p:nvPr/>
        </p:nvSpPr>
        <p:spPr>
          <a:xfrm>
            <a:off x="971640" y="3500280"/>
            <a:ext cx="16812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Женское имя вообщ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Овал 5"/>
          <p:cNvSpPr/>
          <p:nvPr/>
        </p:nvSpPr>
        <p:spPr>
          <a:xfrm>
            <a:off x="2124000" y="4292640"/>
            <a:ext cx="251928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Составная часть мужского им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Овал 6"/>
          <p:cNvSpPr/>
          <p:nvPr/>
        </p:nvSpPr>
        <p:spPr>
          <a:xfrm>
            <a:off x="5099040" y="4273560"/>
            <a:ext cx="207648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Дева Мария, Богород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Овал 7"/>
          <p:cNvSpPr/>
          <p:nvPr/>
        </p:nvSpPr>
        <p:spPr>
          <a:xfrm>
            <a:off x="6570720" y="3259080"/>
            <a:ext cx="165564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Символ женского нача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" name="Прямая со стрелкой 9"/>
          <p:cNvCxnSpPr/>
          <p:nvPr/>
        </p:nvCxnSpPr>
        <p:spPr>
          <a:xfrm>
            <a:off x="5891040" y="2511360"/>
            <a:ext cx="9151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Прямая со стрелкой 11"/>
          <p:cNvCxnSpPr/>
          <p:nvPr/>
        </p:nvCxnSpPr>
        <p:spPr>
          <a:xfrm>
            <a:off x="4892400" y="2968560"/>
            <a:ext cx="523080" cy="1107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3" name="Прямая со стрелкой 15"/>
          <p:cNvCxnSpPr/>
          <p:nvPr/>
        </p:nvCxnSpPr>
        <p:spPr>
          <a:xfrm flipH="1">
            <a:off x="3660480" y="2925360"/>
            <a:ext cx="396000" cy="115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Прямая со стрелкой 17"/>
          <p:cNvCxnSpPr/>
          <p:nvPr/>
        </p:nvCxnSpPr>
        <p:spPr>
          <a:xfrm flipH="1">
            <a:off x="2012400" y="2361960"/>
            <a:ext cx="1369080" cy="11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1080" y="258480"/>
            <a:ext cx="7918200" cy="8636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Этап разрыва (озарения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0920" y="1125360"/>
            <a:ext cx="7848360" cy="5183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то нового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то лишнее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то необходимо уточнить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STR 67-7"/>
          <p:cNvPicPr/>
          <p:nvPr/>
        </p:nvPicPr>
        <p:blipFill>
          <a:blip r:embed="rId1"/>
          <a:stretch/>
        </p:blipFill>
        <p:spPr>
          <a:xfrm>
            <a:off x="608040" y="1125360"/>
            <a:ext cx="16732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863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Цель для учащихся: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благоприятных условий для развития исследовательской деятельности участников мастер-класса в области лингвистики посредством формирования общекультурных ассоциаций на примере работы с именем Мар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523800" y="334800"/>
            <a:ext cx="7937640" cy="1219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775280" cy="48243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 «Словаре русских личных имен» Н.А. Петровского (1966) Мария: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р.-евр. имя </a:t>
            </a:r>
            <a:r>
              <a:rPr b="0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riam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противиться, отвергать»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с.151); В.А. Никонов отмечает спорность этимологии антропонима: один вариант значения -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горькая»,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торой –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госпожа»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1988, с. 82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Мария – библейский антропоним. Имя сестры Лазаря и Марфы из Вифании (Новый Завет, Евангелие от Луки 38-42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523800" y="476280"/>
            <a:ext cx="7937640" cy="11034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775280" cy="47530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писателя или поэта не всегда является важным исконное значение имени, скорее более глубоким будет внутреннее, духовное, народное его наполн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ществует «Словарь коннотативных имен» В.Отина, где собраны онимы, вызывающие одинаковые общие ассоциации. Например, </a:t>
            </a:r>
            <a:r>
              <a:rPr b="0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рия 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«женщина-мать, духовное начало в человеке, небесный путь служения, возвышенная мечтательница»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40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  </a:t>
            </a:r>
            <a:br>
              <a:rPr sz="2800"/>
            </a:br>
            <a:r>
              <a:rPr b="0" lang="ru-RU" sz="28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имя матери Иисуса Христа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ва Мария, Богоматерь, Богородица, Присноде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680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4" name="Рисунок 4" descr=""/>
          <p:cNvPicPr/>
          <p:nvPr/>
        </p:nvPicPr>
        <p:blipFill>
          <a:blip r:embed="rId1"/>
          <a:stretch/>
        </p:blipFill>
        <p:spPr>
          <a:xfrm>
            <a:off x="4754520" y="1984320"/>
            <a:ext cx="3097080" cy="3733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"/>
          <p:cNvPicPr/>
          <p:nvPr/>
        </p:nvPicPr>
        <p:blipFill>
          <a:blip r:embed="rId2"/>
          <a:stretch/>
        </p:blipFill>
        <p:spPr>
          <a:xfrm>
            <a:off x="1187280" y="1984320"/>
            <a:ext cx="27482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40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  </a:t>
            </a:r>
            <a:br>
              <a:rPr sz="2800"/>
            </a:br>
            <a:r>
              <a:rPr b="0" lang="ru-RU" sz="28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. Пушкин и А. Мицке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680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частие в тайных молодёжных организациях Мицкевич был арестован и в 1824 году выслан в центральные губернии Ро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лижение Мицкевича с декабристами объясняется общностью задач национально-освободительной борьбы, которую вели тогда и русские и поля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7" descr="http://wildvacations.ru/files/uploads/mitzkevich/Balaklava.jpg"/>
          <p:cNvPicPr/>
          <p:nvPr/>
        </p:nvPicPr>
        <p:blipFill>
          <a:blip r:embed="rId1"/>
          <a:stretch/>
        </p:blipFill>
        <p:spPr>
          <a:xfrm>
            <a:off x="2865600" y="2706840"/>
            <a:ext cx="3412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40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. Пушкин и А. Мицке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680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образным «лирическим дневником» путешествия по Крыму стали «Крымские сонеты», которые он опубликовал в 1826 году в Москве. Это история любви крымского хана Гирея к прекрасной польке Марии, в память о которой хан воздвиг каменный фонтан в бахчисарайском дворц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7" descr="http://wildvacations.ru/files/uploads/mitzkevich/38968192_Bryullov.jpg"/>
          <p:cNvPicPr/>
          <p:nvPr/>
        </p:nvPicPr>
        <p:blipFill>
          <a:blip r:embed="rId1"/>
          <a:stretch/>
        </p:blipFill>
        <p:spPr>
          <a:xfrm>
            <a:off x="2422440" y="3573360"/>
            <a:ext cx="429912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Этап рефлек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10920" y="1125360"/>
            <a:ext cx="7848360" cy="5183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н да Марь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3" descr=""/>
          <p:cNvPicPr/>
          <p:nvPr/>
        </p:nvPicPr>
        <p:blipFill>
          <a:blip r:embed="rId1"/>
          <a:stretch/>
        </p:blipFill>
        <p:spPr>
          <a:xfrm>
            <a:off x="5972040" y="343044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"/>
          <p:cNvPicPr/>
          <p:nvPr/>
        </p:nvPicPr>
        <p:blipFill>
          <a:blip r:embed="rId2"/>
          <a:stretch/>
        </p:blipFill>
        <p:spPr>
          <a:xfrm>
            <a:off x="712800" y="3430440"/>
            <a:ext cx="2614680" cy="23749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5" descr=""/>
          <p:cNvPicPr/>
          <p:nvPr/>
        </p:nvPicPr>
        <p:blipFill>
          <a:blip r:embed="rId3"/>
          <a:stretch/>
        </p:blipFill>
        <p:spPr>
          <a:xfrm>
            <a:off x="3327480" y="3625920"/>
            <a:ext cx="264456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Этап рефлек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10920" y="1125360"/>
            <a:ext cx="7848360" cy="5183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н да Марь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98989"/>
                </a:solidFill>
                <a:latin typeface="Calibri"/>
              </a:rPr>
              <a:t>Иван да Мария–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3" descr=""/>
          <p:cNvPicPr/>
          <p:nvPr/>
        </p:nvPicPr>
        <p:blipFill>
          <a:blip r:embed="rId1"/>
          <a:stretch/>
        </p:blipFill>
        <p:spPr>
          <a:xfrm>
            <a:off x="5972040" y="343044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"/>
          <p:cNvPicPr/>
          <p:nvPr/>
        </p:nvPicPr>
        <p:blipFill>
          <a:blip r:embed="rId2"/>
          <a:stretch/>
        </p:blipFill>
        <p:spPr>
          <a:xfrm>
            <a:off x="712800" y="3430440"/>
            <a:ext cx="2614680" cy="23749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5" descr=""/>
          <p:cNvPicPr/>
          <p:nvPr/>
        </p:nvPicPr>
        <p:blipFill>
          <a:blip r:embed="rId3"/>
          <a:stretch/>
        </p:blipFill>
        <p:spPr>
          <a:xfrm>
            <a:off x="3327480" y="3625920"/>
            <a:ext cx="264456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367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 рефлек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4360" y="1557000"/>
            <a:ext cx="7775280" cy="48243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2700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17375e"/>
                </a:solidFill>
                <a:uFillTx/>
                <a:latin typeface="Calibri"/>
              </a:rPr>
              <a:t>Формы им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Документаль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Полная разговор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Сокращенная разговор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Деминути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Сниженная разговор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367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обретенный исследовательский навы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4360" y="1557000"/>
            <a:ext cx="7775280" cy="48243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27000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расширить знания и представления об окружающем мире, увидеть бесконечность его позна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- работать с различными источниками информации, осуществлять выбор наиболее значимого содержания из имеющегося информационного массив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- сформировать научно-исследовательские навык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- реализовать личный творческий потенциал, самоутвердитьс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- воспитать не знатока-исполнителя, а </a:t>
            </a:r>
            <a:r>
              <a:rPr b="0" lang="ru-RU" sz="2400" spc="-1" strike="noStrike" u="sng">
                <a:solidFill>
                  <a:srgbClr val="8064a2"/>
                </a:solidFill>
                <a:uFillTx/>
                <a:latin typeface="Times New Roman"/>
                <a:ea typeface="Times New Roman"/>
              </a:rPr>
              <a:t>созидателя</a:t>
            </a:r>
            <a:r>
              <a:rPr b="0" lang="ru-RU" sz="24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863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marL="2286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Цель для взрослых участников мастер–класса: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комить слушателей–участников с системой работы в области учебных ономастических исследований, научить приемам ономастического коннотативного моделирования; способствовать формированию интереса к изучению имен собственны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marL="2286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5" descr=""/>
          <p:cNvPicPr/>
          <p:nvPr/>
        </p:nvPicPr>
        <p:blipFill>
          <a:blip r:embed="rId1"/>
          <a:stretch/>
        </p:blipFill>
        <p:spPr>
          <a:xfrm>
            <a:off x="3232080" y="4281480"/>
            <a:ext cx="2708280" cy="21668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755640" y="1257480"/>
            <a:ext cx="7896240" cy="3035160"/>
          </a:xfrm>
          <a:prstGeom prst="rect">
            <a:avLst/>
          </a:prstGeom>
          <a:solidFill>
            <a:srgbClr val="fcd5b5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мя не безделица: недаром же Наполеон, чтобы получить великое имя, вдребезги расколотил чуть ли не половину человечества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Овал 7"/>
          <p:cNvSpPr/>
          <p:nvPr/>
        </p:nvSpPr>
        <p:spPr>
          <a:xfrm>
            <a:off x="5665680" y="3457440"/>
            <a:ext cx="2737080" cy="65592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76092"/>
                </a:solidFill>
                <a:latin typeface="Calibri"/>
              </a:rPr>
              <a:t>Joyann Wolfgang von Goe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61786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marL="2286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8064360" y="55440"/>
            <a:ext cx="1079640" cy="11415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42840" y="2505240"/>
            <a:ext cx="5943600" cy="4321080"/>
          </a:xfrm>
          <a:prstGeom prst="rect">
            <a:avLst/>
          </a:prstGeom>
          <a:solidFill>
            <a:srgbClr val="fcd5b5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еня зовут Али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акое глупое имя, - нетерпеливо прервал ее Шалтай-Болтай. – Что оно значи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азве имя должно что-то значить? – проговорила Алиса с сомнени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онечно, должно, - ответил Шалтай-Болтай и фыркнул. – Возьмем, к примеру, мое имя. Оно выражает мою суть!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А с таким именем, как у тебя, ты можешь оказаться чем угодно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7"/>
          <p:cNvSpPr/>
          <p:nvPr/>
        </p:nvSpPr>
        <p:spPr>
          <a:xfrm>
            <a:off x="3203640" y="6066000"/>
            <a:ext cx="2736720" cy="65556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76092"/>
                </a:solidFill>
                <a:latin typeface="Calibri"/>
              </a:rPr>
              <a:t>Льюис Кэррол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2"/>
          <a:stretch/>
        </p:blipFill>
        <p:spPr>
          <a:xfrm>
            <a:off x="2921040" y="214200"/>
            <a:ext cx="51418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4360" y="907560"/>
            <a:ext cx="7775280" cy="56898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Franklin Gothic Book"/>
              </a:rPr>
              <a:t>Историческая справ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ей–мужественны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–защитник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гений–благородны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–победител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ликс–прекрас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горий–бди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ей–помощ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фья–мудр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нтина–силь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мила–милая людям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4360" y="907560"/>
            <a:ext cx="7775280" cy="56898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Franklin Gothic Book"/>
              </a:rPr>
              <a:t>Методический сов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d0d0d"/>
                </a:solidFill>
                <a:latin typeface="Monotype Corsiva"/>
              </a:rPr>
              <a:t>Любое исследование в области ономастики следует начинать с анализа ассоциативных ряд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d0d0d"/>
                </a:solidFill>
                <a:latin typeface="Monotype Corsiva"/>
              </a:rPr>
              <a:t>Второй этап – справочная литература (словари)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4360" y="907560"/>
            <a:ext cx="7775280" cy="56898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Franklin Gothic Book"/>
              </a:rPr>
              <a:t>Лингвистическая справ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оаннэс – по греко-византийс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оганн и Ганс (Ханс) – по-немец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жованни – по-итальянс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Юхан – по-эстонс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Янис – по-латышс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Ян – по-польс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жон – по-английс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Жан – по-французс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ванэ – по-грузинс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Хуан – по-испански</a:t>
            </a:r>
            <a:r>
              <a:rPr b="0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4360" y="907560"/>
            <a:ext cx="7775280" cy="56898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Franklin Gothic Book"/>
              </a:rPr>
              <a:t>Историко–лингвистическая справ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Электрифик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ндуст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Энер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Химиз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рактори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непрогэ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агнитостр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онбасс</a:t>
            </a:r>
            <a:r>
              <a:rPr b="0" lang="ru-RU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Times New Roman"/>
              </a:rPr>
              <a:t>Много ли известных людей с этими именами отсталось в истори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0:40:21Z</dcterms:created>
  <dc:creator>XXX</dc:creator>
  <dc:description/>
  <dc:language>en-US</dc:language>
  <cp:lastModifiedBy>ADMIN</cp:lastModifiedBy>
  <dcterms:modified xsi:type="dcterms:W3CDTF">2017-01-07T19:54:38Z</dcterms:modified>
  <cp:revision>85</cp:revision>
  <dc:subject/>
  <dc:title>СОГОУ «Педагогический лицей-интернат имени Кирилла и Мефодия»</dc:title>
</cp:coreProperties>
</file>