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3E0A-9131-4DC9-91F6-E47FDABB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D173-AEFF-4643-BBA1-9D992B01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428F-DB37-4D67-8804-FCEC6270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01B-74C3-4CDE-8212-FEBC0CB3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5E4-B7FB-4A37-9683-19A992E1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9912-0146-4F2E-BD42-ACD66C40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D9B-5399-42E1-832C-A4DA4AC2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5B6D-B6B3-4B41-97DB-2FD9954F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F4A6-2459-4C1B-98BC-71BFE097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0766-A2A0-40B9-AB27-CC568BBE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77B5-CECB-4D4A-906B-91102DC2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04FE-097A-4915-90C8-45F40051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5188-46DF-428F-8796-D44E8D40DB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000" y="1000080"/>
            <a:ext cx="8224920" cy="540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r>
              <a:rPr b="1" lang="ru-RU" sz="2400" spc="-1" strike="noStrike">
                <a:solidFill>
                  <a:srgbClr val="262626"/>
                </a:solidFill>
                <a:latin typeface="Calibri Light"/>
              </a:rPr>
              <a:t>Отчет творческой группы учителей в рамках работы инновационной площадки</a:t>
            </a: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Calibri Light"/>
              </a:rPr>
              <a:t> </a:t>
            </a:r>
            <a:r>
              <a:rPr b="1" lang="ru-RU" sz="2800" spc="-1" strike="noStrike">
                <a:solidFill>
                  <a:srgbClr val="262626"/>
                </a:solidFill>
                <a:latin typeface="Calibri Light"/>
              </a:rPr>
              <a:t>«Проектирование индивидуальной образовательной траектории обучающихся как фактор развития их одаренности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262626"/>
                </a:solidFill>
                <a:latin typeface="Calibri Light"/>
              </a:rPr>
              <a:t>Иванова О.В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262626"/>
                </a:solidFill>
                <a:latin typeface="Calibri Light"/>
              </a:rPr>
              <a:t>2015 г.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9760" y="5404320"/>
            <a:ext cx="68580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работы с группой одаренных детей, проек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1 полугодие 2014-2015 уч.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водное занятие по теме «Исследовательская работа. Основные понят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2459160" y="4002120"/>
            <a:ext cx="42256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28560" y="174276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работы с группой одаренных детей, проек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1 полугодие 2014-2015 уч.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ирование. Выявление дивергентного мыш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работает педагог-психоло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работы с группой одаренных детей, проек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8 А клас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2 полугодие 2014-2015 уч.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7080" algn="ctr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ктическое занятие «Верная цель – верный результат» (обучение постановки и формулированию целей и задач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7080" algn="ctr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оретико-практическое занятие по основным понятиям исследовательской работы со специалистом из Смоленского государственного университета. (Приложени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7080" algn="ctr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ющий лекторий «Теория и практика. Где взаимосвязь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708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спериментальная работа. Обмен опы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708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работы с группой одаренных детей, проек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2 полугодие 2014-2015 уч.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оретико-практическое занятие по основным понятиям исследовательской работы со специалистом из Смоленского государственного универс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C:\Users\FIL\Desktop\Мазур\P1016870.JPG"/>
          <p:cNvPicPr/>
          <p:nvPr/>
        </p:nvPicPr>
        <p:blipFill>
          <a:blip r:embed="rId1"/>
          <a:stretch/>
        </p:blipFill>
        <p:spPr>
          <a:xfrm>
            <a:off x="2759040" y="4170240"/>
            <a:ext cx="34624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5280" y="1798200"/>
            <a:ext cx="8893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ка диагностического матери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этап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явить учащихся с актуальной одаренностью и потенциальной одаренность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уднос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аботанный диагностический материал в большинстве носит субъективный характер и составлен на основе тех предметов, которые учителя преподают в школ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ти преодо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ть единую (универсальную) диагностику выявления исследовательских способностей и разработать универсальную траекторию для формирования исследовательских компетенц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280" y="1798200"/>
            <a:ext cx="8893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провожд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этап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ать технологию тьюторского сопровождения, разработать шаблон индивидуальной карты сопровождения исследовательского проек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уднос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5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ниверсальной карты сопровождения не удается разработать в силу того, что отдельно взятая исследовательская работа выстраивается под определенного учен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ти преодо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5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ать под определенные группы исследовательских интересов учащихся соответствующие универсальные траектории сопровож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25280" y="1798200"/>
            <a:ext cx="8893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формление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тульный лис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главлен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обозначения и сокращения (если необходимо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ы основной части (с краткими и четкими выводами по каждой главе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по работ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ованной литератур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(если необходимо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5280" y="1798200"/>
            <a:ext cx="8893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ерии эффектив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ртфолио ученика (группы учащихся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игиналы или копии исследовательских или проектных работ (можно на электронных носителя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зывы и рецензии преподавателей, внешних экспертов, работающих в представляемой области интерес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амоты, дипломы, сертификаты полученные учащимися во время участия в различных конкурсах и акци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чные портфолио наиболее успешных учащихся служат отличным примером высокой результативности исследовательской деятельности, что также повышает мотивацию деятельности других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6680" y="1825200"/>
            <a:ext cx="87422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БЛ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сформированность исследовательской компетенции у обучаю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ЧИ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сутствие представлений об учебно-поисковой, исследовательской работе; отсутствие базы заданий исследовательского характера в рамках 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"/>
          <p:cNvPicPr/>
          <p:nvPr/>
        </p:nvPicPr>
        <p:blipFill>
          <a:blip r:embed="rId1"/>
          <a:stretch/>
        </p:blipFill>
        <p:spPr>
          <a:xfrm>
            <a:off x="419040" y="1263600"/>
            <a:ext cx="16732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ведение обязательного индивидуального исследовательского проекта на ступени среднего общего образования в соответствии с ФГО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25400" y="17143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бщая цел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формировать навыки исследовательской работы учащихся; разработать и апробировать модель педагогического сопровождения исследовательской деятельности уча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9080" y="365040"/>
            <a:ext cx="788652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66320" y="1825200"/>
            <a:ext cx="88520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дач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ь сферу интересов учащихся, диагностировать уровень сформированности исследовательских навыков (на входе), исследовательской компетенции (на выходе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ать педагогический инструментарий, разработать критерии исследовательской компетенци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ать индивидуальные карты сопровождения исследовательской деятельност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ать индивидуальные исследовательские маршру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1920" y="1825200"/>
            <a:ext cx="87836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дачи частного характер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ение работе со справочной литературо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рнет-ресурсам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представлений о научном исследовании (методология, структура, постановка целей, задач, формулирование гипотезы и т.д.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ение систематизации материал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умения представлять, защищать результаты своей работы и прогнозировать дальнейшие пути развит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28560" y="16873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пы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вал 1"/>
          <p:cNvSpPr/>
          <p:nvPr/>
        </p:nvSpPr>
        <p:spPr>
          <a:xfrm>
            <a:off x="179280" y="2635200"/>
            <a:ext cx="3270240" cy="914400"/>
          </a:xfrm>
          <a:prstGeom prst="ellipse">
            <a:avLst/>
          </a:prstGeom>
          <a:solidFill>
            <a:srgbClr val="b4c7e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Calibri"/>
              </a:rPr>
              <a:t>ДИАГНОСТИЧЕ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2"/>
          <p:cNvSpPr/>
          <p:nvPr/>
        </p:nvSpPr>
        <p:spPr>
          <a:xfrm>
            <a:off x="5176800" y="2611440"/>
            <a:ext cx="2924280" cy="914400"/>
          </a:xfrm>
          <a:prstGeom prst="ellipse">
            <a:avLst/>
          </a:prstGeom>
          <a:solidFill>
            <a:srgbClr val="b4c7e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Calibri"/>
              </a:rPr>
              <a:t>СОПРОВО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4"/>
          <p:cNvSpPr/>
          <p:nvPr/>
        </p:nvSpPr>
        <p:spPr>
          <a:xfrm>
            <a:off x="1011240" y="4562640"/>
            <a:ext cx="2965320" cy="914400"/>
          </a:xfrm>
          <a:prstGeom prst="ellipse">
            <a:avLst/>
          </a:prstGeom>
          <a:solidFill>
            <a:srgbClr val="b4c7e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Calibri"/>
              </a:rPr>
              <a:t>РЕЗУЛЬТАТ ВНУТРЕН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5"/>
          <p:cNvSpPr/>
          <p:nvPr/>
        </p:nvSpPr>
        <p:spPr>
          <a:xfrm>
            <a:off x="4572000" y="4562640"/>
            <a:ext cx="2825640" cy="914400"/>
          </a:xfrm>
          <a:prstGeom prst="ellipse">
            <a:avLst/>
          </a:prstGeom>
          <a:solidFill>
            <a:srgbClr val="b4c7e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Calibri"/>
              </a:rPr>
              <a:t>РЕЗУЛЬТАТ ВНЕШ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Прямая со стрелкой 10"/>
          <p:cNvCxnSpPr/>
          <p:nvPr/>
        </p:nvCxnSpPr>
        <p:spPr>
          <a:xfrm flipH="1">
            <a:off x="3247560" y="2286000"/>
            <a:ext cx="1046880" cy="567360"/>
          </a:xfrm>
          <a:prstGeom prst="straightConnector1">
            <a:avLst/>
          </a:prstGeom>
          <a:ln w="6480">
            <a:solidFill>
              <a:srgbClr val="203864"/>
            </a:solidFill>
            <a:miter/>
            <a:tailEnd len="med" type="triangle" w="med"/>
          </a:ln>
        </p:spPr>
      </p:cxnSp>
      <p:cxnSp>
        <p:nvCxnSpPr>
          <p:cNvPr id="61" name="Прямая со стрелкой 15"/>
          <p:cNvCxnSpPr/>
          <p:nvPr/>
        </p:nvCxnSpPr>
        <p:spPr>
          <a:xfrm>
            <a:off x="4390560" y="2313000"/>
            <a:ext cx="823320" cy="567360"/>
          </a:xfrm>
          <a:prstGeom prst="straightConnector1">
            <a:avLst/>
          </a:prstGeom>
          <a:ln w="64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62" name="Прямая со стрелкой 22"/>
          <p:cNvCxnSpPr/>
          <p:nvPr/>
        </p:nvCxnSpPr>
        <p:spPr>
          <a:xfrm>
            <a:off x="4322520" y="2374560"/>
            <a:ext cx="1143720" cy="2113560"/>
          </a:xfrm>
          <a:prstGeom prst="straightConnector1">
            <a:avLst/>
          </a:prstGeom>
          <a:ln w="64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63" name="Прямая со стрелкой 25"/>
          <p:cNvCxnSpPr/>
          <p:nvPr/>
        </p:nvCxnSpPr>
        <p:spPr>
          <a:xfrm flipH="1">
            <a:off x="3061800" y="2374560"/>
            <a:ext cx="1242000" cy="2113560"/>
          </a:xfrm>
          <a:prstGeom prst="straightConnector1">
            <a:avLst/>
          </a:prstGeom>
          <a:ln w="6480">
            <a:solidFill>
              <a:srgbClr val="00206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У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рты наблюдений, технологические карты, анкеты, листы-опросники, диагностические задания по предметам, статьи, методические рекомендации по сопровождению исследовательской деятельности, исследовательские работы, конспекты уроков и внеклассных мероприят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работы с группой одаренных детей, проек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8 А клас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1 полугодие 2014-2015 уч.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водное занятие по теме «Исследовательская работа. Основные понят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ирование. Выявление дивергентного мышления. (Приложени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ющее занятие по теме «Что нам даст гипотеза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07:43:27Z</dcterms:created>
  <dc:creator>Инна</dc:creator>
  <dc:description/>
  <dc:language>en-US</dc:language>
  <cp:lastModifiedBy>ADMIN</cp:lastModifiedBy>
  <dcterms:modified xsi:type="dcterms:W3CDTF">2017-01-07T19:52:10Z</dcterms:modified>
  <cp:revision>24</cp:revision>
  <dc:subject/>
  <dc:title>Презентация PowerPoint</dc:title>
</cp:coreProperties>
</file>