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C15-5FFF-4C01-BF71-ED56D729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67B4-26F6-4D30-811E-DEDFCDFF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E44-F82C-4323-9FF0-062218DC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91C2-8746-4B47-A78A-DDA3656E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FED-2F0C-4483-A403-E54B3E0D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6C2-B487-49F0-88CC-9224E46C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AD0-86C7-488C-B92E-25C9E8C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3F5-5A31-4A2B-8F94-06972A12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3CDE-BEEF-45F8-A44F-B0FBBCC7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178-A8A0-4023-AF40-D12D22A4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E383-63BF-44D7-93A0-DFFD2B7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D977-01A9-4EEA-A724-BAEFDA1F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0382-4F99-450B-9C45-13B5EB1EAC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000" y="1000080"/>
            <a:ext cx="822492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Отчет творческой группы учителей в рамках работы инновационной площадки</a:t>
            </a: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Calibri Light"/>
              </a:rPr>
              <a:t> </a:t>
            </a:r>
            <a:r>
              <a:rPr b="1" lang="ru-RU" sz="2800" spc="-1" strike="noStrike">
                <a:solidFill>
                  <a:srgbClr val="262626"/>
                </a:solidFill>
                <a:latin typeface="Calibri Light"/>
              </a:rPr>
              <a:t>«Проектирование индивидуальной образовательной траектории обучающихся как фактор развития их одаренности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62626"/>
                </a:solidFill>
                <a:latin typeface="Calibri Light"/>
              </a:rPr>
              <a:t>Иванова О.В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262626"/>
                </a:solidFill>
                <a:latin typeface="Calibri Light"/>
              </a:rPr>
              <a:t>2015 г.</a:t>
            </a:r>
            <a:br>
              <a:rPr sz="2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9760" y="5404320"/>
            <a:ext cx="68580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 полугодие 2014-2015 уч.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одное занятие по теме «Исследовательская работа. Основные поня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2459160" y="4002120"/>
            <a:ext cx="422568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17427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 полугодие 2014-2015 уч.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е. Выявление дивергентного мыш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ботает педагог-психолог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8 А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 полугодие 2014-2015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ктическое занятие «Верная цель – верный результат» (обучение постановки и формулированию целей и задач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етико-практическое занятие по основным понятиям исследовательской работы со специалистом из Смоленского государственного университета. (Приложени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ий лекторий «Теория и практика. Где взаимосвяз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Экспериментальная работа. Обмен опы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708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2 полугодие 2014-2015 уч.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оретико-практическое занятие по основным понятиям исследовательской работы со специалистом из Смоленского государственного университе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C:\Users\FIL\Desktop\Мазур\P1016870.JPG"/>
          <p:cNvPicPr/>
          <p:nvPr/>
        </p:nvPicPr>
        <p:blipFill>
          <a:blip r:embed="rId1"/>
          <a:stretch/>
        </p:blipFill>
        <p:spPr>
          <a:xfrm>
            <a:off x="2759040" y="4170240"/>
            <a:ext cx="346248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ка диагностического матери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этап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вить учащихся с актуальной одаренностью и потенциальной одаренн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работанный диагностический материал в большинстве носит субъективный характер и составлен на основе тех предметов, которые учителя преподают в шко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и преодо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ть единую (универсальную) диагностику выявления исследовательских способностей и разработать универсальную траекторию для формирования исследовательских компетенц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провожд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этап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технологию тьюторского сопровождения, разработать шаблон индивидуальной карты сопровождения исследовательского проек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5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ниверсальной карты сопровождения не удается разработать в силу того, что отдельно взятая исследовательская работа выстраивается под определенного уче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ти преодо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165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под определенные группы исследовательских интересов учащихся соответствующие универсальные траектории сопрово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формлени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тульный лис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главл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бозначения и сокращения (если необходим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ы основной части (с краткими и четкими выводами по каждой главе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о рабо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ой литератур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(если необходимо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280" y="1798200"/>
            <a:ext cx="8893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ритерии эффектив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фолио ученика (группы учащихся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игиналы или копии исследовательских или проектных работ (можно на электронных носителя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зывы и рецензии преподавателей, внешних экспертов, работающих в представляемой области интерес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рамоты, дипломы, сертификаты полученные учащимися во время участия в различных конкурсах и акци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ые портфолио наиболее успешных учащихся служат отличным примером высокой результативности исследовательской деятельности, что также повышает мотивацию деятельности других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66680" y="1825200"/>
            <a:ext cx="8742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формированность исследовательской компетенции у обучаю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Ч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сутствие представлений об учебно-поисковой, исследовательской работе; отсутствие базы заданий исследовательского характера в рамках 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419040" y="1263600"/>
            <a:ext cx="1673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едение обязательного индивидуального исследовательского проекта на ступени среднего общего образования в соответствии с ФГО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25400" y="1714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Общая цел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формировать навыки исследовательской работы учащихся; разработать и апробировать модель педагогического сопровождения исследовательской деятельности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9080" y="365040"/>
            <a:ext cx="788652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66320" y="1825200"/>
            <a:ext cx="8852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 сферу интересов учащихся, диагностировать уровень сформированности исследовательских навыков (на входе), исследовательской компетенции (на выходе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педагогический инструментарий, разработать критерии исследовательской компетенци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индивидуальные карты сопровождения исследовательской деятельност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работать индивидуальные исследовательские маршру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1920" y="1825200"/>
            <a:ext cx="87836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дачи частного характе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ение работе со справочной литературой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нет-ресурса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представлений о научном исследовании (методология, структура, постановка целей, задач, формулирование гипотезы и т.д.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ение систематизации материа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мения представлять, защищать результаты своей работы и прогнозировать дальнейшие пути разви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28560" y="16873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1"/>
          <p:cNvSpPr/>
          <p:nvPr/>
        </p:nvSpPr>
        <p:spPr>
          <a:xfrm>
            <a:off x="179280" y="2635200"/>
            <a:ext cx="327024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ДИАГНОСТ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5176800" y="2611440"/>
            <a:ext cx="292428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СОПРОВОЖД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4"/>
          <p:cNvSpPr/>
          <p:nvPr/>
        </p:nvSpPr>
        <p:spPr>
          <a:xfrm>
            <a:off x="1011240" y="4562640"/>
            <a:ext cx="296532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РЕЗУЛЬТАТ ВНУТРЕН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5"/>
          <p:cNvSpPr/>
          <p:nvPr/>
        </p:nvSpPr>
        <p:spPr>
          <a:xfrm>
            <a:off x="4572000" y="4562640"/>
            <a:ext cx="2825640" cy="914400"/>
          </a:xfrm>
          <a:prstGeom prst="ellipse">
            <a:avLst/>
          </a:prstGeom>
          <a:solidFill>
            <a:srgbClr val="b4c7e7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Calibri"/>
              </a:rPr>
              <a:t>РЕЗУЛЬТАТ ВНЕШ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Прямая со стрелкой 10"/>
          <p:cNvCxnSpPr/>
          <p:nvPr/>
        </p:nvCxnSpPr>
        <p:spPr>
          <a:xfrm flipH="1">
            <a:off x="3247560" y="2286000"/>
            <a:ext cx="1046880" cy="567360"/>
          </a:xfrm>
          <a:prstGeom prst="straightConnector1">
            <a:avLst/>
          </a:prstGeom>
          <a:ln w="6480">
            <a:solidFill>
              <a:srgbClr val="203864"/>
            </a:solidFill>
            <a:miter/>
            <a:tailEnd len="med" type="triangle" w="med"/>
          </a:ln>
        </p:spPr>
      </p:cxnSp>
      <p:cxnSp>
        <p:nvCxnSpPr>
          <p:cNvPr id="61" name="Прямая со стрелкой 15"/>
          <p:cNvCxnSpPr/>
          <p:nvPr/>
        </p:nvCxnSpPr>
        <p:spPr>
          <a:xfrm>
            <a:off x="4390560" y="2313000"/>
            <a:ext cx="823320" cy="567360"/>
          </a:xfrm>
          <a:prstGeom prst="straightConnector1">
            <a:avLst/>
          </a:prstGeom>
          <a:ln w="64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2" name="Прямая со стрелкой 22"/>
          <p:cNvCxnSpPr/>
          <p:nvPr/>
        </p:nvCxnSpPr>
        <p:spPr>
          <a:xfrm>
            <a:off x="4322520" y="2374560"/>
            <a:ext cx="1143720" cy="2113560"/>
          </a:xfrm>
          <a:prstGeom prst="straightConnector1">
            <a:avLst/>
          </a:prstGeom>
          <a:ln w="6480">
            <a:solidFill>
              <a:srgbClr val="002060"/>
            </a:solidFill>
            <a:miter/>
            <a:tailEnd len="med" type="triangle" w="med"/>
          </a:ln>
        </p:spPr>
      </p:cxnSp>
      <p:cxnSp>
        <p:nvCxnSpPr>
          <p:cNvPr id="63" name="Прямая со стрелкой 25"/>
          <p:cNvCxnSpPr/>
          <p:nvPr/>
        </p:nvCxnSpPr>
        <p:spPr>
          <a:xfrm flipH="1">
            <a:off x="3061800" y="2374560"/>
            <a:ext cx="1242000" cy="2113560"/>
          </a:xfrm>
          <a:prstGeom prst="straightConnector1">
            <a:avLst/>
          </a:prstGeom>
          <a:ln w="6480">
            <a:solidFill>
              <a:srgbClr val="00206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У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ты наблюдений, технологические карты, анкеты, листы-опросники, диагностические задания по предметам, статьи, методические рекомендации по сопровождению исследовательской деятельности, исследовательские работы, конспекты уроков и внеклассных мероприяти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7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 Light"/>
              </a:rPr>
              <a:t>Модель сопровождения исследовательской деятельности школьнико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лан работы с группой одаренных детей, проек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8 А клас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1 полугодие 2014-2015 уч.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водное занятие по теме «Исследовательская работа. Основные понят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стирование. Выявление дивергентного мышления. (Приложени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ющее занятие по теме «Что нам даст гипотез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algn="ctr">
              <a:lnSpc>
                <a:spcPct val="107000"/>
              </a:lnSpc>
              <a:spcBef>
                <a:spcPts val="1001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6T07:43:27Z</dcterms:created>
  <dc:creator>Инна</dc:creator>
  <dc:description/>
  <dc:language>en-US</dc:language>
  <cp:lastModifiedBy>ADMIN</cp:lastModifiedBy>
  <dcterms:modified xsi:type="dcterms:W3CDTF">2017-01-07T19:52:10Z</dcterms:modified>
  <cp:revision>24</cp:revision>
  <dc:subject/>
  <dc:title>Презентация PowerPoint</dc:title>
</cp:coreProperties>
</file>