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D6D-2B5E-44A0-A518-15B98B69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2C6-EED8-4512-8D3B-C5D39898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458-2EFE-4432-A78D-1BC80715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321-6FDF-4B63-8A69-33AE3E8C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AB0B-34F6-40EC-91DE-2B9DAE68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6EE3-C771-4438-8725-1D2D6251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8AE2-7340-4506-A9A9-04730120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C42D-68D2-4443-BE6F-EB08ED20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16E5-2A00-423D-98F7-2BB31805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B277-E44F-4470-A395-6FA61683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55AC-55CB-4417-AC1F-6267394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33F-2376-44A8-8288-3F38E025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D3D5-EC6A-457F-A360-02E0A026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D08E-269C-4396-9AC9-162B6AB8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118-25FF-4AC4-852D-A9C2B246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5231-2A36-4334-BCCF-6727D101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E0CA-156C-436D-A6ED-9FEFBF7A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6BF6-8AF9-4067-AE45-70398ADA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1B8C2-672D-4F20-A8AB-C33D299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16B3-932B-49B5-892D-966FA131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DAF5-CC3C-4218-8F28-F838DD02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CB67-1B18-4D98-95B5-0A3B5D03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F8ED-D3F7-44AB-8F23-00326CD8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767B-BCB1-4E8D-82C6-73D4B509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9A7D-B8AD-4DC5-8605-BB14FA7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04BB-7A83-407E-B382-7C52B16B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6508-19B5-4BE2-B288-8F091FB9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B005-22E0-45E6-BB9A-E9E0AC2C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B13A-2A32-4F3D-BD39-261949B7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B098F-9C90-4A68-88A3-596F61AD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9652D-0E6E-4165-ADDF-91118DE2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ADA2-8FC2-43EA-9541-0102332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70D89-CB26-4A76-BF23-601129C9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C00-B042-4EDD-A9F3-4166E16C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59C49-69D1-4A9A-91B8-50B4DFC6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33DC3-49B2-49BF-8E3C-4F4326F3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3899-052E-4FF4-B987-B3A1CDFA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7123A-7A6E-4D20-88E3-A39AC85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0296-4073-4A04-8508-EB22F734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FCCC-D77E-4BC1-821A-A56219A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246CA-C636-4591-B96A-0F95EFC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1F62-72D9-49D0-8A77-420339EA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21DED-8E23-4BE1-944F-9DF8F816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476AE-58B9-4536-9A9B-E8A0D501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826-C5E2-4883-824A-1AD81E0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1359-C1A7-4D10-84F5-64FFF73D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8900-01DE-44D0-9CF6-E9955AB4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CE30-0BA1-406A-99B6-8C79162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9B28-9671-468D-A11B-A68729D8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25CE0-57F0-484C-903A-20F02A6D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497BC-9585-4CE3-AEB7-09057C21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FC7B2-8830-4341-87CA-910271A8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135D3-578F-481C-B07E-E4197B76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C9583-DCD1-41DF-8E7D-C04CA013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90EC7-DFE5-43C9-8052-28E31DF8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4F5-801C-476D-8319-2041B832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50AE8-5304-4C34-8822-F1FCB8D6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5F0-D451-44AF-9081-E9299EC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208-9F00-45F2-9D24-0880400A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602-066C-403F-BB91-5AD6B189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F5FD-E0A4-4C81-A78E-F677B04A2F2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1CCA-168B-411A-B24F-A42FEB7BA1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0BE1-42D9-4CA8-A472-52FE96224B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B795-EADD-40EF-A127-5F3E9553417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4083-D491-4A25-A3E5-20C9817BF19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42680" y="1499760"/>
            <a:ext cx="6072120" cy="135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Теорема Пифагор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5643720" y="500076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именение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Мобильная связь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настоящее время на рынке мобильной связи идет большая конкуренция среди операторов. Чем надежнее связь, чем больше зона покрытия, тем больше потребителей у оператора. При строительстве вышки (антенны) часто приходится решать задачу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какую наибольшую высоту должна иметь антенна, чтобы передачу можно было принимать в определенном радиусе (например, радиусе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=200 км, если известно, что радиус Земли равен 6380 км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сть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АВ=х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=200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м, ОС=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6380 км.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ОВ=ОА+АВ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ледовательно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ОВ=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+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спользуя теорему Пифагора, получим ответ 2,3 к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3840" y="1071720"/>
            <a:ext cx="7929720" cy="472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сть теоремы состоит, прежде всего, в том, что из нее или с ее помощью можно вывести большинство теорем геометрии. К сожалению, невозможно привести все или даже самые красивые доказательства теоремы, однако приведенные примеры убедительно свидетельствуют об огромном интересе сегодн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80722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3"/>
          <p:cNvSpPr/>
          <p:nvPr/>
        </p:nvSpPr>
        <p:spPr>
          <a:xfrm>
            <a:off x="2222640" y="428760"/>
            <a:ext cx="36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дийская задач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071720" y="100008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Индии был обычай предлагать задачи в стихах. Я предлагаю вам решить одну из та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857160" y="2286000"/>
            <a:ext cx="400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озером тих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лфута разм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ился лотоса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рос одино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етер поры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ёс  его в ст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 цветка над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ёл же рыбак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ней вес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футах от места, где 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предложу я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ак озера, вода здесь глубока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4786200" y="2216160"/>
            <a:ext cx="371484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3"/>
          <p:cNvSpPr/>
          <p:nvPr/>
        </p:nvSpPr>
        <p:spPr>
          <a:xfrm>
            <a:off x="2286000" y="5000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итайская зад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857160" y="1143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о бамбуке из древнекитайского трактата "Гоу-гу"Имеется бамбук высотой в 1 чжан. Вершину его согнули так, что она касается земли на расстоянии 3 чи от корня (1 чжан = 10 чи). Какова высота бамбука после сгиб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5" descr=""/>
          <p:cNvPicPr/>
          <p:nvPr/>
        </p:nvPicPr>
        <p:blipFill>
          <a:blip r:embed="rId1"/>
          <a:stretch/>
        </p:blipFill>
        <p:spPr>
          <a:xfrm>
            <a:off x="285840" y="3357720"/>
            <a:ext cx="52862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79977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дача №3 </a:t>
            </a:r>
            <a:br>
              <a:rPr sz="2200"/>
            </a:b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дача из первого учебника математики на Руси. Назывался этот учебник "Арифметика"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8115480" cy="2400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чися некоему человеку к стене лествицу прибрати, стены же тоя высота есть 125 стоп. И ведати хощет, колико стоп сея лествицы нижний конец от стены  отстояти им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Рисунок 3" descr=""/>
          <p:cNvPicPr/>
          <p:nvPr/>
        </p:nvPicPr>
        <p:blipFill>
          <a:blip r:embed="rId1"/>
          <a:stretch/>
        </p:blipFill>
        <p:spPr>
          <a:xfrm>
            <a:off x="2500200" y="3909960"/>
            <a:ext cx="2714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4"/>
          <p:cNvSpPr/>
          <p:nvPr/>
        </p:nvSpPr>
        <p:spPr>
          <a:xfrm>
            <a:off x="857160" y="5000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4. Задача арабского математика XI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428760" y="1214280"/>
            <a:ext cx="82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боих берегах реки растет по пальме, одна против другой. Высота одной 30 локтей, другой - 20 локтей. Расстояние между их основаниями - 50 локтей. На верхушке каждой пальмы сидит птица. Внезапно обе птицы заметили рыбу, выплывшую к поверхности воды между пальмами. Они кинулись к ней разом и достигли ее одновременно. На каком расстоянии от основания более высокой пальмы появилась рыб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6" descr=""/>
          <p:cNvPicPr/>
          <p:nvPr/>
        </p:nvPicPr>
        <p:blipFill>
          <a:blip r:embed="rId1"/>
          <a:stretch/>
        </p:blipFill>
        <p:spPr>
          <a:xfrm>
            <a:off x="785880" y="3143160"/>
            <a:ext cx="7215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999800" y="529920"/>
            <a:ext cx="5072040" cy="104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785880" y="144540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Фронтон Большого театра в Москве имеет форму равнобедренного треугольника с боковыми сторонами по 21,5 м и основанием 42 м (размеры приближены). Вычислите площадь фронт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2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йти интересное, на ваш взгляд, доказательство теоремы Пифагора и красочно его оформ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Всё есть число»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Числа правят миром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Verdana"/>
              </a:rPr>
              <a:t>                       </a:t>
            </a:r>
            <a:r>
              <a:rPr b="1" lang="ru-RU" sz="2800" spc="-1" strike="noStrike">
                <a:solidFill>
                  <a:srgbClr val="323232"/>
                </a:solidFill>
                <a:latin typeface="Verdana"/>
              </a:rPr>
              <a:t>Изречения Пифаг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означало  огонь,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     –   землю,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3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    –   воду,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4 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   –   возду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мма этих чисел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10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– весь мир,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5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   –     любов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64260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ведение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96640"/>
            <a:ext cx="8229600" cy="4303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Трудно найти человека, у которого имя Пифагора не ассоциировалось бы с теоремой Пифагора. В самом деле, теорема Пифагора проста, но не очевидна. Это сочетание двух противоречивых начал и придает ей особую притягательную силу, делает ее красивой. Но, кроме того, теорема Пифагора имеет огромное значение: она применяется в геометрии буквально на каждом шагу, и тот факт, что существует около 500 различных доказательств этой теоремы (геометрических, алгебраических, механических и т.д.), свидетельствует о гигантском числе ее конкретных реализаций. Открытие теоремы Пифагором окружено ореолом красивых легенд. Сегодня теорема Пифагора обнаружена в различных частных задачах и чертежах: и в египетском треугольнике в папирусе времен фараона Аменемхета первого (ок. 2000 до н.э.), и в вавилонских клинописных табличках эпохи царя Хаммурапи (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VIII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. до н.э.), и в древнеиндийском геометрическо-теологическом трактате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в. до н.э. «Сульва сутра» («Правила веревки»). В древнейшем китайском трактате «Чжоуби суань цзинь», время создания которого точно не известно, утверждается, что в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II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. до н. э. китайцы знали свойства египетского треугольника, а к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. до н.э.— и общий вид теоремы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527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572000" y="1557360"/>
            <a:ext cx="4176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ыслител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тематик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илософ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79280" y="500040"/>
            <a:ext cx="6373800" cy="59976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6407280" y="177912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2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иф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92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агмент фрески Рафаэ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92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Афинская шко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92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5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9027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стория теорем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071720"/>
            <a:ext cx="8319960" cy="5092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сторический обзор начинается с древнего Китая. Здесь особое внимание привлекает математическая книга Чупей. В этом сочинении так гово­рится о пифагоровым треугольнике со сторонами 3, 4 и 5: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«Если прямой угол разложить на составные части, то линия, соединяющая концы его сторон, будет 5, когда основание есть 3, а высота 4»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этой же книге предложен рисунок, который совпадает с одним из чертежей индусской геометрии Басхары.  По мнению Кантора гарпедонапты, или «натягиватели веревок», строили прямые углы при помощи прямоугольных треугольников со сторонами 3, 4 и 5. Несколько больше известно о теореме Пифагора у вавилонян. В одном тексте, относимом ко времени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Хаммураби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. е. к 2000 г. до н.э., приводится приближенное вычисление гипотенузы прямоугольного треугольника. Отсюда можно сделать вывод, что в Двуречье умели производить вычисления с прямоугольными треугольниками, по крайней мере, в некоторых случаях. Основываясь, с одной стороны, на сегодняшнем уровне знаний о египетской и вавилонской математике, а с другой на критическом изучении греческих источников, Вандер-Варден (голландский математик) сделал следующий вывод: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«Заслугой первых греческих математиков, таких как Фалес, Пифагор и пифагорейцы, является не открытие математики, но ее систематизация и обоснование. В их руках вычислительные рецепты, основанные на смутных представлениях, превратились в точную науку»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Геометрия, у индусов, как и у египтян и вавилонян, была тесно связана с культом. Весьма вероятно, что теорема о квадрате гипотенузы была известна в Индии уже около 18 века до н. э. В первом русском переводе евклидовых «Начал», сделанном Ф. И. Петрушевским, теорема Пифагора изложена так: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«В прямоугольных треугольниках квадрат из стороны, противолежащей прямому углу, равен сумме квадратов из сторон, содержащих прямой угол»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настоящее время известно, что эта теорема не была открыта Пифагором. Однако одни полагают, что Пифагор первым дал ее полноценное доказательство, а другие отказывают ему и в этой заслуге.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еорема Пифагор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7146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квадрат гипотенузы равен сумме квадратов катетов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Прямоугольный треугольник 3"/>
          <p:cNvSpPr/>
          <p:nvPr/>
        </p:nvSpPr>
        <p:spPr>
          <a:xfrm>
            <a:off x="1500120" y="3929040"/>
            <a:ext cx="2129040" cy="1700280"/>
          </a:xfrm>
          <a:prstGeom prst="rtTriangl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2143080" y="5715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 flipH="1" rot="21449400">
            <a:off x="1095480" y="46152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2500200" y="3983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4500720" y="4071960"/>
            <a:ext cx="3768480" cy="1357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2214720" y="5572080"/>
            <a:ext cx="2142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905120" cy="2114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65340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еалгебраические доказательств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С помощью мозаи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19285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«Квадрат, построенный на гипотенуз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ямоугольного треугольника, равновели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умме квадратов, построенных на его катетах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тейшее доказательство теоремы получается в простейшем случае равнобедренного прямоугольного треугольника. Вероятно, с него и начиналась теорема. Достаточно просто посмотреть на мозаику равнобедренных прямоугольных треугольников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{рис. 1)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убедиться в справедливости теоремы. Например, для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ABC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вадрат, построенный на гипотенузе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С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ит 4 исходных треугольника, а квадраты, построенные на катетах,— по два. Теорема доказа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Неалгебраические доказательства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 Доказательство</a:t>
            </a:r>
            <a:r>
              <a:rPr b="1" lang="en-GB" sz="29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Евклида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50920" y="1642680"/>
            <a:ext cx="7392960" cy="4954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казательство Евклид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едено в предложении 47 первой книги «Начал». На гипотенузе и катетах прямоугольного треугольника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C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оятся соответствующие квадраты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(рис. 5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доказывается, что прямоугольник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J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вновелик квадрату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FH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прямоугольник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CEL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— квадрату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АС КС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гда сумма квадратов на катетах будет равна квадрату на гипотенузе. В самом деле, затушеванные на рисунке треугольники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FC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вны по двум сторонам и углу между ними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B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BC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C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= 1/2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BJL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как у треугольника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прямоугольника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J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ее основание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общая высота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алогично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FB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/2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BFH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F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— общее основание,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А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— общая высота). Отсюда учитывая, чт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B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FBC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меем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BJL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ABFH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алогично, используя равенство треугольников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СК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АСЕ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ывает­ся, чт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CEL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CKG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так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BFH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CKG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B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JCE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BCE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то и требовалось доказать. Доказательство Евклида в сравнении древнекитайским или древнеиндийским выглядит чрезмерно сложным. По этой причине его нередко называли «ходульным» и «надуманным». Но такое мнение поверхностно. Теорема Пифагора у Евклида является заключительным звеном в цепи пред­ложений 1-й книги «Начал». Для того чтобы логически безупречно построить эту цепь, чтобы каждый шаг доказательства был основан на ранее доказанных предложениях, Евклиду нужен был именно выбранный им пу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7380360" y="1557360"/>
            <a:ext cx="1407960" cy="17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менение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троительств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3640" y="1052280"/>
            <a:ext cx="662436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/4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/2В романской архитектуре часто встречается мотив представленный на рисунке. Если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Ь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-прежнему обозначает, ширину окна, то радиусы полуокружностей будут равны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2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диусу внутренней окружности можно вычислить из прямоугольного треугольника, изображенного на рис. пунктиром. Гипотенуза этого треугольника, проходящая через точку касания окружностей, равна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дин катет равен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 другой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2-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       теореме       Пифагора       имеем:      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)=(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)+(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-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) 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16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2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16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-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ткуда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2=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-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зделив на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Ъ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приводя подобные члены, получим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(3/2)р =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,р=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6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зданиях готического и романского стиля верхние части окон расчленяются каменными ребрами, которые не только играют роль орнамента, но и способствуют прочности окон. На рисунке представлен простой пример такого окна в готическом стиле. Способ построения его очень прост: из рисунка легко найти центры шести дуг окружностей, радиусы которых равны ширине окна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(Ь)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ля наружных дуг и половине ширины (Ь/2), для внутренних дуг. Остается еще полная окружность, касающаяся четырех дуг. Так как она заключена между двумя концентри­ческими окружностями, то ее диаметр равен расстоянию между этими окружностями, т. е.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Ь/2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, следовательно, радиус равен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Ь/4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огда становится ясным и положение ее центра. В рассмотренном примере радиусы находились без всяких затруднений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685880" cy="923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7308720" y="3068640"/>
            <a:ext cx="1076400" cy="235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20:31:09Z</dcterms:created>
  <dc:creator>user</dc:creator>
  <dc:description/>
  <dc:language>en-US</dc:language>
  <cp:lastModifiedBy>Мой</cp:lastModifiedBy>
  <dcterms:modified xsi:type="dcterms:W3CDTF">2017-01-07T17:13:36Z</dcterms:modified>
  <cp:revision>65</cp:revision>
  <dc:subject/>
  <dc:title>Теорема Пифагора</dc:title>
</cp:coreProperties>
</file>