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D3F8-7FBA-4BE6-A00D-5A7D5E0B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FDCC-9C99-4025-9C61-D469250E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DFE-1A94-4C22-8643-65A52A11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E40-7924-4B52-94D5-A499DF61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78051-906F-4E83-8BE5-05C24E9B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80AA-AF06-44FC-A72A-2354D842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6660-CB0E-40A5-AC6E-EADD9AFD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3798-7260-49FF-8C60-16407B862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D1196-6B2F-4FE1-9773-FFFE0F0F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C1D3-3F36-4D90-894E-55562D3C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28BF-2438-48F1-AC15-BB6A7EFA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6743-DD7E-421A-9861-72C91C6E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0591-C2D2-4DB2-88BD-D620D6EE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B5D2-17B1-45FE-8025-CDAD2452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6E81-2CBA-4774-A50C-0550E994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BB39-2170-4027-938B-21A406CC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BF4C-B0F8-44E7-8AE7-E975B047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F9108-480E-4000-98BE-BD1DA7A6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D5C9A-8CE2-408B-9760-6CAB639A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6C71A-DA23-43BB-A201-C074BF3A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725D0-C3FA-46B8-A615-A9756D3A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139D0-A8FD-47B5-AF17-1866552B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220-BB84-45EA-8CA3-C011C503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A1381-707E-4052-87A3-70CFA9A7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AA95C-3476-4FAF-9DBB-CCFF1B38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17DF6-2F7D-4C41-B504-BA23ABE9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E4E3D-3D45-414B-A4CF-B06D0FBF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232E3-D8D5-4CEF-87C2-B1A21DB2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58849-29D5-4C7A-8D79-D49BCFA08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8FCBB-C1C0-44F9-8CC1-B9A93596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EDE07-1983-4AA4-97BE-E68FA761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2AEA3-A648-49B2-BE64-B752F08B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296F2-42BF-46FB-893F-E941F8C9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659B-629D-4DE2-BEC6-55F88C70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5166E-5111-494C-8883-FE2DA712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13AB7-1E28-4DCB-8B36-955F4FF9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68E3D-B5B4-46C4-8CDB-690B16AD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DC0D0-F601-4D26-9918-67592ED5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002D9-B23E-4CC2-B609-96DB776F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E95B1-7F1A-49D6-B400-985A1E8E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F609E-CB36-48A0-9718-B8BB2AE2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576F3-4A2A-4D32-BCCB-0C1685BA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25B63-9CF5-48B9-A527-3B80A784D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30BF5-0E31-40B0-927D-1C0B9551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E3FB-B69F-4079-A7A9-77874D53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11D3B-BDB6-4618-8E10-A77520F4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FF340-E4CF-49A4-B328-1FEA75A7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E5957-AE6D-4C0F-9D71-0F380BAA0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20721-7928-450D-981D-1C70CD74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5A40A-2994-4714-ACA8-B6922515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024B6-E6E3-485C-A088-9BE70174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B7556-602B-4DBF-A642-E5775F87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1FE93-1469-4FA9-8DEC-BDBCE0C5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27C45-311B-4D41-9876-3D0C30D4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EA37C-581B-4011-9445-917B7499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B3B-DD69-420F-87E4-59020F43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DC746-0C2A-4BB7-A5D1-84408D27E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7351-0A7C-4EE0-A8C4-F088B38D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91F-F623-4D08-99D3-D1A770BD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900B-AF63-46B0-86FE-D6975266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8C56-C9A9-4F92-803F-CA55990445A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0AB2-86A9-4918-A4C6-6C949A02C54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0DB1-686E-4527-B933-B19E70E2EFA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93F0-D1F5-4DBB-8012-7C5AD45FB2E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0673-FD20-4B2B-BF8D-37377F40CBD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42680" y="1499760"/>
            <a:ext cx="6072120" cy="1357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Теорема Пифагора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Прямоугольник 4"/>
          <p:cNvSpPr/>
          <p:nvPr/>
        </p:nvSpPr>
        <p:spPr>
          <a:xfrm>
            <a:off x="5643720" y="500076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Применение</a:t>
            </a: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Мобильная связь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197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настоящее время на рынке мобильной связи идет большая конкуренция среди операторов. Чем надежнее связь, чем больше зона покрытия, тем больше потребителей у оператора. При строительстве вышки (антенны) часто приходится решать задачу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какую наибольшую высоту должна иметь антенна, чтобы передачу можно было принимать в определенном радиусе (например, радиусе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=200 км, если известно, что радиус Земли равен 6380 км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Решение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усть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АВ=х,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BC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=200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м, ОС=</a:t>
            </a:r>
            <a:r>
              <a:rPr b="0" lang="en-GB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=6380 км.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ОВ=ОА+АВ, 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ледовательно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ОВ=</a:t>
            </a:r>
            <a:r>
              <a:rPr b="0" i="1" lang="en-GB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+х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спользуя теорему Пифагора, получим ответ 2,3 к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3840" y="1071720"/>
            <a:ext cx="7929720" cy="4722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ость теоремы состоит, прежде всего, в том, что из нее или с ее помощью можно вывести большинство теорем геометрии. К сожалению, невозможно привести все или даже самые красивые доказательства теоремы, однако приведенные примеры убедительно свидетельствуют об огромном интересе сегодн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Содержимое 3" descr=""/>
          <p:cNvPicPr/>
          <p:nvPr/>
        </p:nvPicPr>
        <p:blipFill>
          <a:blip r:embed="rId1"/>
          <a:stretch/>
        </p:blipFill>
        <p:spPr>
          <a:xfrm>
            <a:off x="642960" y="642960"/>
            <a:ext cx="80722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3"/>
          <p:cNvSpPr/>
          <p:nvPr/>
        </p:nvSpPr>
        <p:spPr>
          <a:xfrm>
            <a:off x="2222640" y="428760"/>
            <a:ext cx="36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ндийская задач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4"/>
          <p:cNvSpPr/>
          <p:nvPr/>
        </p:nvSpPr>
        <p:spPr>
          <a:xfrm>
            <a:off x="1071720" y="1000080"/>
            <a:ext cx="721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ревней Индии был обычай предлагать задачи в стихах. Я предлагаю вам решить одну из таких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5"/>
          <p:cNvSpPr/>
          <p:nvPr/>
        </p:nvSpPr>
        <p:spPr>
          <a:xfrm>
            <a:off x="857160" y="2286000"/>
            <a:ext cx="4000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 озером тих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лфута разме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ился лотоса цв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 рос одинок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етер поры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ёс  его в сторо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 цветка над вод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ёл же рыбак 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нней весн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вух футах от места, где р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ак, предложу я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Как озера, вода здесь глубока?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4786200" y="2216160"/>
            <a:ext cx="371484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3"/>
          <p:cNvSpPr/>
          <p:nvPr/>
        </p:nvSpPr>
        <p:spPr>
          <a:xfrm>
            <a:off x="2286000" y="50004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а №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итайская зада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4"/>
          <p:cNvSpPr/>
          <p:nvPr/>
        </p:nvSpPr>
        <p:spPr>
          <a:xfrm>
            <a:off x="857160" y="1143000"/>
            <a:ext cx="757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а о бамбуке из древнекитайского трактата "Гоу-гу"Имеется бамбук высотой в 1 чжан. Вершину его согнули так, что она касается земли на расстоянии 3 чи от корня (1 чжан = 10 чи). Какова высота бамбука после сгиб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Рисунок 5" descr=""/>
          <p:cNvPicPr/>
          <p:nvPr/>
        </p:nvPicPr>
        <p:blipFill>
          <a:blip r:embed="rId1"/>
          <a:stretch/>
        </p:blipFill>
        <p:spPr>
          <a:xfrm>
            <a:off x="285840" y="3357720"/>
            <a:ext cx="528624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571680"/>
            <a:ext cx="799776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Задача №3 </a:t>
            </a:r>
            <a:br>
              <a:rPr sz="2200"/>
            </a:br>
            <a:r>
              <a:rPr b="1" lang="ru-RU" sz="2200" spc="-1" strike="noStrike">
                <a:solidFill>
                  <a:srgbClr val="ff8d3e"/>
                </a:solidFill>
                <a:latin typeface="Verdana"/>
              </a:rPr>
              <a:t>Задача из первого учебника математики на Руси. Назывался этот учебник "Арифметика"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600200"/>
            <a:ext cx="8115480" cy="2400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учися некоему человеку к стене лествицу прибрати, стены же тоя высота есть 125 стоп. И ведати хощет, колико стоп сея лествицы нижний конец от стены  отстояти имат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Рисунок 3" descr=""/>
          <p:cNvPicPr/>
          <p:nvPr/>
        </p:nvPicPr>
        <p:blipFill>
          <a:blip r:embed="rId1"/>
          <a:stretch/>
        </p:blipFill>
        <p:spPr>
          <a:xfrm>
            <a:off x="2500200" y="3909960"/>
            <a:ext cx="27147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4"/>
          <p:cNvSpPr/>
          <p:nvPr/>
        </p:nvSpPr>
        <p:spPr>
          <a:xfrm>
            <a:off x="857160" y="50004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а 4. Задача арабского математика XI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5"/>
          <p:cNvSpPr/>
          <p:nvPr/>
        </p:nvSpPr>
        <p:spPr>
          <a:xfrm>
            <a:off x="428760" y="1214280"/>
            <a:ext cx="82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боих берегах реки растет по пальме, одна против другой. Высота одной 30 локтей, другой - 20 локтей. Расстояние между их основаниями - 50 локтей. На верхушке каждой пальмы сидит птица. Внезапно обе птицы заметили рыбу, выплывшую к поверхности воды между пальмами. Они кинулись к ней разом и достигли ее одновременно. На каком расстоянии от основания более высокой пальмы появилась рыб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Рисунок 6" descr=""/>
          <p:cNvPicPr/>
          <p:nvPr/>
        </p:nvPicPr>
        <p:blipFill>
          <a:blip r:embed="rId1"/>
          <a:stretch/>
        </p:blipFill>
        <p:spPr>
          <a:xfrm>
            <a:off x="785880" y="3143160"/>
            <a:ext cx="72151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999800" y="529920"/>
            <a:ext cx="5072040" cy="1041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машнее зада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1"/>
          <p:cNvSpPr/>
          <p:nvPr/>
        </p:nvSpPr>
        <p:spPr>
          <a:xfrm>
            <a:off x="785880" y="1445400"/>
            <a:ext cx="7715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1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Фронтон Большого театра в Москве имеет форму равнобедренного треугольника с боковыми сторонами по 21,5 м и основанием 42 м (размеры приближены). Вычислите площадь фронто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2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Найти интересное, на ваш взгляд, доказательство теоремы Пифагора и красочно его оформ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503280" y="530280"/>
            <a:ext cx="8183520" cy="4827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Всё есть число»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«Числа правят миром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23232"/>
                </a:solidFill>
                <a:latin typeface="Verdana"/>
              </a:rPr>
              <a:t>                       </a:t>
            </a:r>
            <a:r>
              <a:rPr b="1" lang="ru-RU" sz="2800" spc="-1" strike="noStrike">
                <a:solidFill>
                  <a:srgbClr val="323232"/>
                </a:solidFill>
                <a:latin typeface="Verdana"/>
              </a:rPr>
              <a:t>Изречения Пифаг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исло </a:t>
            </a:r>
            <a:r>
              <a:rPr b="1" lang="ru-RU" sz="2800" spc="-1" strike="noStrike">
                <a:solidFill>
                  <a:srgbClr val="800080"/>
                </a:solidFill>
                <a:latin typeface="Verdana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означало  огонь,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      –   землю,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Verdana"/>
              </a:rPr>
              <a:t>3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     –   воду,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Verdana"/>
              </a:rPr>
              <a:t>4 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    –   воздух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умма этих чисел 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800080"/>
                </a:solidFill>
                <a:latin typeface="Verdana"/>
              </a:rPr>
              <a:t>10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– весь мир, </a:t>
            </a:r>
            <a:br>
              <a:rPr sz="2800"/>
            </a:br>
            <a:r>
              <a:rPr b="1" lang="ru-RU" sz="2800" spc="-1" strike="noStrike">
                <a:solidFill>
                  <a:srgbClr val="800080"/>
                </a:solidFill>
                <a:latin typeface="Verdana"/>
              </a:rPr>
              <a:t>5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    –     любовь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642600"/>
            <a:ext cx="818352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Введение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196640"/>
            <a:ext cx="8229600" cy="4303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Трудно найти человека, у которого имя Пифагора не ассоциировалось бы с теоремой Пифагора. В самом деле, теорема Пифагора проста, но не очевидна. Это сочетание двух противоречивых начал и придает ей особую притягательную силу, делает ее красивой. Но, кроме того, теорема Пифагора имеет огромное значение: она применяется в геометрии буквально на каждом шагу, и тот факт, что существует около 500 различных доказательств этой теоремы (геометрических, алгебраических, механических и т.д.), свидетельствует о гигантском числе ее конкретных реализаций. Открытие теоремы Пифагором окружено ореолом красивых легенд. Сегодня теорема Пифагора обнаружена в различных частных задачах и чертежах: и в египетском треугольнике в папирусе времен фараона Аменемхета первого (ок. 2000 до н.э.), и в вавилонских клинописных табличках эпохи царя Хаммурапи (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VIII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. до н.э.), и в древнеиндийском геометрическо-теологическом трактате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в. до н.э. «Сульва сутра» («Правила веревки»). В древнейшем китайском трактате «Чжоуби суань цзинь», время создания которого точно не известно, утверждается, что в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II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. до н. э. китайцы знали свойства египетского треугольника, а к 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. до н.э.— и общий вид теоремы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35276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4572000" y="1557360"/>
            <a:ext cx="4176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ыслител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атематик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философ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79280" y="500040"/>
            <a:ext cx="6373800" cy="59976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6407280" y="1779120"/>
            <a:ext cx="273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92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иф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92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рагмент фрески Рафаэ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92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«Афинская школ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92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151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57160" y="285840"/>
            <a:ext cx="79027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История теорем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071720"/>
            <a:ext cx="8319960" cy="5092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сторический обзор начинается с древнего Китая. Здесь особое внимание привлекает математическая книга Чупей. В этом сочинении так гово­рится о пифагоровым треугольнике со сторонами 3, 4 и 5: 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«Если прямой угол разложить на составные части, то линия, соединяющая концы его сторон, будет 5, когда основание есть 3, а высота 4».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этой же книге предложен рисунок, который совпадает с одним из чертежей индусской геометрии Басхары.  По мнению Кантора гарпедонапты, или «натягиватели веревок», строили прямые углы при помощи прямоугольных треугольников со сторонами 3, 4 и 5. Несколько больше известно о теореме Пифагора у вавилонян. В одном тексте, относимом ко времени 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Хаммураби,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. е. к 2000 г. до н.э., приводится приближенное вычисление гипотенузы прямоугольного треугольника. Отсюда можно сделать вывод, что в Двуречье умели производить вычисления с прямоугольными треугольниками, по крайней мере, в некоторых случаях. Основываясь, с одной стороны, на сегодняшнем уровне знаний о египетской и вавилонской математике, а с другой на критическом изучении греческих источников, Вандер-Варден (голландский математик) сделал следующий вывод: 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«Заслугой первых греческих математиков, таких как Фалес, Пифагор и пифагорейцы, является не открытие математики, но ее систематизация и обоснование. В их руках вычислительные рецепты, основанные на смутных представлениях, превратились в точную науку».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Геометрия, у индусов, как и у египтян и вавилонян, была тесно связана с культом. Весьма вероятно, что теорема о квадрате гипотенузы была известна в Индии уже около 18 века до н. э. В первом русском переводе евклидовых «Начал», сделанном Ф. И. Петрушевским, теорема Пифагора изложена так: 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«В прямоугольных треугольниках квадрат из стороны, противолежащей прямому углу, равен сумме квадратов из сторон, содержащих прямой угол»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настоящее время известно, что эта теорема не была открыта Пифагором. Однако одни полагают, что Пифагор первым дал ее полноценное доказательство, а другие отказывают ему и в этой заслуге.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1835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еорема Пифагора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71468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000000"/>
                </a:solidFill>
                <a:latin typeface="Verdana"/>
              </a:rPr>
              <a:t>В прямоугольном треугольнике квадрат гипотенузы равен сумме квадратов катетов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Прямоугольный треугольник 3"/>
          <p:cNvSpPr/>
          <p:nvPr/>
        </p:nvSpPr>
        <p:spPr>
          <a:xfrm>
            <a:off x="1500120" y="3929040"/>
            <a:ext cx="2129040" cy="1700280"/>
          </a:xfrm>
          <a:prstGeom prst="rtTriangl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7"/>
          <p:cNvSpPr/>
          <p:nvPr/>
        </p:nvSpPr>
        <p:spPr>
          <a:xfrm>
            <a:off x="2143080" y="5715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 flipH="1" rot="21449400">
            <a:off x="1095480" y="461520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0"/>
          <p:cNvSpPr/>
          <p:nvPr/>
        </p:nvSpPr>
        <p:spPr>
          <a:xfrm>
            <a:off x="2500200" y="3983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1"/>
          <a:stretch/>
        </p:blipFill>
        <p:spPr>
          <a:xfrm>
            <a:off x="4500720" y="4071960"/>
            <a:ext cx="3768480" cy="13572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2214720" y="5572080"/>
            <a:ext cx="2142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6948360" y="189000"/>
            <a:ext cx="1905120" cy="21146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653400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еалгебраические доказательства 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   С помощью мозаики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24000" y="192852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«Квадрат, построенный на гипотенуз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прямоугольного треугольника, равновелик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умме квадратов, построенных на его катетах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стейшее доказательство теоремы получается в простейшем случае равнобедренного прямоугольного треугольника. Вероятно, с него и начиналась теорема. Достаточно просто посмотреть на мозаику равнобедренных прямоугольных треугольников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{рис. 1)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убедиться в справедливости теоремы. Например, для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 ABC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вадрат, построенный на гипотенузе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АС,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держит 4 исходных треугольника, а квадраты, построенные на катетах,— по два. Теорема доказа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Неалгебраические доказательства </a:t>
            </a:r>
            <a:br>
              <a:rPr sz="2900"/>
            </a:b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 Доказательство</a:t>
            </a:r>
            <a:r>
              <a:rPr b="1" lang="en-GB" sz="2900" spc="-1" strike="noStrike">
                <a:solidFill>
                  <a:srgbClr val="ff8d3e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ff8d3e"/>
                </a:solidFill>
                <a:latin typeface="Verdana"/>
              </a:rPr>
              <a:t>Евклида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50920" y="1642680"/>
            <a:ext cx="7392960" cy="4954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казательство Евклида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приведено в предложении 47 первой книги «Начал». На гипотенузе и катетах прямоугольного треугольника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BC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троятся соответствующие квадраты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(рис. 5)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доказывается, что прямоугольник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JL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вновелик квадрату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BFH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 прямоугольник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CEL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— квадрату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АС КС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огда сумма квадратов на катетах будет равна квадрату на гипотенузе. В самом деле, затушеванные на рисунке треугольники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B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FC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вны по двум сторонам и углу между ними: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FB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B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C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FBC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BC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BD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о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D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= 1/2 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SBJLD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 как у треугольника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AB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прямоугольника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JL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щее основание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общая высота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налогично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FBC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/2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ABFH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BF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— общее основание,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АВ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— общая высота). Отсюда учитывая, чт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ABD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FBC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меем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BJLD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ABFH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налогично, используя равенство треугольников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ВСК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АСЕ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казывает­ся, что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iCEL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ACKG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Итак,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ABFH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ACKG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B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LD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JCE</a:t>
            </a: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SBCED</a:t>
            </a:r>
            <a:r>
              <a:rPr b="0" i="1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что и требовалось доказать. Доказательство Евклида в сравнении древнекитайским или древнеиндийским выглядит чрезмерно сложным. По этой причине его нередко называли «ходульным» и «надуманным». Но такое мнение поверхностно. Теорема Пифагора у Евклида является заключительным звеном в цепи пред­ложений 1-й книги «Начал». Для того чтобы логически безупречно построить эту цепь, чтобы каждый шаг доказательства был основан на ранее доказанных предложениях, Евклиду нужен был именно выбранный им пут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7380360" y="1557360"/>
            <a:ext cx="1407960" cy="17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именение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троительство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23640" y="1052280"/>
            <a:ext cx="6624360" cy="5545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Окно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/4     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/2В романской архитектуре часто встречается мотив представленный на рисунке. Если 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Ь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о-прежнему обозначает, ширину окна, то радиусы полуокружностей будут равны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2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4.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адиусу внутренней окружности можно вычислить из прямоугольного треугольника, изображенного на рис. пунктиром. Гипотенуза этого треугольника, проходящая через точку касания окружностей, равна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4+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один катет равен </a:t>
            </a:r>
            <a:r>
              <a:rPr b="0" lang="en-GB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4,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а другой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2-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По       теореме       Пифагора       имеем:       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4+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)=(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4)+(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4-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)     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ли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16+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2+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16+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4-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откуда 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2=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4-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i="1" lang="en-US" sz="1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Разделив на 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Ъ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 приводя подобные члены, получим: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(3/2)р =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4,р=</a:t>
            </a:r>
            <a:r>
              <a:rPr b="0" i="1" lang="en-GB" sz="15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/6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зданиях готического и романского стиля верхние части окон расчленяются каменными ребрами, которые не только играют роль орнамента, но и способствуют прочности окон. На рисунке представлен простой пример такого окна в готическом стиле. Способ построения его очень прост: из рисунка легко найти центры шести дуг окружностей, радиусы которых равны ширине окна 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(Ь)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для наружных дуг и половине ширины (Ь/2), для внутренних дуг. Остается еще полная окружность, касающаяся четырех дуг. Так как она заключена между двумя концентри­ческими окружностями, то ее диаметр равен расстоянию между этими окружностями, т. е. 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Ь/2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и, следовательно, радиус равен </a:t>
            </a:r>
            <a:r>
              <a:rPr b="0" i="1" lang="ru-RU" sz="1500" spc="-1" strike="noStrike">
                <a:solidFill>
                  <a:srgbClr val="000000"/>
                </a:solidFill>
                <a:latin typeface="Verdana"/>
              </a:rPr>
              <a:t>Ь/4.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огда становится ясным и положение ее центра. В рассмотренном примере радиусы находились без всяких затруднений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7020000" y="1700280"/>
            <a:ext cx="1685880" cy="9237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7308720" y="3068640"/>
            <a:ext cx="1076400" cy="2352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20:31:09Z</dcterms:created>
  <dc:creator>user</dc:creator>
  <dc:description/>
  <dc:language>en-US</dc:language>
  <cp:lastModifiedBy>Мой</cp:lastModifiedBy>
  <dcterms:modified xsi:type="dcterms:W3CDTF">2017-01-07T17:13:36Z</dcterms:modified>
  <cp:revision>65</cp:revision>
  <dc:subject/>
  <dc:title>Теорема Пифагора</dc:title>
</cp:coreProperties>
</file>