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7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B1EF-15FC-4EB5-8992-7638638AD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A7FD-8E85-4FBA-9CCC-F1C04D23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F4F9-80BF-4059-AD80-C6FC15FDB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CF64-7D85-406B-BDA2-CF5127D08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BEE1-8E54-4A6E-8737-23876D0B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50B5-34B7-4705-888D-A3C8A609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6DBD-44A3-47A4-B489-07A5B28A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0901-1892-4C49-9D2E-75D303FA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568F-83DE-49FE-BB1A-822D347E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959F-31D0-4ED8-AEDD-ADA07F71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1EBB-FE7E-4AB6-8B72-83921869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6ACE-3AA9-4775-B88F-1D87E0ED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E0C4-F7B1-4ED3-B920-F21F122506B0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Тема: Мы готовимся к путешествию по Германии</a:t>
            </a: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УМК: Немецкий язык 8 класс: Бим И.Л., Л.В. Садомова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63640" y="4076280"/>
            <a:ext cx="716112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алицкая Надежда Михайло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читель немецкого языка    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БОУ    СОШ с.Селихов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онаковского района Тверской обла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9152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sere Reisevorbereitungen sind zu Ende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ch wünsche euch eine gute Reise und schöne Tage in Deutschland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5" descr="http://www.justmedia.ru/upload/news/5491a40d16810933809788_600_400.jpg"/>
          <p:cNvPicPr/>
          <p:nvPr/>
        </p:nvPicPr>
        <p:blipFill>
          <a:blip r:embed="rId1"/>
          <a:stretch/>
        </p:blipFill>
        <p:spPr>
          <a:xfrm>
            <a:off x="2268360" y="3716280"/>
            <a:ext cx="496764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24000" y="213372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резентации использованы картинки поисковой системы «Яндекс»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териалы учебника «Немецкий язык» 8 класс, Бим И.Л., Садомова Л.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Wir bereiten uns auf eine Deutschlandreise vor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c00000"/>
                </a:solidFill>
                <a:latin typeface="Tahoma"/>
              </a:rPr>
              <a:t>sich vorbereiten</a:t>
            </a:r>
            <a:r>
              <a:rPr b="0" lang="ru-RU" sz="36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c00000"/>
                </a:solidFill>
                <a:latin typeface="Tahoma"/>
              </a:rPr>
              <a:t>auf (Akk.) </a:t>
            </a:r>
            <a:r>
              <a:rPr b="0" lang="ru-RU" sz="3600" spc="-1" strike="noStrike">
                <a:solidFill>
                  <a:srgbClr val="c00000"/>
                </a:solidFill>
                <a:latin typeface="Tahoma"/>
              </a:rPr>
              <a:t>..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in Reflexivverb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in Unreflexivverb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t einem trennbaren Pr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ӓ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x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t einem untrennbaren Pr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ӓ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x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Wiederholen wir</a:t>
            </a: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48836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Bundesl</a:t>
            </a:r>
            <a:r>
              <a:rPr b="0" lang="en-US" sz="3600" spc="-1" strike="noStrike">
                <a:solidFill>
                  <a:srgbClr val="e5ffff"/>
                </a:solidFill>
                <a:latin typeface="Arial"/>
              </a:rPr>
              <a:t>ä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nder der BRD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8" name="Picture 4" descr="mhtml:file://C:\Users\Владелец\Desktop\Германия\федеральные%20земли.mht!http://www.germany.ru/images/map-land.gif"/>
          <p:cNvPicPr/>
          <p:nvPr/>
        </p:nvPicPr>
        <p:blipFill>
          <a:blip r:embed="rId1"/>
          <a:stretch/>
        </p:blipFill>
        <p:spPr>
          <a:xfrm>
            <a:off x="2411280" y="907920"/>
            <a:ext cx="4402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Stellt die S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ӓ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tze in richtigen Reihenfolge !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inkaufe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e Fahrkarten besorge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s Reiseziel w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le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n Koffer packe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erkehrsmittel w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le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5" descr="http://m6.paperblog.com/i/40/406603/-L-fY_5m1.jpeg"/>
          <p:cNvPicPr/>
          <p:nvPr/>
        </p:nvPicPr>
        <p:blipFill>
          <a:blip r:embed="rId1"/>
          <a:stretch/>
        </p:blipFill>
        <p:spPr>
          <a:xfrm>
            <a:off x="324000" y="4365720"/>
            <a:ext cx="2303280" cy="230328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7"/>
          <p:cNvSpPr/>
          <p:nvPr/>
        </p:nvSpPr>
        <p:spPr>
          <a:xfrm>
            <a:off x="219240" y="-2430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AutoShape 9"/>
          <p:cNvSpPr/>
          <p:nvPr/>
        </p:nvSpPr>
        <p:spPr>
          <a:xfrm>
            <a:off x="219240" y="-2430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11" descr="http://inthesky.ru/assets/images/_articlPHOTO/NEWS/2013/rzhd-bilety.jpg"/>
          <p:cNvPicPr/>
          <p:nvPr/>
        </p:nvPicPr>
        <p:blipFill>
          <a:blip r:embed="rId2"/>
          <a:stretch/>
        </p:blipFill>
        <p:spPr>
          <a:xfrm>
            <a:off x="7020000" y="4724280"/>
            <a:ext cx="1800000" cy="1830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http://www.funlib.ru/cimg/2014/102009/2449496"/>
          <p:cNvPicPr/>
          <p:nvPr/>
        </p:nvPicPr>
        <p:blipFill>
          <a:blip r:embed="rId3"/>
          <a:stretch/>
        </p:blipFill>
        <p:spPr>
          <a:xfrm>
            <a:off x="6084720" y="1413000"/>
            <a:ext cx="2765520" cy="2249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http://www.tur-tips.ru/media/page_image/1321/w/kartyi-dlya-vyibora-marshruta.jpeg"/>
          <p:cNvPicPr/>
          <p:nvPr/>
        </p:nvPicPr>
        <p:blipFill>
          <a:blip r:embed="rId4"/>
          <a:stretch/>
        </p:blipFill>
        <p:spPr>
          <a:xfrm>
            <a:off x="2916360" y="4437000"/>
            <a:ext cx="2732040" cy="2017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http://lider-vod.ru/ggesxuya/kto-pokupaet-v-belorussii-skolko-stoit-tam-obuv-4532.jpg"/>
          <p:cNvPicPr/>
          <p:nvPr/>
        </p:nvPicPr>
        <p:blipFill>
          <a:blip r:embed="rId5"/>
          <a:stretch/>
        </p:blipFill>
        <p:spPr>
          <a:xfrm>
            <a:off x="4716360" y="3645000"/>
            <a:ext cx="25164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ir w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ӓ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len ein Reiseziel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9" name="Picture 2" descr="http://priznanie-v-lubvi.ru/userfiles/image/12+%285%29.jpg"/>
          <p:cNvPicPr/>
          <p:nvPr/>
        </p:nvPicPr>
        <p:blipFill>
          <a:blip r:embed="rId1"/>
          <a:stretch/>
        </p:blipFill>
        <p:spPr>
          <a:xfrm>
            <a:off x="468360" y="1197000"/>
            <a:ext cx="4464000" cy="334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s://4.404content.com/resize/730x-/1/05/2C/798415988103841358/fullsize.jpg"/>
          <p:cNvPicPr/>
          <p:nvPr/>
        </p:nvPicPr>
        <p:blipFill>
          <a:blip r:embed="rId2"/>
          <a:stretch/>
        </p:blipFill>
        <p:spPr>
          <a:xfrm>
            <a:off x="5076720" y="3933720"/>
            <a:ext cx="3743280" cy="2805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http://aktivdolgoletie.ru/wp-content/uploads/2015/04/Reichstag_building_Berlin_Germany.jpg"/>
          <p:cNvPicPr/>
          <p:nvPr/>
        </p:nvPicPr>
        <p:blipFill>
          <a:blip r:embed="rId3"/>
          <a:stretch/>
        </p:blipFill>
        <p:spPr>
          <a:xfrm>
            <a:off x="5508720" y="1268280"/>
            <a:ext cx="3359160" cy="2521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http://imaginetravel.com.ua/application/view/media/imagestore/11.2013/Bremen_Marktplatz_78_RET_1024x768.jpg"/>
          <p:cNvPicPr/>
          <p:nvPr/>
        </p:nvPicPr>
        <p:blipFill>
          <a:blip r:embed="rId4"/>
          <a:stretch/>
        </p:blipFill>
        <p:spPr>
          <a:xfrm>
            <a:off x="826920" y="4797360"/>
            <a:ext cx="36277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Was nimmt man gew</a:t>
            </a:r>
            <a:r>
              <a:rPr b="1" lang="en-US" sz="2800" spc="-1" strike="noStrike">
                <a:solidFill>
                  <a:srgbClr val="e5ffff"/>
                </a:solidFill>
                <a:latin typeface="Times New Roman"/>
              </a:rPr>
              <a:t>ö</a:t>
            </a: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nlich auf eine Reise mit?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Прямоугольник 2"/>
          <p:cNvSpPr/>
          <p:nvPr/>
        </p:nvSpPr>
        <p:spPr>
          <a:xfrm>
            <a:off x="395280" y="765000"/>
            <a:ext cx="298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150d"/>
                </a:solidFill>
                <a:latin typeface="Tahoma"/>
              </a:rPr>
              <a:t>Herrenkleidu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 rot="21069000">
            <a:off x="782640" y="1432080"/>
            <a:ext cx="3166920" cy="152532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4"/>
          <p:cNvSpPr/>
          <p:nvPr/>
        </p:nvSpPr>
        <p:spPr>
          <a:xfrm>
            <a:off x="5798520" y="765000"/>
            <a:ext cx="301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150d"/>
                </a:solidFill>
                <a:latin typeface="Tahoma"/>
              </a:rPr>
              <a:t>Damenkleidu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 rot="683400">
            <a:off x="5087880" y="1300320"/>
            <a:ext cx="3419640" cy="19224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6"/>
          <p:cNvSpPr/>
          <p:nvPr/>
        </p:nvSpPr>
        <p:spPr>
          <a:xfrm>
            <a:off x="342720" y="3068640"/>
            <a:ext cx="309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150d"/>
                </a:solidFill>
                <a:latin typeface="Tahoma"/>
              </a:rPr>
              <a:t>Kleidungsst</a:t>
            </a:r>
            <a:r>
              <a:rPr b="1" lang="en-US" sz="2800" spc="-1" strike="noStrike">
                <a:solidFill>
                  <a:srgbClr val="5f150d"/>
                </a:solidFill>
                <a:latin typeface="Arial"/>
              </a:rPr>
              <a:t>ü</a:t>
            </a:r>
            <a:r>
              <a:rPr b="1" lang="en-US" sz="2800" spc="-1" strike="noStrike">
                <a:solidFill>
                  <a:srgbClr val="5f150d"/>
                </a:solidFill>
                <a:latin typeface="Tahoma"/>
              </a:rPr>
              <a:t>c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3"/>
          <a:stretch/>
        </p:blipFill>
        <p:spPr>
          <a:xfrm rot="21282600">
            <a:off x="87480" y="3665520"/>
            <a:ext cx="3665520" cy="206064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9"/>
          <p:cNvSpPr/>
          <p:nvPr/>
        </p:nvSpPr>
        <p:spPr>
          <a:xfrm>
            <a:off x="4067280" y="3068640"/>
            <a:ext cx="50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Und viele viele Taschen und Schuh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4"/>
          <a:stretch/>
        </p:blipFill>
        <p:spPr>
          <a:xfrm rot="342600">
            <a:off x="5722560" y="3661920"/>
            <a:ext cx="3335400" cy="187488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11"/>
          <p:cNvSpPr/>
          <p:nvPr/>
        </p:nvSpPr>
        <p:spPr>
          <a:xfrm>
            <a:off x="2700360" y="616572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Noch einige Kleidungsst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ü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ck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5"/>
          <a:stretch/>
        </p:blipFill>
        <p:spPr>
          <a:xfrm>
            <a:off x="3708360" y="4869000"/>
            <a:ext cx="232416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84240"/>
            <a:ext cx="9144000" cy="24858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1403280" y="4508640"/>
            <a:ext cx="1800360" cy="1079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3924360" y="4437000"/>
            <a:ext cx="1368360" cy="1152720"/>
          </a:xfrm>
          <a:prstGeom prst="triangle">
            <a:avLst>
              <a:gd name="adj" fmla="val 50000"/>
            </a:avLst>
          </a:prstGeom>
          <a:solidFill>
            <a:srgbClr val="99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6156360" y="3933720"/>
            <a:ext cx="914400" cy="172872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0" y="2276640"/>
            <a:ext cx="9144000" cy="16412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7296840" y="5067360"/>
            <a:ext cx="29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un packen wir jetzt einen Koffer!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1" name="Picture 4" descr="http://nametle.com/images/puteshestvie_v_holodnuyu_pogodu_kak_sobratsya_i_chto_vzyat.jpg"/>
          <p:cNvPicPr/>
          <p:nvPr/>
        </p:nvPicPr>
        <p:blipFill>
          <a:blip r:embed="rId1"/>
          <a:stretch/>
        </p:blipFill>
        <p:spPr>
          <a:xfrm>
            <a:off x="468360" y="1628640"/>
            <a:ext cx="83548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8:33:52Z</dcterms:created>
  <dc:creator>июлои</dc:creator>
  <dc:description/>
  <dc:language>en-US</dc:language>
  <cp:lastModifiedBy>июлои</cp:lastModifiedBy>
  <dcterms:modified xsi:type="dcterms:W3CDTF">2017-01-06T10:54:09Z</dcterms:modified>
  <cp:revision>2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