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8EE-B299-42C5-A5AE-549E2F70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DC1D-B7D8-40FD-AD41-D2796927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85D-F030-4EC1-A443-3FEFDB9FA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6A47-9961-46EE-8EBD-AEDE23BD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57BB-7F36-4A74-BB29-AB95841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007-8AB3-4319-9F4A-99FA6976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F56-4E9C-44D6-AB13-07E9EF3D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00D2-547B-4013-9772-4E3B0619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7260-C5D8-4B69-83D3-7FC776F7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E68-FF42-41BF-AC13-27A18C06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6F7-E084-40C0-8537-4FE26211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01A-9DF7-4AD5-8CBA-8BF2432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47BB-55C4-4931-9674-0063116D4D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952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69264776_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"/>
          <p:cNvSpPr/>
          <p:nvPr/>
        </p:nvSpPr>
        <p:spPr>
          <a:xfrm rot="20779200">
            <a:off x="810360" y="527400"/>
            <a:ext cx="5025960" cy="61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Kozuka Mincho Pro H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Формирование                           основ      экологического                 воспит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через   знакомств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дошкольник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no Pro Smbd Display"/>
              </a:rPr>
              <a:t>с родным крае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Воспитат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МБДОУ №7 «Чебураш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Абушахмано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Гульнара Ильдаров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1 квалификацион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Kozuka Mincho Pro H"/>
              </a:rPr>
              <a:t>категор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4"/>
          <p:cNvSpPr/>
          <p:nvPr/>
        </p:nvSpPr>
        <p:spPr>
          <a:xfrm>
            <a:off x="2286000" y="228456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505320" y="609480"/>
            <a:ext cx="5105160" cy="51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тоянное наблюдение за явлениями живой и неживой природы невозможно без организации в ДОУ развивающей природной среды, которая выступает фактором экологического воспитания дошкольников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рганизация «экологических пространств» в помещении детского сада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рупповые уголки природы,  комната  природы; на территории детского сада -площадки природы, микрофермы, «уголок нетронутой природы», экологическая троп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ормы организации детей, методы и приемы ознакомления их с природой самые разнообразные, выбор их зависит от  задач, программного материала и возраста детей, а также от местных условий и природного окруж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их бы образовательных концепций воспитатель не придерживался, по каким бы программам дошкольного воспитания не работал, он не может не ставить перед собой цель: научить бережно относиться к природе своего родного кра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7" descr="DSCN0100"/>
          <p:cNvPicPr/>
          <p:nvPr/>
        </p:nvPicPr>
        <p:blipFill>
          <a:blip r:embed="rId3"/>
          <a:stretch/>
        </p:blipFill>
        <p:spPr>
          <a:xfrm>
            <a:off x="457200" y="671400"/>
            <a:ext cx="2344680" cy="3124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Фото1175"/>
          <p:cNvPicPr/>
          <p:nvPr/>
        </p:nvPicPr>
        <p:blipFill>
          <a:blip r:embed="rId4"/>
          <a:stretch/>
        </p:blipFill>
        <p:spPr>
          <a:xfrm>
            <a:off x="2286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Rectangle 7"/>
          <p:cNvSpPr/>
          <p:nvPr/>
        </p:nvSpPr>
        <p:spPr>
          <a:xfrm>
            <a:off x="76320" y="412920"/>
            <a:ext cx="89154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вивающая сред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ак основа приобщения детей дошкольного возраста к  природе родного кр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еленаправленная работа в данном направлении стала приоритетом в воспитании и   обучении детей нашего дошкольного образовательного учреждения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оспитывать  любовь ко всему живому нам помогает деятельность детей в уголке природ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уголке природы имеются разнообразные комнатные растения, птицы и  животные, за которыми дети ухаживают. Во время ухода за обитателями уголка природы у детей формируются такие ценные качества, как трудолюбие, бережное отношение к живому, ответственность за порученное де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ин из путей воспитания доброго отношения к растениям и животным – пробуждать симпатии к ним, раскрывая их свойства, су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IMG_1628"/>
          <p:cNvPicPr/>
          <p:nvPr/>
        </p:nvPicPr>
        <p:blipFill>
          <a:blip r:embed="rId3"/>
          <a:stretch/>
        </p:blipFill>
        <p:spPr>
          <a:xfrm>
            <a:off x="380880" y="3573360"/>
            <a:ext cx="3762360" cy="2565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IMG_1641"/>
          <p:cNvPicPr/>
          <p:nvPr/>
        </p:nvPicPr>
        <p:blipFill>
          <a:blip r:embed="rId4"/>
          <a:stretch/>
        </p:blipFill>
        <p:spPr>
          <a:xfrm>
            <a:off x="4952880" y="3576600"/>
            <a:ext cx="387684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4"/>
          <p:cNvSpPr/>
          <p:nvPr/>
        </p:nvSpPr>
        <p:spPr>
          <a:xfrm>
            <a:off x="905040" y="606600"/>
            <a:ext cx="770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чение всего года с детьми ведутся  постоянные наблюдения за изменениями в природе. Ведь наблюдение – это важнейший источник знаний о природе. Экскурсии  на речку, на луг, на озеро, в лес обогащают детей новыми впечатлениями, учат их видеть и замечать то, мимо чего они раньше проходил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DSCN0895"/>
          <p:cNvPicPr/>
          <p:nvPr/>
        </p:nvPicPr>
        <p:blipFill>
          <a:blip r:embed="rId3"/>
          <a:stretch/>
        </p:blipFill>
        <p:spPr>
          <a:xfrm>
            <a:off x="779400" y="17524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4267080" y="2608200"/>
            <a:ext cx="4496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стематические и длительные наблюдения, эксперименты, опыты позволяют удовлетворять любознательность ребят. Дети очень любознательны, они с интересом присматриваются к окружающей действительности, стремятся проникнуть в ее тайны, поэтому мы стараемся не упустить очень важный вид детской деятельности - экспериментирование. Это разнообразные опыты с водой, снегом, сыпучими и несыпучими веществами (вода, песок, снег, соль, сахар, дерево, металл, и т.д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7" descr="IMG_20150320_112752"/>
          <p:cNvPicPr/>
          <p:nvPr/>
        </p:nvPicPr>
        <p:blipFill>
          <a:blip r:embed="rId4"/>
          <a:stretch/>
        </p:blipFill>
        <p:spPr>
          <a:xfrm>
            <a:off x="779400" y="42670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"/>
          <p:cNvSpPr/>
          <p:nvPr/>
        </p:nvSpPr>
        <p:spPr>
          <a:xfrm>
            <a:off x="277920" y="3048120"/>
            <a:ext cx="856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ращивая отдельные экземпляры растений в огороде летом, на окне весной дети познают их характер и потребности на разных стадиях роста и развит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ример, посадив  луковицы, семена цветов в емкости с землей, очень интересно наблюдать за всходами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Фото1429"/>
          <p:cNvPicPr/>
          <p:nvPr/>
        </p:nvPicPr>
        <p:blipFill>
          <a:blip r:embed="rId3"/>
          <a:stretch/>
        </p:blipFill>
        <p:spPr>
          <a:xfrm>
            <a:off x="5181480" y="304920"/>
            <a:ext cx="3124440" cy="2666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IMG_0134"/>
          <p:cNvPicPr/>
          <p:nvPr/>
        </p:nvPicPr>
        <p:blipFill>
          <a:blip r:embed="rId4"/>
          <a:stretch/>
        </p:blipFill>
        <p:spPr>
          <a:xfrm>
            <a:off x="2362320" y="4343400"/>
            <a:ext cx="3703680" cy="2362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DSCN0805"/>
          <p:cNvPicPr/>
          <p:nvPr/>
        </p:nvPicPr>
        <p:blipFill>
          <a:blip r:embed="rId5"/>
          <a:stretch/>
        </p:blipFill>
        <p:spPr>
          <a:xfrm>
            <a:off x="533520" y="228600"/>
            <a:ext cx="3471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7"/>
          <p:cNvSpPr/>
          <p:nvPr/>
        </p:nvSpPr>
        <p:spPr>
          <a:xfrm>
            <a:off x="914400" y="305640"/>
            <a:ext cx="708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группе подобрана библиотечка художественных произведений, сказок, энциклопедий, дидактических игр и информационных материалов по экологическому воспитанию дошкольник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8" descr="IMG_1653"/>
          <p:cNvPicPr/>
          <p:nvPr/>
        </p:nvPicPr>
        <p:blipFill>
          <a:blip r:embed="rId3"/>
          <a:stretch/>
        </p:blipFill>
        <p:spPr>
          <a:xfrm rot="19991400">
            <a:off x="783720" y="1693440"/>
            <a:ext cx="2971800" cy="1981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P1010979"/>
          <p:cNvPicPr/>
          <p:nvPr/>
        </p:nvPicPr>
        <p:blipFill>
          <a:blip r:embed="rId4"/>
          <a:stretch/>
        </p:blipFill>
        <p:spPr>
          <a:xfrm>
            <a:off x="1392120" y="4106880"/>
            <a:ext cx="2722680" cy="2362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DSCF2119"/>
          <p:cNvPicPr/>
          <p:nvPr/>
        </p:nvPicPr>
        <p:blipFill>
          <a:blip r:embed="rId5"/>
          <a:stretch/>
        </p:blipFill>
        <p:spPr>
          <a:xfrm>
            <a:off x="4419720" y="4106880"/>
            <a:ext cx="2676240" cy="2362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DSCN0126"/>
          <p:cNvPicPr/>
          <p:nvPr/>
        </p:nvPicPr>
        <p:blipFill>
          <a:blip r:embed="rId6"/>
          <a:stretch/>
        </p:blipFill>
        <p:spPr>
          <a:xfrm rot="1726200">
            <a:off x="5320800" y="1308240"/>
            <a:ext cx="25146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Rectangle 6"/>
          <p:cNvSpPr/>
          <p:nvPr/>
        </p:nvSpPr>
        <p:spPr>
          <a:xfrm>
            <a:off x="609480" y="955800"/>
            <a:ext cx="80773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ая родина дает человеку гораздо больше, чем он в состоянии осознать.  Необходимо сочетать программное  и краеведческий  материал с целью формирования у детей общечеловеческих ценностей, представлений о ценности мира, человека, природы родн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чего нужно изучать природу родного края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комендация образования, начиная с дошкольного возраста, выполняет высокую созидательную миссию. Важно воспитывать способность у детей позитивно взаимодействовать с природой, руководствоваться гуманным и экологически грамотным отношением к окружающей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знакомление детей с природой родного края– способствует сознанию важности окружающего ми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  материала краеведческого содержания позволяет ребенку, не только научиться грамматически правильно и свободно излагать свои мысли, но пробудить в себе эмоционально - чувственное отношение к природе наше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 детей крепнет такое бесценное свойство человека, как любознательность, наблюдательность, что в свою очередь порождает массу вопросов, требующих отве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057400" y="45720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380880" y="380880"/>
            <a:ext cx="84582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ивительный мир природы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встречает ребёнка морем звуков и запахов, тысячами разных загадок и тайн, заставляет остановиться, прислушаться, присмотреться, задуматься. Важно обратить внимание ребёнка на эту красоту и многообраз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тельное значение природы трудно переоценить. Общаясь с животными, растениями, дети становятся чище, добрее, мягче. Ребёнок, полюбивший природу, не будет безумно рвать цветы, разорять гнёзда, обижать живот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комство с природой будит любознательность дошкольника. Оно помогает понять многие явления, приучает видеть интересное там, где ещё вчера, а для иного человека и до самого конца жизни не было и не будет достойного внима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А. Сухомлинский справедливо считал необходимым вводить малышей в окружающий мир так, чтобы они "открывали в нём что-то новое, чтобы каждый шаг детей был путешествием к чудесной красоте природ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6"/>
          <p:cNvSpPr/>
          <p:nvPr/>
        </p:nvSpPr>
        <p:spPr>
          <a:xfrm>
            <a:off x="228600" y="795240"/>
            <a:ext cx="87631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школьный возраст- это важнейший период становления личности, когда закладываются предпосылки гражданских качеств, развиваются представления о человеке, обществе, культуре. Очень важно привить детям чувство любви и привязанности к природным и культурным ценностям родного края. «Родной край- это часть нашей великой страны, и в нём наряду со специфическими чертами отражено то, что типично, характерно для всей страны». Эти особенности позволяют формировать с детских лет представление о специфики своего региона, своей малой Родины. Дорога в будущее лежит через прошлое и настоящее. Понимание Родины у дошкольников тесно связано с конкретными представлениями о том, что им близко и дорого. Научить чувствовать красоту родной земли, красоту человека, живущего на этой земле, воспитать любовь к родным местам, ко всему, что окружает ребёнка с детства, - одна из главных задач педагог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овь к родному краю, к своей маленькой Родине не возникает у ребёнка само по себ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самого раннего возраста необходимо целенаправленное воздействие на ребёнка. Среда, образ жизни в семье, отношение в детском коллективе- всё это формирует чувство любви и отношение к тому месту, где ребёнок живё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увство Родины начинается с восхищения тем, что видит перед собой ребёнок, чему он изумляется и что вызывает отклик в его душе… И хотя многие впечатления ещё не осознанны им глубоко, но, пропущенные через детское восприятие, они играют огромную роль в становлении личност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юбовь к окружающей природе всегда связана с любовью к родным местам – к своему посёлку, городу, селу, где человек родился и живё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2971800" y="990720"/>
            <a:ext cx="594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системы элементарных экологических знаний доступных  пониманию ребенка  о  родном крае, средствами регионального компонента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познавательного интереса к миру природы родного края с учетом возрастных особенностей и методических требований в непосредственно образовательной деятельности, умение отражать это в  художественно-продуктивной деятельности, игре, тру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ние первоначальных умений и навыков экологически грамотного и безопасного для  природы и для самого ребенка поведения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спитание природоохранительных знаний, любви к природе, личной ответственности за её сохранность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4079880" y="609480"/>
            <a:ext cx="36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педагог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8" descr="Recoverd_jpg_file(20)"/>
          <p:cNvPicPr/>
          <p:nvPr/>
        </p:nvPicPr>
        <p:blipFill>
          <a:blip r:embed="rId3"/>
          <a:stretch/>
        </p:blipFill>
        <p:spPr>
          <a:xfrm>
            <a:off x="457200" y="3657600"/>
            <a:ext cx="2590920" cy="2803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DSCN0382"/>
          <p:cNvPicPr/>
          <p:nvPr/>
        </p:nvPicPr>
        <p:blipFill>
          <a:blip r:embed="rId4"/>
          <a:stretch/>
        </p:blipFill>
        <p:spPr>
          <a:xfrm>
            <a:off x="457200" y="838080"/>
            <a:ext cx="2590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4"/>
          <p:cNvGraphicFramePr/>
          <p:nvPr/>
        </p:nvGraphicFramePr>
        <p:xfrm>
          <a:off x="0" y="0"/>
          <a:ext cx="9144000" cy="68914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Rectangle 10"/>
          <p:cNvSpPr/>
          <p:nvPr/>
        </p:nvSpPr>
        <p:spPr>
          <a:xfrm>
            <a:off x="685800" y="65304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ализации данных задач необходимо выделить ведущие принципы дошкольного экологического воспитания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ость, гуманизация, интеграция, системность, регионализа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уч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яет содержание экологического воспитания и реализуется через знакомство с экосистемным строением среды обитания живых существ и человека, с разнообразием взаимосвязей между организмами и средой обитания в природ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уманизац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омогает, на основе возрастных, индивидуальных особенностей и потребностей детей, определить содержание экологического образования по объему сложности. Личность каждого ребенка представляет собой уникальное явление, отличающееся индивидуальным подбором качеств и собственным вариантов развития. Принцип гуманизации дает возможность строить «вектор развития» от ребенка к определению индивидуальных педагогических воздействий, способствующих его воспитанию и развитию на основе накопления субъективного опы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тегр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ключается в синтезе содержания дошкольного компонента экологического воспитания содержанием из разных областей естествознания, прикладных и гуманитарных наук, а также в интеграции содержания, форм и методов экологического воспитания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7"/>
          <p:cNvSpPr/>
          <p:nvPr/>
        </p:nvSpPr>
        <p:spPr>
          <a:xfrm>
            <a:off x="380880" y="304920"/>
            <a:ext cx="84582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нцип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гионализац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в связи с возрастными особенностями детей и необходимостью использования ближайшего природного и социокультурного окружения как ресурса воспитания и развития детей, является фундаментальной основой организации процесса экологического воспитания. Он лежит в основе отбора содержания и планирования работы по экологическому воспитанию. Характерные особенности народонаселения, времен года, внебазового состава животных и растений родного края и социоприродного окружения детского сада должны лежать в основе отбора содержания. На основе полученных чувственных представлений о растениях, животных родного  края и средах их обитания, дошкольники могут знакомиться с обитателями других регионов при помощи наглядных пособи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я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ализации цели и принцип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ошкольного экологического воспитания, необходимо считать следующие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тбор содержания экологического воспитания в соответствии с выделенными компонентами (познавательный, ценностный, нормативный, деятельностный), включая аспекты не только природного, но и социокультурного мир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готовка педагогов и родителей к реализации цели экологического воспитан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ние окружающей дошкольное учреждение природной и социокультурной среды как ресурса воспитания и развит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ганизация развивающих сред для обеспечения педагогического процесса экологического воспитания в дошкольном учрежден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рганизация систематизированного педагогического процесса экологического воспитания де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существление постоянного мониторинга результатов экологического образова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304920" y="533520"/>
            <a:ext cx="84582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держание экологического воспит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етей дошкольного возраста должно включать познавательный, ценностный, нормативный и деятельностный компонент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знавательный компон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включает знания и уме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многообразии живых организмов, взаимосвязях растительных и животных организмов в процессе роста и развития со средой обитания, морфофункциональной приспособленности к ней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взаимосвязях и взаимозависимостях их с неживой природой в экосистем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человеке как живом существе, как части природы, среде его жизни, обеспечивающей здоровье и нормальную жизнедеятельность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использовании природных ресурсов в хозяйственной деятельности человек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 недопустимости загрязнения окружающей среды, охране и восстановлении природных богатст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нностный компонент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ключает знания и ценностные ориентаци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самоценности жизни во всех ее проявлениях, природы и человека как части природ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универсальной ценности природы для жизни и деятельности человека (познавательный, эстетической, практической и т.д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б основных нравственных ценностях человеческого обществ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о созидательной, культурной цен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ловеческ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Фото1560"/>
          <p:cNvPicPr/>
          <p:nvPr/>
        </p:nvPicPr>
        <p:blipFill>
          <a:blip r:embed="rId3"/>
          <a:stretch/>
        </p:blipFill>
        <p:spPr>
          <a:xfrm>
            <a:off x="152280" y="4267080"/>
            <a:ext cx="2819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4"/>
          <p:cNvSpPr/>
          <p:nvPr/>
        </p:nvSpPr>
        <p:spPr>
          <a:xfrm>
            <a:off x="533520" y="25686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533520" y="955800"/>
            <a:ext cx="82296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рмативный 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ключает знания и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законах, декларирующих права и обязанности детей и взрослых, их исполнения и соблюд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ормах и правилах поведения в общественных местах и природ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еобходимости и способах проявления личного участия отношений к окружающим людям и природ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ятельностный компонен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включает знания и ум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о многообразии возможностей, видов и форм проявления созидательной деятельности в общественных местах, детском саду, семье, природным окружен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способах осуществления созидательной и творческой деятельност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 необходимости проявления личной инициативы и участия созидательной деятельности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7-01-07T13:57:53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