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5.png" ContentType="image/png"/>
  <Override PartName="/ppt/media/image10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DA37-EAD5-426B-AA12-73A06ECA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ACE-2BEF-4C79-B4A9-5A65E52C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540D-8398-480B-BC63-BC06EF53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A6C-9D06-4445-9C2B-A0BC8434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8C59-D015-4BE0-9381-0C2264AC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27AB-BEDB-45F8-A235-C0DDA0F3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DD8D-6C9A-47CC-A501-AFB524E6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F8B1-F160-4F18-A716-61C331DC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1EF3-F87F-4BF1-850B-5259265A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D39B8-E0D2-4EB6-A201-2023218A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7789-4944-4DBE-8692-2CFFA062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CC1-2192-4373-907D-0C9214E9B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0FEC-BE83-4D20-89D3-E9FCE9F3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458F-83E1-47AF-A12C-A17DE41C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EC31-5089-490B-9594-BE0EB997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7235-880E-4319-B25A-6D2B6AEE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6541-B698-42EB-83CE-C0625B89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2F36-5A31-485A-A76F-3C71B8A1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E44-6DFF-4F1D-8326-BA2BED56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1AA-3655-4E95-995A-5A6E678C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E5C-72B9-4F56-B9BD-2E517CC2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47A2-A775-498D-AD7F-8B660171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33D0-DE30-4388-B1B0-6B73AF1C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84B-AD08-4963-90C8-198D44A0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400C-A974-454E-9D34-48F4C1802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6C19-3F82-4991-862E-2A49BD8F1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Достопримечательности города Магадана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.</a:t>
            </a:r>
            <a:br>
              <a:rPr sz="48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рок – экскурс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«Узел памяти» открыт 9 мая 1991года в центре Магадана 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мятник представляет собой архитектурно-скульптурный ансамбль, в который также входит стенка с 5 бронзовыми медальонами, выполненными в технике рельефа (Автор А.А.Архипов). На них изображен боевой и трудовой подвиг Колымчан. Там же бетонная «КНИГА ПАМЯТИ» - плиты с выбитыми на них именами колымчан, погибших на фрон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917960" y="1905120"/>
            <a:ext cx="3997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мятник Вадиму Козину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кульптура расположена в скверике рядом с домом, где жил певец. Певец попал на Колыму в 1944 году и был осужден на 8 лет. За примерное поведение был освобожден досроч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917960" y="2266920"/>
            <a:ext cx="39276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адим Кози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ле освобождения Козин возобновил свою концертную деятельность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до конца жизни жил в Магадане, оставаясь своеобразной достопримечательностью города, человеком – легенд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9272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Добрый ангел мира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.</a:t>
            </a:r>
            <a:br>
              <a:rPr sz="40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овая достопримечательность Магадана появилась в городском парке в 2009 году. Приурочена она была к 70-летию столицы Колымы и является очередной из целого цикла одноименных памятников, расположенных в разных городах России. Эта акция символизирует единство нации, ее сплоченность вокруг идеалов добра и мира. Именно эти ассоциации приходят в голову, когда поднимаешь глаза и видишь на фоне неба золотую фигуру ангела, держащего в руках голубя ми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33800" y="1523880"/>
            <a:ext cx="3886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амятник Свт. Иннокентию просветителю земли Колымской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 июля 2015года на Соборной площади Магадана был установлен бронзовый памятник  святителю Иннокентию Московскому. Апостолу Сибири и Америки просветителю Колымской зем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4191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амятник строителям города Магадана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тому событию посвящен памятник  первым строителям Магад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43434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Памятник В.С.Высоцкому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«Мой друг уехал в Магадан».</a:t>
            </a:r>
            <a:br>
              <a:rPr sz="4000"/>
            </a:b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районе смотровой площадки находится жанровая скульптура автора Ю.Руденк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а скульптура легендарного советского поэта, актера, музыканта, который посвятил несколько своих  песен Колымскому краю. В том числе и известную песню «Мой друг уехал в Магадан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917960" y="1954080"/>
            <a:ext cx="39276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июля 2014 года в бухте Нагаева был торжественно открыт памятник Владимиру Высоцкому. Бронзовый певец с гитарой смотрит в сторону морского порта. На постаменте памятника, который изготовил художник Ю. Руденко, написано: «Я расскажу тебе про Магадан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Композиция «Время».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громная фигура мамонта сделана из металлолома. Стоит на берегу под всеми ветрами и осадками. И ржавеет. По идее скульптура когда-нибудь исчезнет, как и прототи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917960" y="2651040"/>
            <a:ext cx="39276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огда-то на земле Колымской жили мамонты. Как память о той эпохе люди находят их оста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Колыме в линзе льда был найден мамонтенок Дима. Сейчас он в музее Санкт-Петербурга, а копия из папье-маше в краеведческом музее Магад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Ничего не боялся я столько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ак жить в город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ез истории, предан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 памятников.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поллон Григорьев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знакомить детей с памятниками Магадан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готовить к работе над сочинением - описанием публицистического характера с описанием памятника истории или культу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вать речь учащихся, расширять их словарный запас; развивать кругозор; прививать любви к  малой Родин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спитывать интерес к изучению истории родного края, уважительное отношение к памятника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тодические приемы: закрепление знаний, полученных на уроках и во внеурочной деятельности; фронтальная беседа; индивидуальные сообщения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Магадане установлено много интересных памятников, памятников с историей. Несколько из них прямо на берегу бухты Нагаево. Именно от бухты Нагаево в 1929 году началось строительство вначале поселка, а потом уже и город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кульптурная композиция «Олени»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ульптурная композиция «Олени» находится на въезде в город. Пропустить  и не найти ее невозможно. С 2006г. их было всего двое: олениха с олененком.  Но с 2014 года её дополнили, теперь въезжающих приветствует полная сем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19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Маска скорб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тории лагерей посвящена «Маска Скорби», которую поставили на горе, над Магаданом по инициативе Б.Ельцина в 1996г. Скульптор Эрнст Неизвестный. Внутри маски расположена небольшая экспозиция, иллюстрирующая непростой быт заключе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875120" y="1752480"/>
            <a:ext cx="3963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88423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емориал Маска Скорби</a:t>
            </a: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.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 время существования предприятия «Дальстрой» с 1931 по 1957 год через входящую в его состав сеть трудовых лагерей « Севвостлаг» прошло около 900000 заключенных. Примерно 180000 из них остались лежать в промерзшей колымской зем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265720" y="1905120"/>
            <a:ext cx="3232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Arial Black"/>
              </a:rPr>
              <a:t>МЕМОРИАЛ ЖЕРТВАМ ПОЛИТИЧЕСКИХ РЕПРЕССИ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62320" y="1935000"/>
            <a:ext cx="5257800" cy="49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Монумент «Узел Памяти» памятник магаданцам – героям фронта и тыла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обеды в Великой Монумент "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зел памят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 посвящен героям фронта и тыла, которые воевали или трудились ради Отечественной войне. Создан монумент в центре Магадана на улице Карла Маркс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905120"/>
            <a:ext cx="42674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1T21:33:05Z</dcterms:created>
  <dc:creator>МКОУ СОШ</dc:creator>
  <dc:description/>
  <dc:language>en-US</dc:language>
  <cp:lastModifiedBy>МКОУ СОШ</cp:lastModifiedBy>
  <dcterms:modified xsi:type="dcterms:W3CDTF">2017-01-06T01:08:11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