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99E-A5BD-40AD-A0A7-9EC87D12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38A-5BA8-4D2D-B6F3-184CF3B1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69E-BCB4-4010-AEF8-7060EBB9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61C-97AE-491C-8AC6-832AE858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C0F5-6207-4082-97AB-205315BD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04FF-BF04-4CAC-A92E-3EBB754F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30A4-AAA5-415F-8D4C-611BEF84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C51E-ECEB-40AB-92D1-9A136850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3E71-9408-4CC4-81A4-CAD2366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2FE3-D718-43E6-BD6F-43C2A99F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FB06-F3C5-4A0F-B890-A412C983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D05-8D0E-430A-92DA-DC3497D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9CD8-5A72-4904-9E50-20E68F7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43D7-AFB2-410B-B392-E096D1D1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1C3-9696-40E7-BA01-1AD84CCF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8CB8-F5C0-4024-804B-00AE03C3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D56E-2940-43D3-801B-F1F9374B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AE2-9065-4123-91F5-01DFFF2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C53-9572-4086-B107-CA9F2A3C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D83-174E-434F-A5BE-7289A114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842-77EA-40D8-8F38-45ECEBE0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551-688E-4423-A001-80DD35F1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EB0-0784-4013-9FD5-245C80A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F87-6FD4-4C2B-8197-1300A279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028-FBE0-4CD2-8D61-D4933E81E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9653-8C30-4216-A6CE-C35FD519B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Достопримечательности города Магадана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.</a:t>
            </a:r>
            <a:br>
              <a:rPr sz="48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рок – экскурс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Узел памяти» открыт 9 мая 1991года в центре Магадана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мятник представляет собой архитектурно-скульптурный ансамбль, в который также входит стенка с 5 бронзовыми медальонами, выполненными в технике рельефа (Автор А.А.Архипов). На них изображен боевой и трудовой подвиг Колымчан. Там же бетонная «КНИГА ПАМЯТИ» - плиты с выбитыми на них именами колымчан, погибших на фрон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97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мятник Вадиму Козину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ульптура расположена в скверике рядом с домом, где жил певец. Певец попал на Колыму в 1944 году и был осужден на 8 лет. За примерное поведение был освобожден досроч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17960" y="2266920"/>
            <a:ext cx="3927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адим Коз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освобождения Козин возобновил свою концертную деятельность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до конца жизни жил в Магадане, оставаясь своеобразной достопримечательностью города, человеком – леген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927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обрый ангел мира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.</a:t>
            </a:r>
            <a:br>
              <a:rPr sz="40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ая достопримечательность Магадана появилась в городском парке в 2009 году. Приурочена она была к 70-летию столицы Колымы и является очередной из целого цикла одноименных памятников, расположенных в разных городах России. Эта акция символизирует единство нации, ее сплоченность вокруг идеалов добра и мира. Именно эти ассоциации приходят в голову, когда поднимаешь глаза и видишь на фоне неба золотую фигуру ангела, держащего в руках голубя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380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амятник Свт. Иннокентию просветителю земли Колымско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июля 2015года на Соборной площади Магадана был установлен бронзовый памятник  святителю Иннокентию Московскому. Апостолу Сибири и Америки просветителю Колымской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мятник строителям города Магадан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му событию посвящен памятник  первым строителям Магад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343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амятник В.С.Высоцкому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«Мой друг уехал в Магадан».</a:t>
            </a: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айоне смотровой площадки находится жанровая скульптура автора Ю.Руден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 скульптура легендарного советского поэта, актера, музыканта, который посвятил несколько своих  песен Колымскому краю. В том числе и известную песню «Мой друг уехал в Магада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17960" y="1954080"/>
            <a:ext cx="3927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июля 2014 года в бухте Нагаева был торжественно открыт памятник Владимиру Высоцкому. Бронзовый певец с гитарой смотрит в сторону морского порта. На постаменте памятника, который изготовил художник Ю. Руденко, написано: «Я расскажу тебе про Магадан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Композиция «Время»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громная фигура мамонта сделана из металлолома. Стоит на берегу под всеми ветрами и осадками. И ржавеет. По идее скульптура когда-нибудь исчезнет, как и прототи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917960" y="2651040"/>
            <a:ext cx="39276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-то на земле Колымской жили мамонты. Как память о той эпохе люди находят их оста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Колыме в линзе льда был найден мамонтенок Дима. Сейчас он в музее Санкт-Петербурга, а копия из папье-маше в краеведческом музее Магад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ичего не боялся я стольк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жить в горо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ез истории, пред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 памятников.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поллон Григорьев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комить детей с памятниками Магада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готовить к работе над сочинением - описанием публицистического характера с описанием памятника истории или куль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речь учащихся, расширять их словарный запас; развивать кругозор; прививать любви к  малой Роди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ывать интерес к изучению истории родного края, уважительное отношение к памятни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ие приемы: закрепление знаний, полученных на уроках и во внеурочной деятельности; фронтальная беседа; индивидуальные сообщения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агадане установлено много интересных памятников, памятников с историей. Несколько из них прямо на берегу бухты Нагаево. Именно от бухты Нагаево в 1929 году началось строительство вначале поселка, а потом уже и гор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ульптурная композиция «Олени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ульптурная композиция «Олени» находится на въезде в город. Пропустить  и не найти ее невозможно. С 2006г. их было всего двое: олениха с олененком.  Но с 2014 года её дополнили, теперь въезжающих приветствует полная сем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аска скорб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и лагерей посвящена «Маска Скорби», которую поставили на горе, над Магаданом по инициативе Б.Ельцина в 1996г. Скульптор Эрнст Неизвестный. Внутри маски расположена небольшая экспозиция, иллюстрирующая непростой быт заключе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75120" y="1752480"/>
            <a:ext cx="396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емориал Маска Скорби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время существования предприятия «Дальстрой» с 1931 по 1957 год через входящую в его состав сеть трудовых лагерей « Севвостлаг» прошло около 900000 заключенных. Примерно 180000 из них остались лежать в промерзшей колымской зем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65720" y="1905120"/>
            <a:ext cx="3232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ЕМОРИАЛ ЖЕРТВАМ ПОЛИТИЧЕСКИХ РЕПРЕССИ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1935000"/>
            <a:ext cx="52578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Монумент «Узел Памяти» памятник магаданцам – героям фронта и тыл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беды в Великой Монумент "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зел памят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 посвящен героям фронта и тыла, которые воевали или трудились ради Отечественной войне. Создан монумент в центре Магадана на улице Карла Маркс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267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1T21:33:05Z</dcterms:created>
  <dc:creator>МКОУ СОШ</dc:creator>
  <dc:description/>
  <dc:language>en-US</dc:language>
  <cp:lastModifiedBy>МКОУ СОШ</cp:lastModifiedBy>
  <dcterms:modified xsi:type="dcterms:W3CDTF">2017-01-06T01:08:1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