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6.png" ContentType="image/png"/>
  <Override PartName="/ppt/media/image10.jpeg" ContentType="image/jpeg"/>
  <Override PartName="/ppt/media/image5.jpeg" ContentType="image/jpeg"/>
  <Override PartName="/ppt/media/image48.wmf" ContentType="image/x-wmf"/>
  <Override PartName="/ppt/media/image43.jpeg" ContentType="image/jpeg"/>
  <Override PartName="/ppt/media/image6.jpeg" ContentType="image/jpe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29C4-B648-41CE-90BE-B5AB0BC099E8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938D-8DA1-4028-8A31-9EE32923E0F0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5FE-9743-472D-B269-5CCAFA2B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36D-BB60-4A31-B638-CA19709E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B56-E18A-4A9A-A784-64EDA4C7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17C-016C-4BE9-8876-CAF1C7C0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B0C-C45E-44ED-A166-59F4FC1A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AD8-C5EF-43FD-B4A2-1B505953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989-3E8C-432A-8810-4C16B7B2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E97-8932-45F7-B42B-0A9DADDB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227-F4A5-4853-AE2E-1B54712D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080-0CA5-4027-A7CF-34558636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283-8067-4B10-B297-178E410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703-8EFE-459F-BCBE-938C1DC9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924D-0D75-48CC-BD06-7E48F7638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resher.ru/manager_content/images2/kak-pechatayut-knigi-na-tipografii-v-cheboksarax/big/10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fresher.ru/manager_content/images2/kak-pechatayut-knigi-na-tipografii-v-cheboksarax/big/13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fresher.ru/manager_content/images2/kak-pechatayut-knigi-na-tipografii-v-cheboksarax/big/14.jp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fresher.ru/manager_content/images2/kak-pechatayut-knigi-na-tipografii-v-cheboksarax/big/23.jp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www.fresher.ru/manager_content/images2/kak-pechatayut-knigi-na-tipografii-v-cheboksarax/big/49.jpg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www.fresher.ru/manager_content/images2/kak-pechatayut-knigi-na-tipografii-v-cheboksarax/big/38.jpg" TargetMode="External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yandex.ru/clck/jsredir?from=yandex.ru%3Bsearch%2F%3Bweb%3B%3B&amp;text=&amp;etext=958.mFyKrL9PVpZEG13ItOhbKYRAzjNSBPhNlVuhGhQV4pI87uvZua2w4yf_DwUS-j-CFZo2yV9yXk3HnazBIpapkkCxAp8qBo561k7AAgTnqsagLPR55PJhDx51-YeEYNQ7.c7099279e8de27c688778de568df353913b25ad2&amp;uuid=&amp;state=PEtFfuTeVD5kpHnK9lio9dFa2ePbDzX70KDEiti5Dt8zX-vqVe_Q2mNo5Z9ckQj23vmoPUnHc_T5SVw9fvyOPSQZIBezPCq2StvY27on2_WHIrAQMRd4nNf7HVeam05r&amp;data=UlNrNmk5WktYejR0eWJFYk1LdmtxcmhFWDJYSy1GNkdZZ0NPMFA2cHktZG4zTG9qSnpnOEdrV1VpWXB0YlBBdlpSdVJ5RkN2cFI1UkRtMDAwNDdqeU1EekRaMjc2elVxU2hfOU9PQVpEeVBFWGl3amNoR1gzanpCb0k0RUw2aEFBd2xOR2pxaXViUDk2T0tVWTZ0MkJ3&amp;b64e=2&amp;sign=aa3923de9aced118aae2295fb2366867&amp;keyno=0&amp;cst=AiuY0DBWFJ5Hyx_fyvalFB4x2_f-AdkTATii4hDxts15oXgCV4TBJWMGg9ZGNr-qld_zDOtO0KIbqE2pCWua8G7wRjNaVn4th88kTzfOxJM0-5N6E4_qOL4jK59kP-roZijtqckoetQNC2EuOm-CPWaDVTmrGri7x34UZemw0-qF37nvLvtMLmpP5qvI_jhO&amp;ref=orjY4mGPRjk5boDnW0uvlrrd71vZw9kpVBUyA8nmgRGGniRDizg1qSOLMU1fKW2t9KQlVRYS4ugGa5DV5bNxFK04TwvrqnFf5Ia5YtxdZ0JYNQ2SzMBQWaQaxtG-MGMeh3v5LxcvndxeJ6yJzFWaKhZtJNwLd0kvx9kKgQ0w2VIwA0fV9sUarUz20WmZNdve18nlCc5h2YH6C7ydedVd0h600wX23Vf4gRsKkaXKoq3hnYeumcdnOokh40Nohkz9m4LF_4LlvU09kpTUasd-zAOpzTdoWXjaUV8kdHkgRg2cz_d7qSwGswIWDX0qofCdWiUV3g3utYv1ilNDG7se_A&amp;l10n=ru&amp;cts=1454959429996&amp;mc=3.908673077030711" TargetMode="External"/><Relationship Id="rId2" Type="http://schemas.openxmlformats.org/officeDocument/2006/relationships/hyperlink" Target="http://www.fresher.ru/" TargetMode="External"/><Relationship Id="rId3" Type="http://schemas.openxmlformats.org/officeDocument/2006/relationships/hyperlink" Target="http://www.fresher.ru/" TargetMode="External"/><Relationship Id="rId4" Type="http://schemas.openxmlformats.org/officeDocument/2006/relationships/hyperlink" Target="http://www.fresher.ru/" TargetMode="External"/><Relationship Id="rId5" Type="http://schemas.openxmlformats.org/officeDocument/2006/relationships/hyperlink" Target="http://www.fresher.ru/2013/07/16/kak-pechatayut-knigi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28800" y="785880"/>
            <a:ext cx="756108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Береги  учебник!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2357280" y="1928880"/>
            <a:ext cx="33577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втор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учающиес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5в класс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БОУ Излучинская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СШУИОП №2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ебогина Алина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ыресенков Иль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читель русского языка и литературы Ляхова Т.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" name="Рисунок 3" descr="C:\Users\Live\Desktop\фото библ\20160218_141845.jpg"/>
          <p:cNvPicPr/>
          <p:nvPr/>
        </p:nvPicPr>
        <p:blipFill>
          <a:blip r:embed="rId2"/>
          <a:stretch/>
        </p:blipFill>
        <p:spPr>
          <a:xfrm>
            <a:off x="5929200" y="2000160"/>
            <a:ext cx="26244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8"/>
          <p:cNvSpPr/>
          <p:nvPr/>
        </p:nvSpPr>
        <p:spPr>
          <a:xfrm>
            <a:off x="714240" y="2428920"/>
            <a:ext cx="77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кетирование, наблюдение, беседа, анализ, синтез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00040" y="100008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Методы исследован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8"/>
          <p:cNvSpPr/>
          <p:nvPr/>
        </p:nvSpPr>
        <p:spPr>
          <a:xfrm>
            <a:off x="571680" y="1428840"/>
            <a:ext cx="820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брать из справочных источников материал , в котором рассказывается о процессе создания книги, её создателях, её себестоим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етить библиотеку с целью  ознакомления с библиотечным фондом школ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вести опрос «Я и учебник» среди обучающихся и  родителей, по результатам опроса  составить диаграмм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28760" y="4287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лан реализации проект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8"/>
          <p:cNvSpPr/>
          <p:nvPr/>
        </p:nvSpPr>
        <p:spPr>
          <a:xfrm>
            <a:off x="714240" y="1571760"/>
            <a:ext cx="8207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вести рейд по проверке учебников в начале и в конце учебного года в 1-х и 5-х классах и составить по нему диаграмм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анализировав материал, сделать вывод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здать памятку «Береги учебник!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вести беседы в 1-х и в 5-х классах «Продли учебнику жизнь!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57120" y="8571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лан реализации проект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8"/>
          <p:cNvSpPr/>
          <p:nvPr/>
        </p:nvSpPr>
        <p:spPr>
          <a:xfrm>
            <a:off x="857160" y="2133720"/>
            <a:ext cx="8285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Хорошее состояние учебников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данных  1-ми и 5-ми классами в библиотеку в конце учебного год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500040" y="1071720"/>
            <a:ext cx="8207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Ожидаемые результаты  проек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8"/>
          <p:cNvSpPr/>
          <p:nvPr/>
        </p:nvSpPr>
        <p:spPr>
          <a:xfrm>
            <a:off x="4321080" y="1557360"/>
            <a:ext cx="4714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24000" y="639720"/>
            <a:ext cx="871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Великий путь преобразования книг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8" name="Рисунок 4" descr="три"/>
          <p:cNvPicPr/>
          <p:nvPr/>
        </p:nvPicPr>
        <p:blipFill>
          <a:blip r:embed="rId2"/>
          <a:stretch/>
        </p:blipFill>
        <p:spPr>
          <a:xfrm>
            <a:off x="324000" y="1206360"/>
            <a:ext cx="3187440" cy="1854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береста"/>
          <p:cNvPicPr/>
          <p:nvPr/>
        </p:nvPicPr>
        <p:blipFill>
          <a:blip r:embed="rId3"/>
          <a:stretch/>
        </p:blipFill>
        <p:spPr>
          <a:xfrm>
            <a:off x="6130800" y="1182600"/>
            <a:ext cx="2779920" cy="20862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табл"/>
          <p:cNvPicPr/>
          <p:nvPr/>
        </p:nvPicPr>
        <p:blipFill>
          <a:blip r:embed="rId4"/>
          <a:stretch/>
        </p:blipFill>
        <p:spPr>
          <a:xfrm>
            <a:off x="3670200" y="1219320"/>
            <a:ext cx="2301840" cy="18968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947bee7ad2c1"/>
          <p:cNvPicPr/>
          <p:nvPr/>
        </p:nvPicPr>
        <p:blipFill>
          <a:blip r:embed="rId5"/>
          <a:stretch/>
        </p:blipFill>
        <p:spPr>
          <a:xfrm>
            <a:off x="6062760" y="3487680"/>
            <a:ext cx="2847960" cy="2462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перг"/>
          <p:cNvPicPr/>
          <p:nvPr/>
        </p:nvPicPr>
        <p:blipFill>
          <a:blip r:embed="rId6"/>
          <a:stretch/>
        </p:blipFill>
        <p:spPr>
          <a:xfrm>
            <a:off x="355680" y="3268800"/>
            <a:ext cx="2355840" cy="29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BOOK_2"/>
          <p:cNvPicPr/>
          <p:nvPr/>
        </p:nvPicPr>
        <p:blipFill>
          <a:blip r:embed="rId7"/>
          <a:stretch/>
        </p:blipFill>
        <p:spPr>
          <a:xfrm>
            <a:off x="2884320" y="3398760"/>
            <a:ext cx="28735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8"/>
          <p:cNvSpPr/>
          <p:nvPr/>
        </p:nvSpPr>
        <p:spPr>
          <a:xfrm>
            <a:off x="7862760" y="1336680"/>
            <a:ext cx="906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-1189080" y="347760"/>
            <a:ext cx="90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Процесс рождения книг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" name="Рисунок 4" descr="Измельчение древесины для производства бумаги"/>
          <p:cNvPicPr/>
          <p:nvPr/>
        </p:nvPicPr>
        <p:blipFill>
          <a:blip r:embed="rId1"/>
          <a:stretch/>
        </p:blipFill>
        <p:spPr>
          <a:xfrm>
            <a:off x="390600" y="981000"/>
            <a:ext cx="2671560" cy="2151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Варка древесины"/>
          <p:cNvPicPr/>
          <p:nvPr/>
        </p:nvPicPr>
        <p:blipFill>
          <a:blip r:embed="rId2"/>
          <a:stretch/>
        </p:blipFill>
        <p:spPr>
          <a:xfrm>
            <a:off x="3211560" y="973080"/>
            <a:ext cx="2562120" cy="21495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Пропитка целлюлозы наполнителем"/>
          <p:cNvPicPr/>
          <p:nvPr/>
        </p:nvPicPr>
        <p:blipFill>
          <a:blip r:embed="rId3"/>
          <a:stretch/>
        </p:blipFill>
        <p:spPr>
          <a:xfrm>
            <a:off x="5958000" y="982800"/>
            <a:ext cx="2811240" cy="21492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Добавление красителей к целлюлозе"/>
          <p:cNvPicPr/>
          <p:nvPr/>
        </p:nvPicPr>
        <p:blipFill>
          <a:blip r:embed="rId4"/>
          <a:stretch/>
        </p:blipFill>
        <p:spPr>
          <a:xfrm>
            <a:off x="390600" y="3357720"/>
            <a:ext cx="2644560" cy="2303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Сушка бумажного полотна"/>
          <p:cNvPicPr/>
          <p:nvPr/>
        </p:nvPicPr>
        <p:blipFill>
          <a:blip r:embed="rId5"/>
          <a:stretch/>
        </p:blipFill>
        <p:spPr>
          <a:xfrm>
            <a:off x="3278160" y="3357720"/>
            <a:ext cx="2495520" cy="2303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Сматывание бумаги в рулоны"/>
          <p:cNvPicPr/>
          <p:nvPr/>
        </p:nvPicPr>
        <p:blipFill>
          <a:blip r:embed="rId6"/>
          <a:stretch/>
        </p:blipFill>
        <p:spPr>
          <a:xfrm>
            <a:off x="5983200" y="3357720"/>
            <a:ext cx="27860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8"/>
          <p:cNvSpPr/>
          <p:nvPr/>
        </p:nvSpPr>
        <p:spPr>
          <a:xfrm>
            <a:off x="8317080" y="2133720"/>
            <a:ext cx="825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-328680" y="425520"/>
            <a:ext cx="7834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Процесс рождения книг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6" name="Рисунок 4" descr="Как печатают книги на типографии в Чебоксара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2440" y="1074600"/>
            <a:ext cx="254304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Как печатают книги на типографии в Чебоксарах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0200" y="1074600"/>
            <a:ext cx="28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Как печатают книги на типографии в Чебоксарах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5520" y="1058760"/>
            <a:ext cx="2739960" cy="21495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7" descr="Как печатают книги на типографии в Чебоксарах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0120" y="3251160"/>
            <a:ext cx="2565360" cy="2311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Как печатают книги на типографии в Чебоксарах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05520" y="3319560"/>
            <a:ext cx="2739960" cy="2324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Как печатают книги на типографии в Чебоксарах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11400" y="3295800"/>
            <a:ext cx="2819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C:\Users\Live\Desktop\фото библ\20160218_140540.jpg"/>
          <p:cNvPicPr/>
          <p:nvPr/>
        </p:nvPicPr>
        <p:blipFill>
          <a:blip r:embed="rId1"/>
          <a:stretch/>
        </p:blipFill>
        <p:spPr>
          <a:xfrm>
            <a:off x="500040" y="1714680"/>
            <a:ext cx="407196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C:\Users\Live\Desktop\фото библ\20160218_135644.jpg"/>
          <p:cNvPicPr/>
          <p:nvPr/>
        </p:nvPicPr>
        <p:blipFill>
          <a:blip r:embed="rId2"/>
          <a:stretch/>
        </p:blipFill>
        <p:spPr>
          <a:xfrm>
            <a:off x="4714920" y="1714680"/>
            <a:ext cx="4214880" cy="3429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500040" y="714240"/>
            <a:ext cx="83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В школьной библиотек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8"/>
          <p:cNvSpPr/>
          <p:nvPr/>
        </p:nvSpPr>
        <p:spPr>
          <a:xfrm>
            <a:off x="428760" y="1285920"/>
            <a:ext cx="82850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…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сли хотя бы один ученик из каждого класса испортит  один комплект учебников, ущерб составит 173 504 рубл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…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его расходуется 2 тонны 711 килограммов бумаги. А это составляет 50 деревье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00040" y="714240"/>
            <a:ext cx="8207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Задумаемся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500040" y="714240"/>
            <a:ext cx="8358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Анкета «Я и учебник» для родител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57120" y="1310760"/>
            <a:ext cx="86439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ится ли Вам, что Ваш ребёнок занимается по новому учебнику?     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ится ли Вам, что Ваш ребёнок занимается по аккуратному, чистому учебнику, по которому занимались другие?                                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ится ли Вам, что Ваш ребёнок  занимается по исписанному, разрисованному, порванному учебнику?                                                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чебник  испорчен, Вы отремонтируете его?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ете ли Вы состояние учебников Вашего ребёнк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 правила по использованию учебника?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 срок службы учебника? 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, сколько стоит учебник?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, люди каких профессий работают над созданием учебник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, из чего изготавливают бумагу для создания учебник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ится ли Вам, что в школе выдаются бесплатные учебники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8"/>
          <p:cNvSpPr/>
          <p:nvPr/>
        </p:nvSpPr>
        <p:spPr>
          <a:xfrm>
            <a:off x="357120" y="2643120"/>
            <a:ext cx="90010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Исследовательский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реди участников школ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Группово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2015/2016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чебный год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428840" y="37148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428760" y="13572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арактеристика проект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4"/>
          <p:cNvSpPr/>
          <p:nvPr/>
        </p:nvSpPr>
        <p:spPr>
          <a:xfrm>
            <a:off x="2268360" y="692280"/>
            <a:ext cx="5697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Анкетирование родителе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7929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4"/>
          <p:cNvSpPr/>
          <p:nvPr/>
        </p:nvSpPr>
        <p:spPr>
          <a:xfrm>
            <a:off x="2268360" y="692280"/>
            <a:ext cx="5697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Анкетирование родителе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23" name="Диаграмма 3"/>
          <p:cNvGraphicFramePr/>
          <p:nvPr/>
        </p:nvGraphicFramePr>
        <p:xfrm>
          <a:off x="272880" y="1141560"/>
          <a:ext cx="8598240" cy="42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141560"/>
                    <a:ext cx="859824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3"/>
          <p:cNvSpPr/>
          <p:nvPr/>
        </p:nvSpPr>
        <p:spPr>
          <a:xfrm>
            <a:off x="500040" y="714240"/>
            <a:ext cx="8358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Анкета «Я и учебник» для учащих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57120" y="1309320"/>
            <a:ext cx="8643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Нравится ли тебе заниматься по новому учебнику?         Да 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.Нравится ли тебе заниматься по аккуратному, чистому учебнику, по которому занимались другие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Нравится ли тебе заниматься по исписанному, разрисованному, порванному учебнику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4.Если учебник  испорчен, ты отремонтируешь его?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5.Знаешь ли ты правила по использованию учебника?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6.Знаешь ли ты срок службы учебника?  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Знаешь ли ты, сколько стоит учебник? 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8.Знаешь ли ты, люди каких профессий работают над созданием учебник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9.Знаешь ли ты, из чего изготавливают бумагу для создания учебник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0.Нравится ли тебе, что в школе выдаются бесплатные учебники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1187280" y="404640"/>
            <a:ext cx="6197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Анкетирование обучающих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8" name="Диаграмма 5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8072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1187280" y="404640"/>
            <a:ext cx="6197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Анкетирование обучающих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0" name="Диаграмма 3"/>
          <p:cNvGraphicFramePr/>
          <p:nvPr/>
        </p:nvGraphicFramePr>
        <p:xfrm>
          <a:off x="344520" y="920880"/>
          <a:ext cx="8454960" cy="457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920880"/>
                    <a:ext cx="845496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500040" y="714240"/>
            <a:ext cx="83581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Критерии проверки учебнико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в 1-х класс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14240" y="1714680"/>
          <a:ext cx="7929720" cy="3733560"/>
        </p:xfrm>
        <a:graphic>
          <a:graphicData uri="http://schemas.openxmlformats.org/drawingml/2006/table">
            <a:tbl>
              <a:tblPr/>
              <a:tblGrid>
                <a:gridCol w="2524320"/>
                <a:gridCol w="1776240"/>
                <a:gridCol w="1892520"/>
                <a:gridCol w="1736640"/>
              </a:tblGrid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+)           Нет (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учеб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азб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8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ма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окр.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блож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 переплё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закла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 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е 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ые 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500040" y="571680"/>
            <a:ext cx="83581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Критерии проверки учебнико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в 5-х класс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1800" y="360"/>
            <a:ext cx="22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00040" y="1714680"/>
          <a:ext cx="8072640" cy="3931920"/>
        </p:xfrm>
        <a:graphic>
          <a:graphicData uri="http://schemas.openxmlformats.org/drawingml/2006/table">
            <a:tbl>
              <a:tblPr/>
              <a:tblGrid>
                <a:gridCol w="1928880"/>
                <a:gridCol w="1000080"/>
                <a:gridCol w="744480"/>
                <a:gridCol w="914400"/>
                <a:gridCol w="808200"/>
                <a:gridCol w="857160"/>
                <a:gridCol w="795240"/>
                <a:gridCol w="1024200"/>
              </a:tblGrid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5520" rIns="655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+) Нет 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200">
                <a:tc>
                  <a:txBody>
                    <a:bodyPr lIns="65520" rIns="655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учеб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р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1857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м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гео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ис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би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англ. яз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ик подпис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бло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 переплё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закла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 стра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е стра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ые стра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8"/>
          <p:cNvSpPr/>
          <p:nvPr/>
        </p:nvSpPr>
        <p:spPr>
          <a:xfrm>
            <a:off x="571680" y="714240"/>
            <a:ext cx="820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Рейд по проверке учебников в октябр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Рисунок 3" descr="F:\Лит  5\к проекту  5\Моя\фото рейда\20160217_104803.jpg"/>
          <p:cNvPicPr/>
          <p:nvPr/>
        </p:nvPicPr>
        <p:blipFill>
          <a:blip r:embed="rId1"/>
          <a:stretch/>
        </p:blipFill>
        <p:spPr>
          <a:xfrm>
            <a:off x="357120" y="1571760"/>
            <a:ext cx="3086280" cy="2314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F:\Лит  5\к проекту  5\Моя\фото рейда\20160217_104856.jpg"/>
          <p:cNvPicPr/>
          <p:nvPr/>
        </p:nvPicPr>
        <p:blipFill>
          <a:blip r:embed="rId2"/>
          <a:stretch/>
        </p:blipFill>
        <p:spPr>
          <a:xfrm>
            <a:off x="3571920" y="157176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F:\Лит  5\к проекту  5\Моя\фото рейда\20160217_104920.jpg"/>
          <p:cNvPicPr/>
          <p:nvPr/>
        </p:nvPicPr>
        <p:blipFill>
          <a:blip r:embed="rId3"/>
          <a:stretch/>
        </p:blipFill>
        <p:spPr>
          <a:xfrm>
            <a:off x="285840" y="40006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F:\Лит  5\к проекту  5\Моя\фото рейда\20160217_105010.jpg"/>
          <p:cNvPicPr/>
          <p:nvPr/>
        </p:nvPicPr>
        <p:blipFill>
          <a:blip r:embed="rId4"/>
          <a:stretch/>
        </p:blipFill>
        <p:spPr>
          <a:xfrm>
            <a:off x="3500280" y="4000680"/>
            <a:ext cx="2714760" cy="23572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F:\Лит  5\к проекту  5\Моя\фото рейда\20160217_105105.jpg"/>
          <p:cNvPicPr/>
          <p:nvPr/>
        </p:nvPicPr>
        <p:blipFill>
          <a:blip r:embed="rId5"/>
          <a:stretch/>
        </p:blipFill>
        <p:spPr>
          <a:xfrm>
            <a:off x="6286680" y="4000680"/>
            <a:ext cx="2643120" cy="23572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F:\Лит  5\к проекту  5\Моя\фото рейда\20160217_105515.jpg"/>
          <p:cNvPicPr/>
          <p:nvPr/>
        </p:nvPicPr>
        <p:blipFill>
          <a:blip r:embed="rId6"/>
          <a:stretch/>
        </p:blipFill>
        <p:spPr>
          <a:xfrm>
            <a:off x="6429240" y="1571760"/>
            <a:ext cx="2571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8"/>
          <p:cNvSpPr/>
          <p:nvPr/>
        </p:nvSpPr>
        <p:spPr>
          <a:xfrm>
            <a:off x="500040" y="642960"/>
            <a:ext cx="820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Рейд по проверке учебников в октябр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8" name="Диаграмма 9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76438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8"/>
          <p:cNvSpPr/>
          <p:nvPr/>
        </p:nvSpPr>
        <p:spPr>
          <a:xfrm>
            <a:off x="500040" y="642960"/>
            <a:ext cx="8207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ведения о владельце учебника и состоянии учеб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71680" y="1785960"/>
          <a:ext cx="7935840" cy="3551040"/>
        </p:xfrm>
        <a:graphic>
          <a:graphicData uri="http://schemas.openxmlformats.org/drawingml/2006/table">
            <a:tbl>
              <a:tblPr/>
              <a:tblGrid>
                <a:gridCol w="361800"/>
                <a:gridCol w="1209600"/>
                <a:gridCol w="1000080"/>
                <a:gridCol w="1500120"/>
                <a:gridCol w="2000520"/>
                <a:gridCol w="186372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4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 начале учебного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 конце учебного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95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8"/>
          <p:cNvSpPr/>
          <p:nvPr/>
        </p:nvSpPr>
        <p:spPr>
          <a:xfrm>
            <a:off x="500040" y="1643040"/>
            <a:ext cx="820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ояние учебников к концу учебного года ухудшае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еники не знают , сколько труда вложено в создание учебных книг, сколько материальных затрат требуется для того, чтобы учебник попал в руки обучающегося; родители не всегда контролируют состояние учебников у своих дете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еники не умеют бережно обращаться с учебниками, сохраняя их в течение 10 ле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00040" y="785880"/>
            <a:ext cx="820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Обоснование необходимости проек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611280" y="907920"/>
            <a:ext cx="8281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Разработка памятки «Береги учебник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3" name="Picture 3" descr="F:\Памятка\Скан_20160318 (9).jpg"/>
          <p:cNvPicPr/>
          <p:nvPr/>
        </p:nvPicPr>
        <p:blipFill>
          <a:blip r:embed="rId1"/>
          <a:stretch/>
        </p:blipFill>
        <p:spPr>
          <a:xfrm>
            <a:off x="1428840" y="1500120"/>
            <a:ext cx="5929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611280" y="907920"/>
            <a:ext cx="8281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Разработка памятки «Береги учебник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5" name="Picture 2" descr="F:\Памятка\Скан_20160318 (8).jpg"/>
          <p:cNvPicPr/>
          <p:nvPr/>
        </p:nvPicPr>
        <p:blipFill>
          <a:blip r:embed="rId1"/>
          <a:stretch/>
        </p:blipFill>
        <p:spPr>
          <a:xfrm>
            <a:off x="928800" y="1500120"/>
            <a:ext cx="7143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298880" y="714240"/>
            <a:ext cx="64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Беседы в 1-х и 5-х классах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36993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8" name="Рисунок 3" descr="C:\Users\Live\Desktop\фото проект беседы\Фото-0060.jpg"/>
          <p:cNvPicPr/>
          <p:nvPr/>
        </p:nvPicPr>
        <p:blipFill>
          <a:blip r:embed="rId1"/>
          <a:stretch/>
        </p:blipFill>
        <p:spPr>
          <a:xfrm>
            <a:off x="1143000" y="1428840"/>
            <a:ext cx="3205080" cy="2286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C:\Users\Live\Desktop\фото проект беседы\Фото-0057.jpg"/>
          <p:cNvPicPr/>
          <p:nvPr/>
        </p:nvPicPr>
        <p:blipFill>
          <a:blip r:embed="rId2"/>
          <a:stretch/>
        </p:blipFill>
        <p:spPr>
          <a:xfrm>
            <a:off x="4786200" y="1428840"/>
            <a:ext cx="335772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C:\Users\Live\Desktop\с асуса фото\P_20160318_132400.jpg"/>
          <p:cNvPicPr/>
          <p:nvPr/>
        </p:nvPicPr>
        <p:blipFill>
          <a:blip r:embed="rId3"/>
          <a:stretch/>
        </p:blipFill>
        <p:spPr>
          <a:xfrm>
            <a:off x="4857840" y="39290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C:\Users\Live\Desktop\с асуса фото\P_20160318_132347.jpg"/>
          <p:cNvPicPr/>
          <p:nvPr/>
        </p:nvPicPr>
        <p:blipFill>
          <a:blip r:embed="rId4"/>
          <a:stretch/>
        </p:blipFill>
        <p:spPr>
          <a:xfrm>
            <a:off x="1143000" y="3929040"/>
            <a:ext cx="3214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8"/>
          <p:cNvSpPr/>
          <p:nvPr/>
        </p:nvSpPr>
        <p:spPr>
          <a:xfrm>
            <a:off x="500040" y="642960"/>
            <a:ext cx="820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Рейд по проверке учебников в мар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4" name="Picture 3" descr="F:\Лит  5\к проекту  5\Моя\проект 5б\20160303_125108.jpg"/>
          <p:cNvPicPr/>
          <p:nvPr/>
        </p:nvPicPr>
        <p:blipFill>
          <a:blip r:embed="rId1"/>
          <a:stretch/>
        </p:blipFill>
        <p:spPr>
          <a:xfrm>
            <a:off x="714240" y="1214280"/>
            <a:ext cx="3643560" cy="2643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F:\Лит  5\к проекту  5\Моя\проект 5б\20160303_125128.jpg"/>
          <p:cNvPicPr/>
          <p:nvPr/>
        </p:nvPicPr>
        <p:blipFill>
          <a:blip r:embed="rId2"/>
          <a:stretch/>
        </p:blipFill>
        <p:spPr>
          <a:xfrm>
            <a:off x="4786200" y="1214280"/>
            <a:ext cx="3643560" cy="25718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6" descr="F:\Лит  5\к проекту  5\Моя\проект 5б\20160304_075632.jpg"/>
          <p:cNvPicPr/>
          <p:nvPr/>
        </p:nvPicPr>
        <p:blipFill>
          <a:blip r:embed="rId3"/>
          <a:stretch/>
        </p:blipFill>
        <p:spPr>
          <a:xfrm>
            <a:off x="714240" y="3929040"/>
            <a:ext cx="3643560" cy="25369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F:\Лит  5\к проекту  5\Моя\проект 5б\20160304_075612.jpg"/>
          <p:cNvPicPr/>
          <p:nvPr/>
        </p:nvPicPr>
        <p:blipFill>
          <a:blip r:embed="rId4"/>
          <a:stretch/>
        </p:blipFill>
        <p:spPr>
          <a:xfrm>
            <a:off x="4857840" y="3857760"/>
            <a:ext cx="3571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8"/>
          <p:cNvSpPr/>
          <p:nvPr/>
        </p:nvSpPr>
        <p:spPr>
          <a:xfrm>
            <a:off x="500040" y="642960"/>
            <a:ext cx="820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Рейд по проверке учебников в мар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0" name="Диаграмма 4" descr=""/>
          <p:cNvPicPr/>
          <p:nvPr/>
        </p:nvPicPr>
        <p:blipFill>
          <a:blip r:embed="rId1"/>
          <a:stretch/>
        </p:blipFill>
        <p:spPr>
          <a:xfrm>
            <a:off x="857160" y="1762200"/>
            <a:ext cx="78580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8"/>
          <p:cNvSpPr/>
          <p:nvPr/>
        </p:nvSpPr>
        <p:spPr>
          <a:xfrm>
            <a:off x="285840" y="642960"/>
            <a:ext cx="85723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Итоги исследовательской работы по сохранению учебников в 2015-2016 учебном год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73" name="Диаграмма 5"/>
          <p:cNvGraphicFramePr/>
          <p:nvPr/>
        </p:nvGraphicFramePr>
        <p:xfrm>
          <a:off x="357120" y="1785960"/>
          <a:ext cx="8574120" cy="47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785960"/>
                    <a:ext cx="857412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8"/>
          <p:cNvSpPr/>
          <p:nvPr/>
        </p:nvSpPr>
        <p:spPr>
          <a:xfrm>
            <a:off x="500040" y="642960"/>
            <a:ext cx="828504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1. В результате исследования мы подтвердили выдвинутую нами гипотез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2. Благодаря проделанной нами работе, мы смогли мотивировать обучающихся на бережное отношение к учебника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 2015-2016 учебном году удалось сберечь 100% учебного фонда для 1-х и 5-х класс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571680" y="285840"/>
            <a:ext cx="3000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8"/>
          <p:cNvSpPr/>
          <p:nvPr/>
        </p:nvSpPr>
        <p:spPr>
          <a:xfrm>
            <a:off x="500040" y="976320"/>
            <a:ext cx="82850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Универсальная энциклопедия для юношества. Цивилизации. Сост. А.М. Цирульников. Издательский дом «Современная педагогика», 2000. – 688с.:ил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Чирва А. Книга в твоих руках: Кн. Для учащихся. – М.: Просвещение, 1985.-144 с.: и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Энциклопедия для детей. Т. 13. Страны. Народы. Цивилизации/ Глав. Ред. М.Д. Аксёнова. – М.: Аванта+, 2000 – 704 с.: и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Я познаю мир: Детская энциклопедия: Литература.  – М.: ООО «Издательство АСТ», 2000 – 448 с.: и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Интернет – источники: 1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Как печатают книги | Fresher - Лучшее из Рунета за день!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freshe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eorgia"/>
                <a:hlinkClick r:id="rId4"/>
              </a:rPr>
              <a:t>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›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5"/>
              </a:rPr>
              <a:t>2013/07/16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kak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pechatayut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knig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И. Юркова, С.В. Юрков. Экономика предприятия. Электронный учебник. Модуль 6.3. Себестоимость. Группировка затрат на производство продукции. 3. FB.ru: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fb.ru/article/7695/iz-chego-i-kak-delayut-bumagu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500040" y="660240"/>
            <a:ext cx="615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8"/>
          <p:cNvSpPr/>
          <p:nvPr/>
        </p:nvSpPr>
        <p:spPr>
          <a:xfrm>
            <a:off x="1214280" y="2643120"/>
            <a:ext cx="7786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бучающиеся 1-х, 5-х классов, родители, педагоги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иблиотекар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1339920" y="342900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428760" y="13572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Целевая аудитор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8"/>
          <p:cNvSpPr/>
          <p:nvPr/>
        </p:nvSpPr>
        <p:spPr>
          <a:xfrm>
            <a:off x="571680" y="2286000"/>
            <a:ext cx="820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хранность учебников обучающихся 1  и 5 классов в условиях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28760" y="10000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бъект исследован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8"/>
          <p:cNvSpPr/>
          <p:nvPr/>
        </p:nvSpPr>
        <p:spPr>
          <a:xfrm>
            <a:off x="571680" y="2286000"/>
            <a:ext cx="820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стояние учебников 1 - х классов, бывших в использовании 5 лет, и 5 - х классов – 1 го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428760" y="10000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едмет исследован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8"/>
          <p:cNvSpPr/>
          <p:nvPr/>
        </p:nvSpPr>
        <p:spPr>
          <a:xfrm>
            <a:off x="428760" y="1857240"/>
            <a:ext cx="820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1042920" y="1881360"/>
            <a:ext cx="73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следить сохранность учебников обучающимися 1-х и 5-х классов в течение учебног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936720" y="4287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8"/>
          <p:cNvSpPr/>
          <p:nvPr/>
        </p:nvSpPr>
        <p:spPr>
          <a:xfrm>
            <a:off x="428760" y="1285920"/>
            <a:ext cx="8501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зучить литературу, описывающую процесс рождения учебной книг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сследовать отношение к учебникам обучающихся и их родител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сследовать состояние учебников, прослуживших ряд лет(1-е, 5-е классы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делать соответствующие вывод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936720" y="4287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8"/>
          <p:cNvSpPr/>
          <p:nvPr/>
        </p:nvSpPr>
        <p:spPr>
          <a:xfrm>
            <a:off x="357120" y="857160"/>
            <a:ext cx="8786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Есл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обучающиеся будут знать реальную себестоимость учебной книги,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есл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повысится самосознание школьников, то они будут обращаться с учебником бережно и, сохранив их, мы можем сэкономить материальные средства школы и ресурсы страны, которые необходимы для изготовления учебных кни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357120" y="214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Рисунок 4" descr="C:\Users\Live\Desktop\фото библ\20160218_141951.jpg"/>
          <p:cNvPicPr/>
          <p:nvPr/>
        </p:nvPicPr>
        <p:blipFill>
          <a:blip r:embed="rId3"/>
          <a:stretch/>
        </p:blipFill>
        <p:spPr>
          <a:xfrm>
            <a:off x="5214960" y="5072040"/>
            <a:ext cx="3714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Live</cp:lastModifiedBy>
  <dcterms:modified xsi:type="dcterms:W3CDTF">2017-01-07T18:04:50Z</dcterms:modified>
  <cp:revision>131</cp:revision>
  <dc:subject/>
  <dc:title>Слайд 1</dc:title>
</cp:coreProperties>
</file>