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5B2F-E6F6-4D48-B4A1-5CAEBAAD69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D150-1539-4A6C-B0C8-6293E3A3DA6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2858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214200" y="385776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96D-377C-4D4B-9679-FBD52F6BF63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F29-E952-4332-B84D-7617A785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9E7-DC2F-49DC-9FDA-4B7A7533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BA5-03D9-4EAE-BEA0-1D2193A5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843-E16B-4DF6-8A52-524F3A8A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C284-A77E-4D69-B928-58AF3770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A64C-A1BB-4D16-BC7B-CCDE6941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A40B-3974-48B2-95FD-FB720F3D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0C49-E85B-4C67-A8BC-60242E57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3709-3B3E-4A8E-A06B-DB65AE12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070A-0D14-43F8-9E2E-7757F4B4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CB61-DBE5-4135-87CA-BD62171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F605-0C1D-4264-B7D1-AA0A810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200D-5E7B-413B-895C-20D20D8B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DA83-654A-4E7B-A118-7E8D53DB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5F9E-78CF-435C-8BF3-75F3EE35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326B-477E-4555-BECF-9D51878B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8569-9821-48F1-837C-171C1EF0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BC331-07FC-433E-8278-C35A0EB7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8CAB-5E91-49A6-8B02-DC7AF166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E12F6-5A8C-4A4D-BC2B-0E8948A8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DD50A-D912-4537-B7CF-0BF5B0477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4548-BA45-443E-A352-70C41B14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EBE-2600-47AB-BF5D-9FA3E3F6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7439-7EBA-4FC1-A38F-37CFB8E56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591EE-2249-447A-8791-121D4547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19C5-81BC-488A-A9F1-C63A0C6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8D08-740C-48A8-ACF7-274F185C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9E35-77F8-469B-A3CC-18A2A7CF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24D47-32EC-43F8-893D-50EFEE16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73D1-8616-4CA1-88FD-1F5159BA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F655-B786-4AD4-BB6E-E04825C8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1F149-46C4-459A-822B-419D9A3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81CBD-97C6-4D39-BC41-CE8E90F1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F6D-6B92-43E6-86E5-F99FCFAA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1C16A-87D8-47C0-B85E-3C0D6D56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02637-7B4B-45FE-B5C0-9ECD61A5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D9B0-10A7-425E-B7F0-5E777C4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848E3-04A9-438F-846A-32B35EE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1866-EDDF-4A37-8D25-9D83E121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A12B-253A-433F-824C-8B9B4A5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1768D-8FDA-42D2-8679-5699A284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1FDB4-73A8-4B5C-99F9-8641F256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2ACC-1152-4D86-A531-747DF090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9051D-D0FE-4D37-A99D-7CAD8D52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4AC-7BFD-4C01-9E8C-89D7FD64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B190-D490-4F3E-AFEE-71054D9C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813DF-3E03-452A-88F4-2056BEDF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417FC-8B63-4B2B-86CB-46898E9A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94FF8-1D1B-4A7C-B15B-C1B3CB4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6AC85-45B0-4BB9-897B-DFECED88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3FBA0-98A8-483F-88E8-F04071D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86C90-DAE1-43F9-B925-B30CDCB0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C17F7-94F1-4139-91D5-01B5E01F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B660B-7313-4C74-A290-BD1FB2FD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EFB8F-1B47-4C34-BF78-33F9D304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EE9-BF18-4419-B360-E507FB65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C0805-D17D-473F-AA76-ECCD6F7E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553E-6C73-4939-97DD-2D9533B2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F6E4A-0E89-41D9-BA79-0FC62BC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CA2F6-45FE-4E19-AE00-98EEF76C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83996-8DFA-4F6F-9A5D-15BC94F0D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56526-72DC-4674-96D3-03471B9E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6B67-4C1E-4187-B361-77AFD18E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C2AAB-6F3E-49E2-8202-083DE536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0EF0-3A9B-4ABA-9682-5C72C466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81676-8E9E-4AD8-AE1A-7217D825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1CA-A2E6-414E-863C-5AC8EFDC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C440-A8D6-4BCC-8C21-39724625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857C-D621-4A7D-A73D-916EBBDF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B7AB-F5B1-4A05-81EB-0BD07D6E0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2439-E318-4489-BDA7-5D2E87B3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0CC3-A8A1-44BB-A743-C7EBBFCD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BFC-183E-4E32-AA67-7C76B248C47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Скругленный прямоугольник 10"/>
          <p:cNvGrpSpPr/>
          <p:nvPr/>
        </p:nvGrpSpPr>
        <p:grpSpPr>
          <a:xfrm>
            <a:off x="781200" y="2066760"/>
            <a:ext cx="7656480" cy="1584360"/>
            <a:chOff x="781200" y="2066760"/>
            <a:chExt cx="7656480" cy="1584360"/>
          </a:xfrm>
        </p:grpSpPr>
        <p:pic>
          <p:nvPicPr>
            <p:cNvPr id="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781200" y="2066760"/>
              <a:ext cx="7656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" name="Скругленный прямоугольник 11"/>
          <p:cNvGrpSpPr/>
          <p:nvPr/>
        </p:nvGrpSpPr>
        <p:grpSpPr>
          <a:xfrm>
            <a:off x="1420920" y="3925800"/>
            <a:ext cx="6302160" cy="1579680"/>
            <a:chOff x="1420920" y="3925800"/>
            <a:chExt cx="6302160" cy="1579680"/>
          </a:xfrm>
        </p:grpSpPr>
        <p:pic>
          <p:nvPicPr>
            <p:cNvPr id="16" name="Скругленный 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1420920" y="3925800"/>
              <a:ext cx="63021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8" name="Рисунок 12" descr="ром3.png"/>
          <p:cNvPicPr/>
          <p:nvPr/>
        </p:nvPicPr>
        <p:blipFill>
          <a:blip r:embed="rId4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19" name="Рисунок 13" descr="ром3.png"/>
          <p:cNvPicPr/>
          <p:nvPr/>
        </p:nvPicPr>
        <p:blipFill>
          <a:blip r:embed="rId5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20" name="Прямоугольник 14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191C-5C09-435C-B41D-C0FE14E3858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Скругленный прямоугольник 10"/>
          <p:cNvGrpSpPr/>
          <p:nvPr/>
        </p:nvGrpSpPr>
        <p:grpSpPr>
          <a:xfrm>
            <a:off x="420840" y="493560"/>
            <a:ext cx="8229600" cy="6010560"/>
            <a:chOff x="420840" y="493560"/>
            <a:chExt cx="8229600" cy="6010560"/>
          </a:xfrm>
        </p:grpSpPr>
        <p:pic>
          <p:nvPicPr>
            <p:cNvPr id="70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93560"/>
              <a:ext cx="8229600" cy="60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72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1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1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1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CEF4-36AD-4E30-885B-EF4788A087C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Скругленный прямоугольник 10"/>
          <p:cNvGrpSpPr/>
          <p:nvPr/>
        </p:nvGrpSpPr>
        <p:grpSpPr>
          <a:xfrm>
            <a:off x="420840" y="420840"/>
            <a:ext cx="8229600" cy="6016320"/>
            <a:chOff x="420840" y="420840"/>
            <a:chExt cx="8229600" cy="6016320"/>
          </a:xfrm>
        </p:grpSpPr>
        <p:pic>
          <p:nvPicPr>
            <p:cNvPr id="12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20840"/>
              <a:ext cx="822960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25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6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6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69" name="Скругленный прямоугольник 24"/>
          <p:cNvGrpSpPr/>
          <p:nvPr/>
        </p:nvGrpSpPr>
        <p:grpSpPr>
          <a:xfrm>
            <a:off x="781200" y="2066760"/>
            <a:ext cx="7656480" cy="1584360"/>
            <a:chOff x="781200" y="2066760"/>
            <a:chExt cx="7656480" cy="1584360"/>
          </a:xfrm>
        </p:grpSpPr>
        <p:pic>
          <p:nvPicPr>
            <p:cNvPr id="170" name="Скругленный прямоугольник 24" descr=""/>
            <p:cNvPicPr/>
            <p:nvPr/>
          </p:nvPicPr>
          <p:blipFill>
            <a:blip r:embed="rId2"/>
            <a:stretch/>
          </p:blipFill>
          <p:spPr>
            <a:xfrm>
              <a:off x="781200" y="2066760"/>
              <a:ext cx="7656480" cy="15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61840" y="2147760"/>
              <a:ext cx="7491600" cy="14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2" name="Скругленный прямоугольник 25"/>
          <p:cNvGrpSpPr/>
          <p:nvPr/>
        </p:nvGrpSpPr>
        <p:grpSpPr>
          <a:xfrm>
            <a:off x="1420920" y="3925800"/>
            <a:ext cx="6302160" cy="1579680"/>
            <a:chOff x="1420920" y="3925800"/>
            <a:chExt cx="6302160" cy="1579680"/>
          </a:xfrm>
        </p:grpSpPr>
        <p:pic>
          <p:nvPicPr>
            <p:cNvPr id="173" name="Скругленный прямоугольник 25" descr=""/>
            <p:cNvPicPr/>
            <p:nvPr/>
          </p:nvPicPr>
          <p:blipFill>
            <a:blip r:embed="rId3"/>
            <a:stretch/>
          </p:blipFill>
          <p:spPr>
            <a:xfrm>
              <a:off x="1420920" y="3925800"/>
              <a:ext cx="630216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1504800" y="4005360"/>
              <a:ext cx="61344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175" name="Рисунок 12" descr="ром3.png"/>
          <p:cNvPicPr/>
          <p:nvPr/>
        </p:nvPicPr>
        <p:blipFill>
          <a:blip r:embed="rId4"/>
          <a:stretch/>
        </p:blipFill>
        <p:spPr>
          <a:xfrm>
            <a:off x="6134040" y="0"/>
            <a:ext cx="3487680" cy="27147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3" descr="ром3.png"/>
          <p:cNvPicPr/>
          <p:nvPr/>
        </p:nvPicPr>
        <p:blipFill>
          <a:blip r:embed="rId5"/>
          <a:stretch/>
        </p:blipFill>
        <p:spPr>
          <a:xfrm>
            <a:off x="-428760" y="4500720"/>
            <a:ext cx="3162600" cy="235728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8"/>
          <p:cNvSpPr/>
          <p:nvPr/>
        </p:nvSpPr>
        <p:spPr>
          <a:xfrm>
            <a:off x="7865280" y="62866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FedotoVA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7D3D-3182-4D76-9725-E1226F5EB1C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22"/>
          <p:cNvGrpSpPr/>
          <p:nvPr/>
        </p:nvGrpSpPr>
        <p:grpSpPr>
          <a:xfrm>
            <a:off x="420840" y="493560"/>
            <a:ext cx="8229600" cy="6010560"/>
            <a:chOff x="420840" y="493560"/>
            <a:chExt cx="8229600" cy="6010560"/>
          </a:xfrm>
        </p:grpSpPr>
        <p:pic>
          <p:nvPicPr>
            <p:cNvPr id="226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420840" y="493560"/>
              <a:ext cx="8229600" cy="601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722160" y="793800"/>
              <a:ext cx="7628040" cy="541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28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83A1-5606-4978-BC1A-3DD19FD305F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7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7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7" name="Скругленный прямоугольник 22"/>
          <p:cNvGrpSpPr/>
          <p:nvPr/>
        </p:nvGrpSpPr>
        <p:grpSpPr>
          <a:xfrm>
            <a:off x="420840" y="420840"/>
            <a:ext cx="8229600" cy="6016320"/>
            <a:chOff x="420840" y="420840"/>
            <a:chExt cx="8229600" cy="6016320"/>
          </a:xfrm>
        </p:grpSpPr>
        <p:pic>
          <p:nvPicPr>
            <p:cNvPr id="278" name="Скругленный прямоугольник 22" descr=""/>
            <p:cNvPicPr/>
            <p:nvPr/>
          </p:nvPicPr>
          <p:blipFill>
            <a:blip r:embed="rId2"/>
            <a:stretch/>
          </p:blipFill>
          <p:spPr>
            <a:xfrm>
              <a:off x="420840" y="420840"/>
              <a:ext cx="822960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2160" y="722160"/>
              <a:ext cx="7628040" cy="54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80" name="Рисунок 11" descr="ром.png"/>
          <p:cNvPicPr/>
          <p:nvPr/>
        </p:nvPicPr>
        <p:blipFill>
          <a:blip r:embed="rId3"/>
          <a:stretch/>
        </p:blipFill>
        <p:spPr>
          <a:xfrm>
            <a:off x="0" y="5041800"/>
            <a:ext cx="2071800" cy="20304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2" descr="ром.png"/>
          <p:cNvPicPr/>
          <p:nvPr/>
        </p:nvPicPr>
        <p:blipFill>
          <a:blip r:embed="rId4"/>
          <a:stretch/>
        </p:blipFill>
        <p:spPr>
          <a:xfrm>
            <a:off x="6929280" y="5072040"/>
            <a:ext cx="2214720" cy="20322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B249-B56F-4DAD-BECE-5CDD24C295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lesson.ru/" TargetMode="External"/><Relationship Id="rId2" Type="http://schemas.openxmlformats.org/officeDocument/2006/relationships/hyperlink" Target="http://www.openlesson.ru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30160" y="1774440"/>
            <a:ext cx="730692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« Социо-игровая технология как одна из модификаций интерактивного обучения в начальной </a:t>
            </a:r>
            <a:br>
              <a:rPr sz="3600"/>
            </a:b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школе 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2124000" y="4292640"/>
            <a:ext cx="5184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9898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2050920" y="4446000"/>
            <a:ext cx="567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Выполнил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учитель начальных классо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МОУ СОШ № </a:t>
            </a:r>
            <a:r>
              <a:rPr b="0" lang="en-US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2 </a:t>
            </a:r>
            <a:r>
              <a:rPr b="0" lang="ru-RU" sz="2400" spc="-1" strike="noStrike">
                <a:solidFill>
                  <a:srgbClr val="003300"/>
                </a:solidFill>
                <a:latin typeface="Times New Roman"/>
                <a:ea typeface="Calibri"/>
              </a:rPr>
              <a:t>Хлебак Л.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Текст 4"/>
          <p:cNvSpPr/>
          <p:nvPr/>
        </p:nvSpPr>
        <p:spPr>
          <a:xfrm>
            <a:off x="1785960" y="214200"/>
            <a:ext cx="5143320" cy="13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675000" y="613080"/>
            <a:ext cx="8102160" cy="88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туальность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971280" y="1989000"/>
            <a:ext cx="74991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оцио-игровой стиль – это одна из модификаций интерактивного обучения, авторами которого являются</a:t>
            </a:r>
            <a:r>
              <a:rPr b="1" i="1" lang="ru-RU" sz="3600" spc="-1" strike="noStrike">
                <a:solidFill>
                  <a:srgbClr val="003366"/>
                </a:solidFill>
                <a:latin typeface="Arial"/>
              </a:rPr>
              <a:t> Е.Е. Шулешко,  А.П. Ершова и В.М. Букат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8501040" y="62866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451880" y="1717200"/>
            <a:ext cx="7458840" cy="320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Цель социоигровой  технологии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- оказать педагогическую поддержку каждому ребенку на пути его саморазвития, самоутверждения и самопознания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 воспитать  самостоятельно мыслящую и  социально-активную личность. 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22160" y="764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дачи  социоигровой технологи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помочь детям научиться эффективно общаться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делать образовательный процесс более увлекательным для учеников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способствовать развитию у учащихся активной позиции, самостоятельности, творчества;</a:t>
            </a:r>
            <a:br>
              <a:rPr sz="2800"/>
            </a:br>
            <a:r>
              <a:rPr b="0" lang="ru-RU" sz="2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воспитывать в школьниках  желание узнавать ново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 rot="10800000">
            <a:off x="472680" y="479520"/>
            <a:ext cx="8220960" cy="64440"/>
          </a:xfrm>
          <a:prstGeom prst="rect">
            <a:avLst/>
          </a:prstGeom>
          <a:noFill/>
          <a:ln w="0">
            <a:noFill/>
          </a:ln>
        </p:spPr>
        <p:txBody>
          <a:bodyPr tIns="18720" bIns="187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4360" y="765000"/>
            <a:ext cx="750096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Три  ЗОЛОТЫХ ПРАВИЛА социо-игрового стиля обучения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вигательная АКТИВНОСТЬ ОБУЧАЕМЫХ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мена МИЗАНСЦЕН, РОЛЕЙ, ТЕМПО/РИТМА на урок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а учеников МАЛЫМИ ГРУППАМ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Заголовок 1"/>
          <p:cNvSpPr/>
          <p:nvPr/>
        </p:nvSpPr>
        <p:spPr>
          <a:xfrm>
            <a:off x="8572680" y="62866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 способах деления в группы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Жеребьевки: «Метка», «Мериться по палке», «Полукруг по алфавиту (имен, фамилий, номеров домов и т.д.)»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 считалочке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етод «Разрезанная открытка»,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 В заплатки» , «Колечк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идактические игр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Диктант на дружбу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Шапка» вопросов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идимо-невидимо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колько букв в непонятном слове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гровые размин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стать «по пальцам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уки-ног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Игра на внимание: «Кто-о меня-я слы-ы-ышит…»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ыход ряд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При систематическом использовании социоигровых технологий на уроке в начальной школе можно отметить, что ученики: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826920" y="2249280"/>
            <a:ext cx="76932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* всегда готовы к работе;                                                                                                                                                                       * активны на уроке;                                                                                                                                                                                                                                       * умеют работать в коллективе;                                                                                                                                                        * готовы работать с любым учителем;                                                                                                                                                           * не боятся высказывать своё мнение;                                                                                                                                                     * ходят в школу с удовольстви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Социоигровые технологии помогают учителю организовать свою деятельность нетрадиционно, интересн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               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openlesson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23:13:50Z</dcterms:created>
  <dc:creator>Федотова Виктория Александровна</dc:creator>
  <dc:description/>
  <dc:language>en-US</dc:language>
  <cp:lastModifiedBy>User</cp:lastModifiedBy>
  <dcterms:modified xsi:type="dcterms:W3CDTF">2016-12-02T16:55:22Z</dcterms:modified>
  <cp:revision>317</cp:revision>
  <dc:subject/>
  <dc:title>Слайд 1</dc:title>
</cp:coreProperties>
</file>