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46C3-C54E-4E5B-A43A-672064FE0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D5C2-029D-4AE0-8EF5-C3475455AD3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2858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214200" y="385776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29DA-B161-4C17-8D45-69E7B07C75B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90D-DEDB-441A-B5A7-7B5EAA3D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7AB-F7EA-45F3-8884-92BC7E7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B19-7765-44ED-8F48-86116839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84A-BE88-453E-9347-5AD1D22F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5733-F656-414E-8404-6008A0D8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B196-6837-41BC-B6D5-27AD71F2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36E6-AC98-4994-A409-038F485E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8182-F289-4E06-AF29-97A49F04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7D23-E500-49D1-83A4-1A6BF083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D74-3300-44E5-BC4E-F17105C7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A098-0218-41C1-975C-ED130D5C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D75-54D2-4F38-8863-29E080F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6FAA-D97F-40F9-AF12-BBF4A6C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2862-30E9-4EB7-9A2B-6E42D28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0A7-BA6B-4573-84A2-9499F77B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55F-B385-4FE6-9158-883F602E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BE47-B337-4B2D-B44D-3DA99D48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B8EC3-E9EF-41C5-A766-165724BF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1F49-F405-4F51-BA33-7E6D5054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E860-6D73-4A96-A970-E7A5C46B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377D-FAAD-4792-B822-0951230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797F-9475-4308-BA10-B739C029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A2C-BF19-461F-A247-870EC55C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7687-6C1B-4FFE-BCFB-9947F793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43758-CE38-4AA2-983F-6D860FA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4F55-86B0-49D3-B3A3-2893667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6F63-8C09-40EA-9C28-FCB2D25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50BD-917D-4594-8B34-F9A6F04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0B4F-499A-4C0D-BBFE-4DD6A877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BBE57-3D68-4E33-B9EC-29CC79C7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C565-AC17-4105-AB2D-32BC1AD9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8160-2ECC-400C-A973-CB2FFED1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102D3-7455-4412-B0E5-F547408A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3BC-A90D-4E02-81F2-76861C29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43C1-0589-43E6-9ADD-3150C1AA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E456-C0D6-41A5-B1D1-5AEB8402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AE5A-868A-427B-B152-1A05333E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BDB6E-2BC4-4F19-8630-0FC977FB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9475-7202-493D-9C72-C7BD85E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9D4A-1FC2-4652-B210-D9A403C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56C3-60A6-4FBB-A652-EA700540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CADA-3599-434C-9DE6-85CE5AEF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56A2-2484-4C25-BF31-F5971402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F99E1-BE30-4E3B-95CA-DD55331C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595-3B59-4474-909C-15283BF6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F860E-DFFE-4BDE-B2E1-CE222F7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9EDF-35BA-41F7-8632-14DE2C9E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E1470-E72D-45A9-B372-5A33C6E3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32EC-A724-4AF0-92B8-8F8FC7BB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D63D-4A03-4964-9C0A-6E4F0AB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CAC6-2FD0-4924-91B3-392153CE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6E18-B025-4986-A914-DD1A059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79742-9ED1-4086-A7D4-4E2F1C9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E595E-182F-4AFD-9A7A-1B450BD3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62FE8-8448-4349-9D64-A22716E0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6A1-A9F1-4DE8-B40E-0F7381F1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D88D-FF08-4550-BA00-FECF1990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D854-5E60-4241-87D8-B0837CF6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A8A7B-9D97-4C4D-A555-A501478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04FF3-C609-4591-984F-165D7EBB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2393-D4BD-4E82-890C-53EB92BC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1D5C-D2FC-4A90-9182-4EBF8B64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B37B8-E93B-46C0-A5C1-21D1AC07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90636-692D-4790-81D0-FAB894E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82E7-A37D-448C-970B-DB29AC4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00FD-4A1B-4E16-AA0F-6882105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0EC-958F-42DE-9B75-A0864657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29C6-2546-4033-8941-4B2F6551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38F0A-6512-4831-BD71-B3C0B741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ED77E-F472-4F52-A540-827D02B4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5FC-90DA-43F8-BE8E-00B5C97C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1DF-C138-49B9-82F5-BFE93CF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82E-10E4-4145-B651-0660407EDA8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Скругленный прямоугольник 10"/>
          <p:cNvGrpSpPr/>
          <p:nvPr/>
        </p:nvGrpSpPr>
        <p:grpSpPr>
          <a:xfrm>
            <a:off x="781200" y="2066760"/>
            <a:ext cx="7656480" cy="1584360"/>
            <a:chOff x="781200" y="2066760"/>
            <a:chExt cx="7656480" cy="1584360"/>
          </a:xfrm>
        </p:grpSpPr>
        <p:pic>
          <p:nvPicPr>
            <p:cNvPr id="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781200" y="2066760"/>
              <a:ext cx="7656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861840" y="2147760"/>
              <a:ext cx="7491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" name="Скругленный прямоугольник 11"/>
          <p:cNvGrpSpPr/>
          <p:nvPr/>
        </p:nvGrpSpPr>
        <p:grpSpPr>
          <a:xfrm>
            <a:off x="1420920" y="3925800"/>
            <a:ext cx="6302160" cy="1579680"/>
            <a:chOff x="1420920" y="3925800"/>
            <a:chExt cx="6302160" cy="1579680"/>
          </a:xfrm>
        </p:grpSpPr>
        <p:pic>
          <p:nvPicPr>
            <p:cNvPr id="16" name="Скругленный 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1420920" y="3925800"/>
              <a:ext cx="63021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504800" y="4005360"/>
              <a:ext cx="61344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8" name="Рисунок 12" descr="ром3.png"/>
          <p:cNvPicPr/>
          <p:nvPr/>
        </p:nvPicPr>
        <p:blipFill>
          <a:blip r:embed="rId4"/>
          <a:stretch/>
        </p:blipFill>
        <p:spPr>
          <a:xfrm>
            <a:off x="6134040" y="0"/>
            <a:ext cx="3487680" cy="2714760"/>
          </a:xfrm>
          <a:prstGeom prst="rect">
            <a:avLst/>
          </a:prstGeom>
          <a:ln w="0">
            <a:noFill/>
          </a:ln>
        </p:spPr>
      </p:pic>
      <p:pic>
        <p:nvPicPr>
          <p:cNvPr id="19" name="Рисунок 13" descr="ром3.png"/>
          <p:cNvPicPr/>
          <p:nvPr/>
        </p:nvPicPr>
        <p:blipFill>
          <a:blip r:embed="rId5"/>
          <a:stretch/>
        </p:blipFill>
        <p:spPr>
          <a:xfrm>
            <a:off x="-428760" y="4500720"/>
            <a:ext cx="3162600" cy="2357280"/>
          </a:xfrm>
          <a:prstGeom prst="rect">
            <a:avLst/>
          </a:prstGeom>
          <a:ln w="0">
            <a:noFill/>
          </a:ln>
        </p:spPr>
      </p:pic>
      <p:sp>
        <p:nvSpPr>
          <p:cNvPr id="20" name="Прямоугольник 14"/>
          <p:cNvSpPr/>
          <p:nvPr/>
        </p:nvSpPr>
        <p:spPr>
          <a:xfrm>
            <a:off x="7865280" y="62866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edotoV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5C3-8CE6-453B-AFBB-1C0AC5CC136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Скругленный прямоугольник 10"/>
          <p:cNvGrpSpPr/>
          <p:nvPr/>
        </p:nvGrpSpPr>
        <p:grpSpPr>
          <a:xfrm>
            <a:off x="420840" y="493560"/>
            <a:ext cx="8229600" cy="6010560"/>
            <a:chOff x="420840" y="493560"/>
            <a:chExt cx="8229600" cy="6010560"/>
          </a:xfrm>
        </p:grpSpPr>
        <p:pic>
          <p:nvPicPr>
            <p:cNvPr id="7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93560"/>
              <a:ext cx="8229600" cy="601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22160" y="793800"/>
              <a:ext cx="7628040" cy="54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72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1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1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1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5BAA-580F-4EC6-B523-20FE56C736B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Скругленный прямоугольник 10"/>
          <p:cNvGrpSpPr/>
          <p:nvPr/>
        </p:nvGrpSpPr>
        <p:grpSpPr>
          <a:xfrm>
            <a:off x="420840" y="420840"/>
            <a:ext cx="8229600" cy="6016320"/>
            <a:chOff x="420840" y="420840"/>
            <a:chExt cx="8229600" cy="6016320"/>
          </a:xfrm>
        </p:grpSpPr>
        <p:pic>
          <p:nvPicPr>
            <p:cNvPr id="12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20840"/>
              <a:ext cx="822960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22160" y="722160"/>
              <a:ext cx="7628040" cy="54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25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9" name="Скругленный прямоугольник 24"/>
          <p:cNvGrpSpPr/>
          <p:nvPr/>
        </p:nvGrpSpPr>
        <p:grpSpPr>
          <a:xfrm>
            <a:off x="781200" y="2066760"/>
            <a:ext cx="7656480" cy="1584360"/>
            <a:chOff x="781200" y="2066760"/>
            <a:chExt cx="7656480" cy="1584360"/>
          </a:xfrm>
        </p:grpSpPr>
        <p:pic>
          <p:nvPicPr>
            <p:cNvPr id="170" name="Скругленный 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781200" y="2066760"/>
              <a:ext cx="7656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61840" y="2147760"/>
              <a:ext cx="7491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2" name="Скругленный прямоугольник 25"/>
          <p:cNvGrpSpPr/>
          <p:nvPr/>
        </p:nvGrpSpPr>
        <p:grpSpPr>
          <a:xfrm>
            <a:off x="1420920" y="3925800"/>
            <a:ext cx="6302160" cy="1579680"/>
            <a:chOff x="1420920" y="3925800"/>
            <a:chExt cx="6302160" cy="1579680"/>
          </a:xfrm>
        </p:grpSpPr>
        <p:pic>
          <p:nvPicPr>
            <p:cNvPr id="173" name="Скругленный прямоугольник 25" descr=""/>
            <p:cNvPicPr/>
            <p:nvPr/>
          </p:nvPicPr>
          <p:blipFill>
            <a:blip r:embed="rId3"/>
            <a:stretch/>
          </p:blipFill>
          <p:spPr>
            <a:xfrm>
              <a:off x="1420920" y="3925800"/>
              <a:ext cx="63021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504800" y="4005360"/>
              <a:ext cx="61344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5" name="Рисунок 12" descr="ром3.png"/>
          <p:cNvPicPr/>
          <p:nvPr/>
        </p:nvPicPr>
        <p:blipFill>
          <a:blip r:embed="rId4"/>
          <a:stretch/>
        </p:blipFill>
        <p:spPr>
          <a:xfrm>
            <a:off x="6134040" y="0"/>
            <a:ext cx="3487680" cy="27147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3" descr="ром3.png"/>
          <p:cNvPicPr/>
          <p:nvPr/>
        </p:nvPicPr>
        <p:blipFill>
          <a:blip r:embed="rId5"/>
          <a:stretch/>
        </p:blipFill>
        <p:spPr>
          <a:xfrm>
            <a:off x="-428760" y="4500720"/>
            <a:ext cx="3162600" cy="23572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8"/>
          <p:cNvSpPr/>
          <p:nvPr/>
        </p:nvSpPr>
        <p:spPr>
          <a:xfrm>
            <a:off x="7865280" y="62866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edotoV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6786-03D8-48A5-A910-2CC8A737C64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22"/>
          <p:cNvGrpSpPr/>
          <p:nvPr/>
        </p:nvGrpSpPr>
        <p:grpSpPr>
          <a:xfrm>
            <a:off x="420840" y="493560"/>
            <a:ext cx="8229600" cy="6010560"/>
            <a:chOff x="420840" y="493560"/>
            <a:chExt cx="8229600" cy="6010560"/>
          </a:xfrm>
        </p:grpSpPr>
        <p:pic>
          <p:nvPicPr>
            <p:cNvPr id="226" name="Скругленный 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420840" y="493560"/>
              <a:ext cx="8229600" cy="601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22160" y="793800"/>
              <a:ext cx="7628040" cy="54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28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5BD5-28A9-413B-B75E-7E45739E363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7" name="Скругленный прямоугольник 22"/>
          <p:cNvGrpSpPr/>
          <p:nvPr/>
        </p:nvGrpSpPr>
        <p:grpSpPr>
          <a:xfrm>
            <a:off x="420840" y="420840"/>
            <a:ext cx="8229600" cy="6016320"/>
            <a:chOff x="420840" y="420840"/>
            <a:chExt cx="8229600" cy="6016320"/>
          </a:xfrm>
        </p:grpSpPr>
        <p:pic>
          <p:nvPicPr>
            <p:cNvPr id="278" name="Скругленный 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420840" y="420840"/>
              <a:ext cx="822960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22160" y="722160"/>
              <a:ext cx="7628040" cy="54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80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7BF-96CD-4351-A505-2789D4F2494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lesson.ru/" TargetMode="External"/><Relationship Id="rId2" Type="http://schemas.openxmlformats.org/officeDocument/2006/relationships/hyperlink" Target="http://www.openlesson.ru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30160" y="1774440"/>
            <a:ext cx="730692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« Социо-игровая технология как одна из модификаций интерактивного обучения в начальной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школе 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124000" y="4292640"/>
            <a:ext cx="518472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2050920" y="4446000"/>
            <a:ext cx="56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Выполнил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МОУ СОШ №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2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Хлебак Л.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Текст 4"/>
          <p:cNvSpPr/>
          <p:nvPr/>
        </p:nvSpPr>
        <p:spPr>
          <a:xfrm>
            <a:off x="1785960" y="214200"/>
            <a:ext cx="514332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675000" y="613080"/>
            <a:ext cx="8102160" cy="88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971280" y="1989000"/>
            <a:ext cx="74991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оцио-игровой стиль – это одна из модификаций интерактивного обучения, авторами которого являются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Е.Е. Шулешко,  А.П. Ершова и В.М. Букат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8501040" y="62866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51880" y="1717200"/>
            <a:ext cx="7458840" cy="320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Цель социоигровой  технологии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оказать педагогическую поддержку каждому ребенку на пути его саморазвития, самоутверждения и самопознания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 воспитать  самостоятельно мыслящую и  социально-активную личность. 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22160" y="76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дачи  социоигровой технологи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помочь детям научиться эффективно общаться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сделать образовательный процесс более увлекательным для учеников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способствовать развитию у учащихся активной позиции, самостоятельности, творчества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воспитывать в школьниках  желание узнавать ново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 rot="10800000">
            <a:off x="472680" y="479520"/>
            <a:ext cx="8220960" cy="64440"/>
          </a:xfrm>
          <a:prstGeom prst="rect">
            <a:avLst/>
          </a:prstGeom>
          <a:noFill/>
          <a:ln w="0">
            <a:noFill/>
          </a:ln>
        </p:spPr>
        <p:txBody>
          <a:bodyPr tIns="18720" bIns="18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50096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Три  ЗОЛОТЫХ ПРАВИЛА социо-игрового стиля обучения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вигательная АКТИВНОСТЬ ОБУЧАЕМЫ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мена МИЗАНСЦЕН, РОЛЕЙ, ТЕМПО/РИТМА на ур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а учеников МАЛЫМИ ГРУППАМ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8572680" y="62866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 способах деления в группы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Жеребьевки: «Метка», «Мериться по палке», «Полукруг по алфавиту (имен, фамилий, номеров домов и т.д.)»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 считалочке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од «Разрезанная открытка»,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 В заплатки» , «Колечк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дактические иг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иктант на дружб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Шапка» вопросов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идимо-невидим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колько букв в непонятном слов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гровые разми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стать «по пальцам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уки-ноги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гра на внимание: «Кто-о меня-я слы-ы-ышит…»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ыход ряд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ри систематическом использовании социоигровых технологий на уроке в начальной школе можно отметить, что ученики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826920" y="2249280"/>
            <a:ext cx="76932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* всегда готовы к работе;                                                                                                                                                                       * активны на уроке;                                                                                                                                                                                                                                       * умеют работать в коллективе;                                                                                                                                                        * готовы работать с любым учителем;                                                                                                                                                           * не боятся высказывать своё мнение;                                                                                                                                                     * ходят в школу с удовольстви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оциоигровые технологии помогают учителю организовать свою деятельность нетрадиционно, интересн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              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openlesson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23:13:50Z</dcterms:created>
  <dc:creator>Федотова Виктория Александровна</dc:creator>
  <dc:description/>
  <dc:language>en-US</dc:language>
  <cp:lastModifiedBy>User</cp:lastModifiedBy>
  <dcterms:modified xsi:type="dcterms:W3CDTF">2016-12-02T16:55:22Z</dcterms:modified>
  <cp:revision>317</cp:revision>
  <dc:subject/>
  <dc:title>Слайд 1</dc:title>
</cp:coreProperties>
</file>