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9FD4-489B-4B8C-95DC-C94D7D52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602-1D2E-4980-8CDD-383F682B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0EF4-C23E-460C-95FA-9267A2C1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F7C6-E597-4D02-965F-D732C9E5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5885-D89C-453D-9EF4-DCC0BC2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97E-EC48-4CFD-9D70-7BCF5C6A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6FE3-FB00-423A-8A4E-D11826D5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D33-7E44-4544-A47A-C77105F8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A27-579D-4F10-A09A-A4F1B1C0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1F3-8370-4302-BCE5-D01758F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31B-4AAF-4E70-9D7A-382C5BB3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5B43-DE53-4979-8EA0-FF8DEF4F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75A3-EF84-4CB6-A8EA-DD4FFABD5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0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" Target="slide17.xml"/><Relationship Id="rId13" Type="http://schemas.openxmlformats.org/officeDocument/2006/relationships/slide" Target="slide19.xml"/><Relationship Id="rId14" Type="http://schemas.openxmlformats.org/officeDocument/2006/relationships/slide" Target="slide21.xml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image006"/>
          <p:cNvPicPr/>
          <p:nvPr/>
        </p:nvPicPr>
        <p:blipFill>
          <a:blip r:embed="rId2"/>
          <a:stretch/>
        </p:blipFill>
        <p:spPr>
          <a:xfrm>
            <a:off x="1295280" y="762120"/>
            <a:ext cx="6257880" cy="2500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7"/>
          <p:cNvSpPr/>
          <p:nvPr/>
        </p:nvSpPr>
        <p:spPr>
          <a:xfrm>
            <a:off x="304920" y="3201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"/>
              </a:rPr>
              <a:t>11 клас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-834120" y="3672000"/>
            <a:ext cx="89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Monotype Corsiva"/>
              </a:rPr>
              <a:t>Тема: «Логарифмическая функ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59436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Бибичева Екатерина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Rectangle 3"/>
              <p:cNvSpPr txBox="1"/>
              <p:nvPr/>
            </p:nvSpPr>
            <p:spPr>
              <a:xfrm>
                <a:off x="533520" y="1371600"/>
                <a:ext cx="44956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Rectangle 3"/>
              <p:cNvSpPr txBox="1"/>
              <p:nvPr/>
            </p:nvSpPr>
            <p:spPr>
              <a:xfrm>
                <a:off x="609480" y="3200400"/>
                <a:ext cx="41148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формулируйте определение логариф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еречислите свойства логарифм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 чего зависит монотонность логарифмической функции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ой монотонностью обладает логарифмическая функция, основанием которой является число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то ввел обозначение логарифм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54864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оганн Кеплер в 1624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77724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ем были составлены первые логарифмические таблиц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63868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жоном Неппером в 1614 г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77724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о назыв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сновоположником логарифм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562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274680"/>
          <a:ext cx="8229600" cy="5911920"/>
        </p:xfrm>
        <a:graphic>
          <a:graphicData uri="http://schemas.openxmlformats.org/drawingml/2006/table">
            <a:tbl>
              <a:tblPr/>
              <a:tblGrid>
                <a:gridCol w="2743200"/>
                <a:gridCol w="1295280"/>
                <a:gridCol w="1371600"/>
                <a:gridCol w="1371600"/>
                <a:gridCol w="1447920"/>
              </a:tblGrid>
              <a:tr h="14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мею считать ус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 теор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 истории математи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повышенной труд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отландского математика Д. Неппера и швейцарского математика И. Бюр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77724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огда в России впервые были напечатаны таблицы логарифм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71500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 1703 год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Rectangle 3"/>
              <p:cNvSpPr txBox="1"/>
              <p:nvPr/>
            </p:nvSpPr>
            <p:spPr>
              <a:xfrm>
                <a:off x="533520" y="2286000"/>
                <a:ext cx="403848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28600" y="548640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ь знак произвед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Rectangle 3"/>
              <p:cNvSpPr txBox="1"/>
              <p:nvPr/>
            </p:nvSpPr>
            <p:spPr>
              <a:xfrm>
                <a:off x="380880" y="2819520"/>
                <a:ext cx="7543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cos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517680" y="5410080"/>
            <a:ext cx="40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ину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е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Rectangle 3"/>
              <p:cNvSpPr txBox="1"/>
              <p:nvPr/>
            </p:nvSpPr>
            <p:spPr>
              <a:xfrm>
                <a:off x="228600" y="2209680"/>
                <a:ext cx="868680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517680" y="5334120"/>
            <a:ext cx="43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640" y="1636560"/>
            <a:ext cx="664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ить уравн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Rectangle 3"/>
              <p:cNvSpPr txBox="1"/>
              <p:nvPr/>
            </p:nvSpPr>
            <p:spPr>
              <a:xfrm>
                <a:off x="609480" y="2209680"/>
                <a:ext cx="67820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41360" y="5334120"/>
            <a:ext cx="44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авиль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Rectangle 3"/>
              <p:cNvSpPr txBox="1"/>
              <p:nvPr/>
            </p:nvSpPr>
            <p:spPr>
              <a:xfrm>
                <a:off x="2362320" y="2209680"/>
                <a:ext cx="403848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2286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опрос на 10 балл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Вычислить: </a:t>
            </a:r>
            <a:r>
              <a:rPr b="0" lang="en-US" sz="5400" spc="-1" strike="noStrike">
                <a:solidFill>
                  <a:srgbClr val="000000"/>
                </a:solidFill>
                <a:latin typeface="Century Schoolbook"/>
              </a:rPr>
              <a:t>2lg(5lg100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Century Schoolbook"/>
                <a:hlinkClick r:id="rId2" action="ppaction://hlinksldjump"/>
              </a:rPr>
              <a:t>Правильный отв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Ответ: 1/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304920" y="12193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Ответ:   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Schoolbook"/>
              </a:rPr>
              <a:t>Вопрос на 20 балл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то больш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Rectangle 3"/>
              <p:cNvSpPr txBox="1"/>
              <p:nvPr/>
            </p:nvSpPr>
            <p:spPr>
              <a:xfrm>
                <a:off x="380880" y="2590920"/>
                <a:ext cx="25909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1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276720" y="28195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Rectangle 3"/>
              <p:cNvSpPr txBox="1"/>
              <p:nvPr/>
            </p:nvSpPr>
            <p:spPr>
              <a:xfrm>
                <a:off x="4419720" y="2514600"/>
                <a:ext cx="281916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1,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7315200" y="2590920"/>
            <a:ext cx="62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715000"/>
            <a:ext cx="53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Rectangle 3"/>
              <p:cNvSpPr txBox="1"/>
              <p:nvPr/>
            </p:nvSpPr>
            <p:spPr>
              <a:xfrm>
                <a:off x="1600200" y="2514600"/>
                <a:ext cx="5791320" cy="23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1,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3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Rectangle 3"/>
              <p:cNvSpPr txBox="1"/>
              <p:nvPr/>
            </p:nvSpPr>
            <p:spPr>
              <a:xfrm>
                <a:off x="990720" y="2514600"/>
                <a:ext cx="655308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457200" y="556272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Ответ:    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Вопрос на 40 балл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ие из выражений имеют смыс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                                    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)                                     г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Rectangle 3"/>
              <p:cNvSpPr txBox="1"/>
              <p:nvPr/>
            </p:nvSpPr>
            <p:spPr>
              <a:xfrm>
                <a:off x="1295280" y="2209680"/>
                <a:ext cx="16765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Rectangle 3"/>
              <p:cNvSpPr txBox="1"/>
              <p:nvPr/>
            </p:nvSpPr>
            <p:spPr>
              <a:xfrm>
                <a:off x="1295280" y="3124080"/>
                <a:ext cx="1295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105520" y="2057400"/>
                <a:ext cx="190476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181480" y="3048120"/>
                <a:ext cx="19051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593640" y="5522760"/>
            <a:ext cx="54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равильный 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04-11-23T10:09:4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