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F053-01EE-43E4-A916-8BBF670C2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E746-366A-4343-8A0A-53EDE8C69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F8AD-C388-4F96-B85E-2B2BF66F7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D6AE-212F-4D24-91B5-8FC07CF42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6E1D-F85D-4055-B9F7-E5E0721F6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69A8-4CD8-474B-B2C3-AE9C87680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0505-FD3F-413A-924C-E108C371E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3888-A623-4EA2-B596-8DD37223A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990D-4F5E-47FA-A1FB-6CE9AAC78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1620-525C-435D-A4FC-857FED000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AACD-5DB4-4E1D-B4E0-B48381691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6559-1097-4263-806D-ED73C6628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B2324-5140-42C5-8981-C4A6623C54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6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8.xm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0.xm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9.xml"/><Relationship Id="rId7" Type="http://schemas.openxmlformats.org/officeDocument/2006/relationships/slide" Target="slide11.xml"/><Relationship Id="rId8" Type="http://schemas.openxmlformats.org/officeDocument/2006/relationships/slide" Target="slide12.xml"/><Relationship Id="rId9" Type="http://schemas.openxmlformats.org/officeDocument/2006/relationships/slide" Target="slide13.xml"/><Relationship Id="rId10" Type="http://schemas.openxmlformats.org/officeDocument/2006/relationships/slide" Target="slide14.xml"/><Relationship Id="rId11" Type="http://schemas.openxmlformats.org/officeDocument/2006/relationships/slide" Target="slide15.xml"/><Relationship Id="rId12" Type="http://schemas.openxmlformats.org/officeDocument/2006/relationships/slide" Target="slide17.xml"/><Relationship Id="rId13" Type="http://schemas.openxmlformats.org/officeDocument/2006/relationships/slide" Target="slide19.xml"/><Relationship Id="rId14" Type="http://schemas.openxmlformats.org/officeDocument/2006/relationships/slide" Target="slide21.xml"/><Relationship Id="rId1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image006"/>
          <p:cNvPicPr/>
          <p:nvPr/>
        </p:nvPicPr>
        <p:blipFill>
          <a:blip r:embed="rId2"/>
          <a:stretch/>
        </p:blipFill>
        <p:spPr>
          <a:xfrm>
            <a:off x="1295280" y="762120"/>
            <a:ext cx="6257880" cy="25002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7"/>
          <p:cNvSpPr/>
          <p:nvPr/>
        </p:nvSpPr>
        <p:spPr>
          <a:xfrm>
            <a:off x="304920" y="320184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"/>
              </a:rPr>
              <a:t>11 клас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-834120" y="3672000"/>
            <a:ext cx="890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Monotype Corsiva"/>
              </a:rPr>
              <a:t>Тема: «Логарифмическая функц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594360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тор: Бибичева Екатерина Серге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Rectangle 3"/>
              <p:cNvSpPr txBox="1"/>
              <p:nvPr/>
            </p:nvSpPr>
            <p:spPr>
              <a:xfrm>
                <a:off x="533520" y="1371600"/>
                <a:ext cx="4495680" cy="12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Rectangle 3"/>
              <p:cNvSpPr txBox="1"/>
              <p:nvPr/>
            </p:nvSpPr>
            <p:spPr>
              <a:xfrm>
                <a:off x="609480" y="3200400"/>
                <a:ext cx="4114800" cy="14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75" name="">
            <a:hlinkClick r:id="rId2" action="ppaction://hlinksldjump"/>
          </p:cNvPr>
          <p:cNvSpPr/>
          <p:nvPr/>
        </p:nvSpPr>
        <p:spPr>
          <a:xfrm>
            <a:off x="777240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Вопрос на 10 баллов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формулируйте определение логариф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rId2" action="ppaction://hlinksldjump"/>
          </p:cNvPr>
          <p:cNvSpPr/>
          <p:nvPr/>
        </p:nvSpPr>
        <p:spPr>
          <a:xfrm>
            <a:off x="777240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Вопрос на 20 баллов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еречислите свойства логарифм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rId2" action="ppaction://hlinksldjump"/>
          </p:cNvPr>
          <p:cNvSpPr/>
          <p:nvPr/>
        </p:nvSpPr>
        <p:spPr>
          <a:xfrm>
            <a:off x="777240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Вопрос на 30 балл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т чего зависит монотонность логарифмической функции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rId2" action="ppaction://hlinksldjump"/>
          </p:cNvPr>
          <p:cNvSpPr/>
          <p:nvPr/>
        </p:nvSpPr>
        <p:spPr>
          <a:xfrm>
            <a:off x="777240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Вопрос на 40 балл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акой монотонностью обладает логарифмическая функция, основанием которой является число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rId2" action="ppaction://hlinksldjump"/>
          </p:cNvPr>
          <p:cNvSpPr/>
          <p:nvPr/>
        </p:nvSpPr>
        <p:spPr>
          <a:xfrm>
            <a:off x="777240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Вопрос на 10 балл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то ввел обозначение логарифм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5486400"/>
            <a:ext cx="374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авильный отв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оганн Кеплер в 1624 год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rId2" action="ppaction://hlinksldjump"/>
          </p:cNvPr>
          <p:cNvSpPr/>
          <p:nvPr/>
        </p:nvSpPr>
        <p:spPr>
          <a:xfrm>
            <a:off x="7772400" y="53341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Вопрос на 20 баллов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ем были составлены первые логарифмические таблиц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5638680"/>
            <a:ext cx="374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авильный отв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жоном Неппером в 1614 го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7772400" y="53341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Вопрос на 30 балл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ого называю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сновоположником логарифмов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55627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57200" y="274680"/>
          <a:ext cx="8229600" cy="5911920"/>
        </p:xfrm>
        <a:graphic>
          <a:graphicData uri="http://schemas.openxmlformats.org/drawingml/2006/table">
            <a:tbl>
              <a:tblPr/>
              <a:tblGrid>
                <a:gridCol w="2743200"/>
                <a:gridCol w="1295280"/>
                <a:gridCol w="1371600"/>
                <a:gridCol w="1371600"/>
                <a:gridCol w="1447920"/>
              </a:tblGrid>
              <a:tr h="14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мею считать уст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ю теори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з истории математи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дачи повышенной трудно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авильный отв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отландского математика Д. Неппера и швейцарского математика И. Бюр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rId2" action="ppaction://hlinksldjump"/>
          </p:cNvPr>
          <p:cNvSpPr/>
          <p:nvPr/>
        </p:nvSpPr>
        <p:spPr>
          <a:xfrm>
            <a:off x="7772400" y="53341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Вопрос на 40 балл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огда в России впервые были напечатаны таблицы логарифмов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5715000"/>
            <a:ext cx="403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авильный отв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 1703 год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620120" y="52578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Вопрос на 10 балл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числи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Rectangle 3"/>
              <p:cNvSpPr txBox="1"/>
              <p:nvPr/>
            </p:nvSpPr>
            <p:spPr>
              <a:xfrm>
                <a:off x="533520" y="2286000"/>
                <a:ext cx="403848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g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228600" y="5486400"/>
            <a:ext cx="504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равильный 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Ответ: 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20120" y="52578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Вопрос на 20 баллов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пределить знак произвед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Rectangle 3"/>
              <p:cNvSpPr txBox="1"/>
              <p:nvPr/>
            </p:nvSpPr>
            <p:spPr>
              <a:xfrm>
                <a:off x="380880" y="2819520"/>
                <a:ext cx="754380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g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gcos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517680" y="5410080"/>
            <a:ext cx="405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авильный отв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Мину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20120" y="52578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Вопрос на 30 балл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йт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есл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Rectangle 3"/>
              <p:cNvSpPr txBox="1"/>
              <p:nvPr/>
            </p:nvSpPr>
            <p:spPr>
              <a:xfrm>
                <a:off x="228600" y="2209680"/>
                <a:ext cx="8686800" cy="15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517680" y="5334120"/>
            <a:ext cx="435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Вопрос на 40 балл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93640" y="1636560"/>
            <a:ext cx="664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шить уравнение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Rectangle 3"/>
              <p:cNvSpPr txBox="1"/>
              <p:nvPr/>
            </p:nvSpPr>
            <p:spPr>
              <a:xfrm>
                <a:off x="609480" y="2209680"/>
                <a:ext cx="678204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441360" y="5334120"/>
            <a:ext cx="443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авильный отв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Rectangle 3"/>
              <p:cNvSpPr txBox="1"/>
              <p:nvPr/>
            </p:nvSpPr>
            <p:spPr>
              <a:xfrm>
                <a:off x="2362320" y="2209680"/>
                <a:ext cx="4038480" cy="189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7620120" y="52578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22860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Вопрос на 10 балл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entury Schoolbook"/>
              </a:rPr>
              <a:t>Вычислить: </a:t>
            </a:r>
            <a:r>
              <a:rPr b="0" lang="en-US" sz="5400" spc="-1" strike="noStrike">
                <a:solidFill>
                  <a:srgbClr val="000000"/>
                </a:solidFill>
                <a:latin typeface="Century Schoolbook"/>
              </a:rPr>
              <a:t>2lg(5lg100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9999"/>
                </a:solidFill>
                <a:uFillTx/>
                <a:latin typeface="Century Schoolbook"/>
                <a:hlinkClick r:id="rId2" action="ppaction://hlinksldjump"/>
              </a:rPr>
              <a:t>Правильный отве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Ответ: 1/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620120" y="52578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2"/>
          <p:cNvSpPr/>
          <p:nvPr/>
        </p:nvSpPr>
        <p:spPr>
          <a:xfrm>
            <a:off x="304920" y="1219320"/>
            <a:ext cx="815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Ответ:    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2" action="ppaction://hlinksldjump"/>
          </p:cNvPr>
          <p:cNvSpPr/>
          <p:nvPr/>
        </p:nvSpPr>
        <p:spPr>
          <a:xfrm>
            <a:off x="777240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Вопрос на 20 баллов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то больш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Rectangle 3"/>
              <p:cNvSpPr txBox="1"/>
              <p:nvPr/>
            </p:nvSpPr>
            <p:spPr>
              <a:xfrm>
                <a:off x="380880" y="2590920"/>
                <a:ext cx="2590920" cy="106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1,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3276720" y="28195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Rectangle 3"/>
              <p:cNvSpPr txBox="1"/>
              <p:nvPr/>
            </p:nvSpPr>
            <p:spPr>
              <a:xfrm>
                <a:off x="4419720" y="2514600"/>
                <a:ext cx="2819160" cy="11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1,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7315200" y="2590920"/>
            <a:ext cx="62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5715000"/>
            <a:ext cx="53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Правильный 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Rectangle 3"/>
              <p:cNvSpPr txBox="1"/>
              <p:nvPr/>
            </p:nvSpPr>
            <p:spPr>
              <a:xfrm>
                <a:off x="1600200" y="2514600"/>
                <a:ext cx="5791320" cy="23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1,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" name="">
            <a:hlinkClick r:id="rId2" action="ppaction://hlinksldjump"/>
          </p:cNvPr>
          <p:cNvSpPr/>
          <p:nvPr/>
        </p:nvSpPr>
        <p:spPr>
          <a:xfrm>
            <a:off x="777240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Вопрос на 30 балл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шить уравн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Rectangle 3"/>
              <p:cNvSpPr txBox="1"/>
              <p:nvPr/>
            </p:nvSpPr>
            <p:spPr>
              <a:xfrm>
                <a:off x="990720" y="2514600"/>
                <a:ext cx="655308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457200" y="5562720"/>
            <a:ext cx="47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Правильный 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Ответ:    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2" action="ppaction://hlinksldjump"/>
          </p:cNvPr>
          <p:cNvSpPr/>
          <p:nvPr/>
        </p:nvSpPr>
        <p:spPr>
          <a:xfrm>
            <a:off x="777240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Вопрос на 40 балл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ие из выражений имеют смыс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)                                     в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)                                     г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Rectangle 3"/>
              <p:cNvSpPr txBox="1"/>
              <p:nvPr/>
            </p:nvSpPr>
            <p:spPr>
              <a:xfrm>
                <a:off x="1295280" y="2209680"/>
                <a:ext cx="167652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Rectangle 3"/>
              <p:cNvSpPr txBox="1"/>
              <p:nvPr/>
            </p:nvSpPr>
            <p:spPr>
              <a:xfrm>
                <a:off x="1295280" y="3124080"/>
                <a:ext cx="129564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5105520" y="2057400"/>
                <a:ext cx="190476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5181480" y="3048120"/>
                <a:ext cx="190512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593640" y="5522760"/>
            <a:ext cx="542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Правильный 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eacher</cp:lastModifiedBy>
  <dcterms:modified xsi:type="dcterms:W3CDTF">2004-11-23T10:09:45Z</dcterms:modified>
  <cp:revision>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