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11A2-0593-42CE-88DB-F17ADCAD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DAC-DE98-4FE3-97A3-F47359D6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3625-370D-483A-B761-67F8C0D1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501D-82AB-45CB-AA0A-45621B4B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FDA2-8B31-4BCA-960C-EB40F9E9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9AAC-D6F3-4B94-ACC1-403D496E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D435-D24D-4246-94B4-483714460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86EC-D90A-4A02-913A-E792BA33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71A2-D956-43A5-BD75-A7A4F596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63A0-D8B9-448D-AEE0-904EE1D2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396-1CA1-405B-B567-58071244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35A-333D-4741-B8E8-FE42E792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ECEF-F077-47FD-ABDE-26CD9C56B1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520" y="1714320"/>
            <a:ext cx="7561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00000"/>
                </a:solidFill>
                <a:latin typeface="Times New Roman"/>
              </a:rPr>
              <a:t>Устная нумерация чисел в пределах 10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8680" y="4142880"/>
            <a:ext cx="4816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ыполнила: Удовенко С.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1458000" y="357120"/>
            <a:ext cx="665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БОУ «Кулундинская средняя общеобразовательная школа №1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лундинского района, Алтайского кр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85840" y="357120"/>
            <a:ext cx="85010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№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евочек – 7 че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льчиков - ? чел. на 2 чел. 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 - 2 = 5 (дев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вет: 5 девочек катались на карусели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Прямая со стрелкой 2"/>
          <p:cNvCxnSpPr/>
          <p:nvPr/>
        </p:nvCxnSpPr>
        <p:spPr>
          <a:xfrm flipH="1" flipV="1">
            <a:off x="6428880" y="1428480"/>
            <a:ext cx="12153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Прямая соединительная линия 3"/>
          <p:cNvSpPr/>
          <p:nvPr/>
        </p:nvSpPr>
        <p:spPr>
          <a:xfrm flipV="1">
            <a:off x="7643880" y="1428840"/>
            <a:ext cx="1440" cy="71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642960" y="171468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7+5=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-ExtB"/>
              </a:rPr>
              <a:t>12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    9+8=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-ExtB"/>
              </a:rPr>
              <a:t>17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   90-40=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-ExtB"/>
              </a:rPr>
              <a:t>5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    14-4-3=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-ExtB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8-6=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-ExtB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       16-9=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-ExtB"/>
              </a:rPr>
              <a:t>7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    60+30=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-ExtB"/>
              </a:rPr>
              <a:t>9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SimSun-ExtB"/>
              </a:rPr>
              <a:t>    13-9+8=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SimSun-ExtB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314000" y="1357200"/>
            <a:ext cx="6368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ла лисица вдоль тропин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 несла грибы в корзинке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ять опят и пять лисиче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ля лисят и для лисичек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6649560" y="400068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214200" y="1643040"/>
            <a:ext cx="879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поле сестрички стоят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Желтые глазки на солнце глядят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 каждой сестрички – белые ресничк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Box 2"/>
          <p:cNvSpPr/>
          <p:nvPr/>
        </p:nvSpPr>
        <p:spPr>
          <a:xfrm>
            <a:off x="5922000" y="4357800"/>
            <a:ext cx="24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Ромашк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17"/>
          <p:cNvGrpSpPr/>
          <p:nvPr/>
        </p:nvGrpSpPr>
        <p:grpSpPr>
          <a:xfrm>
            <a:off x="670320" y="1126080"/>
            <a:ext cx="3878640" cy="3841920"/>
            <a:chOff x="670320" y="1126080"/>
            <a:chExt cx="3878640" cy="3841920"/>
          </a:xfrm>
        </p:grpSpPr>
        <p:sp>
          <p:nvSpPr>
            <p:cNvPr id="49" name="Овал 2"/>
            <p:cNvSpPr/>
            <p:nvPr/>
          </p:nvSpPr>
          <p:spPr>
            <a:xfrm rot="19879800">
              <a:off x="1495800" y="1386720"/>
              <a:ext cx="913680" cy="1570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Овал 3"/>
            <p:cNvSpPr/>
            <p:nvPr/>
          </p:nvSpPr>
          <p:spPr>
            <a:xfrm rot="1590600">
              <a:off x="2557080" y="1247400"/>
              <a:ext cx="913680" cy="1570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Овал 4"/>
            <p:cNvSpPr/>
            <p:nvPr/>
          </p:nvSpPr>
          <p:spPr>
            <a:xfrm rot="4689600">
              <a:off x="3229560" y="2065320"/>
              <a:ext cx="913680" cy="1570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Овал 5"/>
            <p:cNvSpPr/>
            <p:nvPr/>
          </p:nvSpPr>
          <p:spPr>
            <a:xfrm rot="18956400">
              <a:off x="2866680" y="3099960"/>
              <a:ext cx="913680" cy="1570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Овал 6"/>
            <p:cNvSpPr/>
            <p:nvPr/>
          </p:nvSpPr>
          <p:spPr>
            <a:xfrm rot="1128600">
              <a:off x="1770120" y="3292200"/>
              <a:ext cx="912240" cy="1570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Овал 7"/>
            <p:cNvSpPr/>
            <p:nvPr/>
          </p:nvSpPr>
          <p:spPr>
            <a:xfrm rot="16474800">
              <a:off x="1032480" y="2329200"/>
              <a:ext cx="913680" cy="1570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Овал 1"/>
            <p:cNvSpPr/>
            <p:nvPr/>
          </p:nvSpPr>
          <p:spPr>
            <a:xfrm rot="274800">
              <a:off x="1916280" y="2530440"/>
              <a:ext cx="1356480" cy="128484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+ 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Группа 18"/>
          <p:cNvGrpSpPr/>
          <p:nvPr/>
        </p:nvGrpSpPr>
        <p:grpSpPr>
          <a:xfrm>
            <a:off x="4748760" y="977400"/>
            <a:ext cx="3874680" cy="3849840"/>
            <a:chOff x="4748760" y="977400"/>
            <a:chExt cx="3874680" cy="3849840"/>
          </a:xfrm>
        </p:grpSpPr>
        <p:sp>
          <p:nvSpPr>
            <p:cNvPr id="57" name="Овал 19"/>
            <p:cNvSpPr/>
            <p:nvPr/>
          </p:nvSpPr>
          <p:spPr>
            <a:xfrm rot="19842000">
              <a:off x="5558400" y="1247040"/>
              <a:ext cx="915120" cy="1571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Овал 20"/>
            <p:cNvSpPr/>
            <p:nvPr/>
          </p:nvSpPr>
          <p:spPr>
            <a:xfrm rot="1552800">
              <a:off x="6619320" y="1098000"/>
              <a:ext cx="915120" cy="1571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Овал 21"/>
            <p:cNvSpPr/>
            <p:nvPr/>
          </p:nvSpPr>
          <p:spPr>
            <a:xfrm rot="4651800">
              <a:off x="7299720" y="1908360"/>
              <a:ext cx="914400" cy="1572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Овал 22"/>
            <p:cNvSpPr/>
            <p:nvPr/>
          </p:nvSpPr>
          <p:spPr>
            <a:xfrm rot="18918600">
              <a:off x="6952680" y="2946960"/>
              <a:ext cx="914400" cy="1572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Овал 23"/>
            <p:cNvSpPr/>
            <p:nvPr/>
          </p:nvSpPr>
          <p:spPr>
            <a:xfrm rot="1091400">
              <a:off x="5853960" y="3152160"/>
              <a:ext cx="913320" cy="1571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Овал 24"/>
            <p:cNvSpPr/>
            <p:nvPr/>
          </p:nvSpPr>
          <p:spPr>
            <a:xfrm rot="16437000">
              <a:off x="5107320" y="2195640"/>
              <a:ext cx="914400" cy="1572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Овал 25"/>
            <p:cNvSpPr/>
            <p:nvPr/>
          </p:nvSpPr>
          <p:spPr>
            <a:xfrm rot="237000">
              <a:off x="5990400" y="2387160"/>
              <a:ext cx="1358280" cy="12855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- 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605240" y="1571760"/>
            <a:ext cx="67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0, 20, 10, 90, 60, 70, 50, 40, 8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463400" y="2643120"/>
            <a:ext cx="69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0, 20, 30, 40, 50, 60, 70,  80, 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1904760" y="214200"/>
            <a:ext cx="7210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Яблоки с ветки уп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дали, падали, слёзы роняли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аня в лукошко их собрала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подарок друзьям своим принесл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ва Серёжке, три Антошке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терине и Марине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ле, Свете и Оксане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амое большое – мам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вори давай скорей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колько Таниных друзей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7634160" y="5786280"/>
            <a:ext cx="68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2017080" y="357120"/>
            <a:ext cx="594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1 едини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031480" y="1000080"/>
            <a:ext cx="60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2 единиц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031480" y="1643040"/>
            <a:ext cx="60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3 единиц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2031480" y="2286000"/>
            <a:ext cx="605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4 единиц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129760" y="2928960"/>
            <a:ext cx="571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5 едини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2129760" y="3571920"/>
            <a:ext cx="571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6 едини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2129760" y="4214880"/>
            <a:ext cx="571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7 едини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2129760" y="4786200"/>
            <a:ext cx="571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8 едини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9"/>
          <p:cNvSpPr/>
          <p:nvPr/>
        </p:nvSpPr>
        <p:spPr>
          <a:xfrm>
            <a:off x="2129760" y="5357880"/>
            <a:ext cx="571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1 десяток и 9 едини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2215080" y="5929200"/>
            <a:ext cx="56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– 2 десятка и 0 едини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2457720" y="1214280"/>
            <a:ext cx="4487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 дес. * 4 дес. 2 ед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 дес. * 7 дес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0 дес. * 9 дес. 9 ед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3 дес. * 2 дес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643200" y="1000080"/>
            <a:ext cx="7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3643200" y="1643040"/>
            <a:ext cx="7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4"/>
          <p:cNvSpPr/>
          <p:nvPr/>
        </p:nvSpPr>
        <p:spPr>
          <a:xfrm rot="10800000">
            <a:off x="3857760" y="2223360"/>
            <a:ext cx="714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5"/>
          <p:cNvSpPr/>
          <p:nvPr/>
        </p:nvSpPr>
        <p:spPr>
          <a:xfrm rot="10800000">
            <a:off x="3642840" y="2865600"/>
            <a:ext cx="7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285840" y="357120"/>
            <a:ext cx="85010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№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евочек – 7 че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альчиков - ? чел. на 2 чел. б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 + 2 = 9 (мал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вет: 9 мальчиков вышли на прогулку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ая соединительная линия 3"/>
          <p:cNvSpPr/>
          <p:nvPr/>
        </p:nvSpPr>
        <p:spPr>
          <a:xfrm flipV="1">
            <a:off x="7500960" y="1428840"/>
            <a:ext cx="1440" cy="71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Прямая со стрелкой 5"/>
          <p:cNvCxnSpPr/>
          <p:nvPr/>
        </p:nvCxnSpPr>
        <p:spPr>
          <a:xfrm flipH="1" flipV="1">
            <a:off x="6285960" y="1428480"/>
            <a:ext cx="1215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7-01-07T10:45:54Z</dcterms:modified>
  <cp:revision>52</cp:revision>
  <dc:subject/>
  <dc:title>Слайд 1</dc:title>
</cp:coreProperties>
</file>