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32F-DAF8-402C-A37B-87F716E1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1D5-A7FE-4C1A-9177-DC9977A2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8BA-EAFB-4791-8DCB-DA2BA990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DC5-5A4D-4803-839E-6C4BF6B0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786-CBD3-48CF-9C51-CB8CFDDB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FA6-A727-4D66-AFF2-BEB44422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041-E2C7-466B-BCCB-CFF46CFF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99E-9A39-4EBA-9E7F-EF78FAA2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CA4-0070-4692-9177-CDD4E9A4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4D1-90C7-40A1-8DE2-CE47E59F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378-FCF7-4E8A-A18A-FB9CD2A6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6B5-0FD3-467C-AC84-CB4822AB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5870-6372-4C09-AD1C-53B88381F9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520" y="1714320"/>
            <a:ext cx="756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Устная нумерация чисел в пределах 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8680" y="41428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полнила: Удовенко С.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458000" y="357120"/>
            <a:ext cx="66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Кулундинская средняя общеобразовательная школа №1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лундинского района, Алтайского кр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85840" y="357120"/>
            <a:ext cx="8501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№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евочек – 7 че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льчиков - ? чел. на 2 чел. 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 - 2 = 5 (дев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вет: 5 девочек катались на карусели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Прямая со стрелкой 2"/>
          <p:cNvCxnSpPr/>
          <p:nvPr/>
        </p:nvCxnSpPr>
        <p:spPr>
          <a:xfrm flipH="1" flipV="1">
            <a:off x="6428880" y="1428480"/>
            <a:ext cx="12153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Прямая соединительная линия 3"/>
          <p:cNvSpPr/>
          <p:nvPr/>
        </p:nvSpPr>
        <p:spPr>
          <a:xfrm flipV="1">
            <a:off x="7643880" y="1428840"/>
            <a:ext cx="1440" cy="71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642960" y="171468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7+5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1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   9+8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17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  90-40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5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   14-4-3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8-6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      16-9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   60+30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9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  13-9+8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314000" y="1357200"/>
            <a:ext cx="636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ла лисица вдоль тропин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 несла грибы в корзин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ять опят и пять лисиче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ля лисят и для лисичек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6649560" y="400068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14200" y="1643040"/>
            <a:ext cx="879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поле сестрички стоят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Желтые глазки на солнце глядят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 каждой сестрички – белые реснич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5922000" y="4357800"/>
            <a:ext cx="24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омашк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17"/>
          <p:cNvGrpSpPr/>
          <p:nvPr/>
        </p:nvGrpSpPr>
        <p:grpSpPr>
          <a:xfrm>
            <a:off x="670320" y="1126080"/>
            <a:ext cx="3878640" cy="3841920"/>
            <a:chOff x="670320" y="1126080"/>
            <a:chExt cx="3878640" cy="3841920"/>
          </a:xfrm>
        </p:grpSpPr>
        <p:sp>
          <p:nvSpPr>
            <p:cNvPr id="49" name="Овал 2"/>
            <p:cNvSpPr/>
            <p:nvPr/>
          </p:nvSpPr>
          <p:spPr>
            <a:xfrm rot="19879800">
              <a:off x="1495800" y="1386720"/>
              <a:ext cx="913680" cy="1570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Овал 3"/>
            <p:cNvSpPr/>
            <p:nvPr/>
          </p:nvSpPr>
          <p:spPr>
            <a:xfrm rot="1590600">
              <a:off x="2557080" y="1247400"/>
              <a:ext cx="913680" cy="1570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Овал 4"/>
            <p:cNvSpPr/>
            <p:nvPr/>
          </p:nvSpPr>
          <p:spPr>
            <a:xfrm rot="4689600">
              <a:off x="3229560" y="2065320"/>
              <a:ext cx="913680" cy="1570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Овал 5"/>
            <p:cNvSpPr/>
            <p:nvPr/>
          </p:nvSpPr>
          <p:spPr>
            <a:xfrm rot="18956400">
              <a:off x="2866680" y="3099960"/>
              <a:ext cx="913680" cy="1570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Овал 6"/>
            <p:cNvSpPr/>
            <p:nvPr/>
          </p:nvSpPr>
          <p:spPr>
            <a:xfrm rot="1128600">
              <a:off x="1770120" y="3292200"/>
              <a:ext cx="912240" cy="1570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Овал 7"/>
            <p:cNvSpPr/>
            <p:nvPr/>
          </p:nvSpPr>
          <p:spPr>
            <a:xfrm rot="16474800">
              <a:off x="1032480" y="2329200"/>
              <a:ext cx="913680" cy="1570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Овал 1"/>
            <p:cNvSpPr/>
            <p:nvPr/>
          </p:nvSpPr>
          <p:spPr>
            <a:xfrm rot="274800">
              <a:off x="1916280" y="2530440"/>
              <a:ext cx="1356480" cy="12848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+ 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Группа 18"/>
          <p:cNvGrpSpPr/>
          <p:nvPr/>
        </p:nvGrpSpPr>
        <p:grpSpPr>
          <a:xfrm>
            <a:off x="4748760" y="977400"/>
            <a:ext cx="3874680" cy="3849840"/>
            <a:chOff x="4748760" y="977400"/>
            <a:chExt cx="3874680" cy="3849840"/>
          </a:xfrm>
        </p:grpSpPr>
        <p:sp>
          <p:nvSpPr>
            <p:cNvPr id="57" name="Овал 19"/>
            <p:cNvSpPr/>
            <p:nvPr/>
          </p:nvSpPr>
          <p:spPr>
            <a:xfrm rot="19842000">
              <a:off x="5558400" y="1247040"/>
              <a:ext cx="915120" cy="1571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Овал 20"/>
            <p:cNvSpPr/>
            <p:nvPr/>
          </p:nvSpPr>
          <p:spPr>
            <a:xfrm rot="1552800">
              <a:off x="6619320" y="1098000"/>
              <a:ext cx="915120" cy="1571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Овал 21"/>
            <p:cNvSpPr/>
            <p:nvPr/>
          </p:nvSpPr>
          <p:spPr>
            <a:xfrm rot="4651800">
              <a:off x="7299720" y="1908360"/>
              <a:ext cx="914400" cy="1572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Овал 22"/>
            <p:cNvSpPr/>
            <p:nvPr/>
          </p:nvSpPr>
          <p:spPr>
            <a:xfrm rot="18918600">
              <a:off x="6952680" y="2946960"/>
              <a:ext cx="914400" cy="1572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Овал 23"/>
            <p:cNvSpPr/>
            <p:nvPr/>
          </p:nvSpPr>
          <p:spPr>
            <a:xfrm rot="1091400">
              <a:off x="5853960" y="3152160"/>
              <a:ext cx="913320" cy="1571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Овал 24"/>
            <p:cNvSpPr/>
            <p:nvPr/>
          </p:nvSpPr>
          <p:spPr>
            <a:xfrm rot="16437000">
              <a:off x="5107320" y="2195640"/>
              <a:ext cx="914400" cy="1572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Овал 25"/>
            <p:cNvSpPr/>
            <p:nvPr/>
          </p:nvSpPr>
          <p:spPr>
            <a:xfrm rot="237000">
              <a:off x="5990400" y="2387160"/>
              <a:ext cx="1358280" cy="12855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- 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605240" y="1571760"/>
            <a:ext cx="67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0, 20, 10, 90, 60, 70, 50, 40, 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463400" y="2643120"/>
            <a:ext cx="69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, 20, 30, 40, 50, 60, 70,  80, 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904760" y="214200"/>
            <a:ext cx="721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блоки с ветки уп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дали, падали, слёзы роняли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ня в лукошко их собрал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подарок друзьям своим принес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ва Серёжке, три Антошк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терине и Марин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ле, Свете и Оксан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мое большое – мам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вори давай скоре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колько Таниных друзе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7634160" y="5786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2017080" y="357120"/>
            <a:ext cx="594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1 едини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031480" y="1000080"/>
            <a:ext cx="60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2 единиц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031480" y="1643040"/>
            <a:ext cx="60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3 единиц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031480" y="2286000"/>
            <a:ext cx="60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4 единиц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129760" y="2928960"/>
            <a:ext cx="57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5 един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129760" y="3571920"/>
            <a:ext cx="57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6 един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2129760" y="4214880"/>
            <a:ext cx="57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7 един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129760" y="4786200"/>
            <a:ext cx="57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8 един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2129760" y="5357880"/>
            <a:ext cx="57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9 един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2215080" y="5929200"/>
            <a:ext cx="56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2 десятка и 0 един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457720" y="1214280"/>
            <a:ext cx="4487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 дес. * 4 дес. 2 е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 дес. * 7 дес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 дес. * 9 дес. 9 е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 дес. * 2 дес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643200" y="1000080"/>
            <a:ext cx="7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643200" y="1643040"/>
            <a:ext cx="7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4"/>
          <p:cNvSpPr/>
          <p:nvPr/>
        </p:nvSpPr>
        <p:spPr>
          <a:xfrm rot="10800000">
            <a:off x="3857760" y="2223360"/>
            <a:ext cx="71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5"/>
          <p:cNvSpPr/>
          <p:nvPr/>
        </p:nvSpPr>
        <p:spPr>
          <a:xfrm rot="10800000">
            <a:off x="3642840" y="2865600"/>
            <a:ext cx="7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285840" y="357120"/>
            <a:ext cx="8501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№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евочек – 7 че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льчиков - ? чел. на 2 чел. б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 + 2 = 9 (мал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вет: 9 мальчиков вышли на прогулку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ая соединительная линия 3"/>
          <p:cNvSpPr/>
          <p:nvPr/>
        </p:nvSpPr>
        <p:spPr>
          <a:xfrm flipV="1">
            <a:off x="7500960" y="1428840"/>
            <a:ext cx="1440" cy="71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Прямая со стрелкой 5"/>
          <p:cNvCxnSpPr/>
          <p:nvPr/>
        </p:nvCxnSpPr>
        <p:spPr>
          <a:xfrm flipH="1" flipV="1">
            <a:off x="6285960" y="1428480"/>
            <a:ext cx="1215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7-01-07T10:45:54Z</dcterms:modified>
  <cp:revision>52</cp:revision>
  <dc:subject/>
  <dc:title>Слайд 1</dc:title>
</cp:coreProperties>
</file>