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8F4-50CD-422B-B83E-425DBE0C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680-67C7-4F4E-AA9A-F22D58B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0FA-0A15-486A-A81A-06704B2F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696-D44C-4A4A-8822-67D82684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4F9-8A6C-4AAB-BFEA-63BDFE4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9C3-AF8A-4215-A874-AA7B32D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27B-5974-463A-A728-F07A3238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75D-7B63-4E8A-A466-CBBD2EB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38D-69E5-4C10-875F-FD7B5FF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F5A-FFCA-423A-A4A8-29923E6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141-3624-461E-9EF7-6222BF8E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1D6-F6E3-4412-856D-CEF7F6E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891A-3AE3-4A9E-8F6F-00D7C719D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6000" spc="-1" strike="noStrike"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4" descr="56448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660066"/>
                </a:solidFill>
                <a:latin typeface="Arial"/>
              </a:rPr>
              <a:t>What is a traditio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7_Песнь Бояна (Есть пустынный...)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417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ditions play a very important 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 our every-day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Every country and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n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every family and person has its own tra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t is an easy way of defining who people 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way nations survive in our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650295_prev"/>
          <p:cNvPicPr/>
          <p:nvPr/>
        </p:nvPicPr>
        <p:blipFill>
          <a:blip r:embed="rId1"/>
          <a:stretch/>
        </p:blipFill>
        <p:spPr>
          <a:xfrm>
            <a:off x="4211640" y="404640"/>
            <a:ext cx="1871640" cy="15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52467_800_600"/>
          <p:cNvPicPr/>
          <p:nvPr/>
        </p:nvPicPr>
        <p:blipFill>
          <a:blip r:embed="rId2"/>
          <a:stretch/>
        </p:blipFill>
        <p:spPr>
          <a:xfrm>
            <a:off x="4424400" y="4726080"/>
            <a:ext cx="2016000" cy="1689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Рисунок5"/>
          <p:cNvPicPr/>
          <p:nvPr/>
        </p:nvPicPr>
        <p:blipFill>
          <a:blip r:embed="rId3"/>
          <a:stretch/>
        </p:blipFill>
        <p:spPr>
          <a:xfrm>
            <a:off x="6877080" y="2205000"/>
            <a:ext cx="1871640" cy="1461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550437_prev"/>
          <p:cNvPicPr/>
          <p:nvPr/>
        </p:nvPicPr>
        <p:blipFill>
          <a:blip r:embed="rId4"/>
          <a:stretch/>
        </p:blipFill>
        <p:spPr>
          <a:xfrm>
            <a:off x="702000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485467"/>
          <p:cNvPicPr/>
          <p:nvPr/>
        </p:nvPicPr>
        <p:blipFill>
          <a:blip r:embed="rId5"/>
          <a:stretch/>
        </p:blipFill>
        <p:spPr>
          <a:xfrm rot="573000">
            <a:off x="6803640" y="475920"/>
            <a:ext cx="1944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4"/>
          <p:cNvSpPr/>
          <p:nvPr/>
        </p:nvSpPr>
        <p:spPr>
          <a:xfrm>
            <a:off x="2987640" y="2421000"/>
            <a:ext cx="3384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012000" y="69228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19640" y="765000"/>
            <a:ext cx="2304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lie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468360" y="76500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6659640" y="227664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250920" y="2421000"/>
            <a:ext cx="2449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755640" y="4292640"/>
            <a:ext cx="230508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ami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564000" y="4653000"/>
            <a:ext cx="273672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5867280" y="184428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 flipV="1">
            <a:off x="464328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 flipV="1">
            <a:off x="2339640" y="1844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6372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270036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H="1">
            <a:off x="2339640" y="342900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478800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6156360" y="3429000"/>
            <a:ext cx="1368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4"/>
          <p:cNvSpPr/>
          <p:nvPr/>
        </p:nvSpPr>
        <p:spPr>
          <a:xfrm>
            <a:off x="468360" y="76500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us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27280" y="2997360"/>
            <a:ext cx="14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6"/>
          <p:cNvSpPr/>
          <p:nvPr/>
        </p:nvSpPr>
        <p:spPr>
          <a:xfrm>
            <a:off x="6443640" y="429264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780000" y="836640"/>
            <a:ext cx="51130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he word “tradition” doesn’t mean only celebrating a festival and a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raditions are smaller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For most people smaller things are often the most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For example: If you get married you wear something new white; the students wear a University gown. It is an obligatory to wear it in Oxford and Camb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Daniel5"/>
          <p:cNvPicPr/>
          <p:nvPr/>
        </p:nvPicPr>
        <p:blipFill>
          <a:blip r:embed="rId2"/>
          <a:stretch/>
        </p:blipFill>
        <p:spPr>
          <a:xfrm rot="21102000">
            <a:off x="178920" y="263664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mcarey_88"/>
          <p:cNvPicPr/>
          <p:nvPr/>
        </p:nvPicPr>
        <p:blipFill>
          <a:blip r:embed="rId3"/>
          <a:stretch/>
        </p:blipFill>
        <p:spPr>
          <a:xfrm rot="636000">
            <a:off x="1763640" y="4508280"/>
            <a:ext cx="160344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392"/>
          <p:cNvPicPr/>
          <p:nvPr/>
        </p:nvPicPr>
        <p:blipFill>
          <a:blip r:embed="rId4"/>
          <a:stretch/>
        </p:blipFill>
        <p:spPr>
          <a:xfrm>
            <a:off x="611280" y="333360"/>
            <a:ext cx="2998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46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radition – the passing down of beliefs, practices, and customs from the past to the pres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(The Longmann Dictionary of English Language and 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5-г"/>
          <p:cNvPicPr/>
          <p:nvPr/>
        </p:nvPicPr>
        <p:blipFill>
          <a:blip r:embed="rId1"/>
          <a:srcRect l="18089" t="3123" r="18115" b="38649"/>
          <a:stretch/>
        </p:blipFill>
        <p:spPr>
          <a:xfrm>
            <a:off x="5003640" y="1052640"/>
            <a:ext cx="1800360" cy="266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LY003277"/>
          <p:cNvPicPr/>
          <p:nvPr/>
        </p:nvPicPr>
        <p:blipFill>
          <a:blip r:embed="rId2"/>
          <a:stretch/>
        </p:blipFill>
        <p:spPr>
          <a:xfrm>
            <a:off x="7093080" y="105264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P1000471"/>
          <p:cNvPicPr/>
          <p:nvPr/>
        </p:nvPicPr>
        <p:blipFill>
          <a:blip r:embed="rId3"/>
          <a:stretch/>
        </p:blipFill>
        <p:spPr>
          <a:xfrm>
            <a:off x="5364000" y="4221000"/>
            <a:ext cx="295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56000" y="2421000"/>
            <a:ext cx="403848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There are a lot of unique traditions in Russia, because it is multicul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[1]"/>
          <p:cNvPicPr/>
          <p:nvPr/>
        </p:nvPicPr>
        <p:blipFill>
          <a:blip r:embed="rId1"/>
          <a:stretch/>
        </p:blipFill>
        <p:spPr>
          <a:xfrm>
            <a:off x="285840" y="4429080"/>
            <a:ext cx="258264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[55]"/>
          <p:cNvPicPr/>
          <p:nvPr/>
        </p:nvPicPr>
        <p:blipFill>
          <a:blip r:embed="rId2"/>
          <a:stretch/>
        </p:blipFill>
        <p:spPr>
          <a:xfrm>
            <a:off x="6858000" y="404640"/>
            <a:ext cx="1890720" cy="208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Собор Василия Блаженного"/>
          <p:cNvPicPr/>
          <p:nvPr/>
        </p:nvPicPr>
        <p:blipFill>
          <a:blip r:embed="rId3"/>
          <a:stretch/>
        </p:blipFill>
        <p:spPr>
          <a:xfrm>
            <a:off x="142920" y="428760"/>
            <a:ext cx="2382840" cy="22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FOOD"/>
          <p:cNvPicPr/>
          <p:nvPr/>
        </p:nvPicPr>
        <p:blipFill>
          <a:blip r:embed="rId4"/>
          <a:stretch/>
        </p:blipFill>
        <p:spPr>
          <a:xfrm>
            <a:off x="6072120" y="4429080"/>
            <a:ext cx="273528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8" descr="1715079"/>
          <p:cNvPicPr/>
          <p:nvPr/>
        </p:nvPicPr>
        <p:blipFill>
          <a:blip r:embed="rId5"/>
          <a:stretch/>
        </p:blipFill>
        <p:spPr>
          <a:xfrm>
            <a:off x="3357720" y="428760"/>
            <a:ext cx="2646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468360" y="1557360"/>
            <a:ext cx="80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 FOR YOUR ATTENTION! 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OOD LUCK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7" descr="j0284916"/>
          <p:cNvPicPr/>
          <p:nvPr/>
        </p:nvPicPr>
        <p:blipFill>
          <a:blip r:embed="rId1"/>
          <a:stretch/>
        </p:blipFill>
        <p:spPr>
          <a:xfrm>
            <a:off x="2843280" y="4221000"/>
            <a:ext cx="2879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02:52Z</dcterms:created>
  <dc:creator>Байр</dc:creator>
  <dc:description/>
  <dc:language>en-US</dc:language>
  <cp:lastModifiedBy>User</cp:lastModifiedBy>
  <dcterms:modified xsi:type="dcterms:W3CDTF">2017-01-07T14:37:08Z</dcterms:modified>
  <cp:revision>44</cp:revision>
  <dc:subject/>
  <dc:title>Слайд 1</dc:title>
</cp:coreProperties>
</file>