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6.wmf" ContentType="image/x-wmf"/>
  <Override PartName="/ppt/media/image4.gif" ContentType="image/gif"/>
  <Override PartName="/ppt/media/image5.gif" ContentType="image/gif"/>
  <Override PartName="/ppt/media/image10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1.gif" ContentType="image/gif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C06-D47E-48A7-9E3F-5CB511BB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6EA-F0E5-41C2-A2CB-3594A0AE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B4D4-16B2-4526-9E40-070B80A7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9701-0B37-4406-809B-EC0AD582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656-B27C-4143-B536-B59FFACC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4176-05FB-47B1-841C-EDD1B8BD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2FE9-761C-4292-80DE-38B87545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C3F3-5029-46B2-98E6-EC1F0C4F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FFF-380D-49FD-8B37-8AE8CC62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5AE-EE42-4387-90C9-895359F2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183-9AA5-4EFF-8915-98CA9EA1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E1F-5AAD-4E5E-AFA2-E169C1C3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CABC-7E01-4A6B-9378-E4E5841760C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B8F22-3CCE-4AEE-86DC-61C7098BC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rikol.i.ua/view/323850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f6228"/>
                </a:solidFill>
                <a:latin typeface="Arial"/>
                <a:ea typeface="Arial"/>
              </a:rPr>
              <a:t>Отрицание </a:t>
            </a:r>
            <a:r>
              <a:rPr b="1" lang="en-US" sz="4800" spc="-1" strike="noStrike">
                <a:solidFill>
                  <a:srgbClr val="4f6228"/>
                </a:solidFill>
                <a:latin typeface="Arial"/>
                <a:ea typeface="Arial"/>
              </a:rPr>
              <a:t>kein(e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859280" y="2565000"/>
            <a:ext cx="38275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Для учащих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3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Автор: Денисенко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2"/>
          <a:stretch/>
        </p:blipFill>
        <p:spPr>
          <a:xfrm>
            <a:off x="468360" y="765000"/>
            <a:ext cx="890640" cy="2548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:\Documents and Settings\Aida\Рабочий стол\НОвая ГРАФИКА сборник\блестяшки\БАБОЧКИ\35.3-web[1].gif"/>
          <p:cNvPicPr/>
          <p:nvPr/>
        </p:nvPicPr>
        <p:blipFill>
          <a:blip r:embed="rId3"/>
          <a:stretch/>
        </p:blipFill>
        <p:spPr>
          <a:xfrm flipH="1">
            <a:off x="7596360" y="3068640"/>
            <a:ext cx="10713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is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is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Igel. (der Ig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Картинки для твоей мобилки"/>
          <p:cNvPicPr/>
          <p:nvPr/>
        </p:nvPicPr>
        <p:blipFill>
          <a:blip r:embed="rId1"/>
          <a:stretch/>
        </p:blipFill>
        <p:spPr>
          <a:xfrm>
            <a:off x="5508720" y="1557360"/>
            <a:ext cx="3249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Ig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Ig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Eichhörnch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(das Eichhörnch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Целыми днями крутишься, как белка в колесе... - белка, со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284640"/>
            <a:ext cx="4286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569916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99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Wer ist das?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ein </a:t>
            </a: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Hase.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ein </a:t>
            </a: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Igel?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44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 Igel.</a:t>
            </a:r>
            <a:br>
              <a:rPr sz="4400"/>
            </a:br>
            <a:r>
              <a:rPr b="0" lang="en-US" sz="4400" spc="-1" strike="noStrike">
                <a:solidFill>
                  <a:srgbClr val="9933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B4D-642F-4F85-8B63-D0954EE61EE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F8C2-C48C-4DBA-8A4B-AA3B64FA72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262"/>
          <p:cNvPicPr/>
          <p:nvPr/>
        </p:nvPicPr>
        <p:blipFill>
          <a:blip r:embed="rId1"/>
          <a:stretch/>
        </p:blipFill>
        <p:spPr>
          <a:xfrm>
            <a:off x="7093080" y="3357720"/>
            <a:ext cx="1582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691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 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Has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 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Hase.(der H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Wer ist d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Maus. (die Ma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18m5"/>
          <p:cNvPicPr/>
          <p:nvPr/>
        </p:nvPicPr>
        <p:blipFill>
          <a:blip r:embed="rId1"/>
          <a:stretch/>
        </p:blipFill>
        <p:spPr>
          <a:xfrm>
            <a:off x="6012000" y="2421000"/>
            <a:ext cx="23763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Mau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e 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Ma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Eule (die Eu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AN00790_"/>
          <p:cNvPicPr/>
          <p:nvPr/>
        </p:nvPicPr>
        <p:blipFill>
          <a:blip r:embed="rId1"/>
          <a:stretch/>
        </p:blipFill>
        <p:spPr>
          <a:xfrm>
            <a:off x="5003640" y="2492280"/>
            <a:ext cx="379908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Eul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e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E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Bär. (der Bä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23m6"/>
          <p:cNvPicPr/>
          <p:nvPr/>
        </p:nvPicPr>
        <p:blipFill>
          <a:blip r:embed="rId1"/>
          <a:stretch/>
        </p:blipFill>
        <p:spPr>
          <a:xfrm>
            <a:off x="5005440" y="907920"/>
            <a:ext cx="287964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Bä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Bä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Wolf. (der Wol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u4"/>
          <p:cNvPicPr/>
          <p:nvPr/>
        </p:nvPicPr>
        <p:blipFill>
          <a:blip r:embed="rId1"/>
          <a:stretch/>
        </p:blipFill>
        <p:spPr>
          <a:xfrm>
            <a:off x="5076720" y="1700280"/>
            <a:ext cx="29736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Wol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Wol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 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Fuc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r7"/>
          <p:cNvPicPr/>
          <p:nvPr/>
        </p:nvPicPr>
        <p:blipFill>
          <a:blip r:embed="rId1"/>
          <a:stretch/>
        </p:blipFill>
        <p:spPr>
          <a:xfrm>
            <a:off x="4788000" y="1413000"/>
            <a:ext cx="367164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uch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uc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Vogel. (der Vog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PARROT1"/>
          <p:cNvPicPr/>
          <p:nvPr/>
        </p:nvPicPr>
        <p:blipFill>
          <a:blip r:embed="rId1"/>
          <a:stretch/>
        </p:blipFill>
        <p:spPr>
          <a:xfrm>
            <a:off x="5076720" y="2060640"/>
            <a:ext cx="268452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Ist das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Voge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Nein, 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k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Vog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Das ist </a:t>
            </a:r>
            <a:r>
              <a:rPr b="0" lang="en-US" sz="3200" spc="-1" strike="noStrike">
                <a:solidFill>
                  <a:srgbClr val="3366ff"/>
                </a:solidFill>
                <a:latin typeface="Calibri"/>
              </a:rPr>
              <a:t>ein</a:t>
            </a: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 Fis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Calibri"/>
              </a:rPr>
              <a:t>(der Fisc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38"/>
          <p:cNvPicPr/>
          <p:nvPr/>
        </p:nvPicPr>
        <p:blipFill>
          <a:blip r:embed="rId1"/>
          <a:stretch/>
        </p:blipFill>
        <p:spPr>
          <a:xfrm>
            <a:off x="5580000" y="1773360"/>
            <a:ext cx="302436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0:24:26Z</dcterms:created>
  <dc:creator>InYaz</dc:creator>
  <dc:description/>
  <dc:language>en-US</dc:language>
  <cp:lastModifiedBy>FSB</cp:lastModifiedBy>
  <dcterms:modified xsi:type="dcterms:W3CDTF">2015-01-09T13:54:03Z</dcterms:modified>
  <cp:revision>13</cp:revision>
  <dc:subject/>
  <dc:title>Отрицание kein</dc:title>
</cp:coreProperties>
</file>