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gif" ContentType="image/gif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9AE-79E0-4F72-B09D-1888479E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07B-1E84-4CB8-93F2-B7DFB392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47D-A429-42C9-BB45-22F28FD1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C15-C04D-4DF2-9394-704BC1FC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06E-3E41-4411-8476-FC896ABD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B78-1EA3-4A19-B8B2-6D001A81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348-24C5-4BE7-A82B-8E41DB55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117-3034-4207-882C-C44C1201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CEB-1661-4BE9-93E3-72C7375C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CFA-6898-4F24-A284-90398C0B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585-7AE6-46BB-91D0-5476637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66E-2607-4FF9-8A50-C8B1235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E21F-E4CF-4E90-B4B1-4C285FEAAC5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3449-EE7A-4E23-BA6E-BC5B9C6AF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rikol.i.ua/view/323850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f6228"/>
                </a:solidFill>
                <a:latin typeface="Arial"/>
                <a:ea typeface="Arial"/>
              </a:rPr>
              <a:t>Отрицание </a:t>
            </a:r>
            <a:r>
              <a:rPr b="1" lang="en-US" sz="4800" spc="-1" strike="noStrike">
                <a:solidFill>
                  <a:srgbClr val="4f6228"/>
                </a:solidFill>
                <a:latin typeface="Arial"/>
                <a:ea typeface="Arial"/>
              </a:rPr>
              <a:t>kein(e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59280" y="2565000"/>
            <a:ext cx="38275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Для учащих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3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втор: Денисенко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НОвая ГРАФИКА сборник\блестяшки\БАБОЧКИ\35.3-web[1].gif"/>
          <p:cNvPicPr/>
          <p:nvPr/>
        </p:nvPicPr>
        <p:blipFill>
          <a:blip r:embed="rId2"/>
          <a:stretch/>
        </p:blipFill>
        <p:spPr>
          <a:xfrm>
            <a:off x="468360" y="765000"/>
            <a:ext cx="890640" cy="254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:\Documents and Settings\Aida\Рабочий стол\НОвая ГРАФИКА сборник\блестяшки\БАБОЧКИ\35.3-web[1].gif"/>
          <p:cNvPicPr/>
          <p:nvPr/>
        </p:nvPicPr>
        <p:blipFill>
          <a:blip r:embed="rId3"/>
          <a:stretch/>
        </p:blipFill>
        <p:spPr>
          <a:xfrm flipH="1">
            <a:off x="7596360" y="3068640"/>
            <a:ext cx="10713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Fis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Fis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Igel. (der Ig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Картинки для твоей мобилки"/>
          <p:cNvPicPr/>
          <p:nvPr/>
        </p:nvPicPr>
        <p:blipFill>
          <a:blip r:embed="rId1"/>
          <a:stretch/>
        </p:blipFill>
        <p:spPr>
          <a:xfrm>
            <a:off x="5508720" y="1557360"/>
            <a:ext cx="3249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Ig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Ig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Eichhörnch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(das Eichhörnch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Целыми днями крутишься, как белка в колесе... - белка, со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284640"/>
            <a:ext cx="4286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99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Wer ist das?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ein </a:t>
            </a: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Hase.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ein </a:t>
            </a: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Igel?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 Igel.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7B0B-EEC8-46F1-8F1A-2B830E8914D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D09D-DE25-43AF-B807-FB3CC1208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262"/>
          <p:cNvPicPr/>
          <p:nvPr/>
        </p:nvPicPr>
        <p:blipFill>
          <a:blip r:embed="rId1"/>
          <a:stretch/>
        </p:blipFill>
        <p:spPr>
          <a:xfrm>
            <a:off x="7093080" y="3357720"/>
            <a:ext cx="1582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 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Ha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 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Hase.(der H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Wer ist d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e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Maus. (die Ma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18m5"/>
          <p:cNvPicPr/>
          <p:nvPr/>
        </p:nvPicPr>
        <p:blipFill>
          <a:blip r:embed="rId1"/>
          <a:stretch/>
        </p:blipFill>
        <p:spPr>
          <a:xfrm>
            <a:off x="6012000" y="2421000"/>
            <a:ext cx="2376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e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Ma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e 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Ma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e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Eule (die Eu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AN00790_"/>
          <p:cNvPicPr/>
          <p:nvPr/>
        </p:nvPicPr>
        <p:blipFill>
          <a:blip r:embed="rId1"/>
          <a:stretch/>
        </p:blipFill>
        <p:spPr>
          <a:xfrm>
            <a:off x="5003640" y="2492280"/>
            <a:ext cx="37990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e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Eu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e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E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Bär. (der Bä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23m6"/>
          <p:cNvPicPr/>
          <p:nvPr/>
        </p:nvPicPr>
        <p:blipFill>
          <a:blip r:embed="rId1"/>
          <a:stretch/>
        </p:blipFill>
        <p:spPr>
          <a:xfrm>
            <a:off x="5005440" y="907920"/>
            <a:ext cx="287964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Bä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Bä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Wolf. (der Wol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u4"/>
          <p:cNvPicPr/>
          <p:nvPr/>
        </p:nvPicPr>
        <p:blipFill>
          <a:blip r:embed="rId1"/>
          <a:stretch/>
        </p:blipFill>
        <p:spPr>
          <a:xfrm>
            <a:off x="5076720" y="1700280"/>
            <a:ext cx="29736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Wol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Wo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 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Fuc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r7"/>
          <p:cNvPicPr/>
          <p:nvPr/>
        </p:nvPicPr>
        <p:blipFill>
          <a:blip r:embed="rId1"/>
          <a:stretch/>
        </p:blipFill>
        <p:spPr>
          <a:xfrm>
            <a:off x="4788000" y="1413000"/>
            <a:ext cx="36716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Fuch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Fuc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Vogel. (der Vog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PARROT1"/>
          <p:cNvPicPr/>
          <p:nvPr/>
        </p:nvPicPr>
        <p:blipFill>
          <a:blip r:embed="rId1"/>
          <a:stretch/>
        </p:blipFill>
        <p:spPr>
          <a:xfrm>
            <a:off x="5076720" y="2060640"/>
            <a:ext cx="26845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Vog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Vog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Fis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(der Fi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38"/>
          <p:cNvPicPr/>
          <p:nvPr/>
        </p:nvPicPr>
        <p:blipFill>
          <a:blip r:embed="rId1"/>
          <a:stretch/>
        </p:blipFill>
        <p:spPr>
          <a:xfrm>
            <a:off x="5580000" y="1773360"/>
            <a:ext cx="30243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0:24:26Z</dcterms:created>
  <dc:creator>InYaz</dc:creator>
  <dc:description/>
  <dc:language>en-US</dc:language>
  <cp:lastModifiedBy>FSB</cp:lastModifiedBy>
  <dcterms:modified xsi:type="dcterms:W3CDTF">2015-01-09T13:54:03Z</dcterms:modified>
  <cp:revision>13</cp:revision>
  <dc:subject/>
  <dc:title>Отрицание kein</dc:title>
</cp:coreProperties>
</file>