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0889-62E1-44BB-8EA2-A9E6847C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DED7-F349-4666-A665-C0A7E49F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55ED-9535-48EA-ABCC-A9F3F78B0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02BC-C17A-4810-9BA4-8C1F0EBB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AFF6-5255-4D52-924B-67D457C8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8467-B44A-418F-971D-A1B946E1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68FE-21B5-4C5B-B7F9-23D7BC5EF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A2E5-9325-45A4-BB87-257BAEF5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72E8-E29D-470E-BE06-65D2723A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11D6-C6C5-4021-945E-18057E01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F9C7-A082-4682-8892-B17493BB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0881-521F-4338-A06A-510948B8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8167-386F-457B-905F-5D99ED21E99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1720" y="285840"/>
            <a:ext cx="7572240" cy="36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е казенное дошкольное образовательное учреждение детский сад «Лукоморье»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ГРОВАЯ ПЕДАГОГИЧЕСКАЯ ТЕХНОЛОГИЯ РАЗВИВАЮЩЕГО ОБУЧЕНИЯ «Блоки Дьенеш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28760" y="5072040"/>
            <a:ext cx="345924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Т.В.Вождаев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старшей группы д/с «Лукоморье» , 2016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ASUS\Desktop\bloki_1.jpg"/>
          <p:cNvPicPr/>
          <p:nvPr/>
        </p:nvPicPr>
        <p:blipFill>
          <a:blip r:embed="rId1"/>
          <a:stretch/>
        </p:blipFill>
        <p:spPr>
          <a:xfrm rot="849000">
            <a:off x="1763640" y="3499920"/>
            <a:ext cx="228924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Цель использования блоков Дьенеш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356840"/>
            <a:ext cx="8472600" cy="51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ознавательных и логических способност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способность детей к анализу и синтез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образное логическое  мышление, произвольное внимани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 детей: речь(умение рассуждать, доказывать),познавательные интересы, творческое воображени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: коммуникативные навыки, стремления к преодолению трудностей, уверенности в себе, желание вовремя придти на помощь сверстника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:\img4.jpg"/>
          <p:cNvPicPr/>
          <p:nvPr/>
        </p:nvPicPr>
        <p:blipFill>
          <a:blip r:embed="rId1"/>
          <a:stretch/>
        </p:blipFill>
        <p:spPr>
          <a:xfrm>
            <a:off x="1071720" y="500040"/>
            <a:ext cx="671508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28400" y="499680"/>
            <a:ext cx="84294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Ы ОРГАНИЗАЦИИ РАБОТЫ С ЛОГИЧЕСКИМИ БЛОКАМИ ДЬЕНЕШ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тегрированная непосредственно- образовательная деятельность, обеспечивающие наглядность, системность и доступность, смена деятельност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местная и самостоятельная игровая деятельность (дидактические игры, настольно-печатные, подвижные, сюжетно-ролевые игры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а) в подвижных играх (предметные ориентиры, обозначения домиков, дорожек, лабиринтов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как настольно-печатные (изготовить карты к играм “Рассели жильцов”, “Найди место фигуре”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в) в сюжетно-ролевых играх: “Магазин” - деньги обозначаются блоками. “Почта” - адрес на доме обозначается кодовыми карточками. Аналогично, “Поезд” - билеты, мест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е образовательной деятельности в предметно-развивающей среде (ИЗО-деятельность, аппликация, режимные моменты, предметные ориентиры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F:\блоки Дьенеша\IMG_20161109_154219_1.jpg"/>
          <p:cNvPicPr/>
          <p:nvPr/>
        </p:nvPicPr>
        <p:blipFill>
          <a:blip r:embed="rId1"/>
          <a:stretch/>
        </p:blipFill>
        <p:spPr>
          <a:xfrm>
            <a:off x="5796000" y="3645000"/>
            <a:ext cx="1946160" cy="2595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F:\блоки Дьенеша\ККК.jpg"/>
          <p:cNvPicPr/>
          <p:nvPr/>
        </p:nvPicPr>
        <p:blipFill>
          <a:blip r:embed="rId2"/>
          <a:stretch/>
        </p:blipFill>
        <p:spPr>
          <a:xfrm>
            <a:off x="684360" y="476280"/>
            <a:ext cx="3498840" cy="2135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F:\блоки Дьенеша\IMG_20161116_082600.jpg"/>
          <p:cNvPicPr/>
          <p:nvPr/>
        </p:nvPicPr>
        <p:blipFill>
          <a:blip r:embed="rId3"/>
          <a:stretch/>
        </p:blipFill>
        <p:spPr>
          <a:xfrm>
            <a:off x="5148360" y="981000"/>
            <a:ext cx="2943000" cy="2208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:\блоки Дьенеша\IMG_20161110_105833.jpg"/>
          <p:cNvPicPr/>
          <p:nvPr/>
        </p:nvPicPr>
        <p:blipFill>
          <a:blip r:embed="rId4"/>
          <a:stretch/>
        </p:blipFill>
        <p:spPr>
          <a:xfrm rot="21216000">
            <a:off x="659880" y="3594240"/>
            <a:ext cx="3110040" cy="23349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6"/>
          <p:cNvSpPr/>
          <p:nvPr/>
        </p:nvSpPr>
        <p:spPr>
          <a:xfrm>
            <a:off x="428760" y="607212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такие же фигуры, как эта по форм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500040" y="2857680"/>
            <a:ext cx="407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такие же фигуры, как эта по  размер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4643280" y="476280"/>
            <a:ext cx="45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такие же фигуры, как эта, но другова цв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4786200" y="6357960"/>
            <a:ext cx="364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одируй информац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й результат при работе с блоками Дьенеш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115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953735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ти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ют приемами логического мышл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щатся к выполнению игровых действ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атся   классифицировать по свойствам предмет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ят интерес к новым дидактическим играм по развитию логического мышл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атся самостоятельно проявлять инициативу, настойчивость в достижении цел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ют творческими способностями, разовьется фантазия, воображение, проявится способность к моделированию и конструировани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953735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66ff"/>
                </a:solidFill>
                <a:latin typeface="Times New Roman"/>
                <a:ea typeface="Calibri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18:29:01Z</dcterms:created>
  <dc:creator>Admin</dc:creator>
  <dc:description/>
  <dc:language>en-US</dc:language>
  <cp:lastModifiedBy>ASUS</cp:lastModifiedBy>
  <dcterms:modified xsi:type="dcterms:W3CDTF">2017-01-08T08:41:40Z</dcterms:modified>
  <cp:revision>109</cp:revision>
  <dc:subject/>
  <dc:title>Курсовой проект  на тему: « Развитие логического мышления у детей дошкольного возраста через использование блоков Дьенеша»</dc:title>
</cp:coreProperties>
</file>