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634-1914-4DD9-A9CF-2F2215C7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EAE-F6A8-428A-9646-C4B2848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BE9-3628-4A25-A33F-E9F3B540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9C0-2775-448A-A607-261F21F5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B29-984B-4ACD-A8F3-BBB5EB05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09A-1A53-47CF-96C6-B917001C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995-EE0D-4979-9877-36D7F983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C29-D886-4E3A-BE45-939C9D00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414-D795-4E8E-90C0-7D9A90B4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048-70F9-416F-8482-76E4391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861-A8E1-45EC-B420-D1C8B9C5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896-7CC7-49EA-8F20-7AB4ED0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97E-2D21-4518-8552-9790C7F1F5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57224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детский сад «Лукоморье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ОВАЯ ПЕДАГОГИЧЕСКАЯ ТЕХНОЛОГИЯ РАЗВИВАЮЩЕГО ОБУЧЕНИЯ «Блоки Дьенеш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28760" y="5072040"/>
            <a:ext cx="34592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Т.В.Вождае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старшей группы д/с «Лукоморье» , 2016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ASUS\Desktop\bloki_1.jpg"/>
          <p:cNvPicPr/>
          <p:nvPr/>
        </p:nvPicPr>
        <p:blipFill>
          <a:blip r:embed="rId1"/>
          <a:stretch/>
        </p:blipFill>
        <p:spPr>
          <a:xfrm rot="849000">
            <a:off x="1763640" y="3499920"/>
            <a:ext cx="22892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ь использования блоков Дьенеш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356840"/>
            <a:ext cx="847260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и логических способнос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способность детей к анализу и синтез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образное логическое  мышление, произвольное внима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: речь(умение рассуждать, доказывать),познавательные интересы, творческое воображ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: коммуникативные навыки, стремления к преодолению трудностей, уверенности в себе, желание вовремя придти на помощь сверстника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:\img4.jpg"/>
          <p:cNvPicPr/>
          <p:nvPr/>
        </p:nvPicPr>
        <p:blipFill>
          <a:blip r:embed="rId1"/>
          <a:stretch/>
        </p:blipFill>
        <p:spPr>
          <a:xfrm>
            <a:off x="1071720" y="500040"/>
            <a:ext cx="6715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400" y="499680"/>
            <a:ext cx="84294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Ы ОРГАНИЗАЦИИ РАБОТЫ С ЛОГИЧЕСКИМИ БЛОКАМИ ДЬЕНЕ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ованная непосредственно- образовательная деятельность, обеспечивающие наглядность, системность и доступность, смена деятель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ая и самостоятельная игровая деятельность (дидактические игры, настольно-печатные, подвижные, сюжетно-ролевые игр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в подвижных играх (предметные ориентиры, обозначения домиков, дорожек, лабиринтов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как настольно-печатные (изготовить карты к играм “Рассели жильцов”, “Найди место фигуре”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в сюжетно-ролевых играх: “Магазин” - деньги обозначаются блоками. “Почта” - адрес на доме обозначается кодовыми карточками. Аналогично, “Поезд” - билеты, мес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 образовательной деятельности в предметно-развивающей среде (ИЗО-деятельность, аппликация, режимные моменты, предметные ориентиры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блоки Дьенеша\IMG_20161109_154219_1.jpg"/>
          <p:cNvPicPr/>
          <p:nvPr/>
        </p:nvPicPr>
        <p:blipFill>
          <a:blip r:embed="rId1"/>
          <a:stretch/>
        </p:blipFill>
        <p:spPr>
          <a:xfrm>
            <a:off x="5796000" y="3645000"/>
            <a:ext cx="1946160" cy="259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блоки Дьенеша\ККК.jpg"/>
          <p:cNvPicPr/>
          <p:nvPr/>
        </p:nvPicPr>
        <p:blipFill>
          <a:blip r:embed="rId2"/>
          <a:stretch/>
        </p:blipFill>
        <p:spPr>
          <a:xfrm>
            <a:off x="684360" y="476280"/>
            <a:ext cx="349884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блоки Дьенеша\IMG_20161116_082600.jpg"/>
          <p:cNvPicPr/>
          <p:nvPr/>
        </p:nvPicPr>
        <p:blipFill>
          <a:blip r:embed="rId3"/>
          <a:stretch/>
        </p:blipFill>
        <p:spPr>
          <a:xfrm>
            <a:off x="5148360" y="981000"/>
            <a:ext cx="294300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блоки Дьенеша\IMG_20161110_105833.jpg"/>
          <p:cNvPicPr/>
          <p:nvPr/>
        </p:nvPicPr>
        <p:blipFill>
          <a:blip r:embed="rId4"/>
          <a:stretch/>
        </p:blipFill>
        <p:spPr>
          <a:xfrm rot="21216000">
            <a:off x="659880" y="3594240"/>
            <a:ext cx="3110040" cy="2334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28760" y="607212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такие же фигуры, как эта по фор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500040" y="28576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такие же фигуры, как эта по  разме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4643280" y="476280"/>
            <a:ext cx="45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такие же фигуры, как эта, но другова ц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4786200" y="6357960"/>
            <a:ext cx="36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одируй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 при работе с блоками Дьенеш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ют приемами логического мыш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ся к выполнению игровых действ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атся   классифицировать по свойствам предм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ят интерес к новым дидактическим играм по развитию логического мыш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атся самостоятельно проявлять инициативу, настойчивость в достижении цел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ют творческими способностями, разовьется фантазия, воображение, проявится способность к моделированию и конструир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66ff"/>
                </a:solidFill>
                <a:latin typeface="Times New Roman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8:29:01Z</dcterms:created>
  <dc:creator>Admin</dc:creator>
  <dc:description/>
  <dc:language>en-US</dc:language>
  <cp:lastModifiedBy>ASUS</cp:lastModifiedBy>
  <dcterms:modified xsi:type="dcterms:W3CDTF">2017-01-08T08:41:40Z</dcterms:modified>
  <cp:revision>109</cp:revision>
  <dc:subject/>
  <dc:title>Курсовой проект  на тему: « Развитие логического мышления у детей дошкольного возраста через использование блоков Дьенеша»</dc:title>
</cp:coreProperties>
</file>