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E333-FAF2-40EF-904C-8605A4B7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3619-B774-442E-93F8-86C83373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3BCE-A8E2-4372-8DF0-A82A25AE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AA0F-EDEB-44C5-AD77-C590925F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A511-2178-4C09-9DA1-304F68CD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1A7C-E01F-4EE6-B785-4F984ACF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CA52-73C1-40AE-A47A-5F28D709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803A-6857-41BA-BBD6-FAB089BE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2C36-28B8-4DC0-AE1A-62D4A63E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E37A-24B9-466D-A7D3-9B3BC43B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B7FA-1680-4727-8641-44F3EA01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7B56-8C02-45D0-BD56-AA8C44D7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A714-F562-4F60-BDF3-2A1A3D9C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47AC-4EEE-44ED-BE87-C7F6201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5F09-D153-4C7D-AD00-55FEC4BB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5339-50E9-4F4D-9D06-0764DCA11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CF9E-9B44-4C6D-933F-DA65E615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D64-839D-43AB-AEF3-0AE2C7B4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4C8-6E64-4B13-B17A-2D527E0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707-AE26-4FDE-BE77-2CD8D216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AC88-6809-4B01-B268-2BC91E2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0E6A-11F3-412A-B563-2C628B6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782-513F-4684-8E08-A51857B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FDE-62E8-4BF5-89DC-9F8ABED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AC40-20B0-42E7-A9F9-7C96D78A18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8000" y="517680"/>
                  <a:ext cx="4316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4520" y="28080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24360" y="142128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75480"/>
                  <a:ext cx="2905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8520" y="210960"/>
                  <a:ext cx="2872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CEE8-1165-45CD-8936-14634B5517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8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" Target="slide54.xml"/><Relationship Id="rId2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42720" y="857160"/>
            <a:ext cx="6357960" cy="3284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«Я мыслю – следовательно, я существую»</a:t>
            </a:r>
            <a:br>
              <a:rPr sz="4400"/>
            </a:b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Рене Декар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71680" y="4051080"/>
            <a:ext cx="792936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66"/>
                </a:solidFill>
                <a:latin typeface="Comic Sans MS"/>
              </a:rPr>
              <a:t>Игра-зачет</a:t>
            </a:r>
            <a:r>
              <a:rPr b="0" lang="ru-RU" sz="9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ru-RU" sz="6600" spc="-1" strike="noStrike">
                <a:solidFill>
                  <a:srgbClr val="ff0066"/>
                </a:solidFill>
                <a:latin typeface="Comic Sans MS"/>
              </a:rPr>
              <a:t>Четырехугольники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составленный из двух равнобедренных треугольник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м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ва угла четырехугольника, прилежащие к одной стороне, прямые. Можно ли утверждать, что данный четырехугольник является прямоугольник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CD –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араллелограмм,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A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=9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3"/>
          <p:cNvSpPr/>
          <p:nvPr/>
        </p:nvSpPr>
        <p:spPr>
          <a:xfrm>
            <a:off x="2214720" y="2214720"/>
            <a:ext cx="4071960" cy="27144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214720" y="4643280"/>
            <a:ext cx="285480" cy="28584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Прямоугольник 6"/>
          <p:cNvSpPr/>
          <p:nvPr/>
        </p:nvSpPr>
        <p:spPr>
          <a:xfrm>
            <a:off x="2214720" y="2214720"/>
            <a:ext cx="285480" cy="2854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Прямоугольник 7"/>
          <p:cNvSpPr/>
          <p:nvPr/>
        </p:nvSpPr>
        <p:spPr>
          <a:xfrm>
            <a:off x="6000840" y="4643280"/>
            <a:ext cx="285840" cy="28584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Прямоугольник 8"/>
          <p:cNvSpPr/>
          <p:nvPr/>
        </p:nvSpPr>
        <p:spPr>
          <a:xfrm>
            <a:off x="6000840" y="2214720"/>
            <a:ext cx="285840" cy="2854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ямоугольная трапе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Прямая соединительная линия 4"/>
          <p:cNvSpPr/>
          <p:nvPr/>
        </p:nvSpPr>
        <p:spPr>
          <a:xfrm flipH="1">
            <a:off x="1498680" y="2286000"/>
            <a:ext cx="1440" cy="25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Прямая соединительная линия 7"/>
          <p:cNvSpPr/>
          <p:nvPr/>
        </p:nvSpPr>
        <p:spPr>
          <a:xfrm>
            <a:off x="1500120" y="4857840"/>
            <a:ext cx="3357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Прямая соединительная линия 11"/>
          <p:cNvSpPr/>
          <p:nvPr/>
        </p:nvSpPr>
        <p:spPr>
          <a:xfrm>
            <a:off x="1500120" y="2286000"/>
            <a:ext cx="21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Прямая соединительная линия 14"/>
          <p:cNvSpPr/>
          <p:nvPr/>
        </p:nvSpPr>
        <p:spPr>
          <a:xfrm>
            <a:off x="3643200" y="2286000"/>
            <a:ext cx="1214640" cy="257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Прямоугольник 15"/>
          <p:cNvSpPr/>
          <p:nvPr/>
        </p:nvSpPr>
        <p:spPr>
          <a:xfrm>
            <a:off x="1500120" y="4643280"/>
            <a:ext cx="214560" cy="21456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иагонали ром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356840"/>
            <a:ext cx="7696080" cy="5000760"/>
          </a:xfrm>
          <a:prstGeom prst="rect">
            <a:avLst/>
          </a:prstGeom>
          <a:noFill/>
          <a:ln w="9360">
            <a:solidFill>
              <a:srgbClr val="bf8a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            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Ромб 3"/>
          <p:cNvSpPr/>
          <p:nvPr/>
        </p:nvSpPr>
        <p:spPr>
          <a:xfrm>
            <a:off x="1643040" y="1857240"/>
            <a:ext cx="3357720" cy="3929040"/>
          </a:xfrm>
          <a:prstGeom prst="diamond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Прямая соединительная линия 5"/>
          <p:cNvSpPr/>
          <p:nvPr/>
        </p:nvSpPr>
        <p:spPr>
          <a:xfrm>
            <a:off x="3320280" y="1857240"/>
            <a:ext cx="1800" cy="39308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Прямая соединительная линия 8"/>
          <p:cNvSpPr/>
          <p:nvPr/>
        </p:nvSpPr>
        <p:spPr>
          <a:xfrm flipV="1">
            <a:off x="1642320" y="3822840"/>
            <a:ext cx="3357720" cy="14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Прямая соединительная линия 23"/>
          <p:cNvSpPr/>
          <p:nvPr/>
        </p:nvSpPr>
        <p:spPr>
          <a:xfrm>
            <a:off x="3357720" y="3643200"/>
            <a:ext cx="214200" cy="180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Прямая соединительная линия 25"/>
          <p:cNvSpPr/>
          <p:nvPr/>
        </p:nvSpPr>
        <p:spPr>
          <a:xfrm flipH="1">
            <a:off x="3569760" y="3645000"/>
            <a:ext cx="1800" cy="1429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291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оперативная проверка достижения учащимися обязательного уровня теоретической подготовки по теме «Четырехугольники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6"/>
          <p:cNvSpPr/>
          <p:nvPr/>
        </p:nvSpPr>
        <p:spPr>
          <a:xfrm>
            <a:off x="428760" y="300024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спознавать на чертежах четырехугольники, их элемен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осредственно применять определения, свойства и признаки для вычислений длин сторон, градусных  мер угл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ображать четырехугольники, их элемент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у которого две противоположные стороны равны и параллель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Параллелограмм 3"/>
          <p:cNvSpPr/>
          <p:nvPr/>
        </p:nvSpPr>
        <p:spPr>
          <a:xfrm>
            <a:off x="2000160" y="2714760"/>
            <a:ext cx="3857760" cy="2286000"/>
          </a:xfrm>
          <a:prstGeom prst="parallelogram">
            <a:avLst>
              <a:gd name="adj" fmla="val 25001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Изобраз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у которого диагонали 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43040"/>
            <a:ext cx="8244000" cy="5214960"/>
          </a:xfrm>
          <a:prstGeom prst="rect">
            <a:avLst/>
          </a:prstGeom>
          <a:noFill/>
          <a:ln w="9360">
            <a:solidFill>
              <a:srgbClr val="bf8a00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B            E                    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D            G                    H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                J                           N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                       L                             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1071720" y="2214720"/>
            <a:ext cx="1500120" cy="150012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Прямая соединительная линия 5"/>
          <p:cNvSpPr/>
          <p:nvPr/>
        </p:nvSpPr>
        <p:spPr>
          <a:xfrm flipV="1">
            <a:off x="1071000" y="2214360"/>
            <a:ext cx="15001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Прямая соединительная линия 7"/>
          <p:cNvSpPr/>
          <p:nvPr/>
        </p:nvSpPr>
        <p:spPr>
          <a:xfrm>
            <a:off x="1071000" y="2214720"/>
            <a:ext cx="15001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4786200" y="2214720"/>
            <a:ext cx="2286000" cy="14284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Прямая соединительная линия 12"/>
          <p:cNvSpPr/>
          <p:nvPr/>
        </p:nvSpPr>
        <p:spPr>
          <a:xfrm>
            <a:off x="4786200" y="2214720"/>
            <a:ext cx="2286000" cy="142848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Прямая соединительная линия 14"/>
          <p:cNvSpPr/>
          <p:nvPr/>
        </p:nvSpPr>
        <p:spPr>
          <a:xfrm flipV="1">
            <a:off x="4786200" y="2286000"/>
            <a:ext cx="2214720" cy="135720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Трапеция 16"/>
          <p:cNvSpPr/>
          <p:nvPr/>
        </p:nvSpPr>
        <p:spPr>
          <a:xfrm>
            <a:off x="1785960" y="4857840"/>
            <a:ext cx="2571840" cy="150012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Прямая соединительная линия 28"/>
          <p:cNvSpPr/>
          <p:nvPr/>
        </p:nvSpPr>
        <p:spPr>
          <a:xfrm flipV="1">
            <a:off x="1785960" y="4857480"/>
            <a:ext cx="22147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Прямая соединительная линия 30"/>
          <p:cNvSpPr/>
          <p:nvPr/>
        </p:nvSpPr>
        <p:spPr>
          <a:xfrm>
            <a:off x="2143080" y="4857840"/>
            <a:ext cx="2214720" cy="150012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Прямая соединительная линия 13"/>
          <p:cNvSpPr/>
          <p:nvPr/>
        </p:nvSpPr>
        <p:spPr>
          <a:xfrm>
            <a:off x="5786280" y="4643280"/>
            <a:ext cx="2428920" cy="135756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Прямая соединительная линия 15"/>
          <p:cNvSpPr/>
          <p:nvPr/>
        </p:nvSpPr>
        <p:spPr>
          <a:xfrm flipV="1">
            <a:off x="5429160" y="5357520"/>
            <a:ext cx="2286000" cy="114300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Прямая соединительная линия 21"/>
          <p:cNvSpPr/>
          <p:nvPr/>
        </p:nvSpPr>
        <p:spPr>
          <a:xfrm>
            <a:off x="5786280" y="4643280"/>
            <a:ext cx="1928880" cy="7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Прямая соединительная линия 23"/>
          <p:cNvSpPr/>
          <p:nvPr/>
        </p:nvSpPr>
        <p:spPr>
          <a:xfrm flipH="1">
            <a:off x="5429160" y="4643280"/>
            <a:ext cx="35712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Прямая соединительная линия 25"/>
          <p:cNvSpPr/>
          <p:nvPr/>
        </p:nvSpPr>
        <p:spPr>
          <a:xfrm flipV="1">
            <a:off x="5429160" y="6000480"/>
            <a:ext cx="27860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Прямая соединительная линия 29"/>
          <p:cNvSpPr/>
          <p:nvPr/>
        </p:nvSpPr>
        <p:spPr>
          <a:xfrm>
            <a:off x="7714440" y="5357880"/>
            <a:ext cx="5000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ение ромб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омб – это параллелограмм, у которого стороны 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такое «Кваттуф»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 (лат.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войства параллелограм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араллелограмме диагонали пересекаются и в точке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араллелограмме противоположные стороны и углы рав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285840" y="214200"/>
          <a:ext cx="8280360" cy="5572080"/>
        </p:xfrm>
        <a:graphic>
          <a:graphicData uri="http://schemas.openxmlformats.org/drawingml/2006/table">
            <a:tbl>
              <a:tblPr/>
              <a:tblGrid>
                <a:gridCol w="2479680"/>
                <a:gridCol w="995400"/>
                <a:gridCol w="1201680"/>
                <a:gridCol w="1201680"/>
                <a:gridCol w="1201680"/>
                <a:gridCol w="1200240"/>
              </a:tblGrid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о это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образ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1063800"/>
                          <a:tab algn="l" pos="2127240"/>
                          <a:tab algn="l" pos="3191040"/>
                          <a:tab algn="l" pos="4254480"/>
                          <a:tab algn="l" pos="5318280"/>
                          <a:tab algn="l" pos="6381720"/>
                          <a:tab algn="l" pos="7445520"/>
                          <a:tab algn="l" pos="8508960"/>
                          <a:tab algn="l" pos="9572760"/>
                          <a:tab algn="l" pos="106362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ы слуша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умай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6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7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8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19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0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еши и объяс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b200"/>
                          </a:solidFill>
                          <a:uFillTx/>
                          <a:latin typeface="Comic Sans MS"/>
                          <a:hlinkClick r:id="rId26" action="ppaction://hlinksldjump"/>
                        </a:rPr>
                        <a:t>Конец иг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42680"/>
            <a:ext cx="7696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         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Ромб 3"/>
          <p:cNvSpPr/>
          <p:nvPr/>
        </p:nvSpPr>
        <p:spPr>
          <a:xfrm>
            <a:off x="2857680" y="2428920"/>
            <a:ext cx="2857320" cy="3786120"/>
          </a:xfrm>
          <a:prstGeom prst="diamond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Прямая соединительная линия 5"/>
          <p:cNvSpPr/>
          <p:nvPr/>
        </p:nvSpPr>
        <p:spPr>
          <a:xfrm>
            <a:off x="4284720" y="2428920"/>
            <a:ext cx="1440" cy="378756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Прямая соединительная линия 7"/>
          <p:cNvSpPr/>
          <p:nvPr/>
        </p:nvSpPr>
        <p:spPr>
          <a:xfrm flipV="1">
            <a:off x="2856960" y="4322880"/>
            <a:ext cx="2857320" cy="14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Прямоугольник 8"/>
          <p:cNvSpPr/>
          <p:nvPr/>
        </p:nvSpPr>
        <p:spPr>
          <a:xfrm>
            <a:off x="4143240" y="4143240"/>
            <a:ext cx="285840" cy="285840"/>
          </a:xfrm>
          <a:prstGeom prst="rect">
            <a:avLst/>
          </a:prstGeom>
          <a:noFill/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Правая круглая скобка 22"/>
          <p:cNvSpPr/>
          <p:nvPr/>
        </p:nvSpPr>
        <p:spPr>
          <a:xfrm>
            <a:off x="3000240" y="4143240"/>
            <a:ext cx="46080" cy="357480"/>
          </a:xfrm>
          <a:custGeom>
            <a:avLst/>
            <a:gdLst>
              <a:gd name="textAreaLeft" fmla="*/ 0 w 46080"/>
              <a:gd name="textAreaRight" fmla="*/ 32400 w 46080"/>
              <a:gd name="textAreaTop" fmla="*/ 1800 h 357480"/>
              <a:gd name="textAreaBottom" fmla="*/ 355680 h 3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16"/>
                  <a:pt x="21600" y="232"/>
                </a:cubicBezTo>
                <a:lnTo>
                  <a:pt x="21600" y="21368"/>
                </a:lnTo>
                <a:cubicBezTo>
                  <a:pt x="21600" y="21484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Левая круглая скобка 23"/>
          <p:cNvSpPr/>
          <p:nvPr/>
        </p:nvSpPr>
        <p:spPr>
          <a:xfrm>
            <a:off x="5500800" y="4143240"/>
            <a:ext cx="46080" cy="357480"/>
          </a:xfrm>
          <a:custGeom>
            <a:avLst/>
            <a:gdLst>
              <a:gd name="textAreaLeft" fmla="*/ 13320 w 46080"/>
              <a:gd name="textAreaRight" fmla="*/ 46440 w 46080"/>
              <a:gd name="textAreaTop" fmla="*/ 1800 h 357480"/>
              <a:gd name="textAreaBottom" fmla="*/ 355680 h 357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16"/>
                  <a:pt x="0" y="232"/>
                </a:cubicBezTo>
                <a:lnTo>
                  <a:pt x="0" y="21368"/>
                </a:lnTo>
                <a:cubicBezTo>
                  <a:pt x="0" y="2148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Левая круглая скобка 24"/>
          <p:cNvSpPr/>
          <p:nvPr/>
        </p:nvSpPr>
        <p:spPr>
          <a:xfrm>
            <a:off x="4143240" y="2643120"/>
            <a:ext cx="285840" cy="46080"/>
          </a:xfrm>
          <a:custGeom>
            <a:avLst/>
            <a:gdLst>
              <a:gd name="textAreaLeft" fmla="*/ 83880 w 285840"/>
              <a:gd name="textAreaRight" fmla="*/ 286200 w 285840"/>
              <a:gd name="textAreaTop" fmla="*/ 1800 h 46080"/>
              <a:gd name="textAreaBottom" fmla="*/ 44280 h 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" bIns="-4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Левая круглая скобка 25"/>
          <p:cNvSpPr/>
          <p:nvPr/>
        </p:nvSpPr>
        <p:spPr>
          <a:xfrm>
            <a:off x="4143240" y="6000840"/>
            <a:ext cx="285840" cy="71280"/>
          </a:xfrm>
          <a:custGeom>
            <a:avLst/>
            <a:gdLst>
              <a:gd name="textAreaLeft" fmla="*/ 83880 w 285840"/>
              <a:gd name="textAreaRight" fmla="*/ 286200 w 285840"/>
              <a:gd name="textAreaTop" fmla="*/ 2880 h 71280"/>
              <a:gd name="textAreaBottom" fmla="*/ 68400 h 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ромба диагонали пересекаются под прямым углом и являются биссектрисами угл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7680" y="190080"/>
            <a:ext cx="6459480" cy="146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Мы слуша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Трапеция 3"/>
          <p:cNvSpPr/>
          <p:nvPr/>
        </p:nvSpPr>
        <p:spPr>
          <a:xfrm>
            <a:off x="2000160" y="2500200"/>
            <a:ext cx="4143600" cy="250056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Прямая соединительная линия 5"/>
          <p:cNvSpPr/>
          <p:nvPr/>
        </p:nvSpPr>
        <p:spPr>
          <a:xfrm>
            <a:off x="2643120" y="2500200"/>
            <a:ext cx="28576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Прямая соединительная линия 7"/>
          <p:cNvSpPr/>
          <p:nvPr/>
        </p:nvSpPr>
        <p:spPr>
          <a:xfrm>
            <a:off x="2000160" y="5000760"/>
            <a:ext cx="41436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снования трапеци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, C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2600" y="213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й ли параллелограмм является ромб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958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N           C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CD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NKF 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                         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F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2357280" y="2286000"/>
            <a:ext cx="2928960" cy="307188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Прямая соединительная линия 5"/>
          <p:cNvSpPr/>
          <p:nvPr/>
        </p:nvSpPr>
        <p:spPr>
          <a:xfrm flipH="1">
            <a:off x="2357280" y="2285280"/>
            <a:ext cx="1463760" cy="15368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3821040" y="2286000"/>
            <a:ext cx="1465200" cy="15368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ая соединительная линия 9"/>
          <p:cNvSpPr/>
          <p:nvPr/>
        </p:nvSpPr>
        <p:spPr>
          <a:xfrm>
            <a:off x="2357280" y="3822840"/>
            <a:ext cx="1463760" cy="15350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ая соединительная линия 11"/>
          <p:cNvSpPr/>
          <p:nvPr/>
        </p:nvSpPr>
        <p:spPr>
          <a:xfrm flipV="1">
            <a:off x="3821040" y="3822840"/>
            <a:ext cx="1465200" cy="1535040"/>
          </a:xfrm>
          <a:prstGeom prst="line">
            <a:avLst/>
          </a:prstGeom>
          <a:ln w="9360">
            <a:solidFill>
              <a:srgbClr val="bf8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ая соединительная линия 13"/>
          <p:cNvSpPr/>
          <p:nvPr/>
        </p:nvSpPr>
        <p:spPr>
          <a:xfrm flipH="1">
            <a:off x="2999880" y="2214720"/>
            <a:ext cx="7164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 flipH="1">
            <a:off x="4572000" y="2214720"/>
            <a:ext cx="7128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Прямая соединительная линия 15"/>
          <p:cNvSpPr/>
          <p:nvPr/>
        </p:nvSpPr>
        <p:spPr>
          <a:xfrm flipH="1">
            <a:off x="2214360" y="3071880"/>
            <a:ext cx="2142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Прямая соединительная линия 16"/>
          <p:cNvSpPr/>
          <p:nvPr/>
        </p:nvSpPr>
        <p:spPr>
          <a:xfrm flipH="1">
            <a:off x="2214360" y="478548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Прямая соединительная линия 17"/>
          <p:cNvSpPr/>
          <p:nvPr/>
        </p:nvSpPr>
        <p:spPr>
          <a:xfrm flipH="1" flipV="1">
            <a:off x="5214600" y="307152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Прямая соединительная линия 25"/>
          <p:cNvSpPr/>
          <p:nvPr/>
        </p:nvSpPr>
        <p:spPr>
          <a:xfrm flipH="1" flipV="1">
            <a:off x="5214600" y="4642920"/>
            <a:ext cx="21420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Прямая соединительная линия 26"/>
          <p:cNvSpPr/>
          <p:nvPr/>
        </p:nvSpPr>
        <p:spPr>
          <a:xfrm flipH="1">
            <a:off x="4714920" y="5286240"/>
            <a:ext cx="7128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Прямая соединительная линия 27"/>
          <p:cNvSpPr/>
          <p:nvPr/>
        </p:nvSpPr>
        <p:spPr>
          <a:xfrm flipH="1">
            <a:off x="2999880" y="5286240"/>
            <a:ext cx="7164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й ли квадрат является параллелограмм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я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440" y="1828800"/>
            <a:ext cx="7743960" cy="40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1571760" y="2499840"/>
            <a:ext cx="5857920" cy="2786040"/>
            <a:chOff x="1571760" y="2499840"/>
            <a:chExt cx="5857920" cy="2786040"/>
          </a:xfrm>
        </p:grpSpPr>
        <p:sp>
          <p:nvSpPr>
            <p:cNvPr id="159" name="AutoShape 5"/>
            <p:cNvSpPr/>
            <p:nvPr/>
          </p:nvSpPr>
          <p:spPr>
            <a:xfrm rot="10800000">
              <a:off x="1571760" y="2499480"/>
              <a:ext cx="5857920" cy="27860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60" name="AutoShape 6"/>
            <p:cNvCxnSpPr/>
            <p:nvPr/>
          </p:nvCxnSpPr>
          <p:spPr>
            <a:xfrm>
              <a:off x="2218320" y="3686040"/>
              <a:ext cx="392400" cy="126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" name="AutoShape 7"/>
            <p:cNvCxnSpPr/>
            <p:nvPr/>
          </p:nvCxnSpPr>
          <p:spPr>
            <a:xfrm flipV="1">
              <a:off x="6430320" y="3577680"/>
              <a:ext cx="392400" cy="23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p:transition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у прямоугольника соседние стороны равны, то это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вадра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щего у диагоналей ромба и параллелограмм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очке пересечения делятся попол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=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Параллелограмм 3"/>
          <p:cNvSpPr/>
          <p:nvPr/>
        </p:nvSpPr>
        <p:spPr>
          <a:xfrm>
            <a:off x="2000160" y="2643120"/>
            <a:ext cx="3000600" cy="2143080"/>
          </a:xfrm>
          <a:prstGeom prst="parallelogram">
            <a:avLst>
              <a:gd name="adj" fmla="val 25001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C=30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B – ?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Трапеция 3"/>
          <p:cNvSpPr/>
          <p:nvPr/>
        </p:nvSpPr>
        <p:spPr>
          <a:xfrm>
            <a:off x="3000240" y="2786040"/>
            <a:ext cx="3000600" cy="228600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Прямая соединительная линия 5"/>
          <p:cNvSpPr/>
          <p:nvPr/>
        </p:nvSpPr>
        <p:spPr>
          <a:xfrm>
            <a:off x="3214800" y="3786120"/>
            <a:ext cx="14292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Прямая соединительная линия 7"/>
          <p:cNvSpPr/>
          <p:nvPr/>
        </p:nvSpPr>
        <p:spPr>
          <a:xfrm flipV="1">
            <a:off x="5571360" y="3714480"/>
            <a:ext cx="1429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4"/>
          <p:cNvSpPr/>
          <p:nvPr/>
        </p:nvSpPr>
        <p:spPr>
          <a:xfrm>
            <a:off x="1357200" y="2357280"/>
            <a:ext cx="3786480" cy="2071800"/>
          </a:xfrm>
          <a:prstGeom prst="rect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            B    &lt;BAO=40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0°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lt;COD-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 baseline="30000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                             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Прямая соединительная линия 6"/>
          <p:cNvSpPr/>
          <p:nvPr/>
        </p:nvSpPr>
        <p:spPr>
          <a:xfrm>
            <a:off x="1357200" y="2357280"/>
            <a:ext cx="378648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Прямая соединительная линия 8"/>
          <p:cNvSpPr/>
          <p:nvPr/>
        </p:nvSpPr>
        <p:spPr>
          <a:xfrm flipV="1">
            <a:off x="1357200" y="2356920"/>
            <a:ext cx="378648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0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внобедренная трапе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Ромб 3"/>
          <p:cNvSpPr/>
          <p:nvPr/>
        </p:nvSpPr>
        <p:spPr>
          <a:xfrm>
            <a:off x="2571840" y="2000160"/>
            <a:ext cx="2714400" cy="3571920"/>
          </a:xfrm>
          <a:prstGeom prst="diamond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2960" y="1642680"/>
            <a:ext cx="76964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°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ая соединительная линия 5"/>
          <p:cNvSpPr/>
          <p:nvPr/>
        </p:nvSpPr>
        <p:spPr>
          <a:xfrm flipV="1">
            <a:off x="3929040" y="2928960"/>
            <a:ext cx="2000160" cy="264312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Левая круглая скобка 7"/>
          <p:cNvSpPr/>
          <p:nvPr/>
        </p:nvSpPr>
        <p:spPr>
          <a:xfrm>
            <a:off x="5143680" y="3643200"/>
            <a:ext cx="45720" cy="285840"/>
          </a:xfrm>
          <a:custGeom>
            <a:avLst/>
            <a:gdLst>
              <a:gd name="textAreaLeft" fmla="*/ 13320 w 45720"/>
              <a:gd name="textAreaRight" fmla="*/ 46080 w 45720"/>
              <a:gd name="textAreaTop" fmla="*/ 1800 h 285840"/>
              <a:gd name="textAreaBottom" fmla="*/ 284040 h 28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5"/>
                  <a:pt x="0" y="290"/>
                </a:cubicBezTo>
                <a:lnTo>
                  <a:pt x="0" y="21310"/>
                </a:lnTo>
                <a:cubicBezTo>
                  <a:pt x="0" y="2145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0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Трапеция 3"/>
          <p:cNvSpPr/>
          <p:nvPr/>
        </p:nvSpPr>
        <p:spPr>
          <a:xfrm>
            <a:off x="3143160" y="3071880"/>
            <a:ext cx="3500640" cy="2071800"/>
          </a:xfrm>
          <a:prstGeom prst="pie">
            <a:avLst/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еши и объяс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ить признак равенства треугольников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B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B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               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                             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Прямая соединительная линия 5"/>
          <p:cNvSpPr/>
          <p:nvPr/>
        </p:nvSpPr>
        <p:spPr>
          <a:xfrm>
            <a:off x="3857760" y="3071880"/>
            <a:ext cx="278604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Прямая соединительная линия 7"/>
          <p:cNvSpPr/>
          <p:nvPr/>
        </p:nvSpPr>
        <p:spPr>
          <a:xfrm flipH="1">
            <a:off x="3142800" y="3071160"/>
            <a:ext cx="2786040" cy="207180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Прямая соединительная линия 9"/>
          <p:cNvSpPr/>
          <p:nvPr/>
        </p:nvSpPr>
        <p:spPr>
          <a:xfrm>
            <a:off x="3500280" y="4000680"/>
            <a:ext cx="142920" cy="144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Прямая соединительная линия 11"/>
          <p:cNvSpPr/>
          <p:nvPr/>
        </p:nvSpPr>
        <p:spPr>
          <a:xfrm>
            <a:off x="6143760" y="4000680"/>
            <a:ext cx="142920" cy="1440"/>
          </a:xfrm>
          <a:prstGeom prst="line">
            <a:avLst/>
          </a:prstGeom>
          <a:ln w="9360">
            <a:solidFill>
              <a:srgbClr val="7f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Равнобедренный треугольник 8"/>
          <p:cNvSpPr/>
          <p:nvPr/>
        </p:nvSpPr>
        <p:spPr>
          <a:xfrm>
            <a:off x="4143240" y="264312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Равнобедренный треугольник 10"/>
          <p:cNvSpPr/>
          <p:nvPr/>
        </p:nvSpPr>
        <p:spPr>
          <a:xfrm>
            <a:off x="5786280" y="2643120"/>
            <a:ext cx="214560" cy="14292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25560">
            <a:solidFill>
              <a:srgbClr val="bcb0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 трем сторона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Если вы получили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828800"/>
            <a:ext cx="7696080" cy="33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20-25 верных ответов 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вы можете приступить к следующему этапу «Решение задач»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Менее 2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– вам следует повторить теоретический материал по теме, и вновь проверить свои зна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Желаем удачи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етырехугольник, у которого противоположные стороны попарно параллельн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араллелограм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Что это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квальном переводе с греческого – «столик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В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апе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0:19:10Z</dcterms:created>
  <dc:creator>Дарья и Денис</dc:creator>
  <dc:description/>
  <dc:language>en-US</dc:language>
  <cp:lastModifiedBy>dom</cp:lastModifiedBy>
  <dcterms:modified xsi:type="dcterms:W3CDTF">2011-12-19T18:42:25Z</dcterms:modified>
  <cp:revision>96</cp:revision>
  <dc:subject/>
  <dc:title>Слайд 1</dc:title>
</cp:coreProperties>
</file>