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FAD5-ADBB-4CEC-A4DF-8D7DA39A8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1AA5-6B63-42C5-9845-4DBFA3F1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BD4E-0F5B-4D36-A224-079DA6DEA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CCAD-CFA9-4FAA-A552-AFB12F384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860A-6AEB-4EB9-82C0-7EADD530D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64177-77FF-4E64-9B36-E026CD53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868F-85AB-438C-B0D4-9B399E52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442C4-49B5-4E78-A350-7886D7C2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4559F-6F3E-4FD9-9C40-EE624520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AD63F-4BA5-48A7-828D-F252B9ED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87EE-D3B6-4635-BBA7-B4C5BF69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CC2D-CB65-454E-B4AD-C63C92EC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1ECE-1336-49EC-9C0C-266CDB18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92B99-C641-450D-AE89-068783C4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9228-453E-48A7-9B43-90E9A281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1120-0B92-4D16-B5E9-DB94672B5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17B24-F768-4793-BB9B-3A6B49F75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556B-882B-4F5B-A300-1FC2057C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F192-6207-4BF5-8962-430557FB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AE05-97B2-4A1B-9EBC-7EE36759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939D-2FFC-49D5-B310-0EDD5612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D55D-3427-4357-9408-229EF325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7915-7563-47F4-8DB9-A650E79C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46E5-018F-4644-97A5-7D402AF0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406D-1289-40CA-BB3F-EEFBD1A9C1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8000" y="517680"/>
                  <a:ext cx="43164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4520" y="280800"/>
                  <a:ext cx="80964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24360" y="1421280"/>
                  <a:ext cx="27072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75480"/>
                  <a:ext cx="29052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8520" y="210960"/>
                  <a:ext cx="28728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8150-CFF9-4E7B-B030-E4125A140D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4.xml"/><Relationship Id="rId7" Type="http://schemas.openxmlformats.org/officeDocument/2006/relationships/slide" Target="slide16.xml"/><Relationship Id="rId8" Type="http://schemas.openxmlformats.org/officeDocument/2006/relationships/slide" Target="slide18.xml"/><Relationship Id="rId9" Type="http://schemas.openxmlformats.org/officeDocument/2006/relationships/slide" Target="slide20.xml"/><Relationship Id="rId10" Type="http://schemas.openxmlformats.org/officeDocument/2006/relationships/slide" Target="slide22.xml"/><Relationship Id="rId11" Type="http://schemas.openxmlformats.org/officeDocument/2006/relationships/slide" Target="slide24.xml"/><Relationship Id="rId12" Type="http://schemas.openxmlformats.org/officeDocument/2006/relationships/slide" Target="slide28.xml"/><Relationship Id="rId13" Type="http://schemas.openxmlformats.org/officeDocument/2006/relationships/slide" Target="slide28.xml"/><Relationship Id="rId14" Type="http://schemas.openxmlformats.org/officeDocument/2006/relationships/slide" Target="slide30.xml"/><Relationship Id="rId15" Type="http://schemas.openxmlformats.org/officeDocument/2006/relationships/slide" Target="slide32.xml"/><Relationship Id="rId16" Type="http://schemas.openxmlformats.org/officeDocument/2006/relationships/slide" Target="slide34.xml"/><Relationship Id="rId17" Type="http://schemas.openxmlformats.org/officeDocument/2006/relationships/slide" Target="slide36.xml"/><Relationship Id="rId18" Type="http://schemas.openxmlformats.org/officeDocument/2006/relationships/slide" Target="slide38.xml"/><Relationship Id="rId19" Type="http://schemas.openxmlformats.org/officeDocument/2006/relationships/slide" Target="slide40.xml"/><Relationship Id="rId20" Type="http://schemas.openxmlformats.org/officeDocument/2006/relationships/slide" Target="slide42.xml"/><Relationship Id="rId21" Type="http://schemas.openxmlformats.org/officeDocument/2006/relationships/slide" Target="slide44.xml"/><Relationship Id="rId22" Type="http://schemas.openxmlformats.org/officeDocument/2006/relationships/slide" Target="slide46.xml"/><Relationship Id="rId23" Type="http://schemas.openxmlformats.org/officeDocument/2006/relationships/slide" Target="slide48.xml"/><Relationship Id="rId24" Type="http://schemas.openxmlformats.org/officeDocument/2006/relationships/slide" Target="slide50.xml"/><Relationship Id="rId25" Type="http://schemas.openxmlformats.org/officeDocument/2006/relationships/slide" Target="slide52.xml"/><Relationship Id="rId26" Type="http://schemas.openxmlformats.org/officeDocument/2006/relationships/slide" Target="slide54.xml"/><Relationship Id="rId2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42720" y="857160"/>
            <a:ext cx="6357960" cy="3284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«Я мыслю – следовательно, я существую»</a:t>
            </a:r>
            <a:br>
              <a:rPr sz="4400"/>
            </a:b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Рене Декар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571680" y="4051080"/>
            <a:ext cx="792936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66"/>
                </a:solidFill>
                <a:latin typeface="Comic Sans MS"/>
              </a:rPr>
              <a:t>Игра-зачет</a:t>
            </a:r>
            <a:r>
              <a:rPr b="0" lang="ru-RU" sz="96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ru-RU" sz="6600" spc="-1" strike="noStrike">
                <a:solidFill>
                  <a:srgbClr val="ff0066"/>
                </a:solidFill>
                <a:latin typeface="Comic Sans MS"/>
              </a:rPr>
              <a:t>Четырехугольники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Что это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етырехугольник, составленный из двух равнобедренных треугольник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В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680" y="17859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омб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Что это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ва угла четырехугольника, прилежащие к одной стороне, прямые. Можно ли утверждать, что данный четырехугольник является прямоугольником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В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Изобраз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BCD –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параллелограмм,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lt;A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=9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В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                                 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                                  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Прямоугольник 3"/>
          <p:cNvSpPr/>
          <p:nvPr/>
        </p:nvSpPr>
        <p:spPr>
          <a:xfrm>
            <a:off x="2214720" y="2214720"/>
            <a:ext cx="4071960" cy="2714400"/>
          </a:xfrm>
          <a:prstGeom prst="rect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Прямоугольник 4"/>
          <p:cNvSpPr/>
          <p:nvPr/>
        </p:nvSpPr>
        <p:spPr>
          <a:xfrm>
            <a:off x="2214720" y="4643280"/>
            <a:ext cx="285480" cy="285840"/>
          </a:xfrm>
          <a:prstGeom prst="rect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Прямоугольник 6"/>
          <p:cNvSpPr/>
          <p:nvPr/>
        </p:nvSpPr>
        <p:spPr>
          <a:xfrm>
            <a:off x="2214720" y="2214720"/>
            <a:ext cx="285480" cy="285480"/>
          </a:xfrm>
          <a:prstGeom prst="rect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Прямоугольник 7"/>
          <p:cNvSpPr/>
          <p:nvPr/>
        </p:nvSpPr>
        <p:spPr>
          <a:xfrm>
            <a:off x="6000840" y="4643280"/>
            <a:ext cx="285840" cy="285840"/>
          </a:xfrm>
          <a:prstGeom prst="rect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Прямоугольник 8"/>
          <p:cNvSpPr/>
          <p:nvPr/>
        </p:nvSpPr>
        <p:spPr>
          <a:xfrm>
            <a:off x="6000840" y="2214720"/>
            <a:ext cx="285840" cy="285480"/>
          </a:xfrm>
          <a:prstGeom prst="rect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Изобраз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ямоугольная трапец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В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                            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Прямая соединительная линия 4"/>
          <p:cNvSpPr/>
          <p:nvPr/>
        </p:nvSpPr>
        <p:spPr>
          <a:xfrm flipH="1">
            <a:off x="1498680" y="2286000"/>
            <a:ext cx="1440" cy="257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Прямая соединительная линия 7"/>
          <p:cNvSpPr/>
          <p:nvPr/>
        </p:nvSpPr>
        <p:spPr>
          <a:xfrm>
            <a:off x="1500120" y="4857840"/>
            <a:ext cx="3357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Прямая соединительная линия 11"/>
          <p:cNvSpPr/>
          <p:nvPr/>
        </p:nvSpPr>
        <p:spPr>
          <a:xfrm>
            <a:off x="1500120" y="2286000"/>
            <a:ext cx="214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Прямая соединительная линия 14"/>
          <p:cNvSpPr/>
          <p:nvPr/>
        </p:nvSpPr>
        <p:spPr>
          <a:xfrm>
            <a:off x="3643200" y="2286000"/>
            <a:ext cx="1214640" cy="257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Прямоугольник 15"/>
          <p:cNvSpPr/>
          <p:nvPr/>
        </p:nvSpPr>
        <p:spPr>
          <a:xfrm>
            <a:off x="1500120" y="4643280"/>
            <a:ext cx="214560" cy="214560"/>
          </a:xfrm>
          <a:prstGeom prst="rect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Изобраз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иагонали ромб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В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356840"/>
            <a:ext cx="7696080" cy="5000760"/>
          </a:xfrm>
          <a:prstGeom prst="rect">
            <a:avLst/>
          </a:prstGeom>
          <a:noFill/>
          <a:ln w="9360">
            <a:solidFill>
              <a:srgbClr val="bf8a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                            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Ромб 3"/>
          <p:cNvSpPr/>
          <p:nvPr/>
        </p:nvSpPr>
        <p:spPr>
          <a:xfrm>
            <a:off x="1643040" y="1857240"/>
            <a:ext cx="3357720" cy="3929040"/>
          </a:xfrm>
          <a:prstGeom prst="diamond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Прямая соединительная линия 5"/>
          <p:cNvSpPr/>
          <p:nvPr/>
        </p:nvSpPr>
        <p:spPr>
          <a:xfrm>
            <a:off x="3320280" y="1857240"/>
            <a:ext cx="1800" cy="3930840"/>
          </a:xfrm>
          <a:prstGeom prst="line">
            <a:avLst/>
          </a:prstGeom>
          <a:ln w="9360">
            <a:solidFill>
              <a:srgbClr val="bf8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Прямая соединительная линия 8"/>
          <p:cNvSpPr/>
          <p:nvPr/>
        </p:nvSpPr>
        <p:spPr>
          <a:xfrm flipV="1">
            <a:off x="1642320" y="3822840"/>
            <a:ext cx="3357720" cy="1440"/>
          </a:xfrm>
          <a:prstGeom prst="line">
            <a:avLst/>
          </a:prstGeom>
          <a:ln w="9360">
            <a:solidFill>
              <a:srgbClr val="bf8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Прямая соединительная линия 23"/>
          <p:cNvSpPr/>
          <p:nvPr/>
        </p:nvSpPr>
        <p:spPr>
          <a:xfrm>
            <a:off x="3357720" y="3643200"/>
            <a:ext cx="214200" cy="1800"/>
          </a:xfrm>
          <a:prstGeom prst="line">
            <a:avLst/>
          </a:prstGeom>
          <a:ln w="9360">
            <a:solidFill>
              <a:srgbClr val="bf8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Прямая соединительная линия 25"/>
          <p:cNvSpPr/>
          <p:nvPr/>
        </p:nvSpPr>
        <p:spPr>
          <a:xfrm flipH="1">
            <a:off x="3569760" y="3645000"/>
            <a:ext cx="1800" cy="142920"/>
          </a:xfrm>
          <a:prstGeom prst="line">
            <a:avLst/>
          </a:prstGeom>
          <a:ln w="9360">
            <a:solidFill>
              <a:srgbClr val="bf8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291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omic Sans MS"/>
              </a:rPr>
              <a:t>Цель: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оперативная проверка достижения учащимися обязательного уровня теоретической подготовки по теме «Четырехугольники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Прямоугольник 6"/>
          <p:cNvSpPr/>
          <p:nvPr/>
        </p:nvSpPr>
        <p:spPr>
          <a:xfrm>
            <a:off x="428760" y="3000240"/>
            <a:ext cx="8358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спознавать на чертежах четырехугольники, их элемент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посредственно применять определения, свойства и признаки для вычислений длин сторон, градусных  мер угл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ображать четырехугольники, их элемент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Изобраз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етырехугольник, у которого две противоположные стороны равны и параллельн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В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                           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                            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Параллелограмм 3"/>
          <p:cNvSpPr/>
          <p:nvPr/>
        </p:nvSpPr>
        <p:spPr>
          <a:xfrm>
            <a:off x="2000160" y="2714760"/>
            <a:ext cx="3857760" cy="2286000"/>
          </a:xfrm>
          <a:prstGeom prst="parallelogram">
            <a:avLst>
              <a:gd name="adj" fmla="val 25001"/>
            </a:avLst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Изобраз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етырехугольник, у которого диагонали равн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7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В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643040"/>
            <a:ext cx="8244000" cy="5214960"/>
          </a:xfrm>
          <a:prstGeom prst="rect">
            <a:avLst/>
          </a:prstGeom>
          <a:noFill/>
          <a:ln w="9360">
            <a:solidFill>
              <a:srgbClr val="bf8a00"/>
            </a:solidFill>
            <a:miter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             B            E                    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             D            G                    H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                J                           N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                       L                             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1071720" y="2214720"/>
            <a:ext cx="1500120" cy="1500120"/>
          </a:xfrm>
          <a:prstGeom prst="rect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Прямая соединительная линия 5"/>
          <p:cNvSpPr/>
          <p:nvPr/>
        </p:nvSpPr>
        <p:spPr>
          <a:xfrm flipV="1">
            <a:off x="1071000" y="2214360"/>
            <a:ext cx="1500120" cy="1500120"/>
          </a:xfrm>
          <a:prstGeom prst="line">
            <a:avLst/>
          </a:prstGeom>
          <a:ln w="9360">
            <a:solidFill>
              <a:srgbClr val="bf8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Прямая соединительная линия 7"/>
          <p:cNvSpPr/>
          <p:nvPr/>
        </p:nvSpPr>
        <p:spPr>
          <a:xfrm>
            <a:off x="1071000" y="2214720"/>
            <a:ext cx="1500120" cy="1500120"/>
          </a:xfrm>
          <a:prstGeom prst="line">
            <a:avLst/>
          </a:prstGeom>
          <a:ln w="9360">
            <a:solidFill>
              <a:srgbClr val="bf8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Прямоугольник 10"/>
          <p:cNvSpPr/>
          <p:nvPr/>
        </p:nvSpPr>
        <p:spPr>
          <a:xfrm>
            <a:off x="4786200" y="2214720"/>
            <a:ext cx="2286000" cy="1428480"/>
          </a:xfrm>
          <a:prstGeom prst="rect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Прямая соединительная линия 12"/>
          <p:cNvSpPr/>
          <p:nvPr/>
        </p:nvSpPr>
        <p:spPr>
          <a:xfrm>
            <a:off x="4786200" y="2214720"/>
            <a:ext cx="2286000" cy="1428480"/>
          </a:xfrm>
          <a:prstGeom prst="line">
            <a:avLst/>
          </a:prstGeom>
          <a:ln w="9360">
            <a:solidFill>
              <a:srgbClr val="bf8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Прямая соединительная линия 14"/>
          <p:cNvSpPr/>
          <p:nvPr/>
        </p:nvSpPr>
        <p:spPr>
          <a:xfrm flipV="1">
            <a:off x="4786200" y="2286000"/>
            <a:ext cx="2214720" cy="1357200"/>
          </a:xfrm>
          <a:prstGeom prst="line">
            <a:avLst/>
          </a:prstGeom>
          <a:ln w="9360">
            <a:solidFill>
              <a:srgbClr val="bf8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Трапеция 16"/>
          <p:cNvSpPr/>
          <p:nvPr/>
        </p:nvSpPr>
        <p:spPr>
          <a:xfrm>
            <a:off x="1785960" y="4857840"/>
            <a:ext cx="2571840" cy="1500120"/>
          </a:xfrm>
          <a:prstGeom prst="pie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Прямая соединительная линия 28"/>
          <p:cNvSpPr/>
          <p:nvPr/>
        </p:nvSpPr>
        <p:spPr>
          <a:xfrm flipV="1">
            <a:off x="1785960" y="4857480"/>
            <a:ext cx="2214720" cy="1500120"/>
          </a:xfrm>
          <a:prstGeom prst="line">
            <a:avLst/>
          </a:prstGeom>
          <a:ln w="9360">
            <a:solidFill>
              <a:srgbClr val="bf8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Прямая соединительная линия 30"/>
          <p:cNvSpPr/>
          <p:nvPr/>
        </p:nvSpPr>
        <p:spPr>
          <a:xfrm>
            <a:off x="2143080" y="4857840"/>
            <a:ext cx="2214720" cy="1500120"/>
          </a:xfrm>
          <a:prstGeom prst="line">
            <a:avLst/>
          </a:prstGeom>
          <a:ln w="9360">
            <a:solidFill>
              <a:srgbClr val="bf8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Прямая соединительная линия 13"/>
          <p:cNvSpPr/>
          <p:nvPr/>
        </p:nvSpPr>
        <p:spPr>
          <a:xfrm>
            <a:off x="5786280" y="4643280"/>
            <a:ext cx="2428920" cy="1357560"/>
          </a:xfrm>
          <a:prstGeom prst="line">
            <a:avLst/>
          </a:prstGeom>
          <a:ln w="9360">
            <a:solidFill>
              <a:srgbClr val="bf8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Прямая соединительная линия 15"/>
          <p:cNvSpPr/>
          <p:nvPr/>
        </p:nvSpPr>
        <p:spPr>
          <a:xfrm flipV="1">
            <a:off x="5429160" y="5357520"/>
            <a:ext cx="2286000" cy="1143000"/>
          </a:xfrm>
          <a:prstGeom prst="line">
            <a:avLst/>
          </a:prstGeom>
          <a:ln w="9360">
            <a:solidFill>
              <a:srgbClr val="bf8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Прямая соединительная линия 21"/>
          <p:cNvSpPr/>
          <p:nvPr/>
        </p:nvSpPr>
        <p:spPr>
          <a:xfrm>
            <a:off x="5786280" y="4643280"/>
            <a:ext cx="1928880" cy="7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Прямая соединительная линия 23"/>
          <p:cNvSpPr/>
          <p:nvPr/>
        </p:nvSpPr>
        <p:spPr>
          <a:xfrm flipH="1">
            <a:off x="5429160" y="4643280"/>
            <a:ext cx="357120" cy="18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Прямая соединительная линия 25"/>
          <p:cNvSpPr/>
          <p:nvPr/>
        </p:nvSpPr>
        <p:spPr>
          <a:xfrm flipV="1">
            <a:off x="5429160" y="6000480"/>
            <a:ext cx="278604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Прямая соединительная линия 29"/>
          <p:cNvSpPr/>
          <p:nvPr/>
        </p:nvSpPr>
        <p:spPr>
          <a:xfrm>
            <a:off x="7714440" y="5357880"/>
            <a:ext cx="50004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Мы слушае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пределение ромб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В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омб – это параллелограмм, у которого стороны равн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Мы слушае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то такое «Кваттуф»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В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вадрат (лат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Мы слушае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войства параллелограмм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В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параллелограмме диагонали пересекаются и в точке пересечения делятся попола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параллелограмме противоположные стороны и углы равн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285840" y="214200"/>
          <a:ext cx="8280360" cy="5572080"/>
        </p:xfrm>
        <a:graphic>
          <a:graphicData uri="http://schemas.openxmlformats.org/drawingml/2006/table">
            <a:tbl>
              <a:tblPr/>
              <a:tblGrid>
                <a:gridCol w="2479680"/>
                <a:gridCol w="995400"/>
                <a:gridCol w="1201680"/>
                <a:gridCol w="1201680"/>
                <a:gridCol w="1201680"/>
                <a:gridCol w="1200240"/>
              </a:tblGrid>
              <a:tr h="104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то это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" action="ppaction://hlinksldjump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2" action="ppaction://hlinksldjump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3" action="ppaction://hlinksldjump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4" action="ppaction://hlinksldjump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5" action="ppaction://hlinksldjump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зобраз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6" action="ppaction://hlinksldjump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7" action="ppaction://hlinksldjump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8" action="ppaction://hlinksldjump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9" action="ppaction://hlinksldjump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0" action="ppaction://hlinksldjump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63800"/>
                          <a:tab algn="l" pos="2127240"/>
                          <a:tab algn="l" pos="3191040"/>
                          <a:tab algn="l" pos="4254480"/>
                          <a:tab algn="l" pos="5318280"/>
                          <a:tab algn="l" pos="6381720"/>
                          <a:tab algn="l" pos="7445520"/>
                          <a:tab algn="l" pos="8508960"/>
                          <a:tab algn="l" pos="9572760"/>
                          <a:tab algn="l" pos="106362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ы слушае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1" action="ppaction://hlinksldjump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2" action="ppaction://hlinksldjump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3" action="ppaction://hlinksldjump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4" action="ppaction://hlinksldjump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5" action="ppaction://hlinksldjump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думай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6" action="ppaction://hlinksldjump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7" action="ppaction://hlinksldjump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8" action="ppaction://hlinksldjump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9" action="ppaction://hlinksldjump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20" action="ppaction://hlinksldjump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еши и объяс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21" action="ppaction://hlinksldjump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22" action="ppaction://hlinksldjump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23" action="ppaction://hlinksldjump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24" action="ppaction://hlinksldjump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25" action="ppaction://hlinksldjump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26" action="ppaction://hlinksldjump"/>
                        </a:rPr>
                        <a:t>Конец иг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heel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Мы слушае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642680"/>
            <a:ext cx="7696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                         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Ромб 3"/>
          <p:cNvSpPr/>
          <p:nvPr/>
        </p:nvSpPr>
        <p:spPr>
          <a:xfrm>
            <a:off x="2857680" y="2428920"/>
            <a:ext cx="2857320" cy="3786120"/>
          </a:xfrm>
          <a:prstGeom prst="diamond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Прямая соединительная линия 5"/>
          <p:cNvSpPr/>
          <p:nvPr/>
        </p:nvSpPr>
        <p:spPr>
          <a:xfrm>
            <a:off x="4284720" y="2428920"/>
            <a:ext cx="1440" cy="3787560"/>
          </a:xfrm>
          <a:prstGeom prst="line">
            <a:avLst/>
          </a:prstGeom>
          <a:ln w="9360">
            <a:solidFill>
              <a:srgbClr val="bf8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Прямая соединительная линия 7"/>
          <p:cNvSpPr/>
          <p:nvPr/>
        </p:nvSpPr>
        <p:spPr>
          <a:xfrm flipV="1">
            <a:off x="2856960" y="4322880"/>
            <a:ext cx="2857320" cy="1440"/>
          </a:xfrm>
          <a:prstGeom prst="line">
            <a:avLst/>
          </a:prstGeom>
          <a:ln w="9360">
            <a:solidFill>
              <a:srgbClr val="bf8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Прямоугольник 8"/>
          <p:cNvSpPr/>
          <p:nvPr/>
        </p:nvSpPr>
        <p:spPr>
          <a:xfrm>
            <a:off x="4143240" y="4143240"/>
            <a:ext cx="285840" cy="285840"/>
          </a:xfrm>
          <a:prstGeom prst="rect">
            <a:avLst/>
          </a:prstGeom>
          <a:noFill/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Правая круглая скобка 22"/>
          <p:cNvSpPr/>
          <p:nvPr/>
        </p:nvSpPr>
        <p:spPr>
          <a:xfrm>
            <a:off x="3000240" y="4143240"/>
            <a:ext cx="46080" cy="357480"/>
          </a:xfrm>
          <a:custGeom>
            <a:avLst/>
            <a:gdLst>
              <a:gd name="textAreaLeft" fmla="*/ 0 w 46080"/>
              <a:gd name="textAreaRight" fmla="*/ 32400 w 46080"/>
              <a:gd name="textAreaTop" fmla="*/ 1800 h 357480"/>
              <a:gd name="textAreaBottom" fmla="*/ 35568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16"/>
                  <a:pt x="21600" y="232"/>
                </a:cubicBezTo>
                <a:lnTo>
                  <a:pt x="21600" y="21368"/>
                </a:lnTo>
                <a:cubicBezTo>
                  <a:pt x="21600" y="21484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bf8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Левая круглая скобка 23"/>
          <p:cNvSpPr/>
          <p:nvPr/>
        </p:nvSpPr>
        <p:spPr>
          <a:xfrm>
            <a:off x="5500800" y="4143240"/>
            <a:ext cx="46080" cy="357480"/>
          </a:xfrm>
          <a:custGeom>
            <a:avLst/>
            <a:gdLst>
              <a:gd name="textAreaLeft" fmla="*/ 13320 w 46080"/>
              <a:gd name="textAreaRight" fmla="*/ 46440 w 46080"/>
              <a:gd name="textAreaTop" fmla="*/ 1800 h 357480"/>
              <a:gd name="textAreaBottom" fmla="*/ 355680 h 35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16"/>
                  <a:pt x="0" y="232"/>
                </a:cubicBezTo>
                <a:lnTo>
                  <a:pt x="0" y="21368"/>
                </a:lnTo>
                <a:cubicBezTo>
                  <a:pt x="0" y="2148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bf8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Левая круглая скобка 24"/>
          <p:cNvSpPr/>
          <p:nvPr/>
        </p:nvSpPr>
        <p:spPr>
          <a:xfrm>
            <a:off x="4143240" y="2643120"/>
            <a:ext cx="285840" cy="46080"/>
          </a:xfrm>
          <a:custGeom>
            <a:avLst/>
            <a:gdLst>
              <a:gd name="textAreaLeft" fmla="*/ 83880 w 285840"/>
              <a:gd name="textAreaRight" fmla="*/ 286200 w 285840"/>
              <a:gd name="textAreaTop" fmla="*/ 1800 h 46080"/>
              <a:gd name="textAreaBottom" fmla="*/ 44280 h 4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bf8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" bIns="-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Левая круглая скобка 25"/>
          <p:cNvSpPr/>
          <p:nvPr/>
        </p:nvSpPr>
        <p:spPr>
          <a:xfrm>
            <a:off x="4143240" y="6000840"/>
            <a:ext cx="285840" cy="71280"/>
          </a:xfrm>
          <a:custGeom>
            <a:avLst/>
            <a:gdLst>
              <a:gd name="textAreaLeft" fmla="*/ 83880 w 285840"/>
              <a:gd name="textAreaRight" fmla="*/ 286200 w 285840"/>
              <a:gd name="textAreaTop" fmla="*/ 2880 h 71280"/>
              <a:gd name="textAreaBottom" fmla="*/ 68400 h 7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bf8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В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 ромба диагонали пересекаются под прямым углом и являются биссектрисами угл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77680" y="190080"/>
            <a:ext cx="6459480" cy="146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Мы слушае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                      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                                   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Трапеция 3"/>
          <p:cNvSpPr/>
          <p:nvPr/>
        </p:nvSpPr>
        <p:spPr>
          <a:xfrm>
            <a:off x="2000160" y="2500200"/>
            <a:ext cx="4143600" cy="2500560"/>
          </a:xfrm>
          <a:prstGeom prst="pie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Прямая соединительная линия 5"/>
          <p:cNvSpPr/>
          <p:nvPr/>
        </p:nvSpPr>
        <p:spPr>
          <a:xfrm>
            <a:off x="2643120" y="2500200"/>
            <a:ext cx="28576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Прямая соединительная линия 7"/>
          <p:cNvSpPr/>
          <p:nvPr/>
        </p:nvSpPr>
        <p:spPr>
          <a:xfrm>
            <a:off x="2000160" y="5000760"/>
            <a:ext cx="4143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В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снования трапеции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B, C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42600" y="2138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Подумай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сякий ли параллелограмм является ромбом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В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Подумай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          N           C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BCD-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вадра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NKF -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                        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          F            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Прямоугольник 3"/>
          <p:cNvSpPr/>
          <p:nvPr/>
        </p:nvSpPr>
        <p:spPr>
          <a:xfrm>
            <a:off x="2357280" y="2286000"/>
            <a:ext cx="2928960" cy="3071880"/>
          </a:xfrm>
          <a:prstGeom prst="rect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Прямая соединительная линия 5"/>
          <p:cNvSpPr/>
          <p:nvPr/>
        </p:nvSpPr>
        <p:spPr>
          <a:xfrm flipH="1">
            <a:off x="2357280" y="2285280"/>
            <a:ext cx="1463760" cy="1536840"/>
          </a:xfrm>
          <a:prstGeom prst="line">
            <a:avLst/>
          </a:prstGeom>
          <a:ln w="9360">
            <a:solidFill>
              <a:srgbClr val="bf8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Прямая соединительная линия 7"/>
          <p:cNvSpPr/>
          <p:nvPr/>
        </p:nvSpPr>
        <p:spPr>
          <a:xfrm>
            <a:off x="3821040" y="2286000"/>
            <a:ext cx="1465200" cy="1536840"/>
          </a:xfrm>
          <a:prstGeom prst="line">
            <a:avLst/>
          </a:prstGeom>
          <a:ln w="9360">
            <a:solidFill>
              <a:srgbClr val="bf8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Прямая соединительная линия 9"/>
          <p:cNvSpPr/>
          <p:nvPr/>
        </p:nvSpPr>
        <p:spPr>
          <a:xfrm>
            <a:off x="2357280" y="3822840"/>
            <a:ext cx="1463760" cy="1535040"/>
          </a:xfrm>
          <a:prstGeom prst="line">
            <a:avLst/>
          </a:prstGeom>
          <a:ln w="9360">
            <a:solidFill>
              <a:srgbClr val="bf8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Прямая соединительная линия 11"/>
          <p:cNvSpPr/>
          <p:nvPr/>
        </p:nvSpPr>
        <p:spPr>
          <a:xfrm flipV="1">
            <a:off x="3821040" y="3822840"/>
            <a:ext cx="1465200" cy="1535040"/>
          </a:xfrm>
          <a:prstGeom prst="line">
            <a:avLst/>
          </a:prstGeom>
          <a:ln w="9360">
            <a:solidFill>
              <a:srgbClr val="bf8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Прямая соединительная линия 13"/>
          <p:cNvSpPr/>
          <p:nvPr/>
        </p:nvSpPr>
        <p:spPr>
          <a:xfrm flipH="1">
            <a:off x="2999880" y="2214720"/>
            <a:ext cx="7164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Прямая соединительная линия 14"/>
          <p:cNvSpPr/>
          <p:nvPr/>
        </p:nvSpPr>
        <p:spPr>
          <a:xfrm flipH="1">
            <a:off x="4572000" y="2214720"/>
            <a:ext cx="7128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Прямая соединительная линия 15"/>
          <p:cNvSpPr/>
          <p:nvPr/>
        </p:nvSpPr>
        <p:spPr>
          <a:xfrm flipH="1">
            <a:off x="2214360" y="3071880"/>
            <a:ext cx="2142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Прямая соединительная линия 16"/>
          <p:cNvSpPr/>
          <p:nvPr/>
        </p:nvSpPr>
        <p:spPr>
          <a:xfrm flipH="1">
            <a:off x="2214360" y="4785480"/>
            <a:ext cx="21420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Прямая соединительная линия 17"/>
          <p:cNvSpPr/>
          <p:nvPr/>
        </p:nvSpPr>
        <p:spPr>
          <a:xfrm flipH="1" flipV="1">
            <a:off x="5214600" y="3071520"/>
            <a:ext cx="1429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Прямая соединительная линия 25"/>
          <p:cNvSpPr/>
          <p:nvPr/>
        </p:nvSpPr>
        <p:spPr>
          <a:xfrm flipH="1" flipV="1">
            <a:off x="5214600" y="4642920"/>
            <a:ext cx="21420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Прямая соединительная линия 26"/>
          <p:cNvSpPr/>
          <p:nvPr/>
        </p:nvSpPr>
        <p:spPr>
          <a:xfrm flipH="1">
            <a:off x="4714920" y="5286240"/>
            <a:ext cx="7128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Прямая соединительная линия 27"/>
          <p:cNvSpPr/>
          <p:nvPr/>
        </p:nvSpPr>
        <p:spPr>
          <a:xfrm flipH="1">
            <a:off x="2999880" y="5286240"/>
            <a:ext cx="7164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вадра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одумай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сякий ли квадрат является параллелограммом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сяк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Что это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440" y="1828800"/>
            <a:ext cx="7743960" cy="40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                        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                                                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8" name="Group 4"/>
          <p:cNvGrpSpPr/>
          <p:nvPr/>
        </p:nvGrpSpPr>
        <p:grpSpPr>
          <a:xfrm>
            <a:off x="1571760" y="2499840"/>
            <a:ext cx="5857920" cy="2786040"/>
            <a:chOff x="1571760" y="2499840"/>
            <a:chExt cx="5857920" cy="2786040"/>
          </a:xfrm>
        </p:grpSpPr>
        <p:sp>
          <p:nvSpPr>
            <p:cNvPr id="159" name="AutoShape 5"/>
            <p:cNvSpPr/>
            <p:nvPr/>
          </p:nvSpPr>
          <p:spPr>
            <a:xfrm rot="10800000">
              <a:off x="1571760" y="2499480"/>
              <a:ext cx="5857920" cy="27860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160" name="AutoShape 6"/>
            <p:cNvCxnSpPr/>
            <p:nvPr/>
          </p:nvCxnSpPr>
          <p:spPr>
            <a:xfrm>
              <a:off x="2218320" y="3686040"/>
              <a:ext cx="392400" cy="12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1" name="AutoShape 7"/>
            <p:cNvCxnSpPr/>
            <p:nvPr/>
          </p:nvCxnSpPr>
          <p:spPr>
            <a:xfrm flipV="1">
              <a:off x="6430320" y="3577680"/>
              <a:ext cx="392400" cy="23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p:transition>
    <p:wheel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одумай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сли у прямоугольника соседние стороны равны, то это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вадра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одумай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то общего у диагоналей ромба и параллелограмм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точке пересечения делятся попола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еши и объясн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=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Параллелограмм 3"/>
          <p:cNvSpPr/>
          <p:nvPr/>
        </p:nvSpPr>
        <p:spPr>
          <a:xfrm>
            <a:off x="2000160" y="2643120"/>
            <a:ext cx="3000600" cy="2143080"/>
          </a:xfrm>
          <a:prstGeom prst="parallelogram">
            <a:avLst>
              <a:gd name="adj" fmla="val 25001"/>
            </a:avLst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еши и объясн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lt;C=30°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lt;B – ?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                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                        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Трапеция 3"/>
          <p:cNvSpPr/>
          <p:nvPr/>
        </p:nvSpPr>
        <p:spPr>
          <a:xfrm>
            <a:off x="3000240" y="2786040"/>
            <a:ext cx="3000600" cy="2286000"/>
          </a:xfrm>
          <a:prstGeom prst="pie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Прямая соединительная линия 5"/>
          <p:cNvSpPr/>
          <p:nvPr/>
        </p:nvSpPr>
        <p:spPr>
          <a:xfrm>
            <a:off x="3214800" y="3786120"/>
            <a:ext cx="14292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Прямая соединительная линия 7"/>
          <p:cNvSpPr/>
          <p:nvPr/>
        </p:nvSpPr>
        <p:spPr>
          <a:xfrm flipV="1">
            <a:off x="5571360" y="3714480"/>
            <a:ext cx="1429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Прямоугольник 4"/>
          <p:cNvSpPr/>
          <p:nvPr/>
        </p:nvSpPr>
        <p:spPr>
          <a:xfrm>
            <a:off x="1357200" y="2357280"/>
            <a:ext cx="3786480" cy="2071800"/>
          </a:xfrm>
          <a:prstGeom prst="rect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еши и объясн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                              B    &lt;BAO=40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°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lt;COD-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400" spc="-1" strike="noStrike" baseline="30000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                               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Прямая соединительная линия 6"/>
          <p:cNvSpPr/>
          <p:nvPr/>
        </p:nvSpPr>
        <p:spPr>
          <a:xfrm>
            <a:off x="1357200" y="2357280"/>
            <a:ext cx="3786480" cy="2071800"/>
          </a:xfrm>
          <a:prstGeom prst="line">
            <a:avLst/>
          </a:prstGeom>
          <a:ln w="9360">
            <a:solidFill>
              <a:srgbClr val="7f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Прямая соединительная линия 8"/>
          <p:cNvSpPr/>
          <p:nvPr/>
        </p:nvSpPr>
        <p:spPr>
          <a:xfrm flipV="1">
            <a:off x="1357200" y="2356920"/>
            <a:ext cx="3786480" cy="2071800"/>
          </a:xfrm>
          <a:prstGeom prst="line">
            <a:avLst/>
          </a:prstGeom>
          <a:ln w="9360">
            <a:solidFill>
              <a:srgbClr val="7f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00°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В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внобедренная трапец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Ромб 3"/>
          <p:cNvSpPr/>
          <p:nvPr/>
        </p:nvSpPr>
        <p:spPr>
          <a:xfrm>
            <a:off x="2571840" y="2000160"/>
            <a:ext cx="2714400" cy="3571920"/>
          </a:xfrm>
          <a:prstGeom prst="diamond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еши и объясн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32960" y="1642680"/>
            <a:ext cx="76964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Прямая соединительная линия 5"/>
          <p:cNvSpPr/>
          <p:nvPr/>
        </p:nvSpPr>
        <p:spPr>
          <a:xfrm flipV="1">
            <a:off x="3929040" y="2928960"/>
            <a:ext cx="2000160" cy="2643120"/>
          </a:xfrm>
          <a:prstGeom prst="line">
            <a:avLst/>
          </a:prstGeom>
          <a:ln w="9360">
            <a:solidFill>
              <a:srgbClr val="7f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Левая круглая скобка 7"/>
          <p:cNvSpPr/>
          <p:nvPr/>
        </p:nvSpPr>
        <p:spPr>
          <a:xfrm>
            <a:off x="5143680" y="3643200"/>
            <a:ext cx="45720" cy="285840"/>
          </a:xfrm>
          <a:custGeom>
            <a:avLst/>
            <a:gdLst>
              <a:gd name="textAreaLeft" fmla="*/ 13320 w 45720"/>
              <a:gd name="textAreaRight" fmla="*/ 46080 w 45720"/>
              <a:gd name="textAreaTop" fmla="*/ 1800 h 285840"/>
              <a:gd name="textAreaBottom" fmla="*/ 284040 h 28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45"/>
                  <a:pt x="0" y="290"/>
                </a:cubicBezTo>
                <a:lnTo>
                  <a:pt x="0" y="21310"/>
                </a:lnTo>
                <a:cubicBezTo>
                  <a:pt x="0" y="21455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7f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50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Трапеция 3"/>
          <p:cNvSpPr/>
          <p:nvPr/>
        </p:nvSpPr>
        <p:spPr>
          <a:xfrm>
            <a:off x="3143160" y="3071880"/>
            <a:ext cx="3500640" cy="2071800"/>
          </a:xfrm>
          <a:prstGeom prst="pie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еши и объясн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пределить признак равенства треугольников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B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B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                  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                             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Прямая соединительная линия 5"/>
          <p:cNvSpPr/>
          <p:nvPr/>
        </p:nvSpPr>
        <p:spPr>
          <a:xfrm>
            <a:off x="3857760" y="3071880"/>
            <a:ext cx="2786040" cy="2071800"/>
          </a:xfrm>
          <a:prstGeom prst="line">
            <a:avLst/>
          </a:prstGeom>
          <a:ln w="9360">
            <a:solidFill>
              <a:srgbClr val="7f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Прямая соединительная линия 7"/>
          <p:cNvSpPr/>
          <p:nvPr/>
        </p:nvSpPr>
        <p:spPr>
          <a:xfrm flipH="1">
            <a:off x="3142800" y="3071160"/>
            <a:ext cx="2786040" cy="2071800"/>
          </a:xfrm>
          <a:prstGeom prst="line">
            <a:avLst/>
          </a:prstGeom>
          <a:ln w="9360">
            <a:solidFill>
              <a:srgbClr val="7f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Прямая соединительная линия 9"/>
          <p:cNvSpPr/>
          <p:nvPr/>
        </p:nvSpPr>
        <p:spPr>
          <a:xfrm>
            <a:off x="3500280" y="4000680"/>
            <a:ext cx="142920" cy="1440"/>
          </a:xfrm>
          <a:prstGeom prst="line">
            <a:avLst/>
          </a:prstGeom>
          <a:ln w="9360">
            <a:solidFill>
              <a:srgbClr val="7f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Прямая соединительная линия 11"/>
          <p:cNvSpPr/>
          <p:nvPr/>
        </p:nvSpPr>
        <p:spPr>
          <a:xfrm>
            <a:off x="6143760" y="4000680"/>
            <a:ext cx="142920" cy="1440"/>
          </a:xfrm>
          <a:prstGeom prst="line">
            <a:avLst/>
          </a:prstGeom>
          <a:ln w="9360">
            <a:solidFill>
              <a:srgbClr val="7f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Равнобедренный треугольник 8"/>
          <p:cNvSpPr/>
          <p:nvPr/>
        </p:nvSpPr>
        <p:spPr>
          <a:xfrm>
            <a:off x="4143240" y="2643120"/>
            <a:ext cx="214560" cy="142920"/>
          </a:xfrm>
          <a:prstGeom prst="triangle">
            <a:avLst>
              <a:gd name="adj" fmla="val 50000"/>
            </a:avLst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Равнобедренный треугольник 10"/>
          <p:cNvSpPr/>
          <p:nvPr/>
        </p:nvSpPr>
        <p:spPr>
          <a:xfrm>
            <a:off x="5786280" y="2643120"/>
            <a:ext cx="214560" cy="142920"/>
          </a:xfrm>
          <a:prstGeom prst="triangle">
            <a:avLst>
              <a:gd name="adj" fmla="val 50000"/>
            </a:avLst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 трем сторона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Если вы получили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1828800"/>
            <a:ext cx="7696080" cy="33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20-25 верных ответов -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вы можете приступить к следующему этапу «Решение задач»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Менее 20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– вам следует повторить теоретический материал по теме, и вновь проверить свои знани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Желаем удачи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Что это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етырехугольник, у которого противоположные стороны попарно параллельн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В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араллелограм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Что это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уквальном переводе с греческого – «столик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В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рапец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2T10:19:10Z</dcterms:created>
  <dc:creator>Дарья и Денис</dc:creator>
  <dc:description/>
  <dc:language>en-US</dc:language>
  <cp:lastModifiedBy>dom</cp:lastModifiedBy>
  <dcterms:modified xsi:type="dcterms:W3CDTF">2011-12-19T18:42:25Z</dcterms:modified>
  <cp:revision>96</cp:revision>
  <dc:subject/>
  <dc:title>Слайд 1</dc:title>
</cp:coreProperties>
</file>