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B040-79AC-4EAD-A7B2-E1AAD69E4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CF70-7213-425A-B6B5-FCCAB3FA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5DA6-C311-4373-849D-4ABE6EF74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E063-41A2-471E-94AE-8C0367A3D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0CE9-DF4E-4196-851C-EEC4C7CCF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86F3-DCA7-4838-B61F-C2A7C4A7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8B84-C28F-42F3-9816-222A958C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B05B-8C76-4A9F-A809-363A819F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5E34-65B6-4033-A608-AC9A0F467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6CC2-4A0C-4B14-92A6-031563F5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3209-6EEB-4199-A341-C707F532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3063-2CF9-481C-A180-0CBB6F5E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F68F-BAB6-4D83-AF5D-F2EDEBFC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44FC-5FCA-47E6-91A1-9253A2FA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691A-0696-4630-A1B5-21167711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9297-01A4-40BC-A11C-0974CE232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9CA0-4D4A-46CA-A044-FBBE89173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A1CE-B167-49BA-A4BB-A979EDA7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EEA1-8A28-4659-B8CF-A1A0BE0B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7D5E-67FE-4389-9F00-C111E1C5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2061-E074-490A-B133-E145C2BF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13EF-691D-4549-BC85-CA851154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9C6D-5652-4FBE-93A4-236187FD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9A36-2C8B-4DAB-BF72-FCEF5434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8BD5-B3F9-43AE-B856-EC18BE0CD97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1C7E-1B67-49CF-AA69-5D5322C9BFF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49320" y="667800"/>
            <a:ext cx="77025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Экологический след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Классный час. 7Г класс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Классный руководитель: Доронина Г.И.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Picture 4" descr="C:\Users\маман\Desktop\эколгогический след\картинки\69_carbon-footprint_db.jpg"/>
          <p:cNvPicPr/>
          <p:nvPr/>
        </p:nvPicPr>
        <p:blipFill>
          <a:blip r:embed="rId1"/>
          <a:stretch/>
        </p:blipFill>
        <p:spPr>
          <a:xfrm>
            <a:off x="971640" y="2276640"/>
            <a:ext cx="7848360" cy="4581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C:\Users\маман\Desktop\эколгогический след\картинки\god_ekologii.jpg"/>
          <p:cNvPicPr/>
          <p:nvPr/>
        </p:nvPicPr>
        <p:blipFill>
          <a:blip r:embed="rId2"/>
          <a:stretch/>
        </p:blipFill>
        <p:spPr>
          <a:xfrm>
            <a:off x="7020000" y="5084640"/>
            <a:ext cx="17287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Picture 2" descr="C:\Users\маман\Desktop\эколгогический след\картинки\map-dc-2006.png"/>
          <p:cNvPicPr/>
          <p:nvPr/>
        </p:nvPicPr>
        <p:blipFill>
          <a:blip r:embed="rId1"/>
          <a:stretch/>
        </p:blipFill>
        <p:spPr>
          <a:xfrm>
            <a:off x="324000" y="404640"/>
            <a:ext cx="83516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Что такое «Экологический след»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Экологический след измеряется в единицах, названных глобальными  гектарам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1 глобальный гектар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это территория 100 х 100 метров со средней для Земли биологической продуктивностью и способностью поглощать углекислый газ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1 гектар леса = 1,7 глобальных гектаров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ибольшая биологическая продуктивность характерна для территорий, покрытых вечнозелеными тропическими лесами. Наименьшая биологическая продуктивность – для территорий, покрытых тундрами и сухими пустынями. Леса умеренного пояса, распространенные в России, имеют среднюю продуктивность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1" name="Picture 2" descr="C:\Users\маман\Desktop\эколгогический след\картинки\59691800190298cf68b6afc7fbe4a1f9.jpg"/>
          <p:cNvPicPr/>
          <p:nvPr/>
        </p:nvPicPr>
        <p:blipFill>
          <a:blip r:embed="rId1"/>
          <a:stretch/>
        </p:blipFill>
        <p:spPr>
          <a:xfrm>
            <a:off x="826920" y="620640"/>
            <a:ext cx="7848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3" name="Picture 2" descr="C:\Users\маман\Desktop\эколгогический след\картинки\2411.jpg"/>
          <p:cNvPicPr/>
          <p:nvPr/>
        </p:nvPicPr>
        <p:blipFill>
          <a:blip r:embed="rId1"/>
          <a:stretch/>
        </p:blipFill>
        <p:spPr>
          <a:xfrm>
            <a:off x="611280" y="620640"/>
            <a:ext cx="83534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й личный экологический след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Цель: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методом тестирования определить собственный экологический след и сферу деятельности, наносящую наибольший ущерб окружающей сред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66"/>
                </a:solidFill>
                <a:latin typeface="Arial"/>
              </a:rPr>
              <a:t>Зада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бы вычислить экологический след, необходимо выбрать соответствующее вашему образу жизни утверждение и провести сложение\вычитание количества баллов, указанных справа. Суммируя баллы, вы получите величину экологического след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1. Жиль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.1 Площадь вашего жилья позволяет держать кошку, а собаке нормальных размеров было бы тесновато   +7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.2 Большая, просторная квартира   + 12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.3 Коттедж на 2 семьи   +23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Баллы, полученные за ответ на вопрос о жилье, разделите на количество людей, живущих в нем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2. Использование энергии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.1. Для отопления вашего дома используется нефть, природный газ или уголь   +45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.2. Для отопления вашего дома используется энергия воды, солнца или ветра   +2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.3 Большинство из нас получает электроэнергию из горючих ископаемых, поэтому добавьте себе   +75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.4. Отопление вашего дома устроено так, что вы можете регулировать его в зависимости от погоды   -10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.5. В холодный период года дома вы тепло одеты, а ночью укрываетесь двумя одеялами   -5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.6. Выходя из комнаты, вы всегда гасите в ней свет   -10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.7. Вы всегда выключаете свои бытовые приборы, не оставляя их в дежурном режиме   -10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3. Транспорт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3.1. На работу вы ездите на общественном транспорте   +25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3.2. На работу вы идете пешком или едете на велосипеде   +3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3.3.Вы ездите на обычном легковом автомобиле   +45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3.4.Вы используете большой и мощный автомобиль с полным приводом   +75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3.5.В последний отпуск вы летели самолетом   +85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3.6. В отпуск вы ехали на поезде, причем путь занял до 12 часов   +10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3.7.В отпуск вы ехали на поезде, причем путь занял более 12 часов    +20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4.Пит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4.1.В продуктовом магазине или на рынке вы покупаете в основном свежие продукты (хлеб, фрукты, овощи, рыбу, мясо) местного производства, из которых сами готовите обед   +2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4.2. Вы предпочитаете уже обработанные продукты, полуфабрикаты, свежемороженые готовые блюда, нуждающиеся только в разогреве, а также консервы, причем не смотрите, где они произведены   +14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4.3. В основном вы покупаете готовые или почти готовые к употреблению продукты, но стараетесь, чтобы они были произведены поближе к дому   +5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4.4. Вы едите мясо 2-3 раза в неделю   +50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4.5. Вы едите мясо 3 раза в день   +85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4.6. Предпочитаете вегетарианскую пищу   +30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0" name="Picture 2" descr="C:\Users\маман\Desktop\эколгогический след\картинки\eco (1).gif"/>
          <p:cNvPicPr/>
          <p:nvPr/>
        </p:nvPicPr>
        <p:blipFill>
          <a:blip r:embed="rId1"/>
          <a:stretch/>
        </p:blipFill>
        <p:spPr>
          <a:xfrm>
            <a:off x="611280" y="549360"/>
            <a:ext cx="80643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5.Использование воды и бумаги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5.1. Вы принимаете ванну ежедневно   +14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5.2. Вы принимаете ванну 1-2 раза в неделю   +2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5.3. Вместо ванны вы ежедневно принимаете душ   +4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5.4. Время от времени вы поливаете приусадебный участок или моете свой автомобиль из шланга   +4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5.5. Если вы хотите прочитать книгу, то всегда покупаете ее   +2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5.6. Иногда вы берете книги в библиотеке или одалживаете у знакомых   -1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5.7. Прочитав газету, вы ее выбрасываете   +10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5.8. Выписываемые или покупаемые вами газеты читает после вас еще кто-то   -5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6. Бытовые отходы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6.1.Все мы создаем массу отбросов и мусора, поэтому добавьте себе   +100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6.2. За последний месяц вы хоть раз сдавали бутылки   -15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6.3. Выбрасывая мусор, вы откладываете в отдельный контейнер макулатуру   -17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6.4. Вы сдаете пустые банки из-под напитков и консервов   -10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6.5. Вы выбрасываете в отдельный контейнер пластиковую упаковку   -8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6.6. Вы стараетесь покупать в основном не фасованные, а развесные товары; полученную в магазине упаковку используете в хозяйстве   -15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6.7. Из домашних отходов вы делаете компост для удобрения своего участка   -5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уммируем полученные баллы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Если вы живете в городе с населением в полмиллиона и больше, умножьте ваш общий результат на 2.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дводим итоги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зделите полученный результат на 100, и вы узнаете, сколько гектаров земной поверхности нужно, чтобы удовлетворить все ваши потребности, и сколько потребуется планет, если бы все люди жили так же, как вы!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дводим итог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кологический след    Необходимо планет Земл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,8 га                               *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3,6 га                               *  *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5,4 га                               *  *  *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7,2 га                               *  *  *  *  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9,0 га                               *  *  *  *  *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10,8 га                             *  *  *  *  *  *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ля сравнения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редний житель США использует 12,2 га (5,3 планеты!)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редний европеец – 5,1 га (2,8 планеты)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редний житель Мозамбика – всего 0,7 га (0,4 планеты)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редний житель России использует 4,4 га  (2,5 планеты)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Чем еще анкета может быть полезна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сли вы хотите уменьшить свой экологический след, анкета поможет увидеть, какая сфера жизни вносит наибольший вклад в его величину. Также можно подумать и решить, какие сферы жизни вы готовы изменить. Может, вы давно мечтали изменить свой образ жизни – сесть на велосипед, перейти на более здоровую пищу, оптимизировать домашнее или дачное хозяйство – экологический след позволит не только реализовать мечты, но и помочь планете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2" name="Picture 2" descr="C:\Users\маман\Desktop\эколгогический след\картинки\PR20160111182323.JPG"/>
          <p:cNvPicPr/>
          <p:nvPr/>
        </p:nvPicPr>
        <p:blipFill>
          <a:blip r:embed="rId1"/>
          <a:stretch/>
        </p:blipFill>
        <p:spPr>
          <a:xfrm>
            <a:off x="826920" y="836640"/>
            <a:ext cx="77058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Picture 2" descr="C:\Users\маман\Desktop\эколгогический след\картинки\p04-small.jpg"/>
          <p:cNvPicPr/>
          <p:nvPr/>
        </p:nvPicPr>
        <p:blipFill>
          <a:blip r:embed="rId1"/>
          <a:stretch/>
        </p:blipFill>
        <p:spPr>
          <a:xfrm>
            <a:off x="684360" y="260280"/>
            <a:ext cx="80643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Что такое «Экологический след»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276640"/>
            <a:ext cx="79819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«Экологический след» - новый индикатор, который позволяет представить нагрузку на окружающую среду, оказываемую отдельным человеком, крупным поселением, например, городом или целым государством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4" descr="C:\Users\маман\Desktop\эколгогический след\картинки\Экологический-след.jpg"/>
          <p:cNvPicPr/>
          <p:nvPr/>
        </p:nvPicPr>
        <p:blipFill>
          <a:blip r:embed="rId1"/>
          <a:stretch/>
        </p:blipFill>
        <p:spPr>
          <a:xfrm>
            <a:off x="2050920" y="4797360"/>
            <a:ext cx="57340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Что такое «Экологический след»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кологический след показывает, какое количество биологически продуктивной земли, а также водной поверхности, необходимо чтобы  поддержать уровень жизни конкретного человека или государства и используется в целях производства ресурсов: продовольствия, бумаги, одежды, строительных материалов, энергии и других товаров, продуктов, изделий (в том числе, чистой воды и чистого воздуха), а также для утилизации отходов, возникающих в процессе производства и потребл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Picture 2" descr="C:\Users\маман\Desktop\эколгогический след\картинки\2b173524e052ce77.jpg"/>
          <p:cNvPicPr/>
          <p:nvPr/>
        </p:nvPicPr>
        <p:blipFill>
          <a:blip r:embed="rId1"/>
          <a:stretch/>
        </p:blipFill>
        <p:spPr>
          <a:xfrm>
            <a:off x="755640" y="692280"/>
            <a:ext cx="792000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2" descr="C:\Users\маман\Desktop\эколгогический след\картинки\348464_s1.jpg"/>
          <p:cNvPicPr/>
          <p:nvPr/>
        </p:nvPicPr>
        <p:blipFill>
          <a:blip r:embed="rId1"/>
          <a:stretch/>
        </p:blipFill>
        <p:spPr>
          <a:xfrm>
            <a:off x="826920" y="765000"/>
            <a:ext cx="79218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Picture 2" descr="C:\Users\маман\Desktop\эколгогический след\картинки\56b536e0109d2.jpg"/>
          <p:cNvPicPr/>
          <p:nvPr/>
        </p:nvPicPr>
        <p:blipFill>
          <a:blip r:embed="rId1"/>
          <a:stretch/>
        </p:blipFill>
        <p:spPr>
          <a:xfrm>
            <a:off x="755640" y="765000"/>
            <a:ext cx="792000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09:07:06Z</dcterms:created>
  <dc:creator>Алексеев С.В.</dc:creator>
  <dc:description/>
  <dc:language>en-US</dc:language>
  <cp:lastModifiedBy>Галина Доронина</cp:lastModifiedBy>
  <dcterms:modified xsi:type="dcterms:W3CDTF">2017-01-08T16:05:18Z</dcterms:modified>
  <cp:revision>9</cp:revision>
  <dc:subject/>
  <dc:title>Мой личный экологический след</dc:title>
</cp:coreProperties>
</file>