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331-227A-45C3-B584-FB8E0561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206-C355-4131-AA1E-245F56CC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EFC-C0B5-4A7E-8194-293ADB61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C5D-8F10-4D21-A34E-B94D2BB8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8160-E9DE-41B3-AC07-F7640B21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3B0B-4670-4B4A-B017-292367A7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4739-A45C-4B6D-BADD-6C298A67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5FA8-1366-4180-B9E5-30D91232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2657-1032-4CD2-B768-B21E611E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249D-9C20-4F51-B354-4587A2BF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82D5-04FF-4AC1-8B1F-1CC140D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58A-ACFA-414B-AB75-43923F85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3224-6E9B-444D-B159-BF7A5B75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5C70-DE7D-4A66-9A1B-23CA5FAC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978C-53ED-40F0-B16E-89FC15E7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D939-24D2-4C7B-9E89-CF0C1D07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C253-1097-4716-8E66-EFDF9CD2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253-DA8D-460E-9453-892BAB55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2FD-3DA6-4335-B0DF-6DEBEFA8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B28-C2C5-435E-85E2-D0896C78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93F-1F4C-4EEC-B0EE-41B1E527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AB7-FF99-41B2-8186-AAD68AF0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D77-BD64-41AF-96FE-AA88763F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561-C5B3-4B4C-913C-E4C66E94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2934-F597-4DA5-85EB-2B880C350DD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A802-8DD9-4C72-9E9D-A41D63CC7E6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49320" y="667800"/>
            <a:ext cx="77025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Экологический след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лассный час. 7Г класс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лассный руководитель: Доронина Г.И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4" descr="C:\Users\маман\Desktop\эколгогический след\картинки\69_carbon-footprint_db.jpg"/>
          <p:cNvPicPr/>
          <p:nvPr/>
        </p:nvPicPr>
        <p:blipFill>
          <a:blip r:embed="rId1"/>
          <a:stretch/>
        </p:blipFill>
        <p:spPr>
          <a:xfrm>
            <a:off x="971640" y="2276640"/>
            <a:ext cx="7848360" cy="458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маман\Desktop\эколгогический след\картинки\god_ekologii.jpg"/>
          <p:cNvPicPr/>
          <p:nvPr/>
        </p:nvPicPr>
        <p:blipFill>
          <a:blip r:embed="rId2"/>
          <a:stretch/>
        </p:blipFill>
        <p:spPr>
          <a:xfrm>
            <a:off x="7020000" y="5084640"/>
            <a:ext cx="17287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2" descr="C:\Users\маман\Desktop\эколгогический след\картинки\map-dc-2006.png"/>
          <p:cNvPicPr/>
          <p:nvPr/>
        </p:nvPicPr>
        <p:blipFill>
          <a:blip r:embed="rId1"/>
          <a:stretch/>
        </p:blipFill>
        <p:spPr>
          <a:xfrm>
            <a:off x="324000" y="404640"/>
            <a:ext cx="8351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такое «Экологический след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кологический след измеряется в единицах, названных глобальными  гектарам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1 глобальный гектар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это территория 100 х 100 метров со средней для Земли биологической продуктивностью и способностью поглощать углекислый газ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1 гектар леса = 1,7 глобальных гектаров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ибольшая биологическая продуктивность характерна для территорий, покрытых вечнозелеными тропическими лесами. Наименьшая биологическая продуктивность – для территорий, покрытых тундрами и сухими пустынями. Леса умеренного пояса, распространенные в России, имеют среднюю продуктив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Picture 2" descr="C:\Users\маман\Desktop\эколгогический след\картинки\59691800190298cf68b6afc7fbe4a1f9.jpg"/>
          <p:cNvPicPr/>
          <p:nvPr/>
        </p:nvPicPr>
        <p:blipFill>
          <a:blip r:embed="rId1"/>
          <a:stretch/>
        </p:blipFill>
        <p:spPr>
          <a:xfrm>
            <a:off x="826920" y="620640"/>
            <a:ext cx="784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Picture 2" descr="C:\Users\маман\Desktop\эколгогический след\картинки\2411.jpg"/>
          <p:cNvPicPr/>
          <p:nvPr/>
        </p:nvPicPr>
        <p:blipFill>
          <a:blip r:embed="rId1"/>
          <a:stretch/>
        </p:blipFill>
        <p:spPr>
          <a:xfrm>
            <a:off x="611280" y="62064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й личный экологический сле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методом тестирования определить собственный экологический след и сферу деятельности, наносящую наибольший ущерб окружающей сред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вычислить экологический след, необходимо выбрать соответствующее вашему образу жизни утверждение и провести сложение\вычитание количества баллов, указанных справа. Суммируя баллы, вы получите величину экологического след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. Жиль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1 Площадь вашего жилья позволяет держать кошку, а собаке нормальных размеров было бы тесновато   +7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2 Большая, просторная квартира   + 12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3 Коттедж на 2 семьи   +23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аллы, полученные за ответ на вопрос о жилье, разделите на количество людей, живущих в нем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. Использование энерги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1. Для отопления вашего дома используется нефть, природный газ или уголь   +4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2. Для отопления вашего дома используется энергия воды, солнца или ветра   +2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3 Большинство из нас получает электроэнергию из горючих ископаемых, поэтому добавьте себе   +7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4. Отопление вашего дома устроено так, что вы можете регулировать его в зависимости от погоды   -1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5. В холодный период года дома вы тепло одеты, а ночью укрываетесь двумя одеялами   -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6. Выходя из комнаты, вы всегда гасите в ней свет   -1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7. Вы всегда выключаете свои бытовые приборы, не оставляя их в дежурном режиме   -1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3. Транспорт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1. На работу вы ездите на общественном транспорте   +2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2. На работу вы идете пешком или едете на велосипеде   +3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3.Вы ездите на обычном легковом автомобиле   +4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4.Вы используете большой и мощный автомобиль с полным приводом   +7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5.В последний отпуск вы летели самолетом   +8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6. В отпуск вы ехали на поезде, причем путь занял до 12 часов   +1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7.В отпуск вы ехали на поезде, причем путь занял более 12 часов    +2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.Пит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1.В продуктовом магазине или на рынке вы покупаете в основном свежие продукты (хлеб, фрукты, овощи, рыбу, мясо) местного производства, из которых сами готовите обед   +2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2. Вы предпочитаете уже обработанные продукты, полуфабрикаты, свежемороженые готовые блюда, нуждающиеся только в разогреве, а также консервы, причем не смотрите, где они произведены   +1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3. В основном вы покупаете готовые или почти готовые к употреблению продукты, но стараетесь, чтобы они были произведены поближе к дому   +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4. Вы едите мясо 2-3 раза в неделю   +5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5. Вы едите мясо 3 раза в день   +8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6. Предпочитаете вегетарианскую пищу   +3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2" descr="C:\Users\маман\Desktop\эколгогический след\картинки\eco (1).gif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5.Использование воды и бумаг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1. Вы принимаете ванну ежедневно   +1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2. Вы принимаете ванну 1-2 раза в неделю   +2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3. Вместо ванны вы ежедневно принимаете душ   +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4. Время от времени вы поливаете приусадебный участок или моете свой автомобиль из шланга   +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5. Если вы хотите прочитать книгу, то всегда покупаете ее   +2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6. Иногда вы берете книги в библиотеке или одалживаете у знакомых   -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7. Прочитав газету, вы ее выбрасываете   +1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8. Выписываемые или покупаемые вами газеты читает после вас еще кто-то   -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6. Бытовые отход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1.Все мы создаем массу отбросов и мусора, поэтому добавьте себе   +10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2. За последний месяц вы хоть раз сдавали бутылки   -1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3. Выбрасывая мусор, вы откладываете в отдельный контейнер макулатуру   -17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4. Вы сдаете пустые банки из-под напитков и консервов   -1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5. Вы выбрасываете в отдельный контейнер пластиковую упаковку   -8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6. Вы стараетесь покупать в основном не фасованные, а развесные товары; полученную в магазине упаковку используете в хозяйстве   -1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7. Из домашних отходов вы делаете компост для удобрения своего участка   -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уммируем полученные балл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Если вы живете в городе с населением в полмиллиона и больше, умножьте ваш общий результат на 2.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одим итог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делите полученный результат на 100, и вы узнаете, сколько гектаров земной поверхности нужно, чтобы удовлетворить все ваши потребности, и сколько потребуется планет, если бы все люди жили так же, как вы!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одим итог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ологический след    Необходимо планет Зем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,8 га                              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,6 га                               * 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,4 га                               *  * 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7,2 га                               *  *  *  *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9,0 га                               *  *  *  * 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0,8 га                             *  *  *  *  * 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ля сравн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ий житель США использует 12,2 га (5,3 планеты!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ий европеец – 5,1 га (2,8 планеты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ий житель Мозамбика – всего 0,7 га (0,4 планеты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ий житель России использует 4,4 га  (2,5 планеты)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ем еще анкета может быть полезн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ли вы хотите уменьшить свой экологический след, анкета поможет увидеть, какая сфера жизни вносит наибольший вклад в его величину. Также можно подумать и решить, какие сферы жизни вы готовы изменить. Может, вы давно мечтали изменить свой образ жизни – сесть на велосипед, перейти на более здоровую пищу, оптимизировать домашнее или дачное хозяйство – экологический след позволит не только реализовать мечты, но и помочь планет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Picture 2" descr="C:\Users\маман\Desktop\эколгогический след\картинки\PR20160111182323.JPG"/>
          <p:cNvPicPr/>
          <p:nvPr/>
        </p:nvPicPr>
        <p:blipFill>
          <a:blip r:embed="rId1"/>
          <a:stretch/>
        </p:blipFill>
        <p:spPr>
          <a:xfrm>
            <a:off x="826920" y="836640"/>
            <a:ext cx="7705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2" descr="C:\Users\маман\Desktop\эколгогический след\картинки\p04-small.jpg"/>
          <p:cNvPicPr/>
          <p:nvPr/>
        </p:nvPicPr>
        <p:blipFill>
          <a:blip r:embed="rId1"/>
          <a:stretch/>
        </p:blipFill>
        <p:spPr>
          <a:xfrm>
            <a:off x="684360" y="260280"/>
            <a:ext cx="8064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такое «Экологический след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276640"/>
            <a:ext cx="79819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Экологический след» - новый индикатор, который позволяет представить нагрузку на окружающую среду, оказываемую отдельным человеком, крупным поселением, например, городом или целым государство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C:\Users\маман\Desktop\эколгогический след\картинки\Экологический-след.jpg"/>
          <p:cNvPicPr/>
          <p:nvPr/>
        </p:nvPicPr>
        <p:blipFill>
          <a:blip r:embed="rId1"/>
          <a:stretch/>
        </p:blipFill>
        <p:spPr>
          <a:xfrm>
            <a:off x="2050920" y="4797360"/>
            <a:ext cx="5734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такое «Экологический след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ологический след показывает, какое количество биологически продуктивной земли, а также водной поверхности, необходимо чтобы  поддержать уровень жизни конкретного человека или государства и используется в целях производства ресурсов: продовольствия, бумаги, одежды, строительных материалов, энергии и других товаров, продуктов, изделий (в том числе, чистой воды и чистого воздуха), а также для утилизации отходов, возникающих в процессе производства и потреб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2" descr="C:\Users\маман\Desktop\эколгогический след\картинки\2b173524e052ce77.jpg"/>
          <p:cNvPicPr/>
          <p:nvPr/>
        </p:nvPicPr>
        <p:blipFill>
          <a:blip r:embed="rId1"/>
          <a:stretch/>
        </p:blipFill>
        <p:spPr>
          <a:xfrm>
            <a:off x="755640" y="692280"/>
            <a:ext cx="7920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2" descr="C:\Users\маман\Desktop\эколгогический след\картинки\348464_s1.jpg"/>
          <p:cNvPicPr/>
          <p:nvPr/>
        </p:nvPicPr>
        <p:blipFill>
          <a:blip r:embed="rId1"/>
          <a:stretch/>
        </p:blipFill>
        <p:spPr>
          <a:xfrm>
            <a:off x="826920" y="765000"/>
            <a:ext cx="7921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Picture 2" descr="C:\Users\маман\Desktop\эколгогический след\картинки\56b536e0109d2.jpg"/>
          <p:cNvPicPr/>
          <p:nvPr/>
        </p:nvPicPr>
        <p:blipFill>
          <a:blip r:embed="rId1"/>
          <a:stretch/>
        </p:blipFill>
        <p:spPr>
          <a:xfrm>
            <a:off x="755640" y="765000"/>
            <a:ext cx="7920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9:07:06Z</dcterms:created>
  <dc:creator>Алексеев С.В.</dc:creator>
  <dc:description/>
  <dc:language>en-US</dc:language>
  <cp:lastModifiedBy>Галина Доронина</cp:lastModifiedBy>
  <dcterms:modified xsi:type="dcterms:W3CDTF">2017-01-08T16:05:18Z</dcterms:modified>
  <cp:revision>9</cp:revision>
  <dc:subject/>
  <dc:title>Мой личный экологический след</dc:title>
</cp:coreProperties>
</file>