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57B3-E8B5-4571-9D51-94B23E9272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4C7F-32A8-4476-89F9-0DE2568F5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р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26A7-E010-4D3E-9216-ADBABA47D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9945-E879-404A-AE11-D5FE8CE78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7F1-AA83-4B23-8E94-1BA406450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7DE8-EEF4-4522-A818-B1305DCC2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FC0-DD83-496D-AB95-AC3CC845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F01-78A7-4CC5-9FEA-D784AB75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F36-A702-4624-B5DA-640D7A69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66F-25DE-453A-92DA-24A6896A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7C9D-E1BF-45F8-906C-74E06FF9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ED64-256A-4D02-A1FC-BCF7F785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6D9C-2EA9-4046-AD5E-A58D6684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E7CC-F5E9-4C1E-8FA8-A38F2DE2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5F16-4B38-4869-AE7F-C7411771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396A-786F-47F6-920D-079A2C73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D8DD-AD40-466A-B15F-B60340EE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D28-3682-419F-8C0A-C9580419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203D-9D6C-47A3-AAF7-620BB62C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F8E0-C98C-4540-9A08-CEE513C6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567B-E425-4B7B-958C-AF72F3D4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1613-2CF4-4054-AB8D-2195ADA8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F97C-01A3-4E64-BB32-8BD4444C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9E64-1242-47A0-95BB-78044693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67B79-2BA0-4F59-BAC8-0AF45F30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982B-764B-436A-90D9-9B9209A1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3776-E79C-4AB5-A7E1-75E66C22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3665-0062-4473-AE5A-0A9C206D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13B-766E-41F7-AA9A-971EE199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D634-221C-40FE-90E3-A8B9D13B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453D-CB86-4105-BE65-5BB1E730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F380-4EDF-422C-8769-B4680655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C4E53-C7DB-4DF4-A6C6-E7F6A2D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0960-0334-4973-A4EC-DF9DF84E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2126C-FEAF-41C3-AABD-5EAB0DBE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99EA-3B74-4DB0-9349-6C3ABC81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FF8-FEF5-4000-9E28-70F29731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65E-A459-473D-9ACF-BAE41CBC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D24-A053-43B3-88BE-5D4FF440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EFA-C889-4A2A-A634-F6455152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FC7-A29F-4F28-A486-C30BE4FF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05D-99D1-4191-BC2F-061C4B1C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50B4-DE3C-434A-9ED1-B49B0B04A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4aacc0cbe69a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642F-7B9F-4B9D-B6A7-6B9FF1820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38FF-5329-4BC9-8CAF-7379F619E0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9144000" cy="16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формирования универсальных учебных действ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360" y="6021000"/>
            <a:ext cx="78530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A220-8185-406A-9434-28A901022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395280" y="54936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е основных видов универсальных учебных действий  можно выделить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бло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2)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й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ключающий также действия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егуляц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3)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539640" y="1341360"/>
            <a:ext cx="80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универсальные действия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  общеучебные,  логические действия, а также постановку и решение  пробл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214200" y="214200"/>
            <a:ext cx="8715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ное чт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существенной информации из текстов разных ви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ерировать поняти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станавливать взаимосвязи между явлени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логических умений (анализ, сравнение, обобщение, классификация, доказательство, выдвижение гипотез и их обоснование, построение цепочки рассуждени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2"/>
          <p:cNvSpPr/>
          <p:nvPr/>
        </p:nvSpPr>
        <p:spPr>
          <a:xfrm>
            <a:off x="214200" y="285840"/>
            <a:ext cx="85694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уществлять перенос и действовать по ана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воспроизводить (знания, способы, действия), комбинировать, выбирать необходимое для решения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знаково-символических средств (умение применять различные приёмы структурирования: таблицы, схемы, графики, модели, симв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необходимой информации с использованием учебной литературы и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устанавливать взаимосвязи между явлениями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250920" y="76500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«Загадочный», записать отгадки, объяснить орф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ов много, а ничего не ест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чес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ок, да колюч, сладок, а не паху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 сорвешь – всю руку обдерешь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ыжов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лотой клубочек спрятался дубочек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луд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яная спинка, жесткая щетин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ятной пастой дружит, нам усердно служит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убная щет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торы, а гудя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илоты, а летя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меи, а жалят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че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есятку на шесточ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и умные кружоч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читают громко вслу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слышно стук да стук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че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826920" y="1052640"/>
            <a:ext cx="77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логических умен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слово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-, вос-, -вод-, из-, -ств-, -о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826920" y="404640"/>
            <a:ext cx="830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блудившиеся слова (собери предло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395280" y="105264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, около, у, опять, собака, сидеть, костер, полночь, охотник, 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иться, мы, сад, погулять, родители, с, вечером, зимний, п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, и, дети, понравиться, рассказать, веселый, интересный, школьник, учитель, младш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468360" y="333360"/>
            <a:ext cx="835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ключите из цепочки лишние слова по какому-либо признаку так, чтобы в ней осталось только одно слово. Причину  исключения каждого слова обосну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нны, костюм, рожь, объединить, какао,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395280" y="836640"/>
            <a:ext cx="842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группируйте слова по определенному признаку. Предложите несколько вариантов группир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дя, зевака, прадедушка, тетя, недоучка, плакса, прабабушка, сластена, старуш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324000" y="692280"/>
            <a:ext cx="84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дели на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 ты думаешь, на какие группы можно разделить эти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ша, Коля, Лена, Оля, Игорь, Нат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группы можно составить из этих сл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ь, воробей, карп, синица, щука, снегирь, суд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зак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2" descr=""/>
          <p:cNvPicPr/>
          <p:nvPr/>
        </p:nvPicPr>
        <p:blipFill>
          <a:blip r:embed="rId1"/>
          <a:stretch/>
        </p:blipFill>
        <p:spPr>
          <a:xfrm>
            <a:off x="158760" y="907920"/>
            <a:ext cx="8783640" cy="56944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FD0E-4C57-4524-B177-646B87988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468360" y="476280"/>
            <a:ext cx="8207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арады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слово над чайником т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– у папы растет над губ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целое – ветер морской наду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плаванье нас приглашает с соб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у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– но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– то ж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на горох похож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со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одержимое 3" descr="I:\сканирование0001.tif"/>
          <p:cNvPicPr/>
          <p:nvPr/>
        </p:nvPicPr>
        <p:blipFill>
          <a:blip r:embed="rId1"/>
          <a:srcRect l="20389" t="12164" r="19418" b="18919"/>
          <a:stretch/>
        </p:blipFill>
        <p:spPr>
          <a:xfrm>
            <a:off x="1258920" y="1484280"/>
            <a:ext cx="6842160" cy="4753080"/>
          </a:xfrm>
          <a:prstGeom prst="rect">
            <a:avLst/>
          </a:prstGeom>
          <a:ln w="57240">
            <a:solidFill>
              <a:srgbClr val="c0504d"/>
            </a:solidFill>
            <a:miter/>
          </a:ln>
        </p:spPr>
      </p:pic>
      <p:sp>
        <p:nvSpPr>
          <p:cNvPr id="166" name="Прямоугольник 2"/>
          <p:cNvSpPr/>
          <p:nvPr/>
        </p:nvSpPr>
        <p:spPr>
          <a:xfrm>
            <a:off x="3219120" y="333360"/>
            <a:ext cx="28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оссвор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Заголовок 1"/>
          <p:cNvSpPr/>
          <p:nvPr/>
        </p:nvSpPr>
        <p:spPr>
          <a:xfrm>
            <a:off x="539640" y="33336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оссворд по сказке К.Г.Паустовского «Тёплый хлеб»</a:t>
            </a:r>
            <a:br>
              <a:rPr sz="26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395280" y="855720"/>
            <a:ext cx="813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в сказке “Тёплый хлеб” звали главного геро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 что бабка часто выговаривала Филь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й окрик был у Фильки, когда он забросил хлеб далеко в рыхлый сне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ая черта характера преобладала у мальчика в начале сказ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огда бабка рассказала Фильке историю, происшедшую 100 лет назад, что испытал мальч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хотел услышать Филька от мельника Панкрата, когда пришёл к нему морозной ночью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Что получил мальчик за свою решимость признать ошибку от сельча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Что ощущаешь на сердце от сделанного доброго де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Что принёс Филька коню вместе с тёплым хлеб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Что поселилось в Филькином сердце в конце сказ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Копия Копия в помощь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2"/>
          <p:cNvGrpSpPr/>
          <p:nvPr/>
        </p:nvGrpSpPr>
        <p:grpSpPr>
          <a:xfrm>
            <a:off x="1476360" y="2060640"/>
            <a:ext cx="5557680" cy="3527280"/>
            <a:chOff x="1476360" y="2060640"/>
            <a:chExt cx="5557680" cy="3527280"/>
          </a:xfrm>
        </p:grpSpPr>
        <p:grpSp>
          <p:nvGrpSpPr>
            <p:cNvPr id="171" name="Group 5"/>
            <p:cNvGrpSpPr/>
            <p:nvPr/>
          </p:nvGrpSpPr>
          <p:grpSpPr>
            <a:xfrm>
              <a:off x="1476360" y="2637000"/>
              <a:ext cx="2232000" cy="2949480"/>
              <a:chOff x="1476360" y="2637000"/>
              <a:chExt cx="2232000" cy="2949480"/>
            </a:xfrm>
          </p:grpSpPr>
          <p:sp>
            <p:nvSpPr>
              <p:cNvPr id="172" name="Oval 1"/>
              <p:cNvSpPr/>
              <p:nvPr/>
            </p:nvSpPr>
            <p:spPr>
              <a:xfrm>
                <a:off x="1476360" y="3497400"/>
                <a:ext cx="2232000" cy="20890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4"/>
              <p:cNvGrpSpPr/>
              <p:nvPr/>
            </p:nvGrpSpPr>
            <p:grpSpPr>
              <a:xfrm>
                <a:off x="2352600" y="2637000"/>
                <a:ext cx="503280" cy="865080"/>
                <a:chOff x="2352600" y="2637000"/>
                <a:chExt cx="503280" cy="865080"/>
              </a:xfrm>
            </p:grpSpPr>
            <p:sp>
              <p:nvSpPr>
                <p:cNvPr id="174" name="Rectangle 2"/>
                <p:cNvSpPr/>
                <p:nvPr/>
              </p:nvSpPr>
              <p:spPr>
                <a:xfrm>
                  <a:off x="2352600" y="3141720"/>
                  <a:ext cx="503280" cy="360360"/>
                </a:xfrm>
                <a:prstGeom prst="rect">
                  <a:avLst/>
                </a:prstGeom>
                <a:solidFill>
                  <a:srgbClr val="eeec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3"/>
                <p:cNvSpPr/>
                <p:nvPr/>
              </p:nvSpPr>
              <p:spPr>
                <a:xfrm>
                  <a:off x="2497320" y="2637000"/>
                  <a:ext cx="168120" cy="50616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6" name="Picture 6" descr="1 форма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4500720" y="2060640"/>
              <a:ext cx="253332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две  запятые"/>
            <p:cNvPicPr/>
            <p:nvPr/>
          </p:nvPicPr>
          <p:blipFill>
            <a:blip r:embed="rId4"/>
            <a:stretch/>
          </p:blipFill>
          <p:spPr>
            <a:xfrm>
              <a:off x="6372360" y="2133720"/>
              <a:ext cx="37152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1"/>
            <p:cNvSpPr/>
            <p:nvPr/>
          </p:nvSpPr>
          <p:spPr>
            <a:xfrm>
              <a:off x="2196000" y="227664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Ш=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0"/>
          <p:cNvSpPr/>
          <p:nvPr/>
        </p:nvSpPr>
        <p:spPr>
          <a:xfrm>
            <a:off x="6355080" y="598968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фар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0">
            <a:hlinkClick r:id="rId5" action="ppaction://hlinksldjump"/>
          </p:cNvPr>
          <p:cNvSpPr/>
          <p:nvPr/>
        </p:nvSpPr>
        <p:spPr>
          <a:xfrm>
            <a:off x="539640" y="6165720"/>
            <a:ext cx="1008000" cy="35892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0"/>
          <p:cNvSpPr txBox="1"/>
          <p:nvPr/>
        </p:nvSpPr>
        <p:spPr>
          <a:xfrm>
            <a:off x="2050920" y="1052640"/>
            <a:ext cx="590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шифруй ребус - словарное слово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539640" y="54936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читайте четверостишие и запишите выделенные слова, распределяя их в две коло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рисую март карандаш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рачным, призрачным пейзаж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ляжет на листок в альбом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нним свежим вернисаж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2055960" y="333360"/>
            <a:ext cx="52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иск необходим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611280" y="981000"/>
            <a:ext cx="813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все ли выписанные слова вам знак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толкованию сл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исаж. (См. «Словарь русского языка» под ред. С.И. Ожегова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 данным словом словосочетание, простое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4"/>
          <p:cNvSpPr/>
          <p:nvPr/>
        </p:nvSpPr>
        <p:spPr>
          <a:xfrm>
            <a:off x="395280" y="3429000"/>
            <a:ext cx="7489800" cy="22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692360" y="333360"/>
            <a:ext cx="67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ём структурирован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24000" y="1052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правило на стр.221, параграф 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опорную сх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рная сх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…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. – после Ж, Ч, Ш, Щ, 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… – лý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468360" y="549360"/>
            <a:ext cx="81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ёмы работы с правилами и определениями как учебно-научными текстами (осмысленное чтение, умение оперировать понят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ы прочитал учебно-научный тек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кольких частей он состо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какой вопрос отвечает каждая час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иши эти вопросы под цифр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 тебя получился план тек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скажи этот текст по план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75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380880" y="1828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57200" y="164160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0"/>
          <a:ext cx="9144000" cy="6566040"/>
        </p:xfrm>
        <a:graphic>
          <a:graphicData uri="http://schemas.openxmlformats.org/drawingml/2006/table">
            <a:tbl>
              <a:tblPr/>
              <a:tblGrid>
                <a:gridCol w="1905120"/>
                <a:gridCol w="3429000"/>
                <a:gridCol w="38098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ли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) с полными причастиям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если без НЕ не употребляютс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맑은 고딕"/>
                        </a:rPr>
                        <a:t>Недоумеваю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) если при них нет зависимых сл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맑은 고딕"/>
                        </a:rPr>
                        <a:t>незаконченное собр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) если нет противопоставления с союзом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맑은 고딕"/>
                        </a:rPr>
                        <a:t>незакончившееся собр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С краткими причастиям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обрание не законч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С полными причастиями, если есть зависимое сло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законченное вовремя собр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Если есть противопоставление с союзом 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законченное, а начатое собр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Когда НЕ входит в состав усилительных отрицаний: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леко не, вовсе не, ничуть не: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овсе не законченное собр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класт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литературы в 5 классе во время изучения рассказа И.С. Тургенева «Му-му» создается такой класт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Овал 3"/>
          <p:cNvSpPr/>
          <p:nvPr/>
        </p:nvSpPr>
        <p:spPr>
          <a:xfrm>
            <a:off x="3995640" y="3500280"/>
            <a:ext cx="1871640" cy="115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ера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Прямая со стрелкой 5"/>
          <p:cNvCxnSpPr>
            <a:stCxn id="196" idx="7"/>
          </p:cNvCxnSpPr>
          <p:nvPr/>
        </p:nvCxnSpPr>
        <p:spPr>
          <a:xfrm flipV="1">
            <a:off x="5594040" y="3357360"/>
            <a:ext cx="346680" cy="31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8" name="Прямая со стрелкой 7"/>
          <p:cNvCxnSpPr>
            <a:stCxn id="196" idx="6"/>
          </p:cNvCxnSpPr>
          <p:nvPr/>
        </p:nvCxnSpPr>
        <p:spPr>
          <a:xfrm>
            <a:off x="5866920" y="4076280"/>
            <a:ext cx="577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9" name="Прямая со стрелкой 9"/>
          <p:cNvCxnSpPr>
            <a:stCxn id="196" idx="5"/>
          </p:cNvCxnSpPr>
          <p:nvPr/>
        </p:nvCxnSpPr>
        <p:spPr>
          <a:xfrm>
            <a:off x="5594400" y="4484520"/>
            <a:ext cx="418320" cy="38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0" name="Прямая со стрелкой 11"/>
          <p:cNvCxnSpPr>
            <a:stCxn id="196" idx="4"/>
          </p:cNvCxnSpPr>
          <p:nvPr/>
        </p:nvCxnSpPr>
        <p:spPr>
          <a:xfrm>
            <a:off x="4932000" y="465264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1" name="Прямая со стрелкой 13"/>
          <p:cNvCxnSpPr>
            <a:stCxn id="196" idx="3"/>
          </p:cNvCxnSpPr>
          <p:nvPr/>
        </p:nvCxnSpPr>
        <p:spPr>
          <a:xfrm flipH="1">
            <a:off x="3850920" y="4484520"/>
            <a:ext cx="41976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2" name="Прямая со стрелкой 15"/>
          <p:cNvCxnSpPr/>
          <p:nvPr/>
        </p:nvCxnSpPr>
        <p:spPr>
          <a:xfrm flipH="1" flipV="1">
            <a:off x="3779280" y="3499920"/>
            <a:ext cx="432360" cy="1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3" name="Овал 16"/>
          <p:cNvSpPr/>
          <p:nvPr/>
        </p:nvSpPr>
        <p:spPr>
          <a:xfrm>
            <a:off x="5435640" y="2637000"/>
            <a:ext cx="165744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17"/>
          <p:cNvSpPr/>
          <p:nvPr/>
        </p:nvSpPr>
        <p:spPr>
          <a:xfrm>
            <a:off x="6516720" y="3573360"/>
            <a:ext cx="1800360" cy="863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писание кам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8"/>
          <p:cNvSpPr/>
          <p:nvPr/>
        </p:nvSpPr>
        <p:spPr>
          <a:xfrm>
            <a:off x="5867280" y="4653000"/>
            <a:ext cx="2017800" cy="863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тношение к Му-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9"/>
          <p:cNvSpPr/>
          <p:nvPr/>
        </p:nvSpPr>
        <p:spPr>
          <a:xfrm>
            <a:off x="3995640" y="5084640"/>
            <a:ext cx="1944720" cy="936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тношение к бары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20"/>
          <p:cNvSpPr/>
          <p:nvPr/>
        </p:nvSpPr>
        <p:spPr>
          <a:xfrm>
            <a:off x="1547640" y="4221000"/>
            <a:ext cx="2303640" cy="1079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тношение с двор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21"/>
          <p:cNvSpPr/>
          <p:nvPr/>
        </p:nvSpPr>
        <p:spPr>
          <a:xfrm>
            <a:off x="1763640" y="2997360"/>
            <a:ext cx="2016360" cy="86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тношение к Тать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E2B-806F-4F95-B384-7AF25FC50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15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школ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999720"/>
            <a:ext cx="8786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цели школьного обучения-усвоения знаний, умений, навыков к цели-формированию умения учиться как компетенции, обеспечивающей овладение новыми компетенц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«изолированного» изучения учащимися системы научных понятий, составляющих содержание учебного предмета, к включению содержания обучения в контекст решения значимых жизненных задач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тихийности учебной деятельности ученика к её целенаправленной организации и планомерному формированию, созданию индивидуальных образовательных траектор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индивидуальной формы усвоения знаний к признанию решающей роли учебного сотрудничества в достижении целей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федеральных государственных образовательных стандартов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5C72-DBE8-4AB0-8C72-547ADF1ED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324000" y="404640"/>
            <a:ext cx="849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универсальные учебные действия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организацию обучающимся своей учебной деятельности (целеполагание, планирование, прогнозирование, составление плана, контроль, коррекция, оценка, саморегуляция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324000" y="404640"/>
            <a:ext cx="849600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ганизации на рабочем м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внимание при восприятии информации, представленной разными способами (визуальной, аудиальной, текстовой, графической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уществлять поиск необходимой информации, в том числе задавать вопросы и формулировать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ланировать этапы работы, строить алгоритм деятельности, прогнозировать результа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285840" y="0"/>
            <a:ext cx="84963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работать по образцу, по алгорит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находить рациональные способы выполнения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нализировать свои дости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оизводить самоконтроль и самооценку выполняемой работы и оценивать результаты совмест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спределять задания при групповой раб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ознавать ответственность за результаты совмест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критически оценить свою деятельность, факторы, повлиявшие на её 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395280" y="404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 (способ подготовки пересказа, составления плана текста, устного рассказа, сочинения, характеристики героя)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амопроверки редактирования текста;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и оценка по результату в соответствии с критериями (выразительного чтения, чтения наизусть, пересказ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250920" y="765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соотносить полученный результат с образцом, находить и исправлять ошибки (корре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611280" y="282888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определение в рам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ё ли было верно в твоем рассказ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2"/>
          <p:cNvSpPr/>
          <p:nvPr/>
        </p:nvSpPr>
        <p:spPr>
          <a:xfrm>
            <a:off x="1403280" y="4211640"/>
            <a:ext cx="1143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6804000" y="4211640"/>
            <a:ext cx="8985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Скругленный прямоугольник 4"/>
          <p:cNvGrpSpPr/>
          <p:nvPr/>
        </p:nvGrpSpPr>
        <p:grpSpPr>
          <a:xfrm>
            <a:off x="1268280" y="244440"/>
            <a:ext cx="7010640" cy="3284640"/>
            <a:chOff x="1268280" y="244440"/>
            <a:chExt cx="7010640" cy="3284640"/>
          </a:xfrm>
        </p:grpSpPr>
        <p:pic>
          <p:nvPicPr>
            <p:cNvPr id="219" name="Скругленный прямоугольник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1268280" y="244440"/>
              <a:ext cx="7010640" cy="32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511280" y="439560"/>
              <a:ext cx="6550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йдите и исправьте ошибки в предложениях. Запишите предложения в исправленном виде. Выделите окончания существительных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250920" y="260280"/>
            <a:ext cx="864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руг доволен своей удачий. Аркадий живет этажом выше. Герасим стал боком перед дверью, толкнул ее плечём и ввалился в дом со своею ношой. Я открыл дверь ключём. Народ называет землю кормилицой. Между гаражём и кузницей была мастерская. Важно только одно – любить народ, Родину – служить ей сердцим и душё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964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бщение знани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всё, что ты уже знаешь о глаголах, по плану 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находить глаголы в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глаголы. Как будешь действовать? Составь самостоятельно инструкцию (алгоритм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395280" y="612720"/>
            <a:ext cx="81374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нужно действовать, чтобы правильно поставить запятые в сложном предложении?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йти и подчеркнуть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читать …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…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ти границы …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делить …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ставить. …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свою инструкцию с той, которая дана тебе. Пользуйся инструкцией при выполнении следующих упражнений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75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380880" y="1828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57200" y="164160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0"/>
            <a:ext cx="914400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равописание НЕ с причаст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1. Слово употреб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без 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НЕТ                                                                              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맑은 고딕"/>
              </a:rPr>
              <a:t>Пиши сли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2. В какой форме причаст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В полной                            в крат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맑은 고딕"/>
              </a:rPr>
              <a:t>Пиши 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3.Есть ли противопост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ДА                                                     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맑은 고딕"/>
              </a:rPr>
              <a:t>Пиши 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4. Есть ли зависимое сло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ДА                                                                                 НЕТ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맑은 고딕"/>
              </a:rPr>
              <a:t>Пиши разд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맑은 고딕"/>
              </a:rPr>
              <a:t>Пиши сли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 flipH="1">
            <a:off x="1523880" y="1523880"/>
            <a:ext cx="198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4800600" y="15238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>
            <a:off x="5257800" y="2438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7010280" y="2438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 flipH="1">
            <a:off x="4191120" y="30481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 flipH="1">
            <a:off x="1371240" y="39625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4114800" y="39625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54100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 flipH="1">
            <a:off x="1447920" y="548640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6324480" y="54864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ременны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тельные результа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2560" y="11426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уются как изменения в личностных ресурсах (мотивационных, операциональных, когнитивных), которые могут быть использованы при решении значимых для личности и общества пробле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ют собой многокомпонентную систему, в которой образовательную ценность представляет не только система знаний ученика, но и освоение способов их получения, способность выявлять потребность в новых знаниях, умение быстро и эффективно, самостоятельно или во взаимодействии с другими учащимися восполнять имеющиеся пробел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87E2-A4EC-4931-B23F-399ED7394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роим 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1844640" y="1844640"/>
            <a:ext cx="4897440" cy="432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яем часть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2673360" y="2708280"/>
            <a:ext cx="3240000" cy="4334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ём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1585800" y="3500280"/>
            <a:ext cx="5626080" cy="4334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писываем в начальн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1042920" y="4292640"/>
            <a:ext cx="6481800" cy="5047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яем постоянные 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042920" y="5157720"/>
            <a:ext cx="6408720" cy="432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яем непостоянные 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539640" y="5877000"/>
            <a:ext cx="8425080" cy="792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яем синтаксическую роль в пред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10"/>
          <p:cNvCxnSpPr/>
          <p:nvPr/>
        </p:nvCxnSpPr>
        <p:spPr>
          <a:xfrm flipH="1">
            <a:off x="4284360" y="2276640"/>
            <a:ext cx="8640" cy="335520"/>
          </a:xfrm>
          <a:prstGeom prst="straightConnector1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</p:cxnSp>
      <p:cxnSp>
        <p:nvCxnSpPr>
          <p:cNvPr id="248" name="Прямая со стрелкой 13"/>
          <p:cNvCxnSpPr/>
          <p:nvPr/>
        </p:nvCxnSpPr>
        <p:spPr>
          <a:xfrm flipH="1">
            <a:off x="4284360" y="2997000"/>
            <a:ext cx="8640" cy="484920"/>
          </a:xfrm>
          <a:prstGeom prst="straightConnector1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>
            <a:off x="4284720" y="3933720"/>
            <a:ext cx="8640" cy="356400"/>
          </a:xfrm>
          <a:prstGeom prst="straightConnector1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</p:cxnSp>
      <p:cxnSp>
        <p:nvCxnSpPr>
          <p:cNvPr id="250" name="Прямая со стрелкой 19"/>
          <p:cNvCxnSpPr/>
          <p:nvPr/>
        </p:nvCxnSpPr>
        <p:spPr>
          <a:xfrm>
            <a:off x="4284720" y="4653000"/>
            <a:ext cx="8640" cy="504000"/>
          </a:xfrm>
          <a:prstGeom prst="straightConnector1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</p:cxnSp>
      <p:cxnSp>
        <p:nvCxnSpPr>
          <p:cNvPr id="251" name="Прямая со стрелкой 21"/>
          <p:cNvCxnSpPr/>
          <p:nvPr/>
        </p:nvCxnSpPr>
        <p:spPr>
          <a:xfrm>
            <a:off x="4284360" y="5589720"/>
            <a:ext cx="1080" cy="349920"/>
          </a:xfrm>
          <a:prstGeom prst="straightConnector1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</p:cxn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2428560" y="620640"/>
            <a:ext cx="42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(себя) друг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684360" y="1773360"/>
            <a:ext cx="8135640" cy="314136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т ошиб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 оши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– 3 оши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4 ошибок – в следующий раз выполни задание луч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очный лист учащегося 5 класса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_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фамилия, имя</a:t>
            </a:r>
            <a:br>
              <a:rPr sz="2000"/>
            </a:b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бращ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1700280"/>
          <a:ext cx="9144000" cy="54864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а в паре (таблиц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К, вопрос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ало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диктант учител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ворческий дикт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п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взаимодиктан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дивидуа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оцениваю свою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ю работу оценивает напар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рутный лист ученика(цы)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981000"/>
          <a:ext cx="9144000" cy="5878440"/>
        </p:xfrm>
        <a:graphic>
          <a:graphicData uri="http://schemas.openxmlformats.org/drawingml/2006/table">
            <a:tbl>
              <a:tblPr/>
              <a:tblGrid>
                <a:gridCol w="7596360"/>
                <a:gridCol w="154764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 как часть речи (знание прави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определять морфологические признаки: род, число, 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УНИКАТИВНЫЕ УМЕНИЯ И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видеть роль прилагательных в предлож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изменять, дополнять и моделировать тек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использовать прилагательные в качестве изобразительно -выразительных средст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ПИСАНИЕ ПРИЛАГАТЕЛЬНЫХ (ОРФОГРАММ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ударные окончания имён прилаг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 после шипящих в кратких прилаг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-Е после шипящих и Ц в суффиксах и окончаниях имён прилаг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елёным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шибок НЕ СДЕЛА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жёлтым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пущена ОДНА ошибка – правило нужно повтор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асным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пущены ДВЕ или БОЛЕЕ ошибки – правило нужно выуч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 по памят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писать из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ботать над сочине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отзыва, реценз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геро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анализа стихотв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анализа эпиз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идейно-художественного анализа  произведения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476280"/>
            <a:ext cx="8229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универсальные учебные действия 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социальную компетентность и учёт позиции других людей, партнёра по общению и деятельности, умение слушать и вступать в диалог, участвовать в коллективном обсуждении проблем, интегрироваться в группу сверстников и строить продуктивное взаимодействие и сотрудничество со сверстниками и взрослым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ёмы методик КС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П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параг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ОСК, вопросный план, таблицу (на выбо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 вопросы и задай партнёру, ответь на вопросы партнё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желанию выступление контрольной па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549000"/>
            <a:ext cx="8569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икт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№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записать предложение, подчеркнуть однородные члены пред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евочка отогнула красивый лепесток и увидела чей-то затыл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е сказуемые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огнула и увиде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олнце осветило своими горячими, яркими лучами лесную поля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е определения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ячими, ярк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 и запиши предложения с прямой речью. Пусть это будут предложения-просьбы, с которыми обращаются друг к другу сказочные герои. Тебе придётся употребить слово «пожалуйс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: это слово выделяется запяты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 монологической  формой реч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468360" y="119700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ым направлением новых образовательных стандартов является осуществление метапредметного подхода, обеспечение развития универсальных учебных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395280" y="836640"/>
            <a:ext cx="828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ботай над своей устной научной речью. Подготовь связный рассказ на тему «Что я знаю о сложном предложении». Построить свой рассказ тебе поможет план. Не забудь, что каждую свою мысль нужно подтверждать прим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468360" y="612720"/>
            <a:ext cx="8351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диалога с автором текст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лушание чтения (рассказа) учителя,   фиксирование его темы, ключевых сл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одготовка устных рассказ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нсценирование и драматизац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стное словесное рисован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творческий пересказ текста от лица разных героев-персонажей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чинение по личным впечатления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нтервью с писателе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исьмо авторам учеб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универсальные учебные действия  обеспечивают ценностно-смысловую ориентацию обучающихся,  ориентацию в социальных ролях и межличностных отношен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765000"/>
            <a:ext cx="822960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уктуре  личностных УУД выделяют на 3 бл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амоопределение – процесс и результат выбора Личностью своей позиции целей и средств самоосуществления в конкретных обстоятельствах жизни, т.е. это основной механизм обретения и проявления человеком своб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620280"/>
            <a:ext cx="8229600" cy="59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мыслообразование - действие смыслообразования, т.е. установление обучающимися связи между целью учебной деятельности и ее мотивом, другими словами, между результатом учения и тем, что побуждает деятельность, ради чего она осуществляется.  Ребенок пытается ответить на вопрос «Зачем мне это надо?», «Где мне это пригодится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ействие нравственно – этического оценивания усваиваемого содержания, обеспечивающее личностный моральный выбор на основе социальных и личностных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 (пять стро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в образ Герасима, пятиклассники могут составить такой синквейн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с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, трудолюби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ся, любит, работ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лжен страдать из-за жестокости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4D40-278C-4849-ACBE-F5A581042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6920" y="1628280"/>
            <a:ext cx="7777440" cy="4684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ая, полез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м, узнаём, размышля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– мой лучший др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ост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ворила мама мн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жись спать пораньш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 серенький волч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-то спрятавшись в лес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нь страшен и хитё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бит непослушных 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ое рисование с использованием средств выразительности язы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– э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ы – это… Ромашки – это… Подснежники – э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 – э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– э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формировать и развивать универсальные учебные действия у уча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DECB-BEEB-4741-A855-F09A25F58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826920" y="83664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лковывать текст через творческий перес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оч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тзывов, аннот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68360" y="69228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претация текста (собственная оценка прочитанного с позиции личного жизненного опыта)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своего отношения к прочитанному с аргументацией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характеров и поступков героев; 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концептуальной информации текста (в чём мудрость этой сказки? для чего писатель решил рассказать своим читателям эту историю?)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476280"/>
            <a:ext cx="843588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ки достижения планируемых результатов по формированию ЛУУД используются задания разного тип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е ответа: задания с закрытым ответом (с выбором одного или нескольких правильных ответов) или открытым ответом (с кратким или развернутым ответо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проверяемых знаний, умений или способов действий: задания базового или повышенного уровн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пользуемым средствам при проведении работы: задания для письменной работы или устной беседы, практические зад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е проведения работы: задания для индивидуальной или групповой рабо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любых личностных новообразований − умений, способностей, личностных качеств − возможно лишь в 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. Выгот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BA2-44A6-4C6F-8057-A10D3D550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90756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из мудрых сказал, что народ, !!! который думает на один год вперёд - выращивает хлеб, народ, который думает на 10 лет вперёд - выращивает сад, народ, который думает на 100 лет вперёд - выращивает молодое покол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работы учителя по формированию ключевых компетенций обучающего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755640" y="549360"/>
            <a:ext cx="7345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ироком значении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универсальные учебные действия» означает умение учиться, т. е. способность субъекта  к саморазвитию и самосовершенствованию путем сознательного и активного присвоения нового социального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611280" y="47628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ее узком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бственно психологическом) значении  термин «универсальные учебные действия» можно определить как совокупность способов действия учащегося (а также связанных с ними навыков учебной работы), обеспечивающих самостоятельное усвоение новых знаний, формирование умений, включая организацию  эт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27:25Z</dcterms:created>
  <dc:creator>Helen</dc:creator>
  <dc:description/>
  <dc:language>en-US</dc:language>
  <cp:lastModifiedBy>Live</cp:lastModifiedBy>
  <dcterms:modified xsi:type="dcterms:W3CDTF">2017-01-07T22:31:04Z</dcterms:modified>
  <cp:revision>47</cp:revision>
  <dc:subject/>
  <dc:title>Слайд 1</dc:title>
</cp:coreProperties>
</file>