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5EF9-C97E-4D67-8165-FF228F191E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197-2480-430C-AC31-662B869E1E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рф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CA64-3102-4F81-A74D-9A4340A6F4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600-2EDE-4310-8687-F8260F2821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54DE-A33B-4D54-9FBB-328C1E3165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1D72-A5F0-4B65-991C-1DCDC4FB4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9660-AB5B-4A56-B21C-E66FAB55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BD5-363D-4FB2-AEC2-0D8B617D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7E43-ACD3-49C4-9888-0D923551B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3772-1F7C-4822-BAE4-586A674C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514E-B00F-440B-91F9-560C0E4D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1F5E-3052-404D-9EAD-4B123778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023E-2150-4EB5-B426-9ABD4DA2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F7EB-3DD1-491B-A7F9-F59BABBB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8101-34CE-45C6-9B47-751AF647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3CA2-7571-4872-9D7B-ECFDBF39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EEB8-D9FD-4424-B0AB-29D4134C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9FD-6068-4AAA-94EA-5B50C561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82AA-028B-4FD6-94D1-7C8D89B0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26C1-EBFB-401C-80C5-64FDFCBE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6937-18DA-4C35-AE08-1E4EA9B0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1136-7AF4-4478-95AE-8700AA6B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EBCD-A859-4349-912E-CD59830F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3FB5E-55A5-4B0F-81A5-AA6E2F6F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0DB8-2242-4B48-9DC2-11BEA7A1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9A0D3-9F7A-4AB1-A652-CABE2FC8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5E7F0-1CF2-483B-95AE-C73AB245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77C54-24A5-4DEC-B9EB-AF8E4E69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0589-F38A-435E-8A31-AE686880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FB568-A9A0-4184-84FC-53783107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43D58-B7FB-468D-AFAA-B0CC043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07CE-7CE7-459C-8B14-5B74E803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97919-5B07-42A6-967D-E260E6CC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A01DC-A4E0-4EEE-B9F7-06B534F8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FCC3-0772-43E4-939B-C7AB1D24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73086-8DA9-45DF-A214-8330D027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76B-25DD-4D71-A818-6482AD76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A1FA-7F9D-48D9-A3F3-E8621C59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61A-8FD6-4E2B-A16C-1323F6E3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3B84-C086-4A4D-95E4-91EA1DEE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86B-5392-4F40-9380-C2A56D29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E87-8553-47BC-BFF9-A3F8C9F0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5ADB-1E83-4BAE-8254-4821CAAFD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4aacc0cbe69a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10267-7AA0-4518-8E7C-854809B3E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6" descr="70b42962396a.png"/>
          <p:cNvPicPr/>
          <p:nvPr/>
        </p:nvPicPr>
        <p:blipFill>
          <a:blip r:embed="rId3"/>
          <a:stretch/>
        </p:blipFill>
        <p:spPr>
          <a:xfrm>
            <a:off x="7701120" y="5391000"/>
            <a:ext cx="1442880" cy="1467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2A93-B56F-4269-8E4E-A1DACD967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204640"/>
            <a:ext cx="9144000" cy="16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ма формирования 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4360" y="6021000"/>
            <a:ext cx="7853040" cy="5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3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0E2D-FF5B-422C-ADBC-E255830C89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395280" y="549360"/>
            <a:ext cx="820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е основных видов универсальных учебных действий  можно выделить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ыре бло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   2)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й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ключающий также действия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гуляции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3)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539640" y="1341360"/>
            <a:ext cx="806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ые универсальные действия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ют  общеучебные,  логические действия, а также постановку и решение  пробл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214200" y="214200"/>
            <a:ext cx="87156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ысленное чт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ие существенной информации из текстов разных вид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перировать поняти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станавливать взаимосвязи между явления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логических умений (анализ, сравнение, обобщение, классификация, доказательство, выдвижение гипотез и их обоснование, построение цепочки рассуждени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2"/>
          <p:cNvSpPr/>
          <p:nvPr/>
        </p:nvSpPr>
        <p:spPr>
          <a:xfrm>
            <a:off x="214200" y="285840"/>
            <a:ext cx="8569440" cy="63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уществлять перенос и действовать по аналог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воспроизводить (знания, способы, действия), комбинировать, выбирать необходимое для решения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знаково-символических средств (умение применять различные приёмы структурирования: таблицы, схемы, графики, модели, символы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необходимой информации с использованием учебной литературы и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468360" y="260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устанавливать взаимосвязи между явлениями</a:t>
            </a: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250920" y="765000"/>
            <a:ext cx="856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«Загадочный», записать отгадки, объяснить орфограм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бов много, а ничего не ест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счес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ок, да колюч, сладок, а не паху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годы сорвешь – всю руку обдерешь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ыжовн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лотой клубочек спрятался дубочек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Желуд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яная спинка, жесткая щетин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ятной пастой дружит, нам усердно служит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убная щет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торы, а гудя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илоты, а летя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меи, а жалят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чел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есятку на шесточ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и умные кружочк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читают громко вслу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слышно стук да стук. (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че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826920" y="1052640"/>
            <a:ext cx="7777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ирование логических умений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ери слово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-, вос-, -вод-, из-, -ств-, -о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826920" y="404640"/>
            <a:ext cx="830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блудившиеся слова (собери предло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"/>
          <p:cNvSpPr/>
          <p:nvPr/>
        </p:nvSpPr>
        <p:spPr>
          <a:xfrm>
            <a:off x="395280" y="105264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ольшой, около, у, опять, собака, сидеть, костер, полночь, охотник, 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иться, мы, сад, погулять, родители, с, вечером, зимний, п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, и, дети, понравиться, рассказать, веселый, интересный, школьник, учитель, младш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1"/>
          <p:cNvSpPr/>
          <p:nvPr/>
        </p:nvSpPr>
        <p:spPr>
          <a:xfrm>
            <a:off x="468360" y="333360"/>
            <a:ext cx="835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ключите из цепочки лишние слова по какому-либо признаку так, чтобы в ней осталось только одно слово. Причину  исключения каждого слова обоснуй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нны, костюм, рожь, объединить, какао,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1"/>
          <p:cNvSpPr/>
          <p:nvPr/>
        </p:nvSpPr>
        <p:spPr>
          <a:xfrm>
            <a:off x="395280" y="836640"/>
            <a:ext cx="842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группируйте слова по определенному признаку. Предложите несколько вариантов группиров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ядя, зевака, прадедушка, тетя, недоучка, плакса, прабабушка, сластена, старуш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324000" y="692280"/>
            <a:ext cx="84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здели на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ак ты думаешь, на какие группы можно разделить эти сл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ша, Коля, Лена, Оля, Игорь, Наташ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группы можно составить из этих сл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ь, воробей, карп, синица, щука, снегирь, суд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й зака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Содержимое 2" descr=""/>
          <p:cNvPicPr/>
          <p:nvPr/>
        </p:nvPicPr>
        <p:blipFill>
          <a:blip r:embed="rId1"/>
          <a:stretch/>
        </p:blipFill>
        <p:spPr>
          <a:xfrm>
            <a:off x="158760" y="907920"/>
            <a:ext cx="8783640" cy="5694480"/>
          </a:xfrm>
          <a:prstGeom prst="rect">
            <a:avLst/>
          </a:prstGeom>
          <a:ln w="0">
            <a:noFill/>
          </a:ln>
        </p:spPr>
      </p:pic>
      <p:sp>
        <p:nvSpPr>
          <p:cNvPr id="13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A772-0DD8-45F1-9FE6-B1DE214D1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Прямоугольник 1"/>
          <p:cNvSpPr/>
          <p:nvPr/>
        </p:nvSpPr>
        <p:spPr>
          <a:xfrm>
            <a:off x="468360" y="476280"/>
            <a:ext cx="8207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арады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слово над чайником т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– у папы растет над гу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целое – ветер морской наду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 плаванье нас приглашает с со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ус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е – нот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е – то ж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на горох похож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со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одержимое 3" descr="I:\сканирование0001.tif"/>
          <p:cNvPicPr/>
          <p:nvPr/>
        </p:nvPicPr>
        <p:blipFill>
          <a:blip r:embed="rId1"/>
          <a:srcRect l="20389" t="12164" r="19418" b="18919"/>
          <a:stretch/>
        </p:blipFill>
        <p:spPr>
          <a:xfrm>
            <a:off x="1258920" y="1484280"/>
            <a:ext cx="6842160" cy="4753080"/>
          </a:xfrm>
          <a:prstGeom prst="rect">
            <a:avLst/>
          </a:prstGeom>
          <a:ln w="57240">
            <a:solidFill>
              <a:srgbClr val="c0504d"/>
            </a:solidFill>
            <a:miter/>
          </a:ln>
        </p:spPr>
      </p:pic>
      <p:sp>
        <p:nvSpPr>
          <p:cNvPr id="166" name="Прямоугольник 2"/>
          <p:cNvSpPr/>
          <p:nvPr/>
        </p:nvSpPr>
        <p:spPr>
          <a:xfrm>
            <a:off x="3219120" y="333360"/>
            <a:ext cx="282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оссвор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Заголовок 1"/>
          <p:cNvSpPr/>
          <p:nvPr/>
        </p:nvSpPr>
        <p:spPr>
          <a:xfrm>
            <a:off x="539640" y="33336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оссворд по сказке К.Г.Паустовского «Тёплый хлеб»</a:t>
            </a:r>
            <a:br>
              <a:rPr sz="2600"/>
            </a:b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"/>
          <p:cNvSpPr/>
          <p:nvPr/>
        </p:nvSpPr>
        <p:spPr>
          <a:xfrm>
            <a:off x="395280" y="855720"/>
            <a:ext cx="8137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в сказке “Тёплый хлеб” звали главного геро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 что бабка часто выговаривала Филь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й окрик был у Фильки, когда он забросил хлеб далеко в рыхлый снег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акая черта характера преобладала у мальчика в начале сказ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Когда бабка рассказала Фильке историю, происшедшую 100 лет назад, что испытал мальч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то хотел услышать Филька от мельника Панкрата, когда пришёл к нему морозной ночью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Что получил мальчик за свою решимость признать ошибку от сельча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Что ощущаешь на сердце от сделанного доброго де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Что принёс Филька коню вместе с тёплым хлебом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Что поселилось в Филькином сердце в конце сказк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3" descr="Копия Копия в помощь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0" name="Group 12"/>
          <p:cNvGrpSpPr/>
          <p:nvPr/>
        </p:nvGrpSpPr>
        <p:grpSpPr>
          <a:xfrm>
            <a:off x="1476360" y="2060640"/>
            <a:ext cx="5557680" cy="3527280"/>
            <a:chOff x="1476360" y="2060640"/>
            <a:chExt cx="5557680" cy="3527280"/>
          </a:xfrm>
        </p:grpSpPr>
        <p:grpSp>
          <p:nvGrpSpPr>
            <p:cNvPr id="171" name="Group 5"/>
            <p:cNvGrpSpPr/>
            <p:nvPr/>
          </p:nvGrpSpPr>
          <p:grpSpPr>
            <a:xfrm>
              <a:off x="1476360" y="2637000"/>
              <a:ext cx="2232000" cy="2949480"/>
              <a:chOff x="1476360" y="2637000"/>
              <a:chExt cx="2232000" cy="2949480"/>
            </a:xfrm>
          </p:grpSpPr>
          <p:sp>
            <p:nvSpPr>
              <p:cNvPr id="172" name="Oval 1"/>
              <p:cNvSpPr/>
              <p:nvPr/>
            </p:nvSpPr>
            <p:spPr>
              <a:xfrm>
                <a:off x="1476360" y="3497400"/>
                <a:ext cx="2232000" cy="20890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4"/>
              <p:cNvGrpSpPr/>
              <p:nvPr/>
            </p:nvGrpSpPr>
            <p:grpSpPr>
              <a:xfrm>
                <a:off x="2352600" y="2637000"/>
                <a:ext cx="503280" cy="865080"/>
                <a:chOff x="2352600" y="2637000"/>
                <a:chExt cx="503280" cy="865080"/>
              </a:xfrm>
            </p:grpSpPr>
            <p:sp>
              <p:nvSpPr>
                <p:cNvPr id="174" name="Rectangle 2"/>
                <p:cNvSpPr/>
                <p:nvPr/>
              </p:nvSpPr>
              <p:spPr>
                <a:xfrm>
                  <a:off x="2352600" y="3141720"/>
                  <a:ext cx="503280" cy="360360"/>
                </a:xfrm>
                <a:prstGeom prst="rect">
                  <a:avLst/>
                </a:prstGeom>
                <a:solidFill>
                  <a:srgbClr val="eeece1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3"/>
                <p:cNvSpPr/>
                <p:nvPr/>
              </p:nvSpPr>
              <p:spPr>
                <a:xfrm>
                  <a:off x="2497320" y="2637000"/>
                  <a:ext cx="168120" cy="506160"/>
                </a:xfrm>
                <a:prstGeom prst="pi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76" name="Picture 6" descr="1 форма"/>
            <p:cNvPicPr/>
            <p:nvPr/>
          </p:nvPicPr>
          <p:blipFill>
            <a:blip r:embed="rId3">
              <a:lum contrast="12000"/>
            </a:blip>
            <a:stretch/>
          </p:blipFill>
          <p:spPr>
            <a:xfrm>
              <a:off x="4500720" y="2060640"/>
              <a:ext cx="253332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8" descr="две  запятые"/>
            <p:cNvPicPr/>
            <p:nvPr/>
          </p:nvPicPr>
          <p:blipFill>
            <a:blip r:embed="rId4"/>
            <a:stretch/>
          </p:blipFill>
          <p:spPr>
            <a:xfrm>
              <a:off x="6372360" y="2133720"/>
              <a:ext cx="371520" cy="2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 Box 11"/>
            <p:cNvSpPr/>
            <p:nvPr/>
          </p:nvSpPr>
          <p:spPr>
            <a:xfrm>
              <a:off x="2196000" y="2276640"/>
              <a:ext cx="80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Ш=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0"/>
          <p:cNvSpPr/>
          <p:nvPr/>
        </p:nvSpPr>
        <p:spPr>
          <a:xfrm>
            <a:off x="6355080" y="5989680"/>
            <a:ext cx="164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</a:rPr>
              <a:t>фарф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0">
            <a:hlinkClick r:id="rId5" action="ppaction://hlinksldjump"/>
          </p:cNvPr>
          <p:cNvSpPr/>
          <p:nvPr/>
        </p:nvSpPr>
        <p:spPr>
          <a:xfrm>
            <a:off x="539640" y="6165720"/>
            <a:ext cx="1008000" cy="35892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0"/>
          <p:cNvSpPr txBox="1"/>
          <p:nvPr/>
        </p:nvSpPr>
        <p:spPr>
          <a:xfrm>
            <a:off x="2050920" y="1052640"/>
            <a:ext cx="590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шифруй ребус - словарное слово</a:t>
            </a:r>
            <a:endParaRPr b="1" lang="en-US" sz="24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539640" y="54936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читайте четверостишие и запишите выделенные слова, распределяя их в две коло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арисую март карандаш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рачным, призрачным пейзаж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ляжет на листок в альбом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нним свежим вернисаж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2055960" y="333360"/>
            <a:ext cx="52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иск необходим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"/>
          <p:cNvSpPr/>
          <p:nvPr/>
        </p:nvSpPr>
        <p:spPr>
          <a:xfrm>
            <a:off x="611280" y="981000"/>
            <a:ext cx="813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умайте, все ли выписанные слова вам знако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по толкованию сл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нисаж. (См. «Словарь русского языка» под ред. С.И. Ожегова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с данным словом словосочетание, простое предло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4"/>
          <p:cNvSpPr/>
          <p:nvPr/>
        </p:nvSpPr>
        <p:spPr>
          <a:xfrm>
            <a:off x="395280" y="3429000"/>
            <a:ext cx="7489800" cy="2232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"/>
          <p:cNvSpPr/>
          <p:nvPr/>
        </p:nvSpPr>
        <p:spPr>
          <a:xfrm>
            <a:off x="1692360" y="333360"/>
            <a:ext cx="67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ём структурирован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324000" y="1052640"/>
            <a:ext cx="842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те правило на стр.221, параграф 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те опорную сх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орная 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ó… – ключ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Ó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. – после Ж, Ч, Ш, Щ, 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… – лýж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"/>
          <p:cNvSpPr/>
          <p:nvPr/>
        </p:nvSpPr>
        <p:spPr>
          <a:xfrm>
            <a:off x="468360" y="549360"/>
            <a:ext cx="81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ёмы работы с правилами и определениями как учебно-научными текстами (осмысленное чтение, умение оперировать поняти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Ты прочитал учебно-научный текс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кольких частей он состои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 какой вопрос отвечает каждая час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иши эти вопросы под цифр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 тебя получился план тек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ескажи этот текст по план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75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380880" y="1828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457200" y="164160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0"/>
          <a:ext cx="9144000" cy="6566040"/>
        </p:xfrm>
        <a:graphic>
          <a:graphicData uri="http://schemas.openxmlformats.org/drawingml/2006/table">
            <a:tbl>
              <a:tblPr/>
              <a:tblGrid>
                <a:gridCol w="1905120"/>
                <a:gridCol w="3429000"/>
                <a:gridCol w="38098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лит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Разд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ас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) с полными причастиям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если без НЕ не употребляютс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맑은 고딕"/>
                        </a:rPr>
                        <a:t>Недоумевающ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) если при них нет зависимых сл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맑은 고딕"/>
                        </a:rPr>
                        <a:t>незаконченное собр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) если нет противопоставления с союзом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99"/>
                          </a:solidFill>
                          <a:latin typeface="Times New Roman"/>
                          <a:ea typeface="맑은 고딕"/>
                        </a:rPr>
                        <a:t>незакончившееся собр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С краткими причастиям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собрание не законч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С полными причастиями, если есть зависимое слов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законченное вовремя собр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Если есть противопоставление с союзом а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не законченное, а начатое собр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Когда НЕ входит в состав усилительных отрицаний: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леко не, вовсе не, ничуть не: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ru-RU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овсе не законченное собр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класт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12720" y="159984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литературы в 5 классе во время изучения рассказа И.С. Тургенева «Му-му» создается такой класте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7480" indent="-267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Овал 3"/>
          <p:cNvSpPr/>
          <p:nvPr/>
        </p:nvSpPr>
        <p:spPr>
          <a:xfrm>
            <a:off x="3995640" y="3500280"/>
            <a:ext cx="1871640" cy="115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Герас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Прямая со стрелкой 5"/>
          <p:cNvCxnSpPr>
            <a:stCxn id="196" idx="7"/>
          </p:cNvCxnSpPr>
          <p:nvPr/>
        </p:nvCxnSpPr>
        <p:spPr>
          <a:xfrm flipV="1">
            <a:off x="5594040" y="3357360"/>
            <a:ext cx="346680" cy="31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8" name="Прямая со стрелкой 7"/>
          <p:cNvCxnSpPr>
            <a:stCxn id="196" idx="6"/>
          </p:cNvCxnSpPr>
          <p:nvPr/>
        </p:nvCxnSpPr>
        <p:spPr>
          <a:xfrm>
            <a:off x="5866920" y="4076280"/>
            <a:ext cx="577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99" name="Прямая со стрелкой 9"/>
          <p:cNvCxnSpPr>
            <a:stCxn id="196" idx="5"/>
          </p:cNvCxnSpPr>
          <p:nvPr/>
        </p:nvCxnSpPr>
        <p:spPr>
          <a:xfrm>
            <a:off x="5594400" y="4484520"/>
            <a:ext cx="418320" cy="38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0" name="Прямая со стрелкой 11"/>
          <p:cNvCxnSpPr>
            <a:stCxn id="196" idx="4"/>
          </p:cNvCxnSpPr>
          <p:nvPr/>
        </p:nvCxnSpPr>
        <p:spPr>
          <a:xfrm>
            <a:off x="4932000" y="4652640"/>
            <a:ext cx="108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1" name="Прямая со стрелкой 13"/>
          <p:cNvCxnSpPr>
            <a:stCxn id="196" idx="3"/>
          </p:cNvCxnSpPr>
          <p:nvPr/>
        </p:nvCxnSpPr>
        <p:spPr>
          <a:xfrm flipH="1">
            <a:off x="3850920" y="4484520"/>
            <a:ext cx="41976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2" name="Прямая со стрелкой 15"/>
          <p:cNvCxnSpPr/>
          <p:nvPr/>
        </p:nvCxnSpPr>
        <p:spPr>
          <a:xfrm flipH="1" flipV="1">
            <a:off x="3779280" y="3499920"/>
            <a:ext cx="432360" cy="1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3" name="Овал 16"/>
          <p:cNvSpPr/>
          <p:nvPr/>
        </p:nvSpPr>
        <p:spPr>
          <a:xfrm>
            <a:off x="5435640" y="2637000"/>
            <a:ext cx="165744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рт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Овал 17"/>
          <p:cNvSpPr/>
          <p:nvPr/>
        </p:nvSpPr>
        <p:spPr>
          <a:xfrm>
            <a:off x="6516720" y="3573360"/>
            <a:ext cx="1800360" cy="863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писание камор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18"/>
          <p:cNvSpPr/>
          <p:nvPr/>
        </p:nvSpPr>
        <p:spPr>
          <a:xfrm>
            <a:off x="5867280" y="4653000"/>
            <a:ext cx="2017800" cy="863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тношение к Му-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19"/>
          <p:cNvSpPr/>
          <p:nvPr/>
        </p:nvSpPr>
        <p:spPr>
          <a:xfrm>
            <a:off x="3995640" y="5084640"/>
            <a:ext cx="1944720" cy="936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тношение к бары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20"/>
          <p:cNvSpPr/>
          <p:nvPr/>
        </p:nvSpPr>
        <p:spPr>
          <a:xfrm>
            <a:off x="1547640" y="4221000"/>
            <a:ext cx="2303640" cy="1079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тношение с дворов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21"/>
          <p:cNvSpPr/>
          <p:nvPr/>
        </p:nvSpPr>
        <p:spPr>
          <a:xfrm>
            <a:off x="1763640" y="2997360"/>
            <a:ext cx="2016360" cy="863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тношение к Татья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929A-70F0-46C6-94D9-F561353218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15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школ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999720"/>
            <a:ext cx="8786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цели школьного обучения-усвоения знаний, умений, навыков к цели-формированию умения учиться как компетенции, обеспечивающей овладение новыми компетенц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«изолированного» изучения учащимися системы научных понятий, составляющих содержание учебного предмета, к включению содержания обучения в контекст решения значимых жизненных задач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тихийности учебной деятельности ученика к её целенаправленной организации и планомерному формированию, созданию индивидуальных образовательных траекторий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индивидуальной формы усвоения знаний к признанию решающей роли учебного сотрудничества в достижении целей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федеральных государственных образовательных стандартов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A0CB-1C5A-4D69-9422-92317E705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324000" y="404640"/>
            <a:ext cx="8496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ивные универсальные учебные действия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организацию обучающимся своей учебной деятельности (целеполагание, планирование, прогнозирование, составление плана, контроль, коррекция, оценка, саморегуляция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Прямоугольник 1"/>
          <p:cNvSpPr/>
          <p:nvPr/>
        </p:nvSpPr>
        <p:spPr>
          <a:xfrm>
            <a:off x="324000" y="404640"/>
            <a:ext cx="849600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ганизации на рабочем мес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внимание при восприятии информации, представленной разными способами (визуальной, аудиальной, текстовой, графической и т.д.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уществлять поиск необходимой информации, в том числе задавать вопросы и формулировать зада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ланировать этапы работы, строить алгоритм деятельности, прогнозировать результа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"/>
          <p:cNvSpPr/>
          <p:nvPr/>
        </p:nvSpPr>
        <p:spPr>
          <a:xfrm>
            <a:off x="285840" y="0"/>
            <a:ext cx="84963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работать по образцу, по алгоритм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находить рациональные способы выполнения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нализировать свои дости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оизводить самоконтроль и самооценку выполняемой работы и оценивать результаты совмест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распределять задания при групповой работ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сознавать ответственность за результаты совмест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критически оценить свою деятельность, факторы, повлиявшие на её результ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95280" y="404640"/>
            <a:ext cx="8353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полагание (способ подготовки пересказа, составления плана текста, устного рассказа, сочинения, характеристики героя)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амопроверки редактирования текста;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и оценка по результату в соответствии с критериями (выразительного чтения, чтения наизусть, пересказ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250920" y="765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соотносить полученный результат с образцом, находить и исправлять ошибки (корре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"/>
          <p:cNvSpPr/>
          <p:nvPr/>
        </p:nvSpPr>
        <p:spPr>
          <a:xfrm>
            <a:off x="611280" y="2828880"/>
            <a:ext cx="777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определение в рамк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ё ли было верно в твоем рассказ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2"/>
          <p:cNvSpPr/>
          <p:nvPr/>
        </p:nvSpPr>
        <p:spPr>
          <a:xfrm>
            <a:off x="1403280" y="4211640"/>
            <a:ext cx="1143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"/>
          <p:cNvSpPr/>
          <p:nvPr/>
        </p:nvSpPr>
        <p:spPr>
          <a:xfrm>
            <a:off x="6804000" y="4211640"/>
            <a:ext cx="8985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Скругленный прямоугольник 4"/>
          <p:cNvGrpSpPr/>
          <p:nvPr/>
        </p:nvGrpSpPr>
        <p:grpSpPr>
          <a:xfrm>
            <a:off x="1268280" y="244440"/>
            <a:ext cx="7010640" cy="3284640"/>
            <a:chOff x="1268280" y="244440"/>
            <a:chExt cx="7010640" cy="3284640"/>
          </a:xfrm>
        </p:grpSpPr>
        <p:pic>
          <p:nvPicPr>
            <p:cNvPr id="219" name="Скругленный прямоугольник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1268280" y="244440"/>
              <a:ext cx="7010640" cy="32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1511280" y="439560"/>
              <a:ext cx="655020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йдите и исправьте ошибки в предложениях. Запишите предложения в исправленном виде. Выделите окончания существительных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"/>
          <p:cNvSpPr/>
          <p:nvPr/>
        </p:nvSpPr>
        <p:spPr>
          <a:xfrm>
            <a:off x="250920" y="260280"/>
            <a:ext cx="8642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друг доволен своей удачий. Аркадий живет этажом выше. Герасим стал боком перед дверью, толкнул ее плечём и ввалился в дом со своею ношой. Я открыл дверь ключём. Народ называет землю кормилицой. Между гаражём и кузницей была мастерская. Важно только одно – любить народ, Родину – служить ей сердцим и душёй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39640" y="33336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общение знани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всё, что ты уже знаешь о глаголах, по плану 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ние находить глаголы в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глаголы. Как будешь действовать? Составь самостоятельно инструкцию (алгоритм)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1"/>
          <p:cNvSpPr/>
          <p:nvPr/>
        </p:nvSpPr>
        <p:spPr>
          <a:xfrm>
            <a:off x="395280" y="612720"/>
            <a:ext cx="813744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нужно действовать, чтобы правильно поставить запятые в сложном предложении?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айти и подчеркнуть …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ть …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…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айти границы …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ыделить …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ставить. …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 свою инструкцию с той, которая дана тебе. Пользуйся инструкцией при выполнении следующих упражнений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75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5"/>
          <p:cNvSpPr/>
          <p:nvPr/>
        </p:nvSpPr>
        <p:spPr>
          <a:xfrm>
            <a:off x="380880" y="1828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457200" y="164160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0"/>
            <a:ext cx="9144000" cy="64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Правописание НЕ с причаст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1. Слово употреб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без Н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НЕТ                                                                               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맑은 고딕"/>
              </a:rPr>
              <a:t>Пиши сли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2. В какой форме причаст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В полной                            в крат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맑은 고딕"/>
              </a:rPr>
              <a:t>Пиши 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3.Есть ли противопоставлен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ДА                                                      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맑은 고딕"/>
              </a:rPr>
              <a:t>Пиши 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4. Есть ли зависимое слов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ДА                                                                                 НЕТ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맑은 고딕"/>
              </a:rPr>
              <a:t>Пиши разд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                                                           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  <a:ea typeface="맑은 고딕"/>
              </a:rPr>
              <a:t>Пиши слит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 flipH="1">
            <a:off x="1523880" y="1523880"/>
            <a:ext cx="19814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>
            <a:off x="4800600" y="1523880"/>
            <a:ext cx="2057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>
            <a:off x="5257800" y="2438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>
            <a:off x="7010280" y="2438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 flipH="1">
            <a:off x="4191120" y="30481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4"/>
          <p:cNvSpPr/>
          <p:nvPr/>
        </p:nvSpPr>
        <p:spPr>
          <a:xfrm flipH="1">
            <a:off x="1371240" y="39625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4114800" y="396252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6"/>
          <p:cNvSpPr/>
          <p:nvPr/>
        </p:nvSpPr>
        <p:spPr>
          <a:xfrm>
            <a:off x="54100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 flipH="1">
            <a:off x="1447920" y="5486400"/>
            <a:ext cx="2743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6324480" y="548640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ременны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тельные результа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2560" y="1142640"/>
            <a:ext cx="9001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туются как изменения в личностных ресурсах (мотивационных, операциональных, когнитивных), которые могут быть использованы при решении значимых для личности и общества проблем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ют собой многокомпонентную систему, в которой образовательную ценность представляет не только система знаний ученика, но и освоение способов их получения, способность выявлять потребность в новых знаниях, умение быстро и эффективно, самостоятельно или во взаимодействии с другими учащимися восполнять имеющиеся пробел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9bbb59"/>
              </a:buClr>
              <a:buFont typeface="Wingdings" charset="2"/>
              <a:buChar char="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421A-9C7F-45A5-BCC3-2B03F9062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Строим алгорит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1844640" y="1844640"/>
            <a:ext cx="4897440" cy="432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яем часть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4"/>
          <p:cNvSpPr/>
          <p:nvPr/>
        </p:nvSpPr>
        <p:spPr>
          <a:xfrm>
            <a:off x="2673360" y="2708280"/>
            <a:ext cx="3240000" cy="4334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ём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1585800" y="3500280"/>
            <a:ext cx="5626080" cy="43344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писываем в начальной фор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1042920" y="4292640"/>
            <a:ext cx="6481800" cy="5047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яем постоянные 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1042920" y="5157720"/>
            <a:ext cx="6408720" cy="432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яем непостоянные призна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8"/>
          <p:cNvSpPr/>
          <p:nvPr/>
        </p:nvSpPr>
        <p:spPr>
          <a:xfrm>
            <a:off x="539640" y="5877000"/>
            <a:ext cx="8425080" cy="79200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ределяем синтаксическую роль в предло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Прямая со стрелкой 10"/>
          <p:cNvCxnSpPr/>
          <p:nvPr/>
        </p:nvCxnSpPr>
        <p:spPr>
          <a:xfrm flipH="1">
            <a:off x="4284360" y="2276640"/>
            <a:ext cx="8640" cy="33552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  <p:cxnSp>
        <p:nvCxnSpPr>
          <p:cNvPr id="248" name="Прямая со стрелкой 13"/>
          <p:cNvCxnSpPr/>
          <p:nvPr/>
        </p:nvCxnSpPr>
        <p:spPr>
          <a:xfrm flipH="1">
            <a:off x="4284360" y="2997000"/>
            <a:ext cx="8640" cy="48492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  <p:cxnSp>
        <p:nvCxnSpPr>
          <p:cNvPr id="249" name="Прямая со стрелкой 17"/>
          <p:cNvCxnSpPr/>
          <p:nvPr/>
        </p:nvCxnSpPr>
        <p:spPr>
          <a:xfrm>
            <a:off x="4284720" y="3933720"/>
            <a:ext cx="8640" cy="35640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  <p:cxnSp>
        <p:nvCxnSpPr>
          <p:cNvPr id="250" name="Прямая со стрелкой 19"/>
          <p:cNvCxnSpPr/>
          <p:nvPr/>
        </p:nvCxnSpPr>
        <p:spPr>
          <a:xfrm>
            <a:off x="4284720" y="4653000"/>
            <a:ext cx="8640" cy="50400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  <p:cxnSp>
        <p:nvCxnSpPr>
          <p:cNvPr id="251" name="Прямая со стрелкой 21"/>
          <p:cNvCxnSpPr/>
          <p:nvPr/>
        </p:nvCxnSpPr>
        <p:spPr>
          <a:xfrm>
            <a:off x="4284360" y="5589720"/>
            <a:ext cx="1080" cy="349920"/>
          </a:xfrm>
          <a:prstGeom prst="straightConnector1">
            <a:avLst/>
          </a:prstGeom>
          <a:ln w="57240">
            <a:solidFill>
              <a:srgbClr val="31859c"/>
            </a:solidFill>
            <a:miter/>
            <a:tailEnd len="med" type="triangle" w="med"/>
          </a:ln>
        </p:spPr>
      </p:cxn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2428560" y="620640"/>
            <a:ext cx="42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 (себя) друг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684360" y="1773360"/>
            <a:ext cx="8135640" cy="3141360"/>
          </a:xfrm>
          <a:prstGeom prst="rect">
            <a:avLst/>
          </a:prstGeom>
          <a:noFill/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5»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ет ошиб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4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1 ошиб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3»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2 – 3 оши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4 ошибок – в следующий раз выполни задание лучш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очный лист учащегося 5 класса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_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фамилия, имя</a:t>
            </a:r>
            <a:br>
              <a:rPr sz="2000"/>
            </a:b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бращ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0" y="1700280"/>
          <a:ext cx="9144000" cy="548640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  <a:gridCol w="1524240"/>
                <a:gridCol w="152388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ид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 в паре (таблиц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СК, вопросный пл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ало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амостояте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диктант учителя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ворческий дикта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па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взаимодиктан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дивидуальная 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 оцениваю свою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3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ю работу оценивает напар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шрутный лист ученика(цы)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0" y="981000"/>
          <a:ext cx="9144000" cy="5878440"/>
        </p:xfrm>
        <a:graphic>
          <a:graphicData uri="http://schemas.openxmlformats.org/drawingml/2006/table">
            <a:tbl>
              <a:tblPr/>
              <a:tblGrid>
                <a:gridCol w="7596360"/>
                <a:gridCol w="1547640"/>
              </a:tblGrid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лагательное как часть речи (знание прави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определять морфологические признаки: род, число, паде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МУНИКАТИВНЫЕ УМЕНИЯ И НАВЫ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видеть роль прилагательных в предложе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5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изменять, дополнять и моделировать тек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использовать прилагательные в качестве изобразительно -выразительных средст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ПИСАНИЕ ПРИЛАГАТЕЛЬНЫХ (ОРФОГРАММ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ударные окончания имён прилаг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 после шипящих в кратких прилаг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-Е после шипящих и Ц в суффиксах и окончаниях имён прилаг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spd="med"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елёным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шибок НЕ СДЕЛА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жёлтым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пущена ОДНА ошибка – правило нужно повтор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расным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опущены ДВЕ или БОЛЕЕ ошибки – правило нужно выуч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абота по памятк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писать из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ботать над сочинени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отзыва, реценз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геро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анализа стихотвор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анализа эпиз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идейно-художественного анализа  произведения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476280"/>
            <a:ext cx="822960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универсальные учебные действия </a:t>
            </a: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т социальную компетентность и учёт позиции других людей, партнёра по общению и деятельности, умение слушать и вступать в диалог, участвовать в коллективном обсуждении проблем, интегрироваться в группу сверстников и строить продуктивное взаимодействие и сотрудничество со сверстниками и взрослым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ёмы методик КС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П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тай парагра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ь ОСК, вопросный план, таблицу (на выбо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 вопросы и задай партнёру, ответь на вопросы партнё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желанию выступление контрольной па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549000"/>
            <a:ext cx="8569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икт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а №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ние: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записать предложение, подчеркнуть однородные члены предло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Девочка отогнула красивый лепесток и увидела чей-то затыл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е сказуемые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огнула и увиде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олнце осветило своими горячими, яркими лучами лесную полян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в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родные определения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ячими, ярк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 и запиши предложения с прямой речью. Пусть это будут предложения-просьбы, с которыми обращаются друг к другу сказочные герои. Тебе придётся употребить слово «пожалуйст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: это слово выделяется запятым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ад  монологической  формой реч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468360" y="1197000"/>
            <a:ext cx="7920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ным направлением новых образовательных стандартов является осуществление метапредметного подхода, обеспечение развития универсальных учебных действ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1"/>
          <p:cNvSpPr/>
          <p:nvPr/>
        </p:nvSpPr>
        <p:spPr>
          <a:xfrm>
            <a:off x="395280" y="83664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аботай над своей устной научной речью. Подготовь связный рассказ на тему «Что я знаю о сложном предложении». Построить свой рассказ тебе поможет план. Не забудь, что каждую свою мысль нужно подтверждать приме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468360" y="612720"/>
            <a:ext cx="83516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диалога с автором текста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лушание чтения (рассказа) учителя,   фиксирование его темы, ключевых сл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одготовка устных рассказов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нсценирование и драматизация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устное словесное рисование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творческий пересказ текста от лица разных героев-персонажей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сочинение по личным впечатления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интервью с писателем;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письмо авторам учеб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универсальные учебные действия  обеспечивают ценностно-смысловую ориентацию обучающихся,  ориентацию в социальных ролях и межличностных отношения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765000"/>
            <a:ext cx="8229600" cy="580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уктуре  личностных УУД выделяют на 3 бл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амоопределение – процесс и результат выбора Личностью своей позиции целей и средств самоосуществления в конкретных обстоятельствах жизни, т.е. это основной механизм обретения и проявления человеком своб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7200" y="620280"/>
            <a:ext cx="8229600" cy="59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мыслообразование - действие смыслообразования, т.е. установление обучающимися связи между целью учебной деятельности и ее мотивом, другими словами, между результатом учения и тем, что побуждает деятельность, ради чего она осуществляется.  Ребенок пытается ответить на вопрос «Зачем мне это надо?», «Где мне это пригодится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действие нравственно – этического оценивания усваиваемого содержания, обеспечивающее личностный моральный выбор на основе социальных и личностных цен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 (пять строк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в образ Герасима, пятиклассники могут составить такой синквейн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ас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, трудолюби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ится, любит, работ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лжен страдать из-за жестокости лю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8CA5-B1F1-490D-BB83-95863E121E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6920" y="1628280"/>
            <a:ext cx="7777440" cy="4684680"/>
          </a:xfrm>
          <a:prstGeom prst="rect">
            <a:avLst/>
          </a:prstGeom>
          <a:noFill/>
          <a:ln w="9360">
            <a:solidFill>
              <a:srgbClr val="00b05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ая, полез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ем, узнаём, размышля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а – мой лучший дру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рост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ворила мама мн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жись спать пораньш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 серенький волч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-то спрятавшись в лесо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нь страшен и хитёр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c0504d"/>
                </a:solidFill>
                <a:latin typeface="Times New Roman"/>
              </a:rPr>
              <a:t>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юбит непослушных 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836280"/>
            <a:ext cx="8229600" cy="57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ое рисование с использованием средств выразительности язы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– э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ы – это… Ромашки – это… Подснежники – э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я – э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– это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формировать и развивать универсальные учебные действия у учащих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9799-7CD9-4041-8422-BAFA02328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1"/>
          <p:cNvSpPr/>
          <p:nvPr/>
        </p:nvSpPr>
        <p:spPr>
          <a:xfrm>
            <a:off x="826920" y="83664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лковывать текст через творческий перес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оч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об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отзывов, аннота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68360" y="69228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претация текста (собственная оценка прочитанного с позиции личного жизненного опыта)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е своего отношения к прочитанному с аргументацией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характеров и поступков героев; 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ирование концептуальной информации текста (в чём мудрость этой сказки? для чего писатель решил рассказать своим читателям эту историю?)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476280"/>
            <a:ext cx="8435880" cy="60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ценки достижения планируемых результатов по формированию ЛУУД используются задания разного тип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е ответа: задания с закрытым ответом (с выбором одного или нескольких правильных ответов) или открытым ответом (с кратким или развернутым ответом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проверяемых знаний, умений или способов действий: задания базового или повышенного уровн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пользуемым средствам при проведении работы: задания для письменной работы или устной беседы, практические задани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форме проведения работы: задания для индивидуальной или групповой рабо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228600"/>
            <a:ext cx="8640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о-деятельностный подх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любых личностных новообразований − умений, способностей, личностных качеств − возможно лишь в деятельност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.С. Выгот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1678-DFD6-4A82-AA33-7193F7E23F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907560"/>
            <a:ext cx="8229600" cy="566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-то из мудрых сказал, что народ, !!! который думает на один год вперёд - выращивает хлеб, народ, который думает на 10 лет вперёд - выращивает сад, народ, который думает на 100 лет вперёд - выращивает молодое покол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работы учителя по формированию ключевых компетенций обучающегос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755640" y="549360"/>
            <a:ext cx="7345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ироком значении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универсальные учебные действия» означает умение учиться, т. е. способность субъекта  к саморазвитию и самосовершенствованию путем сознательного и активного присвоения нового социального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611280" y="476280"/>
            <a:ext cx="777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более узком 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бственно психологическом) значении  термин «универсальные учебные действия» можно определить как совокупность способов действия учащегося (а также связанных с ними навыков учебной работы), обеспечивающих самостоятельное усвоение новых знаний, формирование умений, включая организацию  этого процес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27:25Z</dcterms:created>
  <dc:creator>Helen</dc:creator>
  <dc:description/>
  <dc:language>en-US</dc:language>
  <cp:lastModifiedBy>Live</cp:lastModifiedBy>
  <dcterms:modified xsi:type="dcterms:W3CDTF">2017-01-07T22:31:04Z</dcterms:modified>
  <cp:revision>47</cp:revision>
  <dc:subject/>
  <dc:title>Слайд 1</dc:title>
</cp:coreProperties>
</file>