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1A6-7C0D-442C-8E03-550FE541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770-54FA-4263-B6FB-7B2A6150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AB28C-4D29-4E6C-B885-1BF3ECC2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EEAB3-4587-4A2F-9DCA-0C530FAF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075AE-491B-48AC-A9E0-FFF5DE04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BE2C3-2247-489F-9F2F-225E8039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14AD6-6913-4B0E-9FC6-57D2FAF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FC639-7157-4CA5-B1AC-7FB5576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91FD6-D42B-4A19-8CB4-7685E5F7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5A9B3-813B-450A-99E1-A5560607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B3A51-9891-4890-97B0-E760B417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C479F-7CAC-4376-93CB-2D9BD84A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591-4FC5-4CCD-B78E-B4648734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D10D1-85C0-4000-A7AC-89F94C81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39617-A6F1-464A-B914-9EE4B227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D8112-1494-41C5-9B78-48E99F5D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EF261-AB7C-47BC-B630-09975B37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713B5-99B9-42A5-9812-5F9871D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9D4BC-B466-4FFC-A50B-0A1272E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DB17C-8AA0-4096-97E5-C07A2890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A060E-86C6-4AE0-9CDE-4EA5EADB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B9CA9-F7AA-44B1-AD62-5C4C8D28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8927B-BEBA-40CE-B3C4-FC10721F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25C-37CF-41EA-91DB-C3005171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2F374-9EF0-435D-9317-D2656442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AF596-8EAA-4A1F-AD8D-37B98092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53402-787E-4C7B-83BC-384CACC8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07441-C34D-478A-90A9-5036F88D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70222-DC60-4A48-9FB3-559CA8A8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C84CB-7C31-41E5-A7D2-9F7945A8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648EA-C016-472F-AD53-E9F7E589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87F2F-BD43-46E9-AB4F-8998852A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91682-562E-4498-BC62-59EE06E0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6A16E-281E-4AB5-ADD1-EBC51BA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7382-0EFB-40EF-9DE1-F4B3CC62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A24F3-3CF9-461C-9808-FC0E048E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2762D-3EB2-4BA8-821D-5D84BF74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7BE07-AAE7-4A1E-915F-D97DBE54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FA3D-AC47-4F8C-A2F3-1F843820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86F4-1DB1-4378-8E7B-3A38AD8F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BFDA-2947-4DCD-AB66-D9BA10C3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A6F7-8FC7-4ECA-8ABB-75C3318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9066-4690-4134-B8DE-797A8AE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4CB6-417A-4DD5-8BA7-7CE0ED46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899-0FE1-4EF6-932A-D2E1D37C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621E-2A9C-4C03-B99C-79B405D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E2B9-EC3D-4A40-AC3E-578865FB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6F93-56FA-47A9-80FB-78D7B8F0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6A14-9C91-4F37-9F8C-4196EBE6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1C64-3B9F-4795-A0FE-36CDFD96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30F3-EBAB-4B41-8CE2-1424DFB8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B2BD-E12E-4EBF-B460-602A0C8F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7955-3883-4104-A1F0-E3735EB0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0901-F847-42E8-B4C8-CFA3E1F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6A71-38D3-4F41-A324-0A71CCF2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5E6-4C1C-4D3F-9188-FAFAB748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D5B6-F2D8-4EA0-A4B6-1D6AA581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8C87-1B0E-4214-85A3-B92D66B2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90D7-017E-4591-BDC1-9E0ED284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C09A-EED9-49D0-8461-A83A598D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4EA0-D64A-48D9-87B1-D1720F2D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7084-1366-49D6-98D1-89692664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86A79-44B8-444A-85A4-6FB013B9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ABA2E-6D05-4693-8C72-E602F20A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B003-B4A4-451A-AEE3-6A8C6D77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6F46-9782-47B7-B214-6E47E29B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07F8-3705-494A-BE37-B1575B26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C7CD-53A7-4C1C-8208-97E247DE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1B01-146F-4C86-B29C-BF0543B8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4CDE-F244-41EF-B051-C56C7054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13D04-4F55-48E2-BB42-0E037D4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843A6-5E47-4DEF-8191-48A9883C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CA57-625C-4CBD-A19C-87EC8DB8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5CCF-FAD3-4468-889B-C0B4C6EB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9D3F-2A4D-486D-B9CC-FF8BFC2A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776B-4E70-4A82-BD54-EBB631E2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060A0-27E5-4B18-88C9-877B4B94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A26-73B4-4198-A819-58920B27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1DF3B-F25B-4AE5-B4D8-1C069184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C02A0-8A96-45C9-A866-152E59B4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61B2F-B947-485F-9EE8-C67A4373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4209C-74FC-44C4-95A5-2DE95738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273B8-365E-4FB3-B9FF-71E5E8E5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179B-C89C-4736-B988-897CAA87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9E96B-B965-49DA-9DC2-F398C79F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8156-000A-4691-852B-3D0EFE24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73C4A-0301-4401-8DF7-EC011CDF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E4D8D-5232-4016-AC4F-654F2FBE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F7F-16E5-4772-BECF-7C8D2A59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0F3A9-B5C5-45EC-8F38-A40ECE41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D97D5-9C22-411E-8CB5-92DB4FC2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77552-3275-4835-8C0D-0B01C92D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E8DAC-7EC2-4ED6-8361-653ED709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E7C44-38E4-47DD-B56B-4FC8D221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66DAB-5B23-4EA7-823D-94D5B60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3545E-7F2C-4BAE-BC62-C30720DD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9F463-2AF7-442C-97AC-BE410300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7507E-2015-4F35-8034-34F8D6C1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C96D-170D-4104-9475-9E7E3407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A47-3778-47A3-8F03-2D197706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9DF4B-40BD-4A92-88B7-76213909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58EAD-32A3-4824-B0BA-7CB55778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7208F-06F5-4EB0-B020-32681803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C745-2A2B-43B0-B442-26E5447D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1847A-0992-488D-8A59-2973D057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8AC93-74A1-44D5-B682-F4D546DD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7D39D-9C61-45C4-9C57-F3B1CA34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90900-9EC9-48EC-A524-1AE0E81B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19454-5DFD-4A87-A95A-017EFB75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4CC4D-F032-449C-85D3-A2BA845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182-62C9-43B8-886B-ABF141B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305B2-D6D8-430E-B620-03D5A6FD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53E3-D917-47EB-8E1D-4CB8D6E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C702A-7C18-40B0-9B06-5636D101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3D0A3-91A4-4BE4-ACD9-4F5098FC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6BAC2-F73F-422D-83B9-07284773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82E98-10D5-4963-9DF1-B3A30C49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9CE08-4E3C-4978-B5F9-B2C952D6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0ADE-87FF-408E-B7F1-C24EB09C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D3EC2-B601-472A-B899-A56334AE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00016-9173-44B0-ABE1-20545662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667-6338-4496-BCB5-103A9E0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545B7-35D8-4DA2-A6E3-ACCFA5D2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50832-E7B8-4BC3-8092-4799D2AE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8231B-D51D-4DE1-AB6C-F6542677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91D60-0538-42F2-A811-9A66F8F6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1B8B9-9CF5-41ED-BA3A-3B8C6583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A355A-4822-4407-BF8D-56043D25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C6DB2-2064-402A-A0F9-983DB2D9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630BE-9FAC-4C9C-9C27-F3CE1E12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8A5F8-D68B-48B0-85A4-9EB4EF9A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866EC-B77A-4489-9AC2-479D49C5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3ABB-3777-4575-9585-86880A23C9E0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CDE1-80E1-4A09-9A65-A1D66CDC6D15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C1CD-3ED6-4254-99DA-E5EF7D1AE333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72AD-6913-453A-B6CA-760F057DF943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32EE-6577-4E93-B4D3-5259D51945AD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3A1A-2982-49B5-B5B0-BEC166220202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1D36-6831-48B0-8129-B9135EF998D4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211F-1C48-4839-B25B-D716CD1102A2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C2BD-EE0B-45E5-9633-BA607D07B391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4492-A61A-4311-AA1A-74409AF0E5B9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317E-0594-4F88-AC51-D2C42E7D2865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465" name="Текст 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762120" y="685800"/>
            <a:ext cx="76960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менение НРК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уроках математики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a157a"/>
                </a:solidFill>
                <a:latin typeface="Calibri"/>
              </a:rPr>
              <a:t>Единицы площади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53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территории Камского региона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амятниками природ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являютс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Большой бор" ( 878 га ) Елабужского райо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Сложный бор" ( 49 га ) Агрызского райо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Сокольское лесничество ( 3908 га ) Мамадышского райо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Берсутские пихтарники" ( 318 га ) Мамадышского райо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Чертово городище" - место древнего поселения булгар Елабужского район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общую площадь памятников природы Камского реги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686480" y="189000"/>
            <a:ext cx="4457520" cy="5616360"/>
            <a:chOff x="4686480" y="189000"/>
            <a:chExt cx="4457520" cy="5616360"/>
          </a:xfrm>
        </p:grpSpPr>
        <p:pic>
          <p:nvPicPr>
            <p:cNvPr id="502" name="Текст 29" descr=""/>
            <p:cNvPicPr/>
            <p:nvPr/>
          </p:nvPicPr>
          <p:blipFill>
            <a:blip r:embed="rId1"/>
            <a:stretch/>
          </p:blipFill>
          <p:spPr>
            <a:xfrm>
              <a:off x="4686480" y="189000"/>
              <a:ext cx="4457520" cy="56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 txBox="1"/>
            <p:nvPr/>
          </p:nvSpPr>
          <p:spPr>
            <a:xfrm>
              <a:off x="4686480" y="189000"/>
              <a:ext cx="4457520" cy="56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lnSpc>
                  <a:spcPct val="90000"/>
                </a:lnSpc>
                <a:spcBef>
                  <a:spcPts val="499"/>
                </a:spcBef>
                <a:buClr>
                  <a:srgbClr val="feb80a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4811760" y="5791320"/>
            <a:ext cx="433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БОЛЬШОЙ  БОР  - НП  НИЖНЯЯ КА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157a"/>
                </a:solidFill>
                <a:latin typeface="Calibri"/>
              </a:rPr>
              <a:t>Задачи на дроби</a:t>
            </a: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89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ритория Камского региона включает в себя Елабужский, Мамадышский, Менделеевский, Агрызский районы. Общая площадь территории 652600 га. Леса занимают 136000га, в том числе в Елабужском районе 19000га. Какую часть составляют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лесопосадки Елабужского райо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 площади всех лесных массивов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148360" y="1258920"/>
            <a:ext cx="3995640" cy="2663640"/>
            <a:chOff x="5148360" y="1258920"/>
            <a:chExt cx="3995640" cy="2663640"/>
          </a:xfrm>
        </p:grpSpPr>
        <p:pic>
          <p:nvPicPr>
            <p:cNvPr id="508" name="Текст 29" descr=""/>
            <p:cNvPicPr/>
            <p:nvPr/>
          </p:nvPicPr>
          <p:blipFill>
            <a:blip r:embed="rId1"/>
            <a:stretch/>
          </p:blipFill>
          <p:spPr>
            <a:xfrm>
              <a:off x="5148360" y="1258920"/>
              <a:ext cx="399564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 txBox="1"/>
            <p:nvPr/>
          </p:nvSpPr>
          <p:spPr>
            <a:xfrm>
              <a:off x="5148360" y="1258920"/>
              <a:ext cx="3995640" cy="26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spcBef>
                  <a:spcPts val="451"/>
                </a:spcBef>
                <a:buClr>
                  <a:srgbClr val="feb80a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510" name="Текст 29" descr=""/>
          <p:cNvPicPr/>
          <p:nvPr/>
        </p:nvPicPr>
        <p:blipFill>
          <a:blip r:embed="rId2"/>
          <a:stretch/>
        </p:blipFill>
        <p:spPr>
          <a:xfrm>
            <a:off x="5105520" y="3938760"/>
            <a:ext cx="4038480" cy="2919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a157a"/>
                </a:solidFill>
                <a:latin typeface="Times New Roman"/>
              </a:rPr>
              <a:t>Татарские ученые математики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512" name="Текст 29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2819520" cy="4389480"/>
          </a:xfrm>
          <a:prstGeom prst="rect">
            <a:avLst/>
          </a:prstGeom>
          <a:ln w="0">
            <a:noFill/>
          </a:ln>
        </p:spPr>
      </p:pic>
      <p:pic>
        <p:nvPicPr>
          <p:cNvPr id="513" name="Текст 29" descr=""/>
          <p:cNvPicPr/>
          <p:nvPr/>
        </p:nvPicPr>
        <p:blipFill>
          <a:blip r:embed="rId2"/>
          <a:stretch/>
        </p:blipFill>
        <p:spPr>
          <a:xfrm>
            <a:off x="5796000" y="1935000"/>
            <a:ext cx="2890800" cy="4389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a157a"/>
                </a:solidFill>
                <a:latin typeface="Calibri"/>
              </a:rPr>
              <a:t>Площадь поверхности прямоугольного параллелепипеда. Объем прямоугольного параллелепипеда.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Найти площадь поверхности и объём коробки  молока «Вкусняево»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6" name="Текст 29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49568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157a"/>
                </a:solidFill>
                <a:latin typeface="Calibri"/>
              </a:rPr>
              <a:t>Единицы массы</a:t>
            </a: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машнее зада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йти старинные татарские (русские) единицы измерения массы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.Насретдин «Өч кадак май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.Насретдин «Иш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әккә авыр була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684680" y="1413000"/>
            <a:ext cx="4459320" cy="5445000"/>
            <a:chOff x="4684680" y="1413000"/>
            <a:chExt cx="4459320" cy="5445000"/>
          </a:xfrm>
        </p:grpSpPr>
        <p:pic>
          <p:nvPicPr>
            <p:cNvPr id="520" name="Текст 29" descr=""/>
            <p:cNvPicPr/>
            <p:nvPr/>
          </p:nvPicPr>
          <p:blipFill>
            <a:blip r:embed="rId1"/>
            <a:stretch/>
          </p:blipFill>
          <p:spPr>
            <a:xfrm>
              <a:off x="4684680" y="1413000"/>
              <a:ext cx="445932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 txBox="1"/>
            <p:nvPr/>
          </p:nvSpPr>
          <p:spPr>
            <a:xfrm>
              <a:off x="4684680" y="1413000"/>
              <a:ext cx="4459320" cy="544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lnSpc>
                  <a:spcPct val="90000"/>
                </a:lnSpc>
                <a:spcBef>
                  <a:spcPts val="550"/>
                </a:spcBef>
                <a:buClr>
                  <a:srgbClr val="feb80a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25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32929"/>
                </a:solidFill>
                <a:latin typeface="Calibri"/>
              </a:rPr>
              <a:t>Задача 1.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Каждый год на человека приходится 350 кг вредных веществ. Сколько кг вредных веществ приходится на 71181 человек Елабуги?</a:t>
            </a:r>
            <a:endParaRPr b="0" lang="en-US" sz="4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3857760"/>
            <a:ext cx="8229600" cy="24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Решение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71181∙350= 24913350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(кг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1042920" y="4592520"/>
            <a:ext cx="256392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0246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2929"/>
                </a:solidFill>
                <a:latin typeface="Times New Roman"/>
              </a:rPr>
              <a:t>Задача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ворят, леса – лёгкие городов. 1 га леса за час поглощает столько углекислого газа, сколько выдыхает 200 человек. В национальном парке «Нижняя Кама» 26000га леса. Сколько человек за  каждый час может выдыхать углекислого газа?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4508640"/>
            <a:ext cx="7201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nstantia"/>
              </a:rPr>
              <a:t>Решение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000∙200=5200000 (человек) </a:t>
            </a:r>
            <a:r>
              <a:rPr b="0" lang="en-US" sz="3200" spc="-1" strike="noStrike">
                <a:solidFill>
                  <a:srgbClr val="f32929"/>
                </a:solidFill>
                <a:latin typeface="Times New Roman"/>
              </a:rPr>
              <a:t>Для справки: население Елабуги в 2014 году составляет 71991 человек</a:t>
            </a:r>
            <a:r>
              <a:rPr b="0" lang="en-US" sz="2600" spc="-1" strike="noStrike">
                <a:solidFill>
                  <a:srgbClr val="f32929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32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3   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</a:rPr>
              <a:t>В нашем Елабужском районе живёт около 81800 человек.</a:t>
            </a: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</a:rPr>
              <a:t>Представим, что каждый двадцатый из них, побывав в соседнем лесу, бросит там пакетик из-под чипсов и пластиковую бутылку. Сколько всего пакетов и бутылок будет под каждым деревом, если в лесу 100 елей, 100 берёз, 100 осин и 100 клёнов.</a:t>
            </a:r>
            <a:endParaRPr b="0" lang="en-US" sz="28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528" name="Picture 3" descr="F:\Documents and Settings\Mama\Мои документы\Мои рисунки\2007_09_29\IMG_0835.JPG"/>
          <p:cNvPicPr/>
          <p:nvPr/>
        </p:nvPicPr>
        <p:blipFill>
          <a:blip r:embed="rId1"/>
          <a:stretch/>
        </p:blipFill>
        <p:spPr>
          <a:xfrm>
            <a:off x="609480" y="3581280"/>
            <a:ext cx="3419640" cy="3033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4642920" y="2381400"/>
            <a:ext cx="4038840" cy="39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0" name="Picture 4" descr="F:\Documents and Settings\Mama\Мои документы\Мои рисунки\2007_09_29\IMG_0833.JPG"/>
          <p:cNvPicPr/>
          <p:nvPr/>
        </p:nvPicPr>
        <p:blipFill>
          <a:blip r:embed="rId2"/>
          <a:stretch/>
        </p:blipFill>
        <p:spPr>
          <a:xfrm>
            <a:off x="4876920" y="3505320"/>
            <a:ext cx="3816360" cy="3181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4e5b6f"/>
                </a:solidFill>
                <a:uFillTx/>
                <a:latin typeface="Comic Sans MS"/>
              </a:rPr>
              <a:t>Домашнее задание:</a:t>
            </a:r>
            <a:endParaRPr b="0" lang="en-US" sz="38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532" name="Picture 2" descr="F:\Documents and Settings\Mama\Мои документы\Мои рисунки\2007_09_29\IMG_0837.JPG"/>
          <p:cNvPicPr/>
          <p:nvPr/>
        </p:nvPicPr>
        <p:blipFill>
          <a:blip r:embed="rId1"/>
          <a:stretch/>
        </p:blipFill>
        <p:spPr>
          <a:xfrm>
            <a:off x="468360" y="1197000"/>
            <a:ext cx="3994200" cy="53276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4066920" y="691920"/>
            <a:ext cx="4537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идумать 4 задачи, решение которых помогло бы нам оценить вред, наносимый нами окружающей природ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157a"/>
                </a:solidFill>
                <a:latin typeface="Calibri"/>
              </a:rPr>
              <a:t>Найти татарские сказки, в названиях которых есть натуральные числа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468" name="Текст 29" descr=""/>
          <p:cNvPicPr/>
          <p:nvPr/>
        </p:nvPicPr>
        <p:blipFill>
          <a:blip r:embed="rId1"/>
          <a:stretch/>
        </p:blipFill>
        <p:spPr>
          <a:xfrm>
            <a:off x="0" y="134136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3914640"/>
            <a:ext cx="3995640" cy="29433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3062520" cy="4064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Calibri"/>
              </a:rPr>
              <a:t>Найти и</a:t>
            </a:r>
            <a:r>
              <a:rPr b="0" lang="en-US" sz="46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800" spc="-1" strike="noStrike">
                <a:solidFill>
                  <a:srgbClr val="ff3300"/>
                </a:solidFill>
                <a:latin typeface="Calibri"/>
              </a:rPr>
              <a:t>выписать встречающиеся в тексте натуральные числа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начале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века в городе было 10 000 жителей, из них более 600 купцов, среди которых 12 миллионеров. Наиболее известная 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династия купцов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Стахеевых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мела ежегодный торговый оборот около 150 миллионов рубл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819680" y="1413000"/>
            <a:ext cx="4324320" cy="5445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507520" cy="16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a157a"/>
                </a:solidFill>
                <a:latin typeface="Calibri"/>
              </a:rPr>
              <a:t>Где встречается римская нумерация? 5 примеров с римскими цифрами, касающиеся истории родного края – домашнее задание</a:t>
            </a:r>
            <a:r>
              <a:rPr b="0" lang="en-US" sz="3300" spc="-1" strike="noStrike">
                <a:solidFill>
                  <a:srgbClr val="4e5b6f"/>
                </a:solidFill>
                <a:latin typeface="Calibri"/>
              </a:rPr>
              <a:t>.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ая эпоха в археологии получила свое название благодаря открытию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Ананьинского могиль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аименование деревни, расположенной в 3 километрах от Елабуги, на месте которой были произведены раскопки в серед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) близ Елабуги, датируемого VIII—V вв. до н. э. Елабуга возникла на рубеже X—XI веков и сформировалась как поселение городского типа к 1005—1010 годам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5210280" y="1600200"/>
            <a:ext cx="3933720" cy="2762280"/>
            <a:chOff x="5210280" y="1600200"/>
            <a:chExt cx="3933720" cy="2762280"/>
          </a:xfrm>
        </p:grpSpPr>
        <p:pic>
          <p:nvPicPr>
            <p:cNvPr id="478" name="Текст 29" descr=""/>
            <p:cNvPicPr/>
            <p:nvPr/>
          </p:nvPicPr>
          <p:blipFill>
            <a:blip r:embed="rId1"/>
            <a:stretch/>
          </p:blipFill>
          <p:spPr>
            <a:xfrm>
              <a:off x="5210280" y="1600200"/>
              <a:ext cx="3933720" cy="27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 txBox="1"/>
            <p:nvPr/>
          </p:nvSpPr>
          <p:spPr>
            <a:xfrm>
              <a:off x="5210280" y="1600200"/>
              <a:ext cx="3933720" cy="27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lnSpc>
                  <a:spcPct val="90000"/>
                </a:lnSpc>
                <a:spcBef>
                  <a:spcPts val="400"/>
                </a:spcBef>
                <a:buClr>
                  <a:srgbClr val="feb80a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480" name="Текст 29" descr=""/>
          <p:cNvPicPr/>
          <p:nvPr/>
        </p:nvPicPr>
        <p:blipFill>
          <a:blip r:embed="rId2"/>
          <a:stretch/>
        </p:blipFill>
        <p:spPr>
          <a:xfrm>
            <a:off x="5105520" y="4365720"/>
            <a:ext cx="403848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a157a"/>
                </a:solidFill>
                <a:latin typeface="Calibri"/>
              </a:rPr>
              <a:t>Сравнение натуральных чисел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равнение населения сельской местности Елабужского района и городского. Решение задач на сравнение количества русских и татар, территории, животных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имер.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В 2001 году в Прикамском регионе насчитывалось 600 лосей, 600 лисиц, 470 кабанов. В 2005 году –580 лосей, 500 лисиц, 650 кабанов. Сравните животных каждого вида в разных годах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7704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157a"/>
                </a:solidFill>
                <a:latin typeface="Calibri"/>
              </a:rPr>
              <a:t>Действия  с натуральными числами</a:t>
            </a: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шня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Чёртового городищ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была отреставрирована в 1867 году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Иваном Васильевичем Шишкины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отцом художника). В 1833 году он проложил первый в Елабуге водопровод, который действует до нашего времен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 Сколько лет  после реставрации стоит башня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) Сколько лет жители г. Елабуги пользуются водопроводо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003640" y="3741840"/>
            <a:ext cx="4140360" cy="3116160"/>
            <a:chOff x="5003640" y="3741840"/>
            <a:chExt cx="4140360" cy="3116160"/>
          </a:xfrm>
        </p:grpSpPr>
        <p:pic>
          <p:nvPicPr>
            <p:cNvPr id="486" name="Текст 29" descr=""/>
            <p:cNvPicPr/>
            <p:nvPr/>
          </p:nvPicPr>
          <p:blipFill>
            <a:blip r:embed="rId1"/>
            <a:stretch/>
          </p:blipFill>
          <p:spPr>
            <a:xfrm>
              <a:off x="5003640" y="3741840"/>
              <a:ext cx="41403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 txBox="1"/>
            <p:nvPr/>
          </p:nvSpPr>
          <p:spPr>
            <a:xfrm>
              <a:off x="5003640" y="3741840"/>
              <a:ext cx="4140360" cy="311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lnSpc>
                  <a:spcPct val="90000"/>
                </a:lnSpc>
                <a:spcBef>
                  <a:spcPts val="400"/>
                </a:spcBef>
                <a:buClr>
                  <a:srgbClr val="feb80a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488" name="Текст 29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a157a"/>
                </a:solidFill>
                <a:latin typeface="Calibri"/>
              </a:rPr>
              <a:t>Сложение и вычитание столбиком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41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родок наш ничего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селение таково: в 1856 году 5700 че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2013 году на  66349 чел. больше. Сколько человек проживает в городе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читайте-ка, ребята, и узнайте, каково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1" name="Текст 29" descr=""/>
          <p:cNvPicPr/>
          <p:nvPr/>
        </p:nvPicPr>
        <p:blipFill>
          <a:blip r:embed="rId1"/>
          <a:stretch/>
        </p:blipFill>
        <p:spPr>
          <a:xfrm>
            <a:off x="4648320" y="1916280"/>
            <a:ext cx="4495680" cy="2433600"/>
          </a:xfrm>
          <a:prstGeom prst="rect">
            <a:avLst/>
          </a:prstGeom>
          <a:ln w="0">
            <a:noFill/>
          </a:ln>
        </p:spPr>
      </p:pic>
      <p:pic>
        <p:nvPicPr>
          <p:cNvPr id="492" name="Текст 29" descr=""/>
          <p:cNvPicPr/>
          <p:nvPr/>
        </p:nvPicPr>
        <p:blipFill>
          <a:blip r:embed="rId2"/>
          <a:stretch/>
        </p:blipFill>
        <p:spPr>
          <a:xfrm>
            <a:off x="4648320" y="4422600"/>
            <a:ext cx="4495680" cy="2435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157a"/>
                </a:solidFill>
                <a:latin typeface="Calibri"/>
              </a:rPr>
              <a:t>Решение текстовых задач с помощью умножения и деления.</a:t>
            </a:r>
            <a:r>
              <a:rPr b="0" lang="en-US" sz="4600" spc="-1" strike="noStrike">
                <a:solidFill>
                  <a:srgbClr val="ea157a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ельство здания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Епархиального женского училищ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надворных сооружений, ограды и других построек обошлось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Г.Ф. Стахеев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чти в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500 000 рубл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Сумму эту можно представить только с помощью наглядных примеров. На рубеже веков в Елабуге овца стоила 1 руб. 50 коп., корова – 10-12 рублей, а дальше каждый легко может подсчитать, во что бы обошлась эта постройка в конц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ека. Приблизительно сколько овец  (коров) можно было купить на эту сумму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4356000" y="3265560"/>
            <a:ext cx="4788000" cy="35924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157a"/>
                </a:solidFill>
                <a:latin typeface="Calibri"/>
              </a:rPr>
              <a:t>Решение задач на части.</a:t>
            </a: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ронза – это сплав 9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ча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еди и 1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ча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лова. Сколько кг меди и сколько олова необходимо было  для изготовления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пьедестала памятника И.И. Шишкин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масса 800 кг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8" name="Текст 29" descr=""/>
          <p:cNvPicPr/>
          <p:nvPr/>
        </p:nvPicPr>
        <p:blipFill>
          <a:blip r:embed="rId1"/>
          <a:stretch/>
        </p:blipFill>
        <p:spPr>
          <a:xfrm>
            <a:off x="5580000" y="1600200"/>
            <a:ext cx="35640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rise</cp:lastModifiedBy>
  <dcterms:modified xsi:type="dcterms:W3CDTF">2016-11-27T15:22:4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