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png" ContentType="image/png"/>
  <Override PartName="/ppt/media/image3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E945-CFD5-4A82-8C12-2CB8A2C1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16C-3374-419C-9ABA-A7FB65990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DA2F8-32A4-4F1A-892E-75D3C410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0BF49-AB64-4666-AC20-1CEDC720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190B9-8269-4A85-8F77-EF70F34B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59FCB-BE5D-4D3E-BFB0-F1240499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96D37-B57C-424C-A84D-9EFF918D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DA684-064C-4F55-AA71-E18E4ADD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65CDC-96A7-488F-B3AE-3282639F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ADBB8-F849-44FD-98D6-1F3BF6D61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41959-7533-4926-9418-21EA1D02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E4FE42-09EB-46F4-ABF2-2705F149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176-72C6-41A7-8F7C-919E9B78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B8C97-BD72-4B44-8FFA-7478221C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E6EAC-6861-4DE0-AB1E-EAD75019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2CFA7-0F16-404E-93CF-DC79B0E1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1AC24-D449-4AD1-8B42-B79E4077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75253-5318-4707-BC53-401BC823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6F445-CA68-4629-BF23-2394792D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0E48B-CCE1-4CD7-A938-A6FF6333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846F47-8A22-4B17-AA78-D7966F3F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A0CCB-A515-4DBC-9435-0376A389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E4317-7B9A-47F9-AEA7-5D77A81D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749B-9592-42B2-86FB-D28FC847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4CBBB-C2A7-4814-ADFC-983A05DA3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7A734-3436-44CA-9841-AD44A572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4F467-9737-4CED-B950-8CDEC7EE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E14E6-D796-401F-B967-4F900DBA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6EAEE-AF44-4943-898A-827E4705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E3878-07ED-45B8-AC54-7F98C4A7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76B6B-68E7-4A23-A4FF-67F308CC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8289B-66C4-4133-ADC8-57984E18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68907-FE14-45F5-8856-F02DE845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3CB58-0C77-40D0-9EDB-C6EDF9A2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A623E-B7CB-4C5A-8F72-F9A21CBA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9F5AD-4C1C-46D5-86B2-1B82B160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4C250-06FB-41BF-B642-675F0DD63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288BA-017B-4DC4-989E-D0AAF3E6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5325-13DA-4716-8454-A8733796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75374-CAF0-4385-A779-7E135CCA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7B5E-E0A6-4A36-B3C0-298BA4AD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FDE8-35EA-4B35-9D12-58639D37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B0E8-B589-498C-9AA6-B56F17CE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30E5-809D-4CBE-9615-53EEC9EC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FDF-A3F4-4437-A876-01C9A351B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2A72-1967-448E-A5C0-1D766D59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5856-8311-41DF-AF7E-FDA2EE12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34D1-2B7F-4964-A488-02E01BC5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F31F-0704-4457-9683-EF175975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89CF-E246-457D-9E62-3368C35E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02F4F-94CA-4237-997A-E566BF9A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2DC3A-8159-41FD-ACCB-7B95F35C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F32B8-5E7D-4493-9A41-0BF648FC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3CF9C-D7DA-4868-9020-D9967DA2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223C4-8412-4BE5-8015-0D44D511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6EA3-86F2-4952-9717-222D3B98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0C577-FA8E-49D1-B43D-A7B6E56E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079DD-80E4-4CE2-8C12-8BDA6A61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DED01-1F7B-4B23-BF54-1BDEBE6DF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9965-93CC-49D5-B2DC-08FE42CEA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7DF43-F186-4AB0-9DB8-E6C3ED81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F9FB7-5A6D-4A4F-AAFD-D4B930F5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07158-C19A-4F12-BE6A-2790ACB2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32471-4873-4F50-A160-AA66E6041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70CF2-B9FA-44B6-BC05-F2F44E89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F160C-9DE7-4681-B546-C71D48F13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C96A-B335-43B4-AA4D-A18AF06C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EF052-6616-4AB8-BDD6-B8215BBB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776F7-7B42-4D6C-8B30-C40D3844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483BE-EEEC-490C-BA3C-26377576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62019-3581-4F44-B3CF-5ED45137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84AEF-07AA-48A2-9FDB-AE396306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E8F69-42AF-498F-9EC0-6B6FB8AF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47BCC-E332-470B-B989-314E8D33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DEE3A-FB34-4C82-8C0F-8EA90A1A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E878E-6DF1-4215-9803-75D169CD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69306-B14B-4D7F-95A2-5A970DC1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CD79-207E-4CC2-9677-ECCCCAC6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B7F02-959A-42DD-AAC2-6C9FDA88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4D4BD-8617-44B7-BA59-6070C65A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DE236-77F7-42AE-A314-51F5B73F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B61BF-A87A-46E1-A76F-34BE95E5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0A084-DCD8-425D-9521-3DE26925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C7912-0F6A-449C-A5B4-808CB2BB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53BC2-4F9F-4EAC-AC50-65CEA341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1CB66-1DA0-40B6-8810-60CC4147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11119-C7BB-4E86-AF1C-C4BAC5EB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D231B-8BB2-489C-89A3-FC0DDCA37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0999-429A-4384-8717-AD6AE128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EBE97-0866-4C26-AD43-78B1B820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C4EB59-B56F-4A98-AAEB-631BD548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5B9D1-D97E-4995-981E-1170E94CE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23611-6F6D-4F45-8647-DC5A48AD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E690C-D614-456E-B511-012185B7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3EBC8-0895-4D4B-A273-2269CE0A5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DEF82-4CAA-41F5-A915-05BE43D0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B5B14-5838-4C90-B679-A06F00B9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EF12C-25FF-4E86-911D-11A3F421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E526D-21D0-4202-A29F-C3530B02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0D78-531F-4CA9-A55A-57217842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062D9-8F30-44E0-857F-A4795BE1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C66AA-E5FE-4022-BE3C-A2980751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E06A0-7229-4E72-8771-C652EE69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A20E9-BAAB-4CE5-9E27-ABB45289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D9699-E04C-4D1A-857A-30A93E8A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00AC8-CC0D-409D-BAC8-ED12A641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164C5-A3E2-48FA-904C-C6A3F9F8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25141-F973-403E-A232-F4E95997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3E6A4-BB87-4624-A74E-C307EA49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10012-67E2-470D-BEFF-2DA80F71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D6B6-B240-4FC0-AC99-78809D3E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7F4C5-FA1F-4AEC-B5D4-990500E7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37EB4-040A-4E38-A00E-BE221536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EBA55-6BF4-4D3A-BA77-1BEA0013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84FD2-2A23-4E18-9DDF-DF219EF8F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12413-5075-4E8A-B160-16461A3D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C81AA-DA7B-40C3-9518-3E7B7C12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AD896-2987-4F5C-AADF-6C6D7102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4D193-6616-4E36-9478-1C1671C9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C4245-9260-46C0-850A-A574B3A2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722F3-AC9C-4515-89DE-8B4AD74D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9488-873A-486F-902A-47400A3C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B2B41-D916-4FD1-8E30-F9A5AC70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AD00E-1930-43F0-9EC1-33FA8501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A3CA7-6A45-4BAF-8168-A72D355B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4933E-EF74-4033-ABA9-5871B302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E3BE7-3A55-4921-8493-6141A42D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E52F77-6EA7-4436-8A96-0F33A235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3E5F5-5074-48FB-94B9-A2FB3B77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7C150-CA17-4B8E-A6C0-9678C14B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E35D8-512F-485F-9D0F-C8C016CF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6A6E8-D589-4034-BE14-E67562A8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5F90-9AAB-44E0-8F01-B816F0DB0DE1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B60EC-9F7D-4D1B-90C7-87C97E3E4563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35FA-CEBF-4A68-89D6-509177077B58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B874-93C2-4F2C-BE61-2CD93AA67297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F6D9-A29F-429F-B874-405E5418EC10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892E-3319-48A6-A3F0-3949CBC79662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E1AB-F860-4BE6-A5AA-33AE50787EE5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5767-9B4D-43C5-B966-ECFE08E78FF1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3721-2179-4F7C-8C60-CA7091EF43A1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B332-C233-46BB-AEE1-947AC1CA0A54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3D34-E4BF-4A4B-85B9-F5351AF6DA2C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465" name="Текст 2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762120" y="685800"/>
            <a:ext cx="76960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менение НРК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уроках математики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a157a"/>
                </a:solidFill>
                <a:latin typeface="Calibri"/>
              </a:rPr>
              <a:t>Единицы площади</a:t>
            </a:r>
            <a:r>
              <a:rPr b="0" lang="en-US" sz="46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53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территории Камского региона </a:t>
            </a:r>
            <a:r>
              <a:rPr b="0" lang="ru-RU" sz="2000" spc="-1" strike="noStrike">
                <a:solidFill>
                  <a:srgbClr val="ff3300"/>
                </a:solidFill>
                <a:latin typeface="Times New Roman"/>
              </a:rPr>
              <a:t>памятниками природ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являются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Большой бор" ( 878 га ) Елабужского район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Сложный бор" ( 49 га ) Агрызского район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Сокольское лесничество ( 3908 га ) Мамадышского район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Берсутские пихтарники" ( 318 га ) Мамадышского района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•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"Чертово городище" - место древнего поселения булгар Елабужского район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ите общую площадь памятников природы Камского регион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686480" y="189000"/>
            <a:ext cx="4457520" cy="5616360"/>
            <a:chOff x="4686480" y="189000"/>
            <a:chExt cx="4457520" cy="5616360"/>
          </a:xfrm>
        </p:grpSpPr>
        <p:pic>
          <p:nvPicPr>
            <p:cNvPr id="502" name="Текст 29" descr=""/>
            <p:cNvPicPr/>
            <p:nvPr/>
          </p:nvPicPr>
          <p:blipFill>
            <a:blip r:embed="rId1"/>
            <a:stretch/>
          </p:blipFill>
          <p:spPr>
            <a:xfrm>
              <a:off x="4686480" y="189000"/>
              <a:ext cx="4457520" cy="561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 txBox="1"/>
            <p:nvPr/>
          </p:nvSpPr>
          <p:spPr>
            <a:xfrm>
              <a:off x="4686480" y="189000"/>
              <a:ext cx="4457520" cy="561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272880" indent="-272880">
                <a:lnSpc>
                  <a:spcPct val="90000"/>
                </a:lnSpc>
                <a:spcBef>
                  <a:spcPts val="499"/>
                </a:spcBef>
                <a:buClr>
                  <a:srgbClr val="feb80a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4811760" y="5791320"/>
            <a:ext cx="433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БОЛЬШОЙ  БОР  - НП  НИЖНЯЯ КАМ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157a"/>
                </a:solidFill>
                <a:latin typeface="Calibri"/>
              </a:rPr>
              <a:t>Задачи на дроби</a:t>
            </a: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4897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рритория Камского региона включает в себя Елабужский, Мамадышский, Менделеевский, Агрызский районы. Общая площадь территории 652600 га. Леса занимают 136000га, в том числе в Елабужском районе 19000га. Какую часть составляют 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</a:rPr>
              <a:t>лесопосадки Елабужского райо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т площади всех лесных массивов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5148360" y="1258920"/>
            <a:ext cx="3995640" cy="2663640"/>
            <a:chOff x="5148360" y="1258920"/>
            <a:chExt cx="3995640" cy="2663640"/>
          </a:xfrm>
        </p:grpSpPr>
        <p:pic>
          <p:nvPicPr>
            <p:cNvPr id="508" name="Текст 29" descr=""/>
            <p:cNvPicPr/>
            <p:nvPr/>
          </p:nvPicPr>
          <p:blipFill>
            <a:blip r:embed="rId1"/>
            <a:stretch/>
          </p:blipFill>
          <p:spPr>
            <a:xfrm>
              <a:off x="5148360" y="1258920"/>
              <a:ext cx="3995640" cy="26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 txBox="1"/>
            <p:nvPr/>
          </p:nvSpPr>
          <p:spPr>
            <a:xfrm>
              <a:off x="5148360" y="1258920"/>
              <a:ext cx="3995640" cy="26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272880" indent="-272880">
                <a:spcBef>
                  <a:spcPts val="451"/>
                </a:spcBef>
                <a:buClr>
                  <a:srgbClr val="feb80a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510" name="Текст 29" descr=""/>
          <p:cNvPicPr/>
          <p:nvPr/>
        </p:nvPicPr>
        <p:blipFill>
          <a:blip r:embed="rId2"/>
          <a:stretch/>
        </p:blipFill>
        <p:spPr>
          <a:xfrm>
            <a:off x="5105520" y="3938760"/>
            <a:ext cx="4038480" cy="29192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a157a"/>
                </a:solidFill>
                <a:latin typeface="Times New Roman"/>
              </a:rPr>
              <a:t>Татарские ученые математики</a:t>
            </a:r>
            <a:r>
              <a:rPr b="0" lang="en-US" sz="46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512" name="Текст 29" descr=""/>
          <p:cNvPicPr/>
          <p:nvPr/>
        </p:nvPicPr>
        <p:blipFill>
          <a:blip r:embed="rId1"/>
          <a:stretch/>
        </p:blipFill>
        <p:spPr>
          <a:xfrm>
            <a:off x="457200" y="1935000"/>
            <a:ext cx="2819520" cy="4389480"/>
          </a:xfrm>
          <a:prstGeom prst="rect">
            <a:avLst/>
          </a:prstGeom>
          <a:ln w="0">
            <a:noFill/>
          </a:ln>
        </p:spPr>
      </p:pic>
      <p:pic>
        <p:nvPicPr>
          <p:cNvPr id="513" name="Текст 29" descr=""/>
          <p:cNvPicPr/>
          <p:nvPr/>
        </p:nvPicPr>
        <p:blipFill>
          <a:blip r:embed="rId2"/>
          <a:stretch/>
        </p:blipFill>
        <p:spPr>
          <a:xfrm>
            <a:off x="5796000" y="1935000"/>
            <a:ext cx="2890800" cy="43894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630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a157a"/>
                </a:solidFill>
                <a:latin typeface="Calibri"/>
              </a:rPr>
              <a:t>Площадь поверхности прямоугольного параллелепипеда. Объем прямоугольного параллелепипеда.</a:t>
            </a:r>
            <a:r>
              <a:rPr b="0" lang="en-US" sz="46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Constantia"/>
              </a:rPr>
              <a:t>Найти площадь поверхности и объём коробки  молока «Вкусняево»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6" name="Текст 29" descr=""/>
          <p:cNvPicPr/>
          <p:nvPr/>
        </p:nvPicPr>
        <p:blipFill>
          <a:blip r:embed="rId1"/>
          <a:stretch/>
        </p:blipFill>
        <p:spPr>
          <a:xfrm>
            <a:off x="4648320" y="1484280"/>
            <a:ext cx="4495680" cy="53737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157a"/>
                </a:solidFill>
                <a:latin typeface="Calibri"/>
              </a:rPr>
              <a:t>Единицы массы</a:t>
            </a: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омашнее задани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йти старинные татарские (русские) единицы измерения массы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.Насретдин «Өч кадак май»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.Насретдин «Иш</a:t>
            </a:r>
            <a:r>
              <a:rPr b="0" lang="tt-RU" sz="2800" spc="-1" strike="noStrike">
                <a:solidFill>
                  <a:srgbClr val="000000"/>
                </a:solidFill>
                <a:latin typeface="Times New Roman"/>
              </a:rPr>
              <a:t>әккә авыр була”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4684680" y="1413000"/>
            <a:ext cx="4459320" cy="5445000"/>
            <a:chOff x="4684680" y="1413000"/>
            <a:chExt cx="4459320" cy="5445000"/>
          </a:xfrm>
        </p:grpSpPr>
        <p:pic>
          <p:nvPicPr>
            <p:cNvPr id="520" name="Текст 29" descr=""/>
            <p:cNvPicPr/>
            <p:nvPr/>
          </p:nvPicPr>
          <p:blipFill>
            <a:blip r:embed="rId1"/>
            <a:stretch/>
          </p:blipFill>
          <p:spPr>
            <a:xfrm>
              <a:off x="4684680" y="1413000"/>
              <a:ext cx="4459320" cy="54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"/>
            <p:cNvSpPr txBox="1"/>
            <p:nvPr/>
          </p:nvSpPr>
          <p:spPr>
            <a:xfrm>
              <a:off x="4684680" y="1413000"/>
              <a:ext cx="4459320" cy="5445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272880" indent="-272880">
                <a:lnSpc>
                  <a:spcPct val="90000"/>
                </a:lnSpc>
                <a:spcBef>
                  <a:spcPts val="550"/>
                </a:spcBef>
                <a:buClr>
                  <a:srgbClr val="feb80a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spd="med">
    <p:wheel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25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32929"/>
                </a:solidFill>
                <a:latin typeface="Calibri"/>
              </a:rPr>
              <a:t>Задача 1.</a:t>
            </a:r>
            <a:r>
              <a:rPr b="0" lang="en-US" sz="4600" spc="-1" strike="noStrike">
                <a:solidFill>
                  <a:srgbClr val="4e5b6f"/>
                </a:solidFill>
                <a:latin typeface="Calibri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Каждый год на человека приходится 350 кг вредных веществ. Сколько кг вредных веществ приходится на 71181 человек Елабуги?</a:t>
            </a:r>
            <a:endParaRPr b="0" lang="en-US" sz="4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3857760"/>
            <a:ext cx="8229600" cy="24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Решение.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71181∙350= 24913350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 (кг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4" name="Picture 4" descr=""/>
          <p:cNvPicPr/>
          <p:nvPr/>
        </p:nvPicPr>
        <p:blipFill>
          <a:blip r:embed="rId1"/>
          <a:stretch/>
        </p:blipFill>
        <p:spPr>
          <a:xfrm>
            <a:off x="1042920" y="4592520"/>
            <a:ext cx="2563920" cy="17892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0246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2929"/>
                </a:solidFill>
                <a:latin typeface="Times New Roman"/>
              </a:rPr>
              <a:t>Задача 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ворят, леса – лёгкие городов. 1 га леса за час поглощает столько углекислого газа, сколько выдыхает 200 человек. В национальном парке «Нижняя Кама» 26000га леса. Сколько человек за  каждый час может выдыхать углекислого газа?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2560" y="4508640"/>
            <a:ext cx="7201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onstantia"/>
              </a:rPr>
              <a:t>Решение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6000∙200=5200000 (человек) </a:t>
            </a:r>
            <a:r>
              <a:rPr b="0" lang="en-US" sz="3200" spc="-1" strike="noStrike">
                <a:solidFill>
                  <a:srgbClr val="f32929"/>
                </a:solidFill>
                <a:latin typeface="Times New Roman"/>
              </a:rPr>
              <a:t>Для справки: население Елабуги в 2014 году составляет 71991 человек</a:t>
            </a:r>
            <a:r>
              <a:rPr b="0" lang="en-US" sz="2600" spc="-1" strike="noStrike">
                <a:solidFill>
                  <a:srgbClr val="f32929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32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</a:rPr>
              <a:t>3   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</a:rPr>
              <a:t>В нашем Елабужском районе живёт около 81800 человек.</a:t>
            </a:r>
            <a:r>
              <a:rPr b="0" lang="ru-RU" sz="2800" spc="-1" strike="noStrike">
                <a:solidFill>
                  <a:srgbClr val="4f6228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f6228"/>
                </a:solidFill>
                <a:latin typeface="Times New Roman"/>
              </a:rPr>
              <a:t>Представим, что каждый двадцатый из них, побывав в соседнем лесу, бросит там пакетик из-под чипсов и пластиковую бутылку. Сколько всего пакетов и бутылок будет под каждым деревом, если в лесу 100 елей, 100 берёз, 100 осин и 100 клёнов.</a:t>
            </a:r>
            <a:endParaRPr b="0" lang="en-US" sz="28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528" name="Picture 3" descr="F:\Documents and Settings\Mama\Мои документы\Мои рисунки\2007_09_29\IMG_0835.JPG"/>
          <p:cNvPicPr/>
          <p:nvPr/>
        </p:nvPicPr>
        <p:blipFill>
          <a:blip r:embed="rId1"/>
          <a:stretch/>
        </p:blipFill>
        <p:spPr>
          <a:xfrm>
            <a:off x="609480" y="3581280"/>
            <a:ext cx="3419640" cy="303372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 txBox="1"/>
          <p:nvPr/>
        </p:nvSpPr>
        <p:spPr>
          <a:xfrm>
            <a:off x="4642920" y="2381400"/>
            <a:ext cx="4038840" cy="39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0" name="Picture 4" descr="F:\Documents and Settings\Mama\Мои документы\Мои рисунки\2007_09_29\IMG_0833.JPG"/>
          <p:cNvPicPr/>
          <p:nvPr/>
        </p:nvPicPr>
        <p:blipFill>
          <a:blip r:embed="rId2"/>
          <a:stretch/>
        </p:blipFill>
        <p:spPr>
          <a:xfrm>
            <a:off x="4876920" y="3505320"/>
            <a:ext cx="3816360" cy="31813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4e5b6f"/>
                </a:solidFill>
                <a:uFillTx/>
                <a:latin typeface="Comic Sans MS"/>
              </a:rPr>
              <a:t>Домашнее задание:</a:t>
            </a:r>
            <a:endParaRPr b="0" lang="en-US" sz="38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532" name="Picture 2" descr="F:\Documents and Settings\Mama\Мои документы\Мои рисунки\2007_09_29\IMG_0837.JPG"/>
          <p:cNvPicPr/>
          <p:nvPr/>
        </p:nvPicPr>
        <p:blipFill>
          <a:blip r:embed="rId1"/>
          <a:stretch/>
        </p:blipFill>
        <p:spPr>
          <a:xfrm>
            <a:off x="468360" y="1197000"/>
            <a:ext cx="3994200" cy="532764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 txBox="1"/>
          <p:nvPr/>
        </p:nvSpPr>
        <p:spPr>
          <a:xfrm>
            <a:off x="4066920" y="691920"/>
            <a:ext cx="4537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732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ридумать 4 задачи, решение которых помогло бы нам оценить вред, наносимый нами окружающей природе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471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ea157a"/>
                </a:solidFill>
                <a:latin typeface="Calibri"/>
              </a:rPr>
              <a:t>Найти татарские сказки, в названиях которых есть натуральные числа</a:t>
            </a:r>
            <a:r>
              <a:rPr b="0" lang="en-US" sz="46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468" name="Текст 29" descr=""/>
          <p:cNvPicPr/>
          <p:nvPr/>
        </p:nvPicPr>
        <p:blipFill>
          <a:blip r:embed="rId1"/>
          <a:stretch/>
        </p:blipFill>
        <p:spPr>
          <a:xfrm>
            <a:off x="0" y="1341360"/>
            <a:ext cx="4038480" cy="259236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0" y="3914640"/>
            <a:ext cx="3995640" cy="29433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3"/>
          <a:stretch/>
        </p:blipFill>
        <p:spPr>
          <a:xfrm>
            <a:off x="5219640" y="2060640"/>
            <a:ext cx="3062520" cy="40640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3300"/>
                </a:solidFill>
                <a:latin typeface="Calibri"/>
              </a:rPr>
              <a:t>Найти и</a:t>
            </a:r>
            <a:r>
              <a:rPr b="0" lang="en-US" sz="46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800" spc="-1" strike="noStrike">
                <a:solidFill>
                  <a:srgbClr val="ff3300"/>
                </a:solidFill>
                <a:latin typeface="Calibri"/>
              </a:rPr>
              <a:t>выписать встречающиеся в тексте натуральные числа</a:t>
            </a:r>
            <a:r>
              <a:rPr b="0" lang="en-US" sz="46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 начале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XIX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века в городе было 10 000 жителей, из них более 600 купцов, среди которых 12 миллионеров. Наиболее известная 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династия купцов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Стахеевых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мела ежегодный торговый оборот около 150 миллионов рублей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64832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819680" y="1413000"/>
            <a:ext cx="4324320" cy="5445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507520" cy="1628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a157a"/>
                </a:solidFill>
                <a:latin typeface="Calibri"/>
              </a:rPr>
              <a:t>Где встречается римская нумерация? 5 примеров с римскими цифрами, касающиеся истории родного края – домашнее задание</a:t>
            </a:r>
            <a:r>
              <a:rPr b="0" lang="en-US" sz="3300" spc="-1" strike="noStrike">
                <a:solidFill>
                  <a:srgbClr val="4e5b6f"/>
                </a:solidFill>
                <a:latin typeface="Calibri"/>
              </a:rPr>
              <a:t>.</a:t>
            </a:r>
            <a:r>
              <a:rPr b="0" lang="en-US" sz="46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ая эпоха в археологии получила свое название благодаря открытию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Ананьинского могильни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наименование деревни, расположенной в 3 километрах от Елабуги, на месте которой были произведены раскопки в середин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ека) близ Елабуги, датируемого VIII—V вв. до н. э. Елабуга возникла на рубеже X—XI веков и сформировалась как поселение городского типа к 1005—1010 годам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5210280" y="1600200"/>
            <a:ext cx="3933720" cy="2762280"/>
            <a:chOff x="5210280" y="1600200"/>
            <a:chExt cx="3933720" cy="2762280"/>
          </a:xfrm>
        </p:grpSpPr>
        <p:pic>
          <p:nvPicPr>
            <p:cNvPr id="478" name="Текст 29" descr=""/>
            <p:cNvPicPr/>
            <p:nvPr/>
          </p:nvPicPr>
          <p:blipFill>
            <a:blip r:embed="rId1"/>
            <a:stretch/>
          </p:blipFill>
          <p:spPr>
            <a:xfrm>
              <a:off x="5210280" y="1600200"/>
              <a:ext cx="3933720" cy="276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 txBox="1"/>
            <p:nvPr/>
          </p:nvSpPr>
          <p:spPr>
            <a:xfrm>
              <a:off x="5210280" y="1600200"/>
              <a:ext cx="3933720" cy="276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272880" indent="-272880">
                <a:lnSpc>
                  <a:spcPct val="90000"/>
                </a:lnSpc>
                <a:spcBef>
                  <a:spcPts val="400"/>
                </a:spcBef>
                <a:buClr>
                  <a:srgbClr val="feb80a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480" name="Текст 29" descr=""/>
          <p:cNvPicPr/>
          <p:nvPr/>
        </p:nvPicPr>
        <p:blipFill>
          <a:blip r:embed="rId2"/>
          <a:stretch/>
        </p:blipFill>
        <p:spPr>
          <a:xfrm>
            <a:off x="5105520" y="4365720"/>
            <a:ext cx="4038480" cy="2492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a157a"/>
                </a:solidFill>
                <a:latin typeface="Calibri"/>
              </a:rPr>
              <a:t>Сравнение натуральных чисел</a:t>
            </a:r>
            <a:r>
              <a:rPr b="0" lang="en-US" sz="46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7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Сравнение населения сельской местности Елабужского района и городского. Решение задач на сравнение количества русских и татар, территории, животных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ример.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В 2001 году в Прикамском регионе насчитывалось 600 лосей, 600 лисиц, 470 кабанов. В 2005 году –580 лосей, 500 лисиц, 650 кабанов. Сравните животных каждого вида в разных годах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7704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157a"/>
                </a:solidFill>
                <a:latin typeface="Calibri"/>
              </a:rPr>
              <a:t>Действия  с натуральными числами</a:t>
            </a: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724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ашня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Чёртового городищ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была отреставрирована в 1867 году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Иваном Васильевичем Шишкины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отцом художника). В 1833 году он проложил первый в Елабуге водопровод, который действует до нашего времен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) Сколько лет  после реставрации стоит башня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) Сколько лет жители г. Елабуги пользуются водопроводом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003640" y="3741840"/>
            <a:ext cx="4140360" cy="3116160"/>
            <a:chOff x="5003640" y="3741840"/>
            <a:chExt cx="4140360" cy="3116160"/>
          </a:xfrm>
        </p:grpSpPr>
        <p:pic>
          <p:nvPicPr>
            <p:cNvPr id="486" name="Текст 29" descr=""/>
            <p:cNvPicPr/>
            <p:nvPr/>
          </p:nvPicPr>
          <p:blipFill>
            <a:blip r:embed="rId1"/>
            <a:stretch/>
          </p:blipFill>
          <p:spPr>
            <a:xfrm>
              <a:off x="5003640" y="3741840"/>
              <a:ext cx="4140360" cy="31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 txBox="1"/>
            <p:nvPr/>
          </p:nvSpPr>
          <p:spPr>
            <a:xfrm>
              <a:off x="5003640" y="3741840"/>
              <a:ext cx="4140360" cy="311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272880" indent="-272880">
                <a:lnSpc>
                  <a:spcPct val="90000"/>
                </a:lnSpc>
                <a:spcBef>
                  <a:spcPts val="400"/>
                </a:spcBef>
                <a:buClr>
                  <a:srgbClr val="feb80a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488" name="Текст 29" descr="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35733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a157a"/>
                </a:solidFill>
                <a:latin typeface="Calibri"/>
              </a:rPr>
              <a:t>Сложение и вычитание столбиком</a:t>
            </a:r>
            <a:r>
              <a:rPr b="0" lang="en-US" sz="46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95280" y="1905120"/>
            <a:ext cx="410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Городок наш ничего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селение таково: в 1856 году 5700 чел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2013 году на  66349 чел. больше. Сколько человек проживает в городе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считайте-ка, ребята, и узнайте, каково?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1" name="Текст 29" descr=""/>
          <p:cNvPicPr/>
          <p:nvPr/>
        </p:nvPicPr>
        <p:blipFill>
          <a:blip r:embed="rId1"/>
          <a:stretch/>
        </p:blipFill>
        <p:spPr>
          <a:xfrm>
            <a:off x="4648320" y="1916280"/>
            <a:ext cx="4495680" cy="2433600"/>
          </a:xfrm>
          <a:prstGeom prst="rect">
            <a:avLst/>
          </a:prstGeom>
          <a:ln w="0">
            <a:noFill/>
          </a:ln>
        </p:spPr>
      </p:pic>
      <p:pic>
        <p:nvPicPr>
          <p:cNvPr id="492" name="Текст 29" descr=""/>
          <p:cNvPicPr/>
          <p:nvPr/>
        </p:nvPicPr>
        <p:blipFill>
          <a:blip r:embed="rId2"/>
          <a:stretch/>
        </p:blipFill>
        <p:spPr>
          <a:xfrm>
            <a:off x="4648320" y="4422600"/>
            <a:ext cx="4495680" cy="24354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a157a"/>
                </a:solidFill>
                <a:latin typeface="Calibri"/>
              </a:rPr>
              <a:t>Решение текстовых задач с помощью умножения и деления.</a:t>
            </a:r>
            <a:r>
              <a:rPr b="0" lang="en-US" sz="4600" spc="-1" strike="noStrike">
                <a:solidFill>
                  <a:srgbClr val="ea157a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роительство здания </a:t>
            </a:r>
            <a:r>
              <a:rPr b="0" lang="ru-RU" sz="2200" spc="-1" strike="noStrike">
                <a:solidFill>
                  <a:srgbClr val="ff3300"/>
                </a:solidFill>
                <a:latin typeface="Times New Roman"/>
              </a:rPr>
              <a:t>Епархиального женского училищ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надворных сооружений, ограды и других построек обошлось </a:t>
            </a:r>
            <a:r>
              <a:rPr b="0" lang="ru-RU" sz="2200" spc="-1" strike="noStrike">
                <a:solidFill>
                  <a:srgbClr val="ff3300"/>
                </a:solidFill>
                <a:latin typeface="Times New Roman"/>
              </a:rPr>
              <a:t>Г.Ф. Стахеево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очти в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500 000 рубле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Сумму эту можно представить только с помощью наглядных примеров. На рубеже веков в Елабуге овца стоила 1 руб. 50 коп., корова – 10-12 рублей, а дальше каждый легко может подсчитать, во что бы обошлась эта постройка в конц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ека. Приблизительно сколько овец  (коров) можно было купить на эту сумму?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4356000" y="3265560"/>
            <a:ext cx="4788000" cy="35924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daff"/>
            </a:gs>
            <a:gs pos="100000">
              <a:srgbClr val="e7fa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157a"/>
                </a:solidFill>
                <a:latin typeface="Calibri"/>
              </a:rPr>
              <a:t>Решение задач на части.</a:t>
            </a: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90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ронза – это сплав 9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часте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меди и 1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ча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лова. Сколько кг меди и сколько олова необходимо было  для изготовления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пьедестала памятника И.И. Шишкин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масса 800 кг)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98" name="Текст 29" descr=""/>
          <p:cNvPicPr/>
          <p:nvPr/>
        </p:nvPicPr>
        <p:blipFill>
          <a:blip r:embed="rId1"/>
          <a:stretch/>
        </p:blipFill>
        <p:spPr>
          <a:xfrm>
            <a:off x="5580000" y="1600200"/>
            <a:ext cx="35640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unrise</cp:lastModifiedBy>
  <dcterms:modified xsi:type="dcterms:W3CDTF">2016-11-27T15:22:41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