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253B-1DCE-4588-A3E2-503F5575AD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AE69-B106-4157-BBB4-D186F7B166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7776-90E7-4E0D-8715-F8FAA251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32F-DB30-483A-91A2-A37700B1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C6C-D4DD-4E05-92DD-EE85A3F2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68B-6AEC-434D-9050-C5BCC800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886B-DBE9-4520-B3D7-29059C79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AB33-C955-4FA2-81D4-DC375D65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624C-42F3-41E0-BED1-405E0731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ED21-6EA5-4F89-AEF6-35CFDD51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1D37-E839-4E06-9143-169ED6DE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F4CE-DDD7-4566-B9BD-1904DF75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38E9-80ED-4476-B3DB-7472E2A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B9A-0D27-47B9-B9E9-97CC2C9E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C0AA-D4AD-4875-96BE-1964E8FA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A79A0-6B35-4075-83C0-E04C3B7A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0819-4153-4EE1-959A-ABE09024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31E5A-7472-4C83-B7C4-734B3570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4AD6-9A55-40AC-ACDD-CD28C3BA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45E1-ED8F-47AC-89C6-8A888246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4880-6135-4127-A537-39E36DAC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2820-14F6-4C8D-8205-208EA119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E5B-105B-4FF3-B714-EECB4B49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B9F7-7542-4674-9E86-C2FA1D3C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50B9-3B66-44C3-87CF-DA522987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AFB7-029D-422E-8954-9AD38773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DB8B-03CC-43F9-87FA-0AF681C70A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0E5C-D032-43F6-B69E-D09072FB12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7146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Как зимует крот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508360" y="39625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выполнила воспитатель: Резцова О.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7848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роты — насекомоядны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ни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риспособлены к подземному, роющему образу жизни. Туловище у них вытянутое, округлое, покрытое густым, ровным, бархатистым мехом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20" descr="181497_390831"/>
          <p:cNvPicPr/>
          <p:nvPr/>
        </p:nvPicPr>
        <p:blipFill>
          <a:blip r:embed="rId1"/>
          <a:stretch/>
        </p:blipFill>
        <p:spPr>
          <a:xfrm>
            <a:off x="1476360" y="2004840"/>
            <a:ext cx="6473880" cy="4494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Детеныши крота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19" descr="evropeyskiy-krot2"/>
          <p:cNvPicPr/>
          <p:nvPr/>
        </p:nvPicPr>
        <p:blipFill>
          <a:blip r:embed="rId1"/>
          <a:stretch/>
        </p:blipFill>
        <p:spPr>
          <a:xfrm>
            <a:off x="468360" y="1197000"/>
            <a:ext cx="8184960" cy="54766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3851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ротовин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12" descr="krot3"/>
          <p:cNvPicPr/>
          <p:nvPr/>
        </p:nvPicPr>
        <p:blipFill>
          <a:blip r:embed="rId1"/>
          <a:stretch/>
        </p:blipFill>
        <p:spPr>
          <a:xfrm>
            <a:off x="755640" y="98100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46800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имовка крот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Picture 15" descr="Maulwurf_Bau-drawing"/>
          <p:cNvPicPr/>
          <p:nvPr/>
        </p:nvPicPr>
        <p:blipFill>
          <a:blip r:embed="rId1"/>
          <a:stretch/>
        </p:blipFill>
        <p:spPr>
          <a:xfrm>
            <a:off x="250920" y="1341360"/>
            <a:ext cx="4681440" cy="5327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1640" y="26028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реди лесных зверей он единственный проводит всю свою жизнь в мрачных подземных ход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С каждым зимним днем все крепче мороз, все глубже промерзает, каменеет земля.  Вот когда совсем плохо приходится кротам. Бесполезно скрести сильными лапами мерзлую землю. Да и незачем — от холода гибнут земляные черви и насеком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Кружатся снежинки, точно пухом укутывают землю, под снегом согревается она и понемногу оттаивает. Легко копают тогда кроты свои зимние ходы. Только вырытую рыхлую землю не могут, как летом, выбрасывать наружу. И оттого приходится им забивать землей свои же подснежные ходы.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сной, когда растает снег, появятся среди старой листвы и травы причудливо изогнутые земляные «колбаски», по ним-то и можно догадаться, где и как зимовали кроты. </a:t>
            </a:r>
            <a:r>
              <a:rPr b="1" i="1" lang="ru-RU" sz="18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Выходит и кротам снег подм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185285"/>
          <p:cNvPicPr/>
          <p:nvPr/>
        </p:nvPicPr>
        <p:blipFill>
          <a:blip r:embed="rId1"/>
          <a:stretch/>
        </p:blipFill>
        <p:spPr>
          <a:xfrm>
            <a:off x="2214720" y="2000160"/>
            <a:ext cx="5400360" cy="40593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"/>
          <p:cNvSpPr/>
          <p:nvPr/>
        </p:nvSpPr>
        <p:spPr>
          <a:xfrm>
            <a:off x="971640" y="404640"/>
            <a:ext cx="712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12:19:59Z</dcterms:created>
  <dc:creator>-</dc:creator>
  <dc:description/>
  <dc:language>en-US</dc:language>
  <cp:lastModifiedBy>Дом</cp:lastModifiedBy>
  <dcterms:modified xsi:type="dcterms:W3CDTF">2017-01-08T09:08:09Z</dcterms:modified>
  <cp:revision>7</cp:revision>
  <dc:subject/>
  <dc:title>Как зимует крот?</dc:title>
</cp:coreProperties>
</file>