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7EA-E1CE-4183-BAF9-661B9A62A9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DFC8-6A0E-4485-96FF-C2434283CA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DFA-624E-4928-B27B-CB3B0C06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678-C41E-4225-B646-50F681C7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942-6081-426C-A873-EF66CAD3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CDB-2D21-4287-A223-BB089C8C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8519-3DB9-4D18-A019-3EFC4D24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905-286B-43C3-8DDF-7B014279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4667-F06E-4AF6-A192-16DA3963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C23-2A8A-4DB0-A17C-B2F9E7A5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8C61-EBEF-4387-B227-614E3C2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94EF-FFD7-498F-8E2D-A6C753B9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6F85-6509-4951-AA9B-EBAD57F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9C2-C3F4-4C74-BB03-F893C9F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FD98-7690-4B8F-B8B9-D7BE786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4E6-63AC-4869-9411-C142518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4253-96EA-46A2-9F1D-D6D1AAE8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FAD8-7AA1-47B6-8FEA-2CE4705B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495D-902E-4A1B-A486-D17B1D49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6F6-DCD2-475B-8D62-DF6F5A0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CE0-C2E4-4BA2-ADEC-29E66EB3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60C-B994-4B62-AAA2-87E5271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7FB-AC2C-492A-B2E4-C4EF04C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B8A-0D2F-412C-BD34-A9850F5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C15-4A4B-4E4F-8CF3-6A9F339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A2D-C38D-41B4-9335-05BAE98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AB04-45E8-4152-AF4B-D8206B5E3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302-A6F9-4E47-829F-A778CC6C14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146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ак зимует кро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08360" y="39625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воспитатель: Резцова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оты — насекомоядны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испособлены к подземному, роющему образу жизни. Туловище у них вытянутое, округлое, покрытое густым, ровным, бархатистым мех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0" descr="181497_390831"/>
          <p:cNvPicPr/>
          <p:nvPr/>
        </p:nvPicPr>
        <p:blipFill>
          <a:blip r:embed="rId1"/>
          <a:stretch/>
        </p:blipFill>
        <p:spPr>
          <a:xfrm>
            <a:off x="1476360" y="2004840"/>
            <a:ext cx="6473880" cy="449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еныши крот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9" descr="evropeyskiy-krot2"/>
          <p:cNvPicPr/>
          <p:nvPr/>
        </p:nvPicPr>
        <p:blipFill>
          <a:blip r:embed="rId1"/>
          <a:stretch/>
        </p:blipFill>
        <p:spPr>
          <a:xfrm>
            <a:off x="468360" y="1197000"/>
            <a:ext cx="818496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ротови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2" descr="krot3"/>
          <p:cNvPicPr/>
          <p:nvPr/>
        </p:nvPicPr>
        <p:blipFill>
          <a:blip r:embed="rId1"/>
          <a:stretch/>
        </p:blipFill>
        <p:spPr>
          <a:xfrm>
            <a:off x="755640" y="98100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680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имовка кро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15" descr="Maulwurf_Bau-drawing"/>
          <p:cNvPicPr/>
          <p:nvPr/>
        </p:nvPicPr>
        <p:blipFill>
          <a:blip r:embed="rId1"/>
          <a:stretch/>
        </p:blipFill>
        <p:spPr>
          <a:xfrm>
            <a:off x="250920" y="1341360"/>
            <a:ext cx="4681440" cy="532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1640" y="26028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реди лесных зверей он единственный проводит всю свою жизнь в мрачных подземных х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 каждым зимним днем все крепче мороз, все глубже промерзает, каменеет земля.  Вот когда совсем плохо приходится кротам. Бесполезно скрести сильными лапами мерзлую землю. Да и незачем — от холода гибнут земляные черви и насеко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ружатся снежинки, точно пухом укутывают землю, под снегом согревается она и понемногу оттаивает. Легко копают тогда кроты свои зимние ходы. Только вырытую рыхлую землю не могут, как летом, выбрасывать наружу. И оттого приходится им забивать землей свои же подснежные ходы.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, когда растает снег, появятся среди старой листвы и травы причудливо изогнутые земляные «колбаски», по ним-то и можно догадаться, где и как зимовали кроты. </a:t>
            </a: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ыходит и кротам снег подм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185285"/>
          <p:cNvPicPr/>
          <p:nvPr/>
        </p:nvPicPr>
        <p:blipFill>
          <a:blip r:embed="rId1"/>
          <a:stretch/>
        </p:blipFill>
        <p:spPr>
          <a:xfrm>
            <a:off x="2214720" y="2000160"/>
            <a:ext cx="5400360" cy="4059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971640" y="4046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2:19:59Z</dcterms:created>
  <dc:creator>-</dc:creator>
  <dc:description/>
  <dc:language>en-US</dc:language>
  <cp:lastModifiedBy>Дом</cp:lastModifiedBy>
  <dcterms:modified xsi:type="dcterms:W3CDTF">2017-01-08T09:08:09Z</dcterms:modified>
  <cp:revision>7</cp:revision>
  <dc:subject/>
  <dc:title>Как зимует крот?</dc:title>
</cp:coreProperties>
</file>