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683E-A066-4DDB-A605-FE85EB4D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7241-F3CD-4F18-8E6A-C887B19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8D63-8514-4782-AFBB-6ABB4518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022C-2DCD-4AE3-AFBA-7BADFBF75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288-30F6-49FB-9083-44C8A579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71D-E482-469B-B31E-3C134359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ED0-5A09-4F50-91CD-EC090257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506-B655-4D71-8AD2-195D976D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845-749A-4681-BAAA-EEF4E493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4D0F-A94A-4855-98FF-723C528D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18A2-5663-46DA-949D-BA9C2791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5A3-EFC0-413A-ADF6-986F5871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8540-6411-4E95-9545-B4A4439C8EE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B998-B1C3-4000-96A4-15B2CE25A3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tamani.ru/" TargetMode="External"/><Relationship Id="rId2" Type="http://schemas.openxmlformats.org/officeDocument/2006/relationships/hyperlink" Target="http://www.atamani.ru/" TargetMode="External"/><Relationship Id="rId3" Type="http://schemas.openxmlformats.org/officeDocument/2006/relationships/hyperlink" Target="http://www.taman-leto.ru/images/pr/ataman-pervoe-znakomstvo/img/ataman-pervoe_znakomstvo_kazachii-podvoriya_36.jpg" TargetMode="External"/><Relationship Id="rId4" Type="http://schemas.openxmlformats.org/officeDocument/2006/relationships/hyperlink" Target="http://www.taman-azov-more.ru/index.php/ataman.html" TargetMode="External"/><Relationship Id="rId5" Type="http://schemas.openxmlformats.org/officeDocument/2006/relationships/hyperlink" Target="http://otdih.nakubani.ru/ataman/" TargetMode="External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284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  <a:ea typeface="Arial"/>
              </a:rPr>
              <a:t>Муниципальное бюджетное общеобразовательное учреждение средняя общеобразовательная школа №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1785600"/>
            <a:ext cx="8572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00"/>
                </a:solidFill>
                <a:latin typeface="Calibri"/>
              </a:rPr>
              <a:t>Атамань – казачья станиц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Учитель начальных классов Шхалахова Р.Р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Г. Туапс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48" name="Дата 18"/>
          <p:cNvSpPr/>
          <p:nvPr/>
        </p:nvSpPr>
        <p:spPr>
          <a:xfrm>
            <a:off x="457200" y="63565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987E-3E0C-4C97-BD2B-C519205DEE5A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7F76-5E8E-4FB7-BDAC-C8447AEFD04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ижний колонтитул 20"/>
          <p:cNvSpPr/>
          <p:nvPr/>
        </p:nvSpPr>
        <p:spPr>
          <a:xfrm>
            <a:off x="321480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1" descr="554.jpg"/>
          <p:cNvPicPr/>
          <p:nvPr/>
        </p:nvPicPr>
        <p:blipFill>
          <a:blip r:embed="rId6"/>
          <a:stretch/>
        </p:blipFill>
        <p:spPr>
          <a:xfrm>
            <a:off x="2925720" y="2378160"/>
            <a:ext cx="3041640" cy="2943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2" descr="38030_original.jpg"/>
          <p:cNvPicPr/>
          <p:nvPr/>
        </p:nvPicPr>
        <p:blipFill>
          <a:blip r:embed="rId7"/>
          <a:stretch/>
        </p:blipFill>
        <p:spPr>
          <a:xfrm>
            <a:off x="-30240" y="2305080"/>
            <a:ext cx="2846520" cy="28098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3" descr="12989.jpg"/>
          <p:cNvPicPr/>
          <p:nvPr/>
        </p:nvPicPr>
        <p:blipFill>
          <a:blip r:embed="rId8"/>
          <a:stretch/>
        </p:blipFill>
        <p:spPr>
          <a:xfrm>
            <a:off x="6119640" y="2378160"/>
            <a:ext cx="29019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BDF2-5432-47D3-908B-11CD0A0DF1B3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B8E7-7E4A-48D8-83D7-EEDD8C6D3855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1" descr="ataman49.jpg"/>
          <p:cNvPicPr/>
          <p:nvPr/>
        </p:nvPicPr>
        <p:blipFill>
          <a:blip r:embed="rId6"/>
          <a:stretch/>
        </p:blipFill>
        <p:spPr>
          <a:xfrm>
            <a:off x="1214280" y="1000080"/>
            <a:ext cx="65534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C953-EBAD-4F85-980F-7CC9DD151EB4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96A2-D7E1-48E7-909D-2DE2796D01C9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1" descr="1287143683_ataman.jpg"/>
          <p:cNvPicPr/>
          <p:nvPr/>
        </p:nvPicPr>
        <p:blipFill>
          <a:blip r:embed="rId6"/>
          <a:stretch/>
        </p:blipFill>
        <p:spPr>
          <a:xfrm>
            <a:off x="214200" y="1071720"/>
            <a:ext cx="4214880" cy="33717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3" descr="34.jpg"/>
          <p:cNvPicPr/>
          <p:nvPr/>
        </p:nvPicPr>
        <p:blipFill>
          <a:blip r:embed="rId7"/>
          <a:stretch/>
        </p:blipFill>
        <p:spPr>
          <a:xfrm>
            <a:off x="4643280" y="2000160"/>
            <a:ext cx="43261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Использованы материалы Интернет-ресурсов:</a:t>
            </a:r>
            <a:br>
              <a:rPr sz="2000"/>
            </a:b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atamani.ru/</a:t>
            </a:r>
            <a:br>
              <a:rPr sz="1600"/>
            </a:b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man-leto.ru/images/pr/ataman-pervoe-znakomstvo/img/ataman-pervoe_znakomstvo_kazachii-podvoriya_36.jpg</a:t>
            </a:r>
            <a:r>
              <a:rPr b="0" lang="ru-RU" sz="1600" spc="-1" strike="noStrike">
                <a:solidFill>
                  <a:srgbClr val="00b050"/>
                </a:solidFill>
                <a:latin typeface="Calibri"/>
              </a:rPr>
              <a:t> </a:t>
            </a:r>
            <a:br>
              <a:rPr sz="1600"/>
            </a:b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taman-azov-more.ru/index.php/ataman.html</a:t>
            </a:r>
            <a:br>
              <a:rPr sz="1600"/>
            </a:b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otdih.nakubani.ru/ataman/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14E1-EBEA-4D03-8E25-48F66E0140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FE76-12DE-4841-AE1D-5FDDEBEEFA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6" descr="ataman-pervoe_znakomstvo_tamanskij_zaliv_500x375.jpg"/>
          <p:cNvPicPr/>
          <p:nvPr/>
        </p:nvPicPr>
        <p:blipFill>
          <a:blip r:embed="rId6"/>
          <a:stretch/>
        </p:blipFill>
        <p:spPr>
          <a:xfrm>
            <a:off x="642960" y="3000240"/>
            <a:ext cx="3370320" cy="2529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8" descr="ataman-pervoe_znakomstvo_bukvy_500x375.jpg"/>
          <p:cNvPicPr/>
          <p:nvPr/>
        </p:nvPicPr>
        <p:blipFill>
          <a:blip r:embed="rId7"/>
          <a:stretch/>
        </p:blipFill>
        <p:spPr>
          <a:xfrm>
            <a:off x="5143680" y="3000240"/>
            <a:ext cx="328608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Атамань – это единственный в своем роде музей под открытым небом в России. На территории в 68 га расположилась традиционная казачья деревня. На просторных улицах станицы соседствуют хаты цирюльника, ткача, писаря кузнеца и многие другие -  одним словом, настоящая казачья станица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499840" y="2999880"/>
            <a:ext cx="4643640" cy="20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Дата 18"/>
          <p:cNvSpPr/>
          <p:nvPr/>
        </p:nvSpPr>
        <p:spPr>
          <a:xfrm>
            <a:off x="457200" y="6356520"/>
            <a:ext cx="1328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67C4-E6FB-4DC5-BD10-48E44C7A2D87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C9C3-C6EF-4D99-B275-F79F2EA3C1C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20"/>
          <p:cNvSpPr/>
          <p:nvPr/>
        </p:nvSpPr>
        <p:spPr>
          <a:xfrm>
            <a:off x="321480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11" descr="2009_09_02_162143_jpg_4a9e7133d4.jpg"/>
          <p:cNvPicPr/>
          <p:nvPr/>
        </p:nvPicPr>
        <p:blipFill>
          <a:blip r:embed="rId6"/>
          <a:stretch/>
        </p:blipFill>
        <p:spPr>
          <a:xfrm>
            <a:off x="2000160" y="2643120"/>
            <a:ext cx="5286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5480" y="1142640"/>
            <a:ext cx="864396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Этнографический музей «Атамань» был возведен в 2009г. на том самом месте, где 200 лет  назад высадились на таманскую землю первые казаки, приехавшие осваивать Кубань. У подножия горы Лысой новоприбывшими был заложен православный храм и основано поселение. Подворья, по типу выстроенных в те времена, простояли вплоть до шестидесятых годов двадцатого век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B5F4-F76F-475C-8E99-724AC91BBE56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F52-2CD6-435D-9475-0445EB69FA1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f32.jpg"/>
          <p:cNvPicPr/>
          <p:nvPr/>
        </p:nvPicPr>
        <p:blipFill>
          <a:blip r:embed="rId6"/>
          <a:stretch/>
        </p:blipFill>
        <p:spPr>
          <a:xfrm>
            <a:off x="428760" y="3286080"/>
            <a:ext cx="2735280" cy="1819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kjefone.jpg"/>
          <p:cNvPicPr/>
          <p:nvPr/>
        </p:nvPicPr>
        <p:blipFill>
          <a:blip r:embed="rId7"/>
          <a:stretch/>
        </p:blipFill>
        <p:spPr>
          <a:xfrm>
            <a:off x="6286680" y="3286080"/>
            <a:ext cx="2435040" cy="1827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6" descr="ataman-pervoe_znakomstvo_chasovnya-1_250x333.jpg"/>
          <p:cNvPicPr/>
          <p:nvPr/>
        </p:nvPicPr>
        <p:blipFill>
          <a:blip r:embed="rId8"/>
          <a:stretch/>
        </p:blipFill>
        <p:spPr>
          <a:xfrm>
            <a:off x="3714840" y="2643120"/>
            <a:ext cx="20001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5723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ипичное подворье казака состояло из куреня (дома), амбара для хранения урожая, конюшни, стойла для скотины, погреба и навеса, под которым оставляли сельскохозяйственный или рыболовецкий инвентарь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70EB-CCA8-4983-B4A8-05BE2BB3415C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4BCC-3800-4D66-836B-119A31EEB628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1" descr="0_5d9ee_c08edd2d_XL.jpg"/>
          <p:cNvPicPr/>
          <p:nvPr/>
        </p:nvPicPr>
        <p:blipFill>
          <a:blip r:embed="rId6"/>
          <a:stretch/>
        </p:blipFill>
        <p:spPr>
          <a:xfrm>
            <a:off x="571680" y="2428920"/>
            <a:ext cx="3571560" cy="26794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1252604689_dsc04770_resize.jpg"/>
          <p:cNvPicPr/>
          <p:nvPr/>
        </p:nvPicPr>
        <p:blipFill>
          <a:blip r:embed="rId7"/>
          <a:stretch/>
        </p:blipFill>
        <p:spPr>
          <a:xfrm>
            <a:off x="4500720" y="2428920"/>
            <a:ext cx="40478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Экспонаты для подворий собирались по всей Кубани, а подворий немало: есть подворья ткача, пожарного, винодела, пекаря, сапожника, цирюльника, гончара, хаты простых сельчан и пример всем - подворье атамана. Каждый объект в Атамани был создан и находится под опекой какого-либо из муниципальных образований Куба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EA43-3965-4F54-B556-7AE9423ABA65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5380-961A-4E85-9FA9-3D4B45E9425B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1" descr="571063.jpg"/>
          <p:cNvPicPr/>
          <p:nvPr/>
        </p:nvPicPr>
        <p:blipFill>
          <a:blip r:embed="rId6"/>
          <a:stretch/>
        </p:blipFill>
        <p:spPr>
          <a:xfrm>
            <a:off x="642960" y="2500200"/>
            <a:ext cx="3808440" cy="28558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2" descr="ataman-pervoe_znakomstvo_stanicnoe_pravlenie_500x375.jpg"/>
          <p:cNvPicPr/>
          <p:nvPr/>
        </p:nvPicPr>
        <p:blipFill>
          <a:blip r:embed="rId7"/>
          <a:stretch/>
        </p:blipFill>
        <p:spPr>
          <a:xfrm>
            <a:off x="4857840" y="2500200"/>
            <a:ext cx="3786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928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се предметы быта, которые посетители могут увидеть как хатах, как и на подворьях, собирали по всему краю. Это посуда, кружева, вышивка, фотографии, образа, сундуки, люльки, инструменты, брички и пр. Интересно, что все эти исторические предметы – отнюдь не музейные ценности. Все вещи сохранились в семьях. В правых углах каждой хаты непременно на счастье лежат цветы вместе с медными и серебряными моне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D6E8-A45C-4FBA-9834-DF5DF7D5AB21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FF90-157E-4D4E-B7FF-661671DF8C4C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2" descr="ataman-pervoe_znakomstvo_kazachii-podvoriya_36.jpg"/>
          <p:cNvPicPr/>
          <p:nvPr/>
        </p:nvPicPr>
        <p:blipFill>
          <a:blip r:embed="rId6"/>
          <a:stretch/>
        </p:blipFill>
        <p:spPr>
          <a:xfrm>
            <a:off x="642960" y="2786040"/>
            <a:ext cx="3286080" cy="246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4" descr="mages.jpg"/>
          <p:cNvPicPr/>
          <p:nvPr/>
        </p:nvPicPr>
        <p:blipFill>
          <a:blip r:embed="rId7"/>
          <a:stretch/>
        </p:blipFill>
        <p:spPr>
          <a:xfrm>
            <a:off x="5072040" y="2857680"/>
            <a:ext cx="319104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7AC7-D096-4370-8CB0-4478A05E841A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807A-3119-4DC5-A4D2-F749E93BDBDD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4" descr="ataman5.jpg"/>
          <p:cNvPicPr/>
          <p:nvPr/>
        </p:nvPicPr>
        <p:blipFill>
          <a:blip r:embed="rId6"/>
          <a:stretch/>
        </p:blipFill>
        <p:spPr>
          <a:xfrm>
            <a:off x="1500120" y="1000080"/>
            <a:ext cx="65008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7F58-CA42-47C4-986F-3ECDC111463D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88DD-D2DA-4469-BA22-73EF86F9DA97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1" descr="ataman39.jpg"/>
          <p:cNvPicPr/>
          <p:nvPr/>
        </p:nvPicPr>
        <p:blipFill>
          <a:blip r:embed="rId6"/>
          <a:stretch/>
        </p:blipFill>
        <p:spPr>
          <a:xfrm>
            <a:off x="1143000" y="1000080"/>
            <a:ext cx="67867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Дата 1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B08F-0C5B-4AF3-9C4B-FA03B61187AE}" type="datetime">
              <a:rPr b="0" lang="ru-RU" sz="1200" spc="-1" strike="noStrike">
                <a:solidFill>
                  <a:srgbClr val="ffff00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ижний колонтитул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51C9-C410-4768-AA3C-CD2B01A52736}" type="slidenum">
              <a:rPr b="0" lang="ru-RU" sz="1200" spc="-1" strike="noStrike">
                <a:solidFill>
                  <a:srgbClr val="ffff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1"/>
          <a:stretch/>
        </p:blipFill>
        <p:spPr>
          <a:xfrm>
            <a:off x="64296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2"/>
          <a:stretch/>
        </p:blipFill>
        <p:spPr>
          <a:xfrm>
            <a:off x="2500200" y="5357880"/>
            <a:ext cx="524160" cy="523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3"/>
          <a:stretch/>
        </p:blipFill>
        <p:spPr>
          <a:xfrm>
            <a:off x="4214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4"/>
          <a:stretch/>
        </p:blipFill>
        <p:spPr>
          <a:xfrm>
            <a:off x="764388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H:\Documents and Settings\Aida\Рабочий стол\текстуры и фоны, клипарты\новеньки картинки\sflower.gif"/>
          <p:cNvPicPr/>
          <p:nvPr/>
        </p:nvPicPr>
        <p:blipFill>
          <a:blip r:embed="rId5"/>
          <a:stretch/>
        </p:blipFill>
        <p:spPr>
          <a:xfrm>
            <a:off x="5857920" y="5357880"/>
            <a:ext cx="523800" cy="5238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1" descr="ataman2.jpg"/>
          <p:cNvPicPr/>
          <p:nvPr/>
        </p:nvPicPr>
        <p:blipFill>
          <a:blip r:embed="rId6"/>
          <a:stretch/>
        </p:blipFill>
        <p:spPr>
          <a:xfrm>
            <a:off x="1285920" y="857160"/>
            <a:ext cx="65721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8:16:53Z</dcterms:created>
  <dc:creator>Admin</dc:creator>
  <dc:description>http://aida.ucoz.ru</dc:description>
  <dc:language>en-US</dc:language>
  <cp:lastModifiedBy>Рузана</cp:lastModifiedBy>
  <dcterms:modified xsi:type="dcterms:W3CDTF">2017-01-08T15:36:12Z</dcterms:modified>
  <cp:revision>17</cp:revision>
  <dc:subject/>
  <dc:title>Слайд 1</dc:title>
</cp:coreProperties>
</file>