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031-7C4E-4F59-94EF-0D580000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6B1-8192-47EB-83C7-97CB5912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04D-D8DA-4D34-B6A2-BF8E067E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297-8E84-4138-AB3C-F2F3DF56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8FF-8B52-4E53-8571-53EFE0EB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23D-BF54-4746-A7CD-81AFE989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C9DF-497A-46AA-B11E-F957604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B3D-80FD-4917-849A-E2B491B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991-D467-4F1B-9E13-0B8E749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876-0434-40D7-8659-ABADA01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3651-564C-4EB5-B929-CEAAE67F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4BF6-D314-443F-8620-22DCE517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2351-0E57-499A-A646-7CBDD27B27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ция:  титриметрический метод анализа</a:t>
            </a:r>
            <a:br>
              <a:rPr sz="2400"/>
            </a:br>
            <a:br>
              <a:rPr sz="2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триметр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титриметрические методы количественного анализ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очном измерении объема раствора реактива, израсходованного на реакцию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мым веществ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вор реактива (титр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бочий раствор) должен при этом и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ну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центрацию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енную условиями приготовления    раствора (рабчий раствор с приготовленным титром) или установленную по другому раствору с точно известной концентрацией (рабочий раствор с установленным титро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сс постепенного добавле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транта к раствору определяемого вещества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трова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титровании наступает момент, когда рабочий раствор В и определя-емое вещество А прореагируют между собой в эквивалентных количествах, т.е. в строгом соответствии со стехиометрией реа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аком случае справедли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эквивален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ставляющий основу расчетов в титриметр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n(A) = n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титриметрических методов анализ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18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и классифицируются по типу химической реак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слотно-основное титрование; (метод нейтрализ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 осажд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ислительно-восстановительное титрование; (редоксимет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ометрическое титр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типу применяемого титра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алиметрия – титрование щелочь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цидиметрия – титрование кислот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мангапатомет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онометрия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приемам титрован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ямо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тно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ассификация титриметрических методов анализ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домет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лексонометрия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риемам тит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о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емы   тит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488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прямое, обратное титрование  и титрование замест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прям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тровании титрант В непосредственно добавляют из бюретки к титруемому веществу А. Прием используют только при выполнении требований к реакции титрования. В случае их невыполнения или в практических целях используют прие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тного титр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ля осуществления которого необходимы два рабочих раствора титрант В1 и титрант В2. Первый добавляется к определяемому веществу А в избытке для доведения реакции до конца, а остаток В1 оттитровывается титрантом В2 для определения непрореагировавшего титранта В1. В этом случае n(А) рассчитываетс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разности эквивалентных количеств двух рабочих растворо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(А) = n(B1) - n(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ивые  тит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196640"/>
            <a:ext cx="77040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Текст 6"/>
          <p:cNvSpPr/>
          <p:nvPr/>
        </p:nvSpPr>
        <p:spPr>
          <a:xfrm>
            <a:off x="324000" y="1413000"/>
            <a:ext cx="814680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ой характеристикой титриметрических методов явля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вые титрова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показывают графическую зависимость концентрации участника реакции, протекающей при титровании (либо логарифма концентрации или какой-то характеристики раствора) от объема добавленного титранта (либо от степени оттитрованнос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для реакций кислотно-основного кривая титрования представляет соб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исимость рН среды от объема титран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като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этом случае использую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фенолфталеин или метил-оранже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7Z</dcterms:created>
  <dc:creator>Kovaleva</dc:creator>
  <dc:description/>
  <dc:language>en-US</dc:language>
  <cp:lastModifiedBy>Валентина</cp:lastModifiedBy>
  <dcterms:modified xsi:type="dcterms:W3CDTF">2017-01-08T16:10:43Z</dcterms:modified>
  <cp:revision>18</cp:revision>
  <dc:subject/>
  <dc:title>Лекция 4 Общая теория сплавов.</dc:title>
</cp:coreProperties>
</file>