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280-26B3-42A5-B15B-EC6929FC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80B-ECF4-4B9F-903E-250E1154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1C5-FC49-4329-BFD4-8B0DEA0B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9D4-4954-46F0-86B4-2B46CBF7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C62-2619-447C-A668-95A9109F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208-31E0-4436-B6F6-863D7D73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366-6DF5-46ED-9D63-E8642B2C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191-4D3A-4CF6-B9BA-DDED8331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118-3712-424C-AE48-223B9C3B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465C-D367-4B87-8691-EA6B9026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0C8-9C27-4670-823F-690D4CC1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017-2052-4302-B5EA-04BE7924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977D-FA42-4CCD-8EFD-A9C029B115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ция:  титриметрический метод анализа</a:t>
            </a:r>
            <a:br>
              <a:rPr sz="2400"/>
            </a:br>
            <a:br>
              <a:rPr sz="2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триметр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титриметрические методы количественного анали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очном измерении объема раствора реактива, израсходованного на реакцию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емым веществ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вор реактива (титра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абочий раствор) должен при этом им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н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центрацию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ную условиями приготовления    раствора (рабчий раствор с приготовленным титром) или установленную по другому раствору с точно известной концентрацией (рабочий раствор с установленным титр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 постепенного добавл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транта к раствору определяемого вещества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тров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итровании наступает момент, когда рабочий раствор В и определя-емое вещество А прореагируют между собой в эквивалентных количествах, т.е. в строгом соответствии со стехиометрией 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ком случае справедли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 эквивале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ставляющий основу расчетов в титриметр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(A) = n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фикация титриметрических методов анализ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классифицируются по типу химической реа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тно-основное титрование; (метод нейтрализ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 осаж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ислительно-восстановительное титрование; (редоксимет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ометрическое тит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типу применяемого титра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калиметрия – титрование щелоч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цидиметрия – титрование кислот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мангапатомет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онометрия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иемам титр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ямо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тно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фикация титриметрических методов анализ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домет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онометрия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приемам титр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емы   тит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48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 прямое, обратное титрование  и титрование замест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прямо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тровании титрант В непосредственно добавляют из бюретки к титруемому веществу А. Прием используют только при выполнении требований к реакции титрования. В случае их невыполнения или в практических целях используют прие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ого титр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ля осуществления которого необходимы два рабочих раствора титрант В1 и титрант В2. Первый добавляется к определяемому веществу А в избытке для доведения реакции до конца, а остаток В1 оттитровывается титрантом В2 для определения непрореагировавшего титранта В1. В этом случае n(А) рассчитываетс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разности эквивалентных количеств двух рабочих растворо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(А) = n(B1) - n(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вые  тит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196640"/>
            <a:ext cx="77040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Текст 6"/>
          <p:cNvSpPr/>
          <p:nvPr/>
        </p:nvSpPr>
        <p:spPr>
          <a:xfrm>
            <a:off x="324000" y="1413000"/>
            <a:ext cx="814680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й характеристикой титриметрических методов яв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вые титров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показывают графическую зависимость концентрации участника реакции, протекающей при титровании (либо логарифма концентрации или какой-то характеристики раствора) от объема добавленного титранта (либо от степени оттитрован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для реакций кислотно-основного кривая титрования представляет соб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исимость рН среды от объема титран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като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этом случае использу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фенолфталеин или метил-оранж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9:19:37Z</dcterms:created>
  <dc:creator>Kovaleva</dc:creator>
  <dc:description/>
  <dc:language>en-US</dc:language>
  <cp:lastModifiedBy>Валентина</cp:lastModifiedBy>
  <dcterms:modified xsi:type="dcterms:W3CDTF">2017-01-08T16:10:43Z</dcterms:modified>
  <cp:revision>18</cp:revision>
  <dc:subject/>
  <dc:title>Лекция 4 Общая теория сплавов.</dc:title>
</cp:coreProperties>
</file>