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1C0-550F-4287-A7D5-4A122301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F045-27CA-49E4-BB3D-DAE97A2B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932B-BDF1-49BF-ABF3-7F6C44C4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AF8-8253-4A53-B605-10391FBA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98A7-6AD6-442E-BE34-47C67D22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3B2E-3003-4067-B675-CF2896A6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4143-A235-471F-9483-C2E5E3F1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D765-3C65-46E7-B95B-A35E4DF6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27D6-2651-4E85-B40D-02F50CBF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EC57-1C23-4A14-9D07-DBECFCDF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05E4-C5E3-4623-9662-6CB4861B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DA0E-1D28-450D-899D-2C00EA4F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C3A2-A4A7-4ECC-A247-5AD25206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9640-C88E-4D36-B51C-28ED6D88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BCE8-6624-4F92-8E98-9A32D204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9711-E1C4-4946-BAB1-42C68253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C0C8-8B9F-40E1-B515-56D1FAEF3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2E0B-C5DE-4249-B8DC-018A2D01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53022-D8D7-43E7-9CF9-6AB5660D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C56AF-343C-4B3D-A356-937CEC8C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6F816-6371-44BE-ACA0-33F6AB6D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1538-5B17-4B73-9F0C-AEB3AD5E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172-F253-4357-9AD2-27EAADD3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87A40-0E4D-453D-829A-035B4A5D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FB9F-9C12-496C-A384-C827B3A4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D04B7-E48F-4729-81AE-9865B249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196DB-6711-4F50-AFEE-C9624148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F91FF-1D8B-4DAC-940D-49C3CF73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140C8-DFF5-4BFC-837F-6819FD31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9BB0C-51E8-4179-9563-01A94177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BAFB0-95B7-4AA9-B038-4303234C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BA636-03EE-4790-A97B-36DBD2A8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EBBBD-7759-45EE-933F-8D11B972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BD3-274E-4419-8BB7-F3DB696E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BB330-58A8-4730-B066-73DDBC903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C49B3-3942-4285-B028-7A4D94FC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62A27-7F7B-48EA-A713-B375F1BF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8F325-0B7B-4C5F-8D4B-1B423E93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FC5D8-1BBB-4005-ADB5-6192DD7A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7D933-A990-4466-BC31-307F4DC6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B2F73-F10B-4818-99AA-6432A0631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FBE30-E27D-4D3C-9F84-A74960514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78D30-A637-405D-9225-4D34E8B5A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1D7-B8C4-4C6E-8352-FE0924C3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B63-0070-4C2D-A8C1-BBE9065C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FE12-2046-4110-B5AA-FA720558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6C60-AA04-4428-887C-EF0F4B92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0EFC-775B-46A3-8236-4BE3E24F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0F60-0ED5-4FC2-A8DB-AC0BA2B3C03A}" type="slidenum">
              <a:rPr b="0" lang="en-US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9FC4-DD8C-474B-BC06-1C3E35BAAB82}" type="slidenum">
              <a:rPr b="0" lang="en-US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85F8-DD87-46C7-ABBB-AB944768CCE8}" type="slidenum">
              <a:rPr b="0" lang="en-US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c87e67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7480a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cb37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700C-CF82-4F9A-98A5-6B7255AB7990}" type="slidenum">
              <a:rPr b="0" lang="en-US" sz="1000" spc="-1" strike="noStrike">
                <a:solidFill>
                  <a:srgbClr val="bcb37d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Documents and Settings\Иятта\Рабочий стол\ЭТО СРОЧНО\Новая папка\755ad610193c.png"/>
          <p:cNvPicPr/>
          <p:nvPr/>
        </p:nvPicPr>
        <p:blipFill>
          <a:blip r:embed="rId2"/>
          <a:stretch/>
        </p:blipFill>
        <p:spPr>
          <a:xfrm>
            <a:off x="5357880" y="3000240"/>
            <a:ext cx="3786120" cy="4157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46360" y="620640"/>
            <a:ext cx="581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542a00"/>
                </a:solidFill>
                <a:latin typeface="Estrangelo Edessa"/>
              </a:rPr>
              <a:t>Михаил Иванович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542a00"/>
                </a:solidFill>
                <a:latin typeface="Estrangelo Edessa"/>
              </a:rPr>
              <a:t>Глин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80" y="2924280"/>
            <a:ext cx="7839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2a00"/>
                </a:solidFill>
                <a:latin typeface="Estrangelo Edessa"/>
              </a:rPr>
              <a:t>Основоположник русско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42a00"/>
                </a:solidFill>
                <a:latin typeface="Estrangelo Edessa"/>
              </a:rPr>
              <a:t> </a:t>
            </a:r>
            <a:r>
              <a:rPr b="1" lang="en-US" sz="4400" spc="-1" strike="noStrike">
                <a:solidFill>
                  <a:srgbClr val="542a00"/>
                </a:solidFill>
                <a:latin typeface="Estrangelo Edessa"/>
              </a:rPr>
              <a:t>классической музы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C:\Documents and Settings\Иятта\Рабочий стол\ЭТО СРОЧНО\Новая папка\755ad610193c.png"/>
          <p:cNvPicPr/>
          <p:nvPr/>
        </p:nvPicPr>
        <p:blipFill>
          <a:blip r:embed="rId2"/>
          <a:stretch/>
        </p:blipFill>
        <p:spPr>
          <a:xfrm>
            <a:off x="5357880" y="3000240"/>
            <a:ext cx="3786120" cy="41576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971640" y="1830240"/>
            <a:ext cx="6816600" cy="5027760"/>
          </a:xfrm>
          <a:prstGeom prst="rect">
            <a:avLst/>
          </a:prstGeom>
          <a:ln w="9360">
            <a:solidFill>
              <a:srgbClr val="6c00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324000" y="0"/>
            <a:ext cx="8351640" cy="165564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родные произведения – трудовы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хороводные песни, былины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сни шуточные и пляс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Documents and Settings\Иятта\Рабочий стол\ЭТО СРОЧНО\Новая папка\свиток.gif"/>
          <p:cNvPicPr/>
          <p:nvPr/>
        </p:nvPicPr>
        <p:blipFill>
          <a:blip r:embed="rId2"/>
          <a:stretch/>
        </p:blipFill>
        <p:spPr>
          <a:xfrm>
            <a:off x="5857920" y="3143160"/>
            <a:ext cx="3029040" cy="3205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Documents and Settings\Иятта\Рабочий стол\ЭТО СРОЧНО\Новая папка\чернильница.gif"/>
          <p:cNvPicPr/>
          <p:nvPr/>
        </p:nvPicPr>
        <p:blipFill>
          <a:blip r:embed="rId3">
            <a:lum bright="-40000"/>
          </a:blip>
          <a:stretch/>
        </p:blipFill>
        <p:spPr>
          <a:xfrm>
            <a:off x="6715080" y="3357720"/>
            <a:ext cx="1619280" cy="31906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95280" y="333360"/>
            <a:ext cx="8280360" cy="194328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веке в Русское государ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 Византии приходи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церковное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хоровое п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1332000" y="2319480"/>
            <a:ext cx="6264360" cy="4408200"/>
          </a:xfrm>
          <a:prstGeom prst="rect">
            <a:avLst/>
          </a:prstGeom>
          <a:ln w="9360">
            <a:solidFill>
              <a:srgbClr val="6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Documents and Settings\Иятта\Рабочий стол\ЭТО СРОЧНО\Новая папка\чернильница.gif"/>
          <p:cNvPicPr/>
          <p:nvPr/>
        </p:nvPicPr>
        <p:blipFill>
          <a:blip r:embed="rId2">
            <a:lum bright="-40000"/>
          </a:blip>
          <a:stretch/>
        </p:blipFill>
        <p:spPr>
          <a:xfrm>
            <a:off x="7072200" y="2714760"/>
            <a:ext cx="1619280" cy="3190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C:\Documents and Settings\Иятта\Рабочий стол\ЭТО СРОЧНО\Новая папка\DSC07710-conv-ok-sq-s-web.jpg"/>
          <p:cNvPicPr/>
          <p:nvPr/>
        </p:nvPicPr>
        <p:blipFill>
          <a:blip r:embed="rId3"/>
          <a:stretch/>
        </p:blipFill>
        <p:spPr>
          <a:xfrm>
            <a:off x="6053040" y="3767040"/>
            <a:ext cx="3103560" cy="31035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4360" y="0"/>
            <a:ext cx="7775280" cy="242100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еку начинает создава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ветска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узы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яются первые русские опер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леты, произведения для скрип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фортепиа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ни исполнялись в музыкальных театр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258920" y="2619360"/>
            <a:ext cx="6572160" cy="4238640"/>
          </a:xfrm>
          <a:prstGeom prst="rect">
            <a:avLst/>
          </a:prstGeom>
          <a:ln w="9360">
            <a:solidFill>
              <a:srgbClr val="6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Documents and Settings\Иятта\Рабочий стол\ЭТО СРОЧНО\Новая папка\чернильница.gif"/>
          <p:cNvPicPr/>
          <p:nvPr/>
        </p:nvPicPr>
        <p:blipFill>
          <a:blip r:embed="rId2"/>
          <a:stretch/>
        </p:blipFill>
        <p:spPr>
          <a:xfrm>
            <a:off x="7215120" y="2714760"/>
            <a:ext cx="1619280" cy="3190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C:\Documents and Settings\Иятта\Рабочий стол\ЭТО СРОЧНО\Новая папка\DSC07710-conv-ok-sq-s-web.jpg"/>
          <p:cNvPicPr/>
          <p:nvPr/>
        </p:nvPicPr>
        <p:blipFill>
          <a:blip r:embed="rId3"/>
          <a:stretch/>
        </p:blipFill>
        <p:spPr>
          <a:xfrm>
            <a:off x="6053040" y="3767040"/>
            <a:ext cx="3103560" cy="31035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89000"/>
            <a:ext cx="7777440" cy="201600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рвым композитором, поднявши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усскую музыку на мир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был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Михаил Иванович Глинка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2496960" y="2349360"/>
            <a:ext cx="3824640" cy="4508640"/>
          </a:xfrm>
          <a:prstGeom prst="rect">
            <a:avLst/>
          </a:prstGeom>
          <a:ln w="9360">
            <a:solidFill>
              <a:srgbClr val="6c0000"/>
            </a:solidFill>
            <a:miter/>
          </a:ln>
        </p:spPr>
      </p:pic>
      <p:sp>
        <p:nvSpPr>
          <p:cNvPr id="195" name=""/>
          <p:cNvSpPr/>
          <p:nvPr/>
        </p:nvSpPr>
        <p:spPr>
          <a:xfrm>
            <a:off x="179280" y="5516640"/>
            <a:ext cx="2124360" cy="115236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04-185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C:\Documents and Settings\Иятта\Рабочий стол\ЭТО СРОЧНО\Новая папка\755ad610193c.png"/>
          <p:cNvPicPr/>
          <p:nvPr/>
        </p:nvPicPr>
        <p:blipFill>
          <a:blip r:embed="rId2"/>
          <a:stretch/>
        </p:blipFill>
        <p:spPr>
          <a:xfrm>
            <a:off x="5357880" y="3000240"/>
            <a:ext cx="3786120" cy="415764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55640" y="0"/>
            <a:ext cx="7416720" cy="227664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перы «Жизнь за царя» и «Руслан и Людми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славили русскую музыку, стали настояще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лассикой. В этих произведениях объединилис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расота родных русских напевов и композиторско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стерство великого музыкан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68360" y="2384280"/>
            <a:ext cx="3408480" cy="4473720"/>
          </a:xfrm>
          <a:prstGeom prst="rect">
            <a:avLst/>
          </a:prstGeom>
          <a:ln w="9360">
            <a:solidFill>
              <a:srgbClr val="6c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503600" y="2421000"/>
            <a:ext cx="3029040" cy="4437000"/>
          </a:xfrm>
          <a:prstGeom prst="rect">
            <a:avLst/>
          </a:prstGeom>
          <a:ln w="9360">
            <a:solidFill>
              <a:srgbClr val="6c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Documents and Settings\Иятта\Рабочий стол\ЭТО СРОЧНО\Новая папка\чернильница.gif"/>
          <p:cNvPicPr/>
          <p:nvPr/>
        </p:nvPicPr>
        <p:blipFill>
          <a:blip r:embed="rId2"/>
          <a:stretch/>
        </p:blipFill>
        <p:spPr>
          <a:xfrm>
            <a:off x="7215120" y="2714760"/>
            <a:ext cx="1619280" cy="3190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Documents and Settings\Иятта\Рабочий стол\ЭТО СРОЧНО\Новая папка\DSC07710-conv-ok-sq-s-web.jpg"/>
          <p:cNvPicPr/>
          <p:nvPr/>
        </p:nvPicPr>
        <p:blipFill>
          <a:blip r:embed="rId3"/>
          <a:stretch/>
        </p:blipFill>
        <p:spPr>
          <a:xfrm>
            <a:off x="6053040" y="3767040"/>
            <a:ext cx="3103560" cy="310356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260280"/>
            <a:ext cx="7129440" cy="201636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тюра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з опер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«Руслан и Людмил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1187280" y="2373480"/>
            <a:ext cx="6384960" cy="4249440"/>
          </a:xfrm>
          <a:prstGeom prst="rect">
            <a:avLst/>
          </a:prstGeom>
          <a:ln w="9360">
            <a:solidFill>
              <a:srgbClr val="6c0000"/>
            </a:solidFill>
            <a:miter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179280" y="333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5280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Documents and Settings\Иятта\Рабочий стол\ЭТО СРОЧНО\Новая папка\755ad610193c.png"/>
          <p:cNvPicPr/>
          <p:nvPr/>
        </p:nvPicPr>
        <p:blipFill>
          <a:blip r:embed="rId2"/>
          <a:stretch/>
        </p:blipFill>
        <p:spPr>
          <a:xfrm>
            <a:off x="5357880" y="3000240"/>
            <a:ext cx="3786120" cy="4157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11280" y="765000"/>
            <a:ext cx="7632720" cy="91440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вы понимаете слова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лассика, классически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1916280"/>
            <a:ext cx="7704360" cy="91440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м ожидается конец оперы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чальным или радостны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3141720"/>
            <a:ext cx="7632720" cy="914400"/>
          </a:xfrm>
          <a:prstGeom prst="rect">
            <a:avLst/>
          </a:prstGeom>
          <a:solidFill>
            <a:srgbClr val="6c0000"/>
          </a:solidFill>
          <a:ln w="9360">
            <a:solidFill>
              <a:srgbClr val="6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й темп и динамика у увертюр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7T15:16:29Z</dcterms:created>
  <dc:creator>Iyatta</dc:creator>
  <dc:description/>
  <dc:language>en-US</dc:language>
  <cp:lastModifiedBy>1</cp:lastModifiedBy>
  <dcterms:modified xsi:type="dcterms:W3CDTF">2013-01-22T16:01:47Z</dcterms:modified>
  <cp:revision>39</cp:revision>
  <dc:subject/>
  <dc:title>Слайд 1</dc:title>
</cp:coreProperties>
</file>