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453-4413-4E25-A6F3-BE2D227A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42B-939D-4DF2-9A70-270A4416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6A8D-44DA-462B-82B7-71E0B4F2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030E-F12A-4F4E-89EC-AE6A0712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8488-7198-44AC-BF4C-CBBBA53A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C0F9-26E1-4800-8D34-DD4044BB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7ED-C73F-43F4-A178-024EE7D0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7AFA-CCFF-4457-8DD1-30ECF598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0ED-A3A2-4A44-86D2-7E4675C4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DD15-39A8-4331-BDEE-6825F403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2674-A1CE-49AB-9503-2138CF14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627-3A02-43F7-AAF1-DEA3FBD3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52301-F577-4203-B915-2457F57D29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EF73-EC2A-4B97-BF0A-9103062BD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:\Documents and Settings\Aida\Рабочий стол\Рисунок1м.jpg"/>
          <p:cNvPicPr/>
          <p:nvPr/>
        </p:nvPicPr>
        <p:blipFill>
          <a:blip r:embed="rId2"/>
          <a:stretch/>
        </p:blipFill>
        <p:spPr>
          <a:xfrm>
            <a:off x="0" y="189000"/>
            <a:ext cx="8871120" cy="6519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ический семина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Череповская Светлана Анатольевн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Учитель русского языка и литератур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00000" y="2997360"/>
            <a:ext cx="3024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снова педагогической деятельност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звитие у учеников творческих способностей и навыков самостоятельной исследовательской рабо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Влияние английского молодежного сленга на речь российской молодеж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Сравнение   русских частушек  и  английских   лимер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Сравнение русских и английских волшебных сказ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11280" y="4076640"/>
            <a:ext cx="3384360" cy="237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219640" y="4076640"/>
            <a:ext cx="338472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ой сай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&lt;a href = "http://nsportal.ru/cherepovskaya-svetlana-anatolevna" &gt; сайт учителя русского языка и литературы&lt;/a&gt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дачи каждого дн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ть учащимся прочные и глубокие знания по предмет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действовать творческому развитию каждого ученика как на уроке, так и вне урок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звать у ребенка интерес к знаниям, научить его иметь собственное мнени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итывать у детей самостоятельность, любознательность, честность, личную инициативу, веру в себ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ть им другом, раскрыть богатство их душ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бота – лучший способ наслаждаться жизнью”, - утверждал И.Кант. Так буду же ею наслаждаться, обладая великой силой каждого учителя – владеть сердцами своих учеников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095640" cy="3743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284720" y="3141720"/>
            <a:ext cx="44640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ь-это ученик, который навсегда остался в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Достучаться до каждого сердца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Тех, кого ты решился учить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И откроется тайная дверц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К душам тех, кого смог полюбит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                                                    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Марк Львовский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4535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вышение качества образования через развитие культуры устной и письменной речи учащихся, совершенствование их коммуникативных навык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F17C-B02D-48FD-8C83-C3418DB7509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D921-B784-43A5-936E-31D5F8228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оздавать условия для развития познавательной учебной мотивации среди учащих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спользовать информационно – коммуникативные технологии для активного включения учащихся в процесс саморазвития и самообразова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оздавать условия  для проявления у детей творческих способност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формировать навыки контроля, самоконтроля и самооценк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одолжать работу по созданию благоприятных условий для сохранения здоровья учащихс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оздавать условия, способствующие социализации, формированию общей культуры лич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4FE8-A94C-4701-A603-5E8CDD92CF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1256-5272-437B-A414-A9F5F911B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етодическая те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«Формирование и развитие познавательных универсальных учебных действий средствами Способа диалектического обучения»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76360" y="2997360"/>
            <a:ext cx="64818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ой опыт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своение и осмысление возможностей Способа диалектического обучения в развитии у учащихся познавательных универсальных учебных действий позволит учителю, с одной стороны,  осознать сущность данных действий, с другой стороны, - обнаружить их взаимосвязь с предметными знаниями и умениями и овладеть приемами разработки предметных заданий, использование которых позволит развивать у учащихся различные виды познавательных УУД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ибирский образовательный фору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3024000" cy="3024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716360" y="1844640"/>
            <a:ext cx="3961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Результа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12-2013гг. Сибирский образовательный фору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12г. IV Всероссийская научно-методическая конференция «Современная дидактика и качество образования: обеспечение индивидуального прогресса в обучении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13г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сероссийская конференция «Современная дидактика и качество образования: эффективные средства обучения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13г. Краевой семинар «Разработка диагностического материала по различным учебным дисциплинам для определения стартовых показателей качества предметных знаний и уровня развития мышления учащихся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14г. Краевой семинар «Возможности Способа диалектического обучения в развитии у учащихся универсальных учебных действий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15г. I районная практическая конференция «Реализация ФГОС ДО, ФГОС НОО, ФГОС ООО в Ермаковском районе: опыт, итоги, перспективы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15 г. Зональная научно-практическая конференция: «Реализация ФГОС средствами Способа диалектического обучения: опыт, проблемы и перспективы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16г. 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районная практическая конференция «Реализация ФГОС ДО, ФГОС НОО, ФГОС ООО в Ермаковском районе: опыт, итоги, перспективы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16г. Краевая дистанционная научно-практическая конференция «Возможности Способа диалектического обучения в реализации ФГОС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онспекты уроков в технологии СД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. Структура предложения в русском и английском языка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бщее – особенное – единичн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. Местоимение в русском и английском языка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бщее – особенное – единичн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. Гласные в приставках ПРЕ- и ПРИ-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овторение темы: «Предлог»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Наречие как часть речи в русском и английском язык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6. Имя существительное как часть речи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дания, представленные в конспектах уроков могут быть использованы учителями как на уроках, так и в качестве домашних заданий, а в дальнейшем педагоги смогут по аналогии самостоятельно разрабатывать подобные задания и по другим темам с целью развития у учащихся предметных и универсальных ум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ой принцип разработки заданий: содержание каждого урока - это система заданий, соответствующих теме и целям урока (планируемым результатам), логически связанных между собой. Эффективность их использования на уроках должна стать предмет ом диагностики, регулярно проводимой педагогом для выявления проблем и определения дальнейших действ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6T08:55:17Z</dcterms:created>
  <dc:creator>Home</dc:creator>
  <dc:description>http://aida.ucoz.ru</dc:description>
  <dc:language>en-US</dc:language>
  <cp:lastModifiedBy>Home</cp:lastModifiedBy>
  <dcterms:modified xsi:type="dcterms:W3CDTF">2017-01-08T11:19:09Z</dcterms:modified>
  <cp:revision>4</cp:revision>
  <dc:subject/>
  <dc:title>Методический семинар.</dc:title>
</cp:coreProperties>
</file>