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14B-EF54-41CB-A13A-2D03CC97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6F6-3AEC-47CF-8DA7-D65DC669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F51-3835-4E02-BC9E-1DCACCD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C2A-39EF-408D-ADE5-D7E80745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FD0-6BA5-483A-B82B-8C70A3E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180-42E2-4FF4-95F4-1B709ADF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A3E-58F1-4687-8986-340282DA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D8F-C92E-47CD-9008-13206BB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7F6-3E54-4765-96C2-FE5942C4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569-8535-426E-A222-FBE3C7E9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179-DB00-490C-9169-7006FC2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D99-4D3A-491E-B546-1FB08BE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77E-CEAA-4A6B-BE02-76EB53A565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96B-783F-44F6-B760-C957F5358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2"/>
          <a:stretch/>
        </p:blipFill>
        <p:spPr>
          <a:xfrm>
            <a:off x="0" y="189000"/>
            <a:ext cx="8871120" cy="65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ический семин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Череповская Светлана Анатольев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Учитель русского языка и литера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3024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снова педагогической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у учеников творческих способностей и навыков самостоятельной исследовательской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лияние английского молодежного сленга на речь российской молоде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равнение   русских частушек  и  английских   лимер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равнение русских и английских волшебных ска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384360" cy="23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38472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й сай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a href = "http://nsportal.ru/cherepovskaya-svetlana-anatolevna" &gt; сайт учителя русского языка и литературы&lt;/a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и каждого д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учащимся прочные и глубокие знания по предме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овать творческому развитию каждого ученика как на уроке, так и вне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звать у ребенка интерес к знаниям, научить его иметь собственное мн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самостоятельность, любознательность, честность, личную инициативу, веру в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ть им другом, раскрыть богатство их ду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бота – лучший способ наслаждаться жизнью”, - утверждал И.Кант. Так буду же ею наслаждаться, обладая великой силой каждого учителя – владеть сердцами своих учеников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464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ь-это ученик, который навсегда остался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остучаться до каждого сердца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ех, кого ты решился уч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 откроется тайная двер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 душам тех, кого смог полюб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арк Львовский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53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ышение качества образования через развитие культуры устной и письменной речи учащихся, совершенствование их коммуникативных навы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5FDC-09FE-4C17-A7A4-12F6D2DB1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FE82-AE1F-47E7-9C83-18D5D721F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 для развития познавательной учебной мотивации сред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ользовать информационно – коммуникативные технологии для активного включения учащихся в процесс саморазвития и само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  для проявления у детей творческих способ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рмировать навыки контроля, самоконтроля и самооцен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должать работу по созданию благоприятных условий для сохранения здоровья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, способствующие социализации, формированию общей культуры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1263-F257-4507-ACF0-C41008235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E6F-202F-47A3-918F-48F64CEEA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ческая т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«Формирование и развитие познавательных универсальных учебных действий средствами Способа диалектического обучения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6481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й опы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воение и осмысление возможностей Способа диалектического обучения в развитии у учащихся познавательных универсальных учебных действий позволит учителю, с одной стороны,  осознать сущность данных действий, с другой стороны, - обнаружить их взаимосвязь с предметными знаниями и умениями и овладеть приемами разработки предметных заданий, использование которых позволит развивать у учащихся различные виды познавательных УУ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ибирский образовательный фору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961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зульта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2-2013гг. Сибирский образовательный фору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2г. IV Всероссийская научно-методическая конференция «Современная дидактика и качество образования: обеспечение индивидуального прогресса в обучени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3г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сероссийская конференция «Современная дидактика и качество образования: эффективные средства обучен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3г. Краевой семинар «Разработка диагностического материала по различным учебным дисциплинам для определения стартовых показателей качества предметных знаний и уровня развития мышления учащихс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4г. Краевой семинар «Возможности Способа диалектического обучения в развитии у учащихся универсальных учебных действи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5г. I районная практическая конференция «Реализация ФГОС ДО, ФГОС НОО, ФГОС ООО в Ермаковском районе: опыт, итоги,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5 г. Зональная научно-практическая конференция: «Реализация ФГОС средствами Способа диалектического обучения: опыт, проблемы и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6г.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йонная практическая конференция «Реализация ФГОС ДО, ФГОС НОО, ФГОС ООО в Ермаковском районе: опыт, итоги,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6г. Краевая дистанционная научно-практическая конференция «Возможности Способа диалектического обучения в реализации ФГОС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спекты уроков в технологии СД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Структура предложения в русском и английском язык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щее – особенное – единич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Местоимение в русском и английском язык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щее – особенное – единич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Гласные в приставках ПРЕ- и ПРИ-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вторение темы: «Предлог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речие как часть речи в русском и английском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Имя существительное как часть речи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я, представленные в конспектах уроков могут быть использованы учителями как на уроках, так и в качестве домашних заданий, а в дальнейшем педагоги смогут по аналогии самостоятельно разрабатывать подобные задания и по другим темам с целью развития у учащихся предметных и универсальных ум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зработки заданий: содержание каждого урока - это система заданий, соответствующих теме и целям урока (планируемым результатам), логически связанных между собой. Эффективность их использования на уроках должна стать предмет ом диагностики, регулярно проводимой педагогом для выявления проблем и определения дальнейши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08:55:17Z</dcterms:created>
  <dc:creator>Home</dc:creator>
  <dc:description>http://aida.ucoz.ru</dc:description>
  <dc:language>en-US</dc:language>
  <cp:lastModifiedBy>Home</cp:lastModifiedBy>
  <dcterms:modified xsi:type="dcterms:W3CDTF">2017-01-08T11:19:09Z</dcterms:modified>
  <cp:revision>4</cp:revision>
  <dc:subject/>
  <dc:title>Методический семинар.</dc:title>
</cp:coreProperties>
</file>