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766-25EB-4717-9051-BA0C625C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8AC-B03F-460C-9683-C761D618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97C-78CC-4D92-A1CE-2C40E826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521-BFA9-4511-861C-8B503F46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41B-3069-4F17-8914-376F7D01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D41-2F7F-43D3-B6D9-E42126B1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108-2B97-45C3-8FB4-7A402594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389-430F-4FCC-B104-C8AA1C41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D8B-938A-4103-8D83-267F43AD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110-F8CA-49B0-9FE4-EE6B31E5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D25-5388-4876-B096-D75C4FA3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BBF-C4BF-4F40-B44F-CD128871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48C1-C04F-4AC6-826D-11E986374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2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1268280"/>
            <a:ext cx="3934080" cy="2095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одит одинок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гненное око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юду, где бывает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зглядом согревае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8000" y="333360"/>
            <a:ext cx="4400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гадайте загадку 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368800" cy="237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1595520" cy="2222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020000" y="350028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це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4797360"/>
            <a:ext cx="200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це -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4797360"/>
            <a:ext cx="2281320" cy="5558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16360" y="4797360"/>
            <a:ext cx="1743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о н ц э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19640" y="4797360"/>
            <a:ext cx="35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2 сл., 6 б., 5 з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5373720"/>
            <a:ext cx="2890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1e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8000" y="620640"/>
            <a:ext cx="55342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огда соглас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ют с нами в прятк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ни не произносятся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 пишутся в тетрадке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79640" y="3284640"/>
            <a:ext cx="1467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...ц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79640" y="4149720"/>
            <a:ext cx="252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пус...ны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8000" y="522936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ра...ству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00360" y="3213000"/>
            <a:ext cx="2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51280" y="3213000"/>
            <a:ext cx="288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сердечны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76720" y="4221000"/>
            <a:ext cx="21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716360" y="4221000"/>
            <a:ext cx="2028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капуст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916360" y="5300640"/>
            <a:ext cx="2142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3280" y="5229360"/>
            <a:ext cx="2152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здрави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0f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58920" y="333360"/>
            <a:ext cx="667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екоторых словах согласны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419640" y="1125360"/>
            <a:ext cx="23335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 , д , л,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03280" y="1989000"/>
            <a:ext cx="6800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шутся, но не произносятся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4724280"/>
            <a:ext cx="8425080" cy="17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проверки непроизносимых согласны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ужно подобрать однокренные слова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торых эти звуки произносят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19280" y="2852640"/>
            <a:ext cx="149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з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3429000"/>
            <a:ext cx="287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4292640"/>
            <a:ext cx="287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19280" y="371628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уст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76720" y="2852640"/>
            <a:ext cx="2303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опозд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24360" y="3789360"/>
            <a:ext cx="180000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гру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2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476280"/>
            <a:ext cx="81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ьте непроизносимую согласную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42920" y="1197000"/>
            <a:ext cx="668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пишите проверочные сло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76360" y="2421000"/>
            <a:ext cx="20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ис...нул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76360" y="3284640"/>
            <a:ext cx="216072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ёз...ны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76360" y="4221000"/>
            <a:ext cx="2505240" cy="6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пус...ны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76360" y="5300640"/>
            <a:ext cx="2390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нас...ны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411280" y="2421000"/>
            <a:ext cx="28908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771640" y="4365720"/>
            <a:ext cx="2160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00360" y="5445000"/>
            <a:ext cx="28728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11280" y="3429000"/>
            <a:ext cx="2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1280" y="2421000"/>
            <a:ext cx="13478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сви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51280" y="3429000"/>
            <a:ext cx="1647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звезд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067280" y="4292640"/>
            <a:ext cx="1904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капуст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11640" y="5373720"/>
            <a:ext cx="172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ненасть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9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348000" y="620640"/>
            <a:ext cx="24973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помни 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76720" y="2133720"/>
            <a:ext cx="2600280" cy="32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стница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увство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здник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2565360"/>
            <a:ext cx="216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4005360"/>
            <a:ext cx="360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5516640"/>
            <a:ext cx="43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3:15:21Z</dcterms:created>
  <dc:creator>Добрынина</dc:creator>
  <dc:description/>
  <dc:language>en-US</dc:language>
  <cp:lastModifiedBy>Добрынина</cp:lastModifiedBy>
  <dcterms:modified xsi:type="dcterms:W3CDTF">2012-12-14T14:02:38Z</dcterms:modified>
  <cp:revision>2</cp:revision>
  <dc:subject/>
  <dc:title>Слайд 1</dc:title>
</cp:coreProperties>
</file>