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BD8-9C30-417D-91FE-4428432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5C3-C43A-432F-9FEA-DFC21CA8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0EC-51C5-42A2-B619-908F0553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EE4-7B09-4F92-9765-61B18B9C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DFF-8263-4521-9744-F8BD6750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E63D-3F63-4A1D-9745-BC2BAD6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881-50BC-4F88-860F-9B7DA858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75C1-C356-4B16-B73C-F270C0E0E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F0B-742D-4A81-8DF7-6581356D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996B-50AD-4EA7-88EC-44B6E6C7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56D-00A5-4248-854D-2653CEB1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E8AF-2D9F-4DF1-868F-7263F52A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A425-66C1-46DD-B379-B9511965F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84360" y="1268280"/>
            <a:ext cx="3934080" cy="20955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одит одинок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гненное око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сюду, где бывает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зглядом согревает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8000" y="333360"/>
            <a:ext cx="4400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гадайте загадку 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588000" y="981000"/>
            <a:ext cx="2368800" cy="2376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1595520" cy="2222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7020000" y="3500280"/>
            <a:ext cx="1523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лнце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4797360"/>
            <a:ext cx="200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лнце -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4797360"/>
            <a:ext cx="2281320" cy="55584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916360" y="4797360"/>
            <a:ext cx="1743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о н ц э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219640" y="4797360"/>
            <a:ext cx="3505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2 сл., 6 б., 5 зв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5373720"/>
            <a:ext cx="2890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1ee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8000" y="620640"/>
            <a:ext cx="55342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огда согласн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грают с нами в прят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ни не произносятся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о пишутся в тетрадке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979640" y="3284640"/>
            <a:ext cx="146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...ц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4149720"/>
            <a:ext cx="252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ус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8000" y="5229360"/>
            <a:ext cx="25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ра...ству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700360" y="3213000"/>
            <a:ext cx="2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851280" y="3213000"/>
            <a:ext cx="288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сердечны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76720" y="4221000"/>
            <a:ext cx="21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716360" y="4221000"/>
            <a:ext cx="2028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капус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916360" y="5300640"/>
            <a:ext cx="2142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3280" y="5229360"/>
            <a:ext cx="21528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здрави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a0f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58920" y="333360"/>
            <a:ext cx="6676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некоторых словах согласные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419640" y="1125360"/>
            <a:ext cx="2333520" cy="6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 , д , л,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403280" y="1989000"/>
            <a:ext cx="6800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шутся, но не произносятся.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4724280"/>
            <a:ext cx="8425080" cy="178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ля проверки непроизносимых согласны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ужно подобрать однокренные слова,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которых эти звуки произносятс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619280" y="2852640"/>
            <a:ext cx="149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зд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42900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4292640"/>
            <a:ext cx="287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19280" y="371628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рустн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76720" y="2852640"/>
            <a:ext cx="230328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опозда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24360" y="3789360"/>
            <a:ext cx="1800000" cy="4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- груст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2fe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476280"/>
            <a:ext cx="817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ставьте непроизносимую согласную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042920" y="1197000"/>
            <a:ext cx="6686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пишите проверочные слов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76360" y="2421000"/>
            <a:ext cx="2009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вис...нул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76360" y="3284640"/>
            <a:ext cx="216072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ёз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476360" y="4221000"/>
            <a:ext cx="2505240" cy="69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пус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76360" y="530064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нас...ны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411280" y="2421000"/>
            <a:ext cx="28908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771640" y="4365720"/>
            <a:ext cx="21600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700360" y="5445000"/>
            <a:ext cx="287280" cy="3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11280" y="3429000"/>
            <a:ext cx="2858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51280" y="2421000"/>
            <a:ext cx="134784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сви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851280" y="3429000"/>
            <a:ext cx="1647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звезд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067280" y="4292640"/>
            <a:ext cx="1904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капус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11640" y="5373720"/>
            <a:ext cx="17287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ненасть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df9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8000" y="620640"/>
            <a:ext cx="24973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помни 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76720" y="2133720"/>
            <a:ext cx="2600280" cy="32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стница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вство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здник</a:t>
            </a:r>
            <a:endParaRPr b="1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4720" y="2565360"/>
            <a:ext cx="216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4005360"/>
            <a:ext cx="360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5516640"/>
            <a:ext cx="431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4T13:15:21Z</dcterms:created>
  <dc:creator>Добрынина</dc:creator>
  <dc:description/>
  <dc:language>en-US</dc:language>
  <cp:lastModifiedBy>Добрынина</cp:lastModifiedBy>
  <dcterms:modified xsi:type="dcterms:W3CDTF">2012-12-14T14:02:38Z</dcterms:modified>
  <cp:revision>2</cp:revision>
  <dc:subject/>
  <dc:title>Слайд 1</dc:title>
</cp:coreProperties>
</file>