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26.png" ContentType="image/png"/>
  <Override PartName="/ppt/media/image24.jpeg" ContentType="image/jpeg"/>
  <Override PartName="/ppt/media/image22.jpeg" ContentType="image/jpeg"/>
  <Override PartName="/ppt/media/image1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9885-A33F-4909-AA8F-D97BB0474E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5552-E51B-45D0-A930-6645B20F80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FC1-390E-43E4-B997-7C283B698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ыт работы на тему </a:t>
            </a:r>
            <a:r>
              <a:rPr b="1" lang="ru-RU" sz="800" spc="-1" strike="noStrike">
                <a:solidFill>
                  <a:srgbClr val="ff0000"/>
                </a:solidFill>
                <a:latin typeface="Times New Roman"/>
              </a:rPr>
              <a:t>«Исследовательская деятельность, как средство формирования познавательной активности ребёнка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C724-0A5D-43CE-A97D-EA0A5765D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льно-исследовательскую деятельность подбираем в соответствии с темой образовательного комп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апример,  в рамках темы «На прогулку в зоопарк»  в процессе исследовательской деятельности, дети выяснили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Почему  медведь после купания выходит сухим из воды!». Нанеся жирный крем на руки, опустив их в воду, самостоятельно пришли к выводу, что  на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же и шерсти медведя покрытой  жиром, капли воды не задерживаются.   В результате у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тей расширились представления  о животных, об особенностях их приспособле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ие моменты мы вместе с детьми испытываем большую радость, удивление от своих маленьких и больших «откры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8FB-28CC-4B9B-9452-D861D6F25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проведении образовательной деятельности «Как продукты на стол пришли» в процессе эксперимента 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и узнали, как люди научились готовить пищу из разных продуктов, например, из картофеля: они освоили способ  приготовления картофельного крахм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D0E-600A-43DF-8ED5-D38B298BC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ходе образовательной деятельности «Поможем воде стать чистой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познакомились с  различными способами очистки воды, используя различные материалы, самостоятельно  создали свой фильтр и помогли воде стать чист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770-8C4D-41C3-9CA8-8CB2B04ED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проведении образовательной деятельности «Путешествие на морское дно…»,  использу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нитные удочки, очистили  водные просторы от металлического мусора. При этом, использование магнитных удочек предложили именно д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1DBF-A0D6-48F6-957C-4FA72563F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ируя, дети  приобретают опыт творческой, поисковой деятельности, анализировать объект или явление, выделять существенные признаки, связи,  строить сложные предложения, отбирать материал для самостоятельной деятельности, делать вывод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ак например,  в образовательная деятельности «Путешествие на корабле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в процессе эксперимента «Тонет – не тонет» самостоятельно  сделали вывод, из какого материала можно построить корабль, чтобы он не утону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0B5-596C-47FD-89E6-425063C240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у-дошкольнику по природе присуща ориентация на познание окружающего мира и экспериментирование с объектами и явлениями реальности. Например, во время прогулки дети,  дети стремятся не только рассмотреть предмет, но и потрогать его руками, понюхать, постучать им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обследуя камни, дети  рассказали,  где их можно увидеть,  рассмотрели их с помощью лупы, уточнили, чем они отличаются. Определили,  к какой природе они относятся, и как люди используют камни в своей жизни.  В ходе эксперимента выяснили,  что тверже: камень или дерево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А 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людение  за лужами  после дождя, позволило  провести опыт «Лужа морщится»: от маленького камушка – немножко, от большого - по воде расходятся широкие кр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ние  снежинок через лупу, экспериментирование со снегом,  водой и льдом, не только вызывает живой интерес, но и позволяет детям сделать самостоятельные умозаключения о   том, что происходит с состоянием этих веществ под воздействием тепла и хол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E43F-50B9-4D01-9B11-46E9D906D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оде «Большой  экспедиции маленьких геологов» был продемонстрирован опыт «Извержение вулкана» -  у детей сформировались представления  об извержении  вулкана. Дети узнали, что такое лава, как  образуется пемза, рассмотрели и обследовали ее, в процессе эксперимента с водой, выяснили, что в пемзе содержится возду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енные знания, умения и навыки, позволяют детям  наблюдать, анализировать, делать выводы, самостоятельно готовить оборудование  в ходе самостоятельных  эксперимен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Тонет – не тонет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ыльные пузыр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делаем растворы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ыйти сухим из вод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йствия с магнитами, лупой, измерительными приборами, переливание жидкостей, пересыпание сыпучих материал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DCAD-034B-4F82-A6FE-DC6226695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вестно, что ни одну воспитательную или образовательную задачу нельзя успешно решить без плодотворного контакта с семьёй и полного взаимопонимания между родителями и педагогами, так как каждая минута общения с ребёнком обогащает его, формирует его личност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 простейших опытов и экспериментов в семье, рядом с родителями  поддерживает  у ребёнка стремление узнать новое, выяснить непонятное, желание вникнуть в сущность предметов, явлений и действ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оме того, мы рекомендуем родителям вместе с детьми  создавать разнообразные коллекции (пуговицы, значки, наклейки, календари,  вкладыши из киндер - сюрпризов ).  Ведь  именно общность интересов объединяет родителей и детей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к показывают наблюдения, детям интересно экспериментировать в любом возрасте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етям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младшего возраста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надо стараться по возможности не сообщать знания в готовом виде, а помочь  получить их самостоятельно, поставив несложный опыт. Дети в этом возрасте уже способны устанавливать простейшие причинно – следственные связи. Участие педагога в совершении любых действий является обязательны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 старшем дошкольном возрасте, расширяется подбор материалов,  дети  выдвигают собственные предположения, способны уже самостоятельно делать выводы о скрытых свойствах предметов и явлений, без наводящих вопрос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409C-AA56-459A-B527-619B08E5CF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EB4B-5C9F-4D3C-B946-8702D1C3D2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результатам мониторинга можно сделать вывод о положительном влиянии использования опытно-исследовательской деятельности на развитие дошкольник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ожительная динамика интеллектуальной компетентности дошкольник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уровня развития любозна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ние исследовательскими умениями и навыками (видеть и определять проблему, принимать и ставить цель, решать проблемы, анализировать объект или явление, выделять существенные признаки и связи, сопоставлять различные факты, выдвигать различные гипотезы, отбирать средства и материалы для самостоятельной деятельности, осуществлять эксперимент, делать определенные умозаключения и выводы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уровня развития познавательных процес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гащение словарного запаса детей различными терминами, закрепление умения грамматически правильно строить свои ответы на вопросы, умение задавать вопросы, следить за логикой своего высказывания, умение строить доказательную реч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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явление инициативы, самостоятельности, умения сотрудничать с другими, потребности отстаивать свою точку зрения, согласовывать её с друг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нимательные опыты, эксперименты побуждают детей к самостоятельному поиску причин, способов действий, проявлению твор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ая активность детей, так или иначе, связана с активностью, идущей от взрослого, а знания и умения, усвоенные с помощью взрослого, становятся достоянием самого ребёнка, так как он воспринимает и применяет их, как собственные. Наличие этих качеств у ребёнка свидетельствует о его любозна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4BB6-6520-45E8-9CAD-0225582AE1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25FC-8BCF-4B0B-9CBD-58E531A81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 самого рождения ребенок является первооткрывателем, исследователем того мира, который его окружа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456C-C0DB-478E-8FDE-3C566D17E7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знаем, что у выпускника дошкольного учреждения должны быть сформированы предпосылки учебной деятельности, которые являются фундаментом для овладения ключевыми компетенциями в начальной школе, составляющими основу умения учиться. Одной из личностных предпосылок учебной деятельности, согласно ФГОС, является развитие познавательных потребностей ребе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E9D5-772E-42C5-AB79-C33D8B4F9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 сложное противоречивое время особенно остро стоит вопрос: «Как сегодня воспитать ребенка человеком завтрашнего дня? Какие знания дать ему завтра в дорогу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мысление этого вопроса,  у нас педагогов детского сада, должно происходить через осознание резко измененного социального заказа: вчера нужен был исполнитель, а сегодня – творческая личность с активной жизненной пози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необходимо научить ребенка сомневаться в истинности знаний как таковых, учить добывать их разными  сред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услышать и запомнить, а может и понаблюдать, сравнить, спросить о непонятном, высказать предло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почерпнутые не из книг, а добытые самостоятельно, всегда являются осознанными и более прочны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1561-15E8-4B10-87B7-CB74762D4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ей развития дошкольника существует много, но исследовательская деятельность, по нашему мнению, является одной из самых эффек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в процессе исследовательской  (поисковой) деятельност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изируются мыслительные процессы, т.к. постоянно возникает необходимость совершать операции анализа и синтеза, сравнения,  классифик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ется способность к начальным формам обобщения, умозаключ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разнообразнее и интенсивнее поисковая деятельность, тем больше новой информации получает ребёнок, тем быстрее и полноценнее развивается его реч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исследовательской деятельности идёт обогащение памяти ребён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поэтому данное направление в  практической деятельности с детьми является актуа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9BAB-AE08-4190-8716-C68DC9F071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EEBB-33CD-44C8-A274-A236D9CE5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я над этой темой, я поставила перед собой цель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Изучить   влияние использования опытно- исследовательской деятельности в педагогическом процессе на развитие дошколь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достижения поставленной цели определила ряд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ть картотеку опытов и экспериментов для каждой возрастной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ть  условия для развития познавательного интереса детей в процессе опытно- исследов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ировать на практике  включение опытов и экспериментов   в непосредственно образовательную деятельность де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сить компетентность родителей по развитию познавательной активности дошкольников в процессе домашнего эксперимен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09A2-748F-4957-ADE0-84E909F8DC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й группе  создана и широко применяется опытно-экспериментальная мини-среда, которая стимулирует исследовательскую и познавательную деятельность, удовлетворяет потребности ребёнка в освоении окружающего мира, познании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борка материала осуществляется по мере изучения темы и по мере ознакомления детей с теми или иными материалами. Существует также подборка энциклопедической литературы, картинок, иллюстраций и плакатов, а ещё создан журнал исследований для фиксации детьми результатов опы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73BA-E86B-4EA1-8811-345D849845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ртотеке экспериментов мы создали  подборку опытов и экспериментов на каждую возрастную группу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ы с объектами живой и неживой природы (с растениями, насекомыми, воздухом, водой, песком, землё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различными свойствами веществ (твёрдость, мягкость, сыпучесть, вязкость, плавучесть, растворимос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комство с основными видами движения (скорость, направлени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ы, развивающие  географические представления – знакомство  с глобусом,  Солнечной системой, о том почему наступают день и ночь, почему происходит смена времен года, почему, наконец, наступает новый г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роведении опытов дети приобретают навыки самостоятельности и  безопас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4DE8-488A-4AD5-A43C-3850A1E262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12FB-4BE8-4FCC-BE76-35E82BF19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ы и эксперименты в нашей группе являются неотъемлемой частью, мы проводим  их   в непосредственно- образовательной деятельности, на прогулке, в свободной самостоятельной деятельн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F749-38DF-4250-AF88-8591B52A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F69-3A24-459F-A95D-67AC46DC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06DA-A3FA-4B4E-8376-3EFE74FDB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241E-96D3-47CD-8B73-CCFE9234D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A920F-BA6B-4D71-A9F7-CB610D4B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FA089-B39E-498F-979B-C30F7B23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2D856-8C80-420D-BED7-54D54188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51DE9-2E48-44E8-B77D-A5430428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51E83F-E179-4CD7-A11C-84382BC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2A049-0A0E-44AD-84E8-F1C5D29F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F3E25-750E-4B98-8C8D-77A6508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A77-D2BB-407B-ACF6-FBFBECFB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6B488-4697-4A2C-B915-2D958FC1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331C9-E71D-4326-A422-D46CB249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993F9-ACDF-45EC-A22D-A4698B3D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72D5F-0371-4C0C-972F-66C0922E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2CB7E-42DA-4720-8FD8-2FA7FB968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DD02-33BF-4B18-A5DA-2A4B069A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FA41F-A334-4E71-934D-3DFAF58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D74FA-7971-443A-8478-92276970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6E7CA-4782-4082-8EE4-1C350AE4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469E-C4FF-4B68-B6F7-4C9BF508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C985-73A7-4E89-A94B-873ACA64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D2EC-9CF0-4A66-A80A-591A1A7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45F6-97DE-43E8-AB17-C235481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725EF-365C-421D-BE75-AEDBE9F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CC637-1243-46F5-B261-60DE7656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6EC32-41CD-40CF-A0ED-F7745C1D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BC9FC-BF9E-4FB1-8B9C-CFD46FAC9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8909-E072-4DC1-965D-CAEB6D9A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A75B-7865-4DAF-835A-1BB5E032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62C1-F6C9-4D07-8B2E-2735FC7C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E239-7C84-4313-B8B7-B5627257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8D9-BCEB-46B7-93B8-BD1D4CA8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3636-D51C-4023-8890-DABC515D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98E55-DEFD-4765-AB54-EC0C1F0A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C98A5-0A35-44A1-B659-B69FBBE8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2055F-66FB-4944-9BA7-74AE7E73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9272E-FF95-463C-B3EB-E7975FF4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54370-900B-4B1D-A58C-0725C47B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834DD-2C32-416C-8942-8C8F0AB3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3273B-CF3F-4EA4-A2B4-596D30A7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F6B7F-BDFF-4A95-8FBD-DF6CAA0D3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7183-E2C6-40F2-9F72-A7146505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BF9-613B-40E8-928C-90AD10DE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E3AD-BCA9-4930-874C-FAB81325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D3B7-4B21-44C4-937F-08133D46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AFF8-9822-4A4A-8A2D-F3CFC98C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6A0B6-B598-4E15-B4C7-5F2F80AF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71E1-28BB-4E5F-8779-B8A57C78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BB2DD-D7AA-42F9-8605-BC225A0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1FB66-8D21-4A0A-835C-8C4E7F1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9557-B913-428E-8A4C-AABECDEA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A2FFD-E1AA-4049-B77A-40ADD09B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DB200-C91D-47C0-B02B-4B07FB9E3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450-10ED-49DE-8B47-678FA1E1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B1146-1B03-44BB-BE1C-E8641D0F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426AEB-A852-4986-BCA5-6F7167D74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9D9489-8321-48D9-A5FC-E6796124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45E5F-A3C7-443F-A0B2-31D3690D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6BAC6-04E6-4941-BD55-9209A48F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C26CBC-FC11-44C3-88BF-2EB202D2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639BC4-E7A8-4164-ADE4-EBA6BEF2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134369-9AC4-48D6-A53B-797D55C8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B6ED1-AD23-4364-AD8F-B1BB9099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1D287C-3313-4FFE-97D3-ED7C848A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C5AE-C414-4E57-8760-962A7C7B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D0179-F693-4760-A6ED-EC3F47D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764480-71B9-49AF-9EEC-98C8BDDC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69844F-EDA3-4D29-86FA-96FE6396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9271-2745-4877-B411-EE462C97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00C-D422-4519-8B89-8E2CB112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E98F-DB09-4DE5-B128-A44C57C4361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993F-BF96-4FDF-A27F-77F4840D40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4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A4CF-1AE9-4E0A-95DC-479630470B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48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52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F674-1D51-490D-9B10-FF8AEE9BC1D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9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18E7-E9F9-4D2F-9643-F6B8DE95E5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BDD-4907-4F96-9214-35F58B16CB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11.nnm.ru/0/2/6/3/4/026345d65d32c4e0c3b1cade8b167745_full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5" descr="SL272219"/>
          <p:cNvPicPr/>
          <p:nvPr/>
        </p:nvPicPr>
        <p:blipFill>
          <a:blip r:embed="rId1"/>
          <a:stretch/>
        </p:blipFill>
        <p:spPr>
          <a:xfrm>
            <a:off x="2971800" y="2514600"/>
            <a:ext cx="3505320" cy="20113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343040" y="5410080"/>
            <a:ext cx="4800600" cy="144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итат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рст Оксана Людвиг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высшей квалификационно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униципальное автономное образовательное учреждение центр развития ребенка – детский сад № 146 города Тюмени</a:t>
            </a:r>
            <a:br>
              <a:rPr sz="3800"/>
            </a:br>
            <a:r>
              <a:rPr b="1" lang="ru-RU" sz="2100" spc="-1" strike="noStrike">
                <a:solidFill>
                  <a:srgbClr val="ff0000"/>
                </a:solidFill>
                <a:latin typeface="Times New Roman"/>
              </a:rPr>
              <a:t>«Исследовательская деятельность, как средство формирования познавательной активности ребёнка»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Тема образовательного комплекса «На прогулку в зоопарк» </a:t>
            </a: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«Заселяем зоопарк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чему  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после куп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выходи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сухим из вод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334120" y="2209680"/>
            <a:ext cx="220968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Как продукты на стол пришли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л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крахма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7" descr="P2220159"/>
          <p:cNvPicPr/>
          <p:nvPr/>
        </p:nvPicPr>
        <p:blipFill>
          <a:blip r:embed="rId1"/>
          <a:stretch/>
        </p:blipFill>
        <p:spPr>
          <a:xfrm>
            <a:off x="5181480" y="2154240"/>
            <a:ext cx="236232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о морю, по океану…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очисти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вод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8" descr="SL270204"/>
          <p:cNvPicPr/>
          <p:nvPr/>
        </p:nvPicPr>
        <p:blipFill>
          <a:blip r:embed="rId1"/>
          <a:stretch/>
        </p:blipFill>
        <p:spPr>
          <a:xfrm>
            <a:off x="5257800" y="2057400"/>
            <a:ext cx="25146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утешествие на морское дно…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Поможем морским обитателя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SL273373"/>
          <p:cNvPicPr/>
          <p:nvPr/>
        </p:nvPicPr>
        <p:blipFill>
          <a:blip r:embed="rId1"/>
          <a:stretch/>
        </p:blipFill>
        <p:spPr>
          <a:xfrm>
            <a:off x="5410080" y="2057400"/>
            <a:ext cx="236232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Тема образовательного комплекса «По морям, по океанам» </a:t>
            </a:r>
            <a:br>
              <a:rPr sz="20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Образовательная деятельность 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«Путешествие на корабле»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3429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эксперементально-исследовательская дея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9900"/>
                </a:solidFill>
                <a:latin typeface="Times New Roman"/>
              </a:rPr>
              <a:t>«Тонет- не тоне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SL270496"/>
          <p:cNvPicPr/>
          <p:nvPr/>
        </p:nvPicPr>
        <p:blipFill>
          <a:blip r:embed="rId1"/>
          <a:stretch/>
        </p:blipFill>
        <p:spPr>
          <a:xfrm>
            <a:off x="4648320" y="2490840"/>
            <a:ext cx="289548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SL276079"/>
          <p:cNvPicPr/>
          <p:nvPr/>
        </p:nvPicPr>
        <p:blipFill>
          <a:blip r:embed="rId2"/>
          <a:stretch/>
        </p:blipFill>
        <p:spPr>
          <a:xfrm>
            <a:off x="685800" y="380880"/>
            <a:ext cx="2133720" cy="171144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276720" y="304920"/>
            <a:ext cx="3200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ыт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Что тверже: камень или дерево?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69" name="Picture 7" descr="SL276088"/>
          <p:cNvPicPr/>
          <p:nvPr/>
        </p:nvPicPr>
        <p:blipFill>
          <a:blip r:embed="rId3"/>
          <a:stretch/>
        </p:blipFill>
        <p:spPr>
          <a:xfrm>
            <a:off x="6629400" y="45720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4" descr="SL272507"/>
          <p:cNvPicPr/>
          <p:nvPr/>
        </p:nvPicPr>
        <p:blipFill>
          <a:blip r:embed="rId4"/>
          <a:stretch/>
        </p:blipFill>
        <p:spPr>
          <a:xfrm>
            <a:off x="762120" y="38098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5" descr="SL272481"/>
          <p:cNvPicPr/>
          <p:nvPr/>
        </p:nvPicPr>
        <p:blipFill>
          <a:blip r:embed="rId5"/>
          <a:stretch/>
        </p:blipFill>
        <p:spPr>
          <a:xfrm>
            <a:off x="6629400" y="3809880"/>
            <a:ext cx="198108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пыт «Извержение вулкан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3" name="Picture 4" descr="5"/>
          <p:cNvPicPr/>
          <p:nvPr/>
        </p:nvPicPr>
        <p:blipFill>
          <a:blip r:embed="rId2"/>
          <a:stretch/>
        </p:blipFill>
        <p:spPr>
          <a:xfrm>
            <a:off x="533520" y="1295280"/>
            <a:ext cx="2819160" cy="178776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8"/>
          <p:cNvSpPr/>
          <p:nvPr/>
        </p:nvSpPr>
        <p:spPr>
          <a:xfrm>
            <a:off x="609480" y="365760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Экспериментирование в свободное врем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4" descr="SL275133"/>
          <p:cNvPicPr/>
          <p:nvPr/>
        </p:nvPicPr>
        <p:blipFill>
          <a:blip r:embed="rId3"/>
          <a:stretch/>
        </p:blipFill>
        <p:spPr>
          <a:xfrm>
            <a:off x="5791320" y="4419720"/>
            <a:ext cx="2819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Экспериментирование в семь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3048120" cy="200484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"/>
          <p:cNvSpPr/>
          <p:nvPr/>
        </p:nvSpPr>
        <p:spPr>
          <a:xfrm>
            <a:off x="685800" y="3733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ксперимент - это интересно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4" descr="H:\опыт работы\маленькие исследователи\фото к занятию\4.JPG"/>
          <p:cNvPicPr/>
          <p:nvPr/>
        </p:nvPicPr>
        <p:blipFill>
          <a:blip r:embed="rId3"/>
          <a:stretch/>
        </p:blipFill>
        <p:spPr>
          <a:xfrm>
            <a:off x="5791320" y="4495680"/>
            <a:ext cx="3047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Результатив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 речевой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 к  познавательной 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ние работать совмест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0066"/>
              </a:buClr>
              <a:buSzPct val="9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взаимопомощи, взаимоподдерж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 rot="21099000">
            <a:off x="1216440" y="1353600"/>
            <a:ext cx="6049080" cy="4065480"/>
          </a:xfrm>
          <a:prstGeom prst="rect">
            <a:avLst/>
          </a:prstGeom>
          <a:solidFill>
            <a:srgbClr val="dbffdb"/>
          </a:solidFill>
          <a:ln w="9360">
            <a:solidFill>
              <a:srgbClr val="00206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Что я слышу – забыв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я вижу – помн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я делаю – я понима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Конфу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f5a7"/>
            </a:gs>
            <a:gs pos="50000">
              <a:srgbClr val="cefad0"/>
            </a:gs>
            <a:gs pos="100000">
              <a:srgbClr val="a3f5a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2286000" y="533520"/>
            <a:ext cx="64008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Сухомлинский В.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148866881"/>
          <p:cNvPicPr/>
          <p:nvPr/>
        </p:nvPicPr>
        <p:blipFill>
          <a:blip r:embed="rId1"/>
          <a:stretch/>
        </p:blipFill>
        <p:spPr>
          <a:xfrm>
            <a:off x="1219320" y="4724280"/>
            <a:ext cx="11811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Картинка 1044 из 45594">
            <a:hlinkClick r:id="rId1"/>
          </p:cNvPr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1440" y="-3240"/>
            <a:ext cx="9137880" cy="686124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дной из личностных предпосылок учебной деятельности, согласно ФГОС, является развитие познавательных потребностей ребенка, а именно интерес к собственно познавательным задачам, к овладению новыми знаниями и умениями, потребность в творчестве,  любознательность, мотивация в достижении успех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4876920" y="3962520"/>
            <a:ext cx="220968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33"/>
                </a:solidFill>
                <a:latin typeface="Times New Roman"/>
              </a:rPr>
              <a:t>Знания, почерпнутые не из книг, а добытые самостоятельно, всегда являются осознанными и более прочным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Rectangle 4"/>
          <p:cNvSpPr/>
          <p:nvPr/>
        </p:nvSpPr>
        <p:spPr>
          <a:xfrm>
            <a:off x="914400" y="2819520"/>
            <a:ext cx="2590920" cy="2438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полнит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3581280" y="4114800"/>
            <a:ext cx="1524240" cy="457200"/>
          </a:xfrm>
          <a:custGeom>
            <a:avLst/>
            <a:gdLst>
              <a:gd name="textAreaLeft" fmla="*/ 266760 w 1524240"/>
              <a:gd name="textAreaRight" fmla="*/ 1105200 w 15242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5105520" y="2819520"/>
            <a:ext cx="3657600" cy="30477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ворческая лич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активной жизнен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зици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собственны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огическим мышление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1066680" y="1752480"/>
            <a:ext cx="2210040" cy="38124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895720" y="1808280"/>
            <a:ext cx="1924560" cy="26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0"/>
          <p:cNvSpPr/>
          <p:nvPr/>
        </p:nvSpPr>
        <p:spPr>
          <a:xfrm>
            <a:off x="2209680" y="228600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11"/>
          <p:cNvSpPr/>
          <p:nvPr/>
        </p:nvSpPr>
        <p:spPr>
          <a:xfrm>
            <a:off x="6781680" y="220968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33cc"/>
                </a:solidFill>
                <a:latin typeface="Times New Roman"/>
              </a:rPr>
              <a:t>В процессе исследовательской  деятельност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Активизируются мыслительные проце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способность к начальным формам обобщения, умозаклю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реч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пам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Развивается 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Формируется интерес к окружающему ми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cxnSp>
        <p:nvCxnSpPr>
          <p:cNvPr id="320" name="AutoShape 13"/>
          <p:cNvCxnSpPr/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AutoShape 15"/>
          <p:cNvCxnSpPr/>
          <p:nvPr/>
        </p:nvCxnSpPr>
        <p:spPr>
          <a:xfrm>
            <a:off x="4571640" y="-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22" name="Rectangle 16"/>
          <p:cNvSpPr/>
          <p:nvPr/>
        </p:nvSpPr>
        <p:spPr>
          <a:xfrm>
            <a:off x="1066680" y="103320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изучить   влияние использования опытно- исследовательской деятельности в педагогическом процессе на развитие дошколь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здать  мини-среду для проведения опы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оздать картотеку опытов и экспериментов для каждой возрастной групп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Апробировать на практике  влияние проведения экспериментов в непосредственно образовательную деятельность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buClr>
                <a:srgbClr val="990099"/>
              </a:buClr>
              <a:buSzPct val="90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овысить компетентность родителей в организации работы по развитию познавательной активности дошкольников</a:t>
            </a:r>
            <a:r>
              <a:rPr b="0" lang="ru-RU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0" y="-177840"/>
            <a:ext cx="9372600" cy="72644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536040"/>
            <a:ext cx="77724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66"/>
                </a:solidFill>
                <a:latin typeface="Times New Roman"/>
              </a:rPr>
              <a:t>Мини-лаборатория «Любознайк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525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боры-помощники: лупы, весы, песочные часы, компас, магни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сосуды из различных материалов (пластмасса, стекло, металл, керамика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й материал: камешки, глина, песок, ракушки, шишки, перья, мох, листь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тилизированный материал: проволока, кусочки кожи, меха, ткани, пластмассы, пробки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ические материалы: гайки, скрепки, болты, гвоздики и др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.;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ные виды бумаги: обычная, картон, наждачная, копировальная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ители: пищевые и непищевые (гуашь, акварельные краски и др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е материалы: пипетки, колбы, деревянные палочки, шприцы (без игл), мерные ложки, резиновые груши и др.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е материалы: зеркала, воздушные шары, масло, мука, соль, сахар, цветные и прозрачные стекла, сито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781680" y="2362320"/>
            <a:ext cx="14637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2644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5"/>
          <p:cNvSpPr/>
          <p:nvPr/>
        </p:nvSpPr>
        <p:spPr>
          <a:xfrm>
            <a:off x="3581280" y="2590920"/>
            <a:ext cx="2210040" cy="1752480"/>
          </a:xfrm>
          <a:prstGeom prst="roundRect">
            <a:avLst>
              <a:gd name="adj" fmla="val 16667"/>
            </a:avLst>
          </a:prstGeom>
          <a:solidFill>
            <a:srgbClr val="cc99ff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те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сперим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6095880" y="3124080"/>
            <a:ext cx="38124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2971800" y="3124080"/>
            <a:ext cx="457200" cy="381240"/>
          </a:xfrm>
          <a:prstGeom prst="leftArrow">
            <a:avLst>
              <a:gd name="adj1" fmla="val 50000"/>
              <a:gd name="adj2" fmla="val 2998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8"/>
          <p:cNvSpPr/>
          <p:nvPr/>
        </p:nvSpPr>
        <p:spPr>
          <a:xfrm>
            <a:off x="4495680" y="2133720"/>
            <a:ext cx="3812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9"/>
          <p:cNvSpPr/>
          <p:nvPr/>
        </p:nvSpPr>
        <p:spPr>
          <a:xfrm>
            <a:off x="4495680" y="4419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3"/>
          <p:cNvSpPr/>
          <p:nvPr/>
        </p:nvSpPr>
        <p:spPr>
          <a:xfrm>
            <a:off x="1066680" y="2438280"/>
            <a:ext cx="1752840" cy="1905120"/>
          </a:xfrm>
          <a:prstGeom prst="octagon">
            <a:avLst>
              <a:gd name="adj" fmla="val 2928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еографическ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ставле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4"/>
          <p:cNvSpPr/>
          <p:nvPr/>
        </p:nvSpPr>
        <p:spPr>
          <a:xfrm>
            <a:off x="6629400" y="2362320"/>
            <a:ext cx="1828800" cy="1904760"/>
          </a:xfrm>
          <a:prstGeom prst="octagon">
            <a:avLst>
              <a:gd name="adj" fmla="val 29287"/>
            </a:avLst>
          </a:prstGeom>
          <a:solidFill>
            <a:srgbClr val="cc99ff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ид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виж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15"/>
          <p:cNvSpPr/>
          <p:nvPr/>
        </p:nvSpPr>
        <p:spPr>
          <a:xfrm>
            <a:off x="3581280" y="4952880"/>
            <a:ext cx="2133720" cy="1676520"/>
          </a:xfrm>
          <a:prstGeom prst="octagon">
            <a:avLst>
              <a:gd name="adj" fmla="val 2928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личны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ойств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щест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6"/>
          <p:cNvSpPr/>
          <p:nvPr/>
        </p:nvSpPr>
        <p:spPr>
          <a:xfrm>
            <a:off x="3657600" y="457200"/>
            <a:ext cx="2057400" cy="16765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ыты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ъектами живо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еживой природ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i?id=501091205-70-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38" name="Diagram 33"/>
          <p:cNvGrpSpPr/>
          <p:nvPr/>
        </p:nvGrpSpPr>
        <p:grpSpPr>
          <a:xfrm>
            <a:off x="228600" y="1039680"/>
            <a:ext cx="8686440" cy="4759560"/>
            <a:chOff x="228600" y="1039680"/>
            <a:chExt cx="8686440" cy="4759560"/>
          </a:xfrm>
        </p:grpSpPr>
        <p:sp>
          <p:nvSpPr>
            <p:cNvPr id="339" name="_s1028"/>
            <p:cNvSpPr/>
            <p:nvPr/>
          </p:nvSpPr>
          <p:spPr>
            <a:xfrm flipH="1">
              <a:off x="2399760" y="3419280"/>
              <a:ext cx="108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_s1029"/>
            <p:cNvSpPr/>
            <p:nvPr/>
          </p:nvSpPr>
          <p:spPr>
            <a:xfrm>
              <a:off x="228600" y="282420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режимных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моментах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_s1030"/>
            <p:cNvSpPr/>
            <p:nvPr/>
          </p:nvSpPr>
          <p:spPr>
            <a:xfrm>
              <a:off x="4571640" y="4014000"/>
              <a:ext cx="0" cy="59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_s1031"/>
            <p:cNvSpPr/>
            <p:nvPr/>
          </p:nvSpPr>
          <p:spPr>
            <a:xfrm>
              <a:off x="3485880" y="4609080"/>
              <a:ext cx="2171160" cy="119016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В свободной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и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_s1032"/>
            <p:cNvSpPr/>
            <p:nvPr/>
          </p:nvSpPr>
          <p:spPr>
            <a:xfrm>
              <a:off x="5657400" y="3419280"/>
              <a:ext cx="1085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_s1033"/>
            <p:cNvSpPr/>
            <p:nvPr/>
          </p:nvSpPr>
          <p:spPr>
            <a:xfrm>
              <a:off x="6743160" y="2824200"/>
              <a:ext cx="217188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На прогулке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_s1034"/>
            <p:cNvSpPr/>
            <p:nvPr/>
          </p:nvSpPr>
          <p:spPr>
            <a:xfrm flipV="1">
              <a:off x="4571640" y="2229480"/>
              <a:ext cx="0" cy="594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_s1035"/>
            <p:cNvSpPr/>
            <p:nvPr/>
          </p:nvSpPr>
          <p:spPr>
            <a:xfrm>
              <a:off x="3485880" y="103968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Образовательна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_s1036"/>
            <p:cNvSpPr/>
            <p:nvPr/>
          </p:nvSpPr>
          <p:spPr>
            <a:xfrm>
              <a:off x="3485880" y="2824200"/>
              <a:ext cx="2171160" cy="1189440"/>
            </a:xfrm>
            <a:prstGeom prst="ellipse">
              <a:avLst/>
            </a:prstGeom>
            <a:solidFill>
              <a:srgbClr val="cc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Экспериментальная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ятельность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8" name="Picture 18" descr="SL270025_2"/>
          <p:cNvPicPr/>
          <p:nvPr/>
        </p:nvPicPr>
        <p:blipFill>
          <a:blip r:embed="rId2"/>
          <a:stretch/>
        </p:blipFill>
        <p:spPr>
          <a:xfrm>
            <a:off x="609480" y="53352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9" descr="SL272095"/>
          <p:cNvPicPr/>
          <p:nvPr/>
        </p:nvPicPr>
        <p:blipFill>
          <a:blip r:embed="rId3"/>
          <a:stretch/>
        </p:blipFill>
        <p:spPr>
          <a:xfrm>
            <a:off x="6781680" y="514440"/>
            <a:ext cx="1752840" cy="13143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0" descr="SL273187"/>
          <p:cNvPicPr/>
          <p:nvPr/>
        </p:nvPicPr>
        <p:blipFill>
          <a:blip r:embed="rId4"/>
          <a:stretch/>
        </p:blipFill>
        <p:spPr>
          <a:xfrm>
            <a:off x="685800" y="489600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2" descr="SL271272"/>
          <p:cNvPicPr/>
          <p:nvPr/>
        </p:nvPicPr>
        <p:blipFill>
          <a:blip r:embed="rId5"/>
          <a:stretch/>
        </p:blipFill>
        <p:spPr>
          <a:xfrm>
            <a:off x="6858000" y="502920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рст Алексей Владимирович</cp:lastModifiedBy>
  <dcterms:modified xsi:type="dcterms:W3CDTF">2017-01-08T16:16:3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