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gif" ContentType="image/gif"/>
  <Override PartName="/ppt/media/image26.png" ContentType="image/png"/>
  <Override PartName="/ppt/media/image24.jpeg" ContentType="image/jpeg"/>
  <Override PartName="/ppt/media/image22.jpeg" ContentType="image/jpeg"/>
  <Override PartName="/ppt/media/image1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8CA67-4F98-4A9D-91EB-F953432713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DADF8-DF26-489E-A4C9-82F6EE2B93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C784F-56C2-4A1F-8EB7-CB715DE655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ыт работы на тему </a:t>
            </a:r>
            <a:r>
              <a:rPr b="1" lang="ru-RU" sz="800" spc="-1" strike="noStrike">
                <a:solidFill>
                  <a:srgbClr val="ff0000"/>
                </a:solidFill>
                <a:latin typeface="Times New Roman"/>
              </a:rPr>
              <a:t>«Исследовательская деятельность, как средство формирования познавательной активности ребёнка»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C0E81-E56C-4D99-B40C-6696C140C7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периментально-исследовательскую деятельность подбираем в соответствии с темой образовательного комплек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апример,  в рамках темы «На прогулку в зоопарк»  в процессе исследовательской деятельности, дети выяснили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«Почему  медведь после купания выходит сухим из воды!». Нанеся жирный крем на руки, опустив их в воду, самостоятельно пришли к выводу, что  на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оже и шерсти медведя покрытой  жиром, капли воды не задерживаются.   В результате у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етей расширились представления  о животных, об особенностях их приспособления к окружающей сред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акие моменты мы вместе с детьми испытываем большую радость, удивление от своих маленьких и больших «открытий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41030-BD0B-442A-BDF3-C9A0A3E280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и проведении образовательной деятельности «Как продукты на стол пришли» в процессе эксперимента д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ти узнали, как люди научились готовить пищу из разных продуктов, например, из картофеля: они освоили способ  приготовления картофельного крахм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86462-B143-446F-A418-49E7D9D1E3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 ходе образовательной деятельности «Поможем воде стать чистой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ти познакомились с  различными способами очистки воды, используя различные материалы, самостоятельно  создали свой фильтр и помогли воде стать чист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B3AC7-A500-42C4-995C-F8AB600662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и проведении образовательной деятельности «Путешествие на морское дно…»,  использу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гнитные удочки, очистили  водные просторы от металлического мусора. При этом, использование магнитных удочек предложили именно де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B0C10-7B25-4950-AB8D-93760A8945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периментируя, дети  приобретают опыт творческой, поисковой деятельности, анализировать объект или явление, выделять существенные признаки, связи,  строить сложные предложения, отбирать материал для самостоятельной деятельности, делать выводы.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ак например,  в образовательная деятельности «Путешествие на корабле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ти в процессе эксперимента «Тонет – не тонет» самостоятельно  сделали вывод, из какого материала можно построить корабль, чтобы он не утону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AE292-0A4E-4749-A9F1-0F3D53F88D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ёнку-дошкольнику по природе присуща ориентация на познание окружающего мира и экспериментирование с объектами и явлениями реальности. Например, во время прогулки дети,  дети стремятся не только рассмотреть предмет, но и потрогать его руками, понюхать, постучать им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имер, обследуя камни, дети  рассказали,  где их можно увидеть,  рассмотрели их с помощью лупы, уточнили, чем они отличаются. Определили,  к какой природе они относятся, и как люди используют камни в своей жизни.  В ходе эксперимента выяснили,  что тверже: камень или дерево.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А н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блюдение  за лужами  после дождя, позволило  провести опыт «Лужа морщится»: от маленького камушка – немножко, от большого - по воде расходятся широкие кру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матривание  снежинок через лупу, экспериментирование со снегом,  водой и льдом, не только вызывает живой интерес, но и позволяет детям сделать самостоятельные умозаключения о   том, что происходит с состоянием этих веществ под воздействием тепла и хол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B7C16-C581-4780-8188-C4E00981F3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ходе «Большой  экспедиции маленьких геологов» был продемонстрирован опыт «Извержение вулкана» -  у детей сформировались представления  об извержении  вулкана. Дети узнали, что такое лава, как  образуется пемза, рассмотрели и обследовали ее, в процессе эксперимента с водой, выяснили, что в пемзе содержится возду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обретенные знания, умения и навыки, позволяют детям  наблюдать, анализировать, делать выводы, самостоятельно готовить оборудование  в ходе самостоятельных  эксперимент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Тонет – не тонет»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Мыльные пузыри»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делаем растворы»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Выйти сухим из воды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Действия с магнитами, лупой, измерительными приборами, переливание жидкостей, пересыпание сыпучих материалов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A00BA-2234-43FE-8CF5-D5B21C2FD0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звестно, что ни одну воспитательную или образовательную задачу нельзя успешно решить без плодотворного контакта с семьёй и полного взаимопонимания между родителями и педагогами, так как каждая минута общения с ребёнком обогащает его, формирует его личность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ведение  простейших опытов и экспериментов в семье, рядом с родителями  поддерживает  у ребёнка стремление узнать новое, выяснить непонятное, желание вникнуть в сущность предметов, явлений и действий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роме того, мы рекомендуем родителям вместе с детьми  создавать разнообразные коллекции (пуговицы, значки, наклейки, календари,  вкладыши из киндер - сюрпризов ).  Ведь  именно общность интересов объединяет родителей и детей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ак показывают наблюдения, детям интересно экспериментировать в любом возрасте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Детям 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младшего возраста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надо стараться по возможности не сообщать знания в готовом виде, а помочь  получить их самостоятельно, поставив несложный опыт. Дети в этом возрасте уже способны устанавливать простейшие причинно – следственные связи. Участие педагога в совершении любых действий является обязательным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 старшем дошкольном возрасте, расширяется подбор материалов,  дети  выдвигают собственные предположения, способны уже самостоятельно делать выводы о скрытых свойствах предметов и явлений, без наводящих вопросов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7B7C9-D5CA-4A1E-84F2-84A0B1094E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9C87C-2BD2-4BB5-B190-753656202A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 результатам мониторинга можно сделать вывод о положительном влиянии использования опытно-исследовательской деятельности на развитие дошкольников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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ложительная динамика интеллектуальной компетентности дошкольников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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вышение уровня развития любознательност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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ладание исследовательскими умениями и навыками (видеть и определять проблему, принимать и ставить цель, решать проблемы, анализировать объект или явление, выделять существенные признаки и связи, сопоставлять различные факты, выдвигать различные гипотезы, отбирать средства и материалы для самостоятельной деятельности, осуществлять эксперимент, делать определенные умозаключения и выводы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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вышение уровня развития познавательных процессов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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огащение словарного запаса детей различными терминами, закрепление умения грамматически правильно строить свои ответы на вопросы, умение задавать вопросы, следить за логикой своего высказывания, умение строить доказательную реч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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явление инициативы, самостоятельности, умения сотрудничать с другими, потребности отстаивать свою точку зрения, согласовывать её с други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нимательные опыты, эксперименты побуждают детей к самостоятельному поиску причин, способов действий, проявлению творче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ственная активность детей, так или иначе, связана с активностью, идущей от взрослого, а знания и умения, усвоенные с помощью взрослого, становятся достоянием самого ребёнка, так как он воспринимает и применяет их, как собственные. Наличие этих качеств у ребёнка свидетельствует о его любознатель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C6AFB-B76A-4B15-B775-8372252681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812D3-390C-4E35-B36B-388B4EA5DA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 самого рождения ребенок является первооткрывателем, исследователем того мира, который его окружае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6350B-1D9F-4040-8E5C-867649C8E6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знаем, что у выпускника дошкольного учреждения должны быть сформированы предпосылки учебной деятельности, которые являются фундаментом для овладения ключевыми компетенциями в начальной школе, составляющими основу умения учиться. Одной из личностных предпосылок учебной деятельности, согласно ФГОС, является развитие познавательных потребностей ребенк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B2E15-E4DA-4F3C-BCF6-A22379D4C5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аше сложное противоречивое время особенно остро стоит вопрос: «Как сегодня воспитать ребенка человеком завтрашнего дня? Какие знания дать ему завтра в дорогу?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мысление этого вопроса,  у нас педагогов детского сада, должно происходить через осознание резко измененного социального заказа: вчера нужен был исполнитель, а сегодня – творческая личность с активной жизненной позиц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этому необходимо научить ребенка сомневаться в истинности знаний как таковых, учить добывать их разными  средств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енок может услышать и запомнить, а может и понаблюдать, сравнить, спросить о непонятном, высказать предлож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я, почерпнутые не из книг, а добытые самостоятельно, всегда являются осознанными и более прочны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9EFCA-6526-4A2F-97CE-DCCE791633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тей развития дошкольника существует много, но исследовательская деятельность, по нашему мнению, является одной из самых эффективны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нно в процессе исследовательской  (поисковой) деятельност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ивизируются мыслительные процессы, т.к. постоянно возникает необходимость совершать операции анализа и синтеза, сравнения,  классифик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вается способность к начальным формам обобщения, умозаключ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разнообразнее и интенсивнее поисковая деятельность, тем больше новой информации получает ребёнок, тем быстрее и полноценнее развивается его реч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 процессе исследовательской деятельности идёт обогащение памяти ребён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нно поэтому данное направление в  практической деятельности с детьми является актуаль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6B587-1EBF-4EDE-9641-83BCBD9CB2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8DAE0-FF92-43B3-9359-A333B8AEF1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ая над этой темой, я поставила перед собой цель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Изучить   влияние использования опытно- исследовательской деятельности в педагогическом процессе на развитие дошкольни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ля достижения поставленной цели определила ряд задач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здать картотеку опытов и экспериментов для каждой возрастной групп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здать  условия для развития познавательного интереса детей в процессе опытно- исследовательск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пробировать на практике  включение опытов и экспериментов   в непосредственно образовательную деятельность де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высить компетентность родителей по развитию познавательной активности дошкольников в процессе домашнего экспериментиро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DA7C4-1BB5-4AA4-8616-8BA7C95827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ашей группе  создана и широко применяется опытно-экспериментальная мини-среда, которая стимулирует исследовательскую и познавательную деятельность, удовлетворяет потребности ребёнка в освоении окружающего мира, познании себ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борка материала осуществляется по мере изучения темы и по мере ознакомления детей с теми или иными материалами. Существует также подборка энциклопедической литературы, картинок, иллюстраций и плакатов, а ещё создан журнал исследований для фиксации детьми результатов опы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6F354-5A01-41EA-ABBA-3EE82FB698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артотеке экспериментов мы создали  подборку опытов и экспериментов на каждую возрастную группу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ыты с объектами живой и неживой природы (с растениями, насекомыми, воздухом, водой, песком, землёй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комство с различными свойствами веществ (твёрдость, мягкость, сыпучесть, вязкость, плавучесть, растворимость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комство с основными видами движения (скорость, направление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перименты, развивающие  географические представления – знакомство  с глобусом,  Солнечной системой, о том почему наступают день и ночь, почему происходит смена времен года, почему, наконец, наступает новый год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роведении опытов дети приобретают навыки самостоятельности и  безопасного пове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234E2-2AEC-4A07-B086-4BB8FDCF06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DB4A7-5EFE-4FCF-8577-EDEF9483F7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ыты и эксперименты в нашей группе являются неотъемлемой частью, мы проводим  их   в непосредственно- образовательной деятельности, на прогулке, в свободной самостоятельной деятельности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3993-82E0-4432-B9BF-C9319E69D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C806-5ED9-4FF2-8A2B-ED2EBE726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7945-3737-458A-A139-5B173C456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F58E-9DEE-4325-90DC-1E513E687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125559-62AB-4FBA-8CFE-B7B4B4BAA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30845D-17F8-4BCF-ABE2-9E5522742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242754-BDAD-4600-A566-5C8211152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12122A-34A6-48DE-A67A-9F3430803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4A10BD-D2FD-4474-8620-E03C87D4A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739C58-7455-498F-B529-690EE938C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273A04-4202-429F-817C-2754DEDC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3E1F-EF00-4770-8D0D-B03D794F1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925A37-360B-446C-9D90-5D30BA8B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66F033-941C-433A-8DB4-FA0B3FE8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6D0D10-BC1B-49F6-9EAE-CF2B48FD7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677C24-E670-4011-B311-DEA4CA304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A65DC4-4AA6-43A5-98B0-9964B69DA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4D28C-20D9-45EA-8007-41A0974B3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5EB04-6E89-47E8-8F5E-F1DCC7B7A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1F73A-B420-4361-BC39-90AED2213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88FAF-265E-475D-9B12-96C8E1538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9424D-332D-4071-8096-255ACBEF5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4733-C0B6-4832-B6D8-9AC60CEE2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C1D16-97E0-43BD-8B3D-2451FE36C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6D2E8-7645-4E2D-AFCD-4634ACE3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F18F6-EC6A-4F0C-86BE-0C3240DB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AB870-EFD4-411D-98C2-6B2B07C4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B619A-72A0-4E12-B202-4178C6637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52A47-C5BD-4E06-9B95-52794199F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CD416-4E7E-4447-8BF4-53572E8C4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0202A-2E60-441B-BD69-BD604D690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A18E6-9D0A-4D45-A347-634094855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D811F-E1C0-41FB-90B5-8AC513F62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D57E-5DF5-41ED-AE4B-8078A7E25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6ADB2-272F-488F-BF0F-8C734E0C0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91025-9E6A-49A9-A21D-254415BE3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8A9C7-C328-4556-A982-43C17029F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1D13B-6079-4500-B8E9-852883E0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71285-A999-4E1D-BE3D-6C481B44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CC367-F075-454E-981A-06B70B8F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0BC4B-54C0-4118-B07C-2B126D073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12B85-BB12-48FE-B894-DD3EE41EC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E7D9B-5257-476E-88B5-684B8C153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CD51A-3FD5-4AA4-8E0B-7331DED2F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1EC1-2D01-426D-90E8-D3423B9D5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56296-A392-48DE-967E-CBFE1CEA6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49D71-7A74-48BA-8614-3DE2E5E2F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2BF31-3494-490B-9963-CDCC0D297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8DA63-E626-4C3D-A203-551EFDE49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1AF7E-7BC1-4F8C-B3FC-42DFFE29C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F4204-1EEC-4059-902A-D6C103A7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37B8A-16A0-4C40-82D2-A35CD7A2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BA4E7-ACCD-48B5-A8C8-E05E5C28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3FD93-A33C-4F0E-BA76-D6F3CD6BC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2B1B1-6AF7-4FA5-9ECC-2D89C614E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A682-D88E-4A47-B62E-204E52716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8F755-E9CF-4BDC-A9F8-C21C1A07B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13325F-4AAE-4523-BDEF-C9EA92C54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498431-3D59-48B2-9E8F-BFA949FD5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64875A-AF72-4B79-A75A-E3DD07D82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6FAE9C-54FE-451E-A0E0-005AEF788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F36846-E2F7-469D-B665-7BA89D6EC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F8EF38-66C4-41D1-9F3A-43C874234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867A98-5F85-450A-9519-FBCFF0C2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48108A-1F6B-4803-B60C-330D2A30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5E2C25-BDAB-4DFE-9CD5-4BD78197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BC16-8BC7-4197-BEDA-4A6C5716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84C7F7-75B3-4EEF-8EF6-F72A62C7E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1DCDEA-46CB-4BF2-8583-52934D494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F761C8-BC25-46A6-AEA7-A3F00929C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E58B-E001-4AE7-8CF8-FD6F41A5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DAE7-A703-4D64-BC97-0D874302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5E6B6-361B-442B-A6A8-453CAD910A4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128DA-98FB-4E93-A3A2-ABCDC9B45B0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54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B9789-0DA9-4A51-8F97-AA5C7EE2CC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46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48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52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93629-75D5-4FB6-98E5-B4CACBCE041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197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3872A-A019-472F-95C0-3DE44783212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96DE3-02FB-48F9-AC81-7032DF1912D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g11.nnm.ru/0/2/6/3/4/026345d65d32c4e0c3b1cade8b167745_full.jpg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5" descr="SL272219"/>
          <p:cNvPicPr/>
          <p:nvPr/>
        </p:nvPicPr>
        <p:blipFill>
          <a:blip r:embed="rId1"/>
          <a:stretch/>
        </p:blipFill>
        <p:spPr>
          <a:xfrm>
            <a:off x="2971800" y="2514600"/>
            <a:ext cx="3505320" cy="201132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4343040" y="5410080"/>
            <a:ext cx="4800600" cy="1447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спитател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ст Оксана Людвиг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атель высшей квалификационно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16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униципальное автономное образовательное учреждение центр развития ребенка – детский сад № 146 города Тюмени</a:t>
            </a:r>
            <a:br>
              <a:rPr sz="3800"/>
            </a:br>
            <a:r>
              <a:rPr b="1" lang="ru-RU" sz="2100" spc="-1" strike="noStrike">
                <a:solidFill>
                  <a:srgbClr val="ff0000"/>
                </a:solidFill>
                <a:latin typeface="Times New Roman"/>
              </a:rPr>
              <a:t>«Исследовательская деятельность, как средство формирования познавательной активности ребёнка»</a:t>
            </a:r>
            <a:endParaRPr b="0" lang="en-US" sz="21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Тема образовательного комплекса «На прогулку в зоопарк» </a:t>
            </a:r>
            <a:br>
              <a:rPr sz="2000"/>
            </a:br>
            <a:r>
              <a:rPr b="1" lang="ru-RU" sz="2400" spc="-1" strike="noStrike">
                <a:solidFill>
                  <a:srgbClr val="6600cc"/>
                </a:solidFill>
                <a:latin typeface="Times New Roman"/>
              </a:rPr>
              <a:t>Образовательная деятельность «Заселяем зоопарк»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3429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эксперементально-исследовательская деятельность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9900"/>
                </a:solidFill>
                <a:latin typeface="Times New Roman"/>
              </a:rPr>
              <a:t>«Почему  медвед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9900"/>
                </a:solidFill>
                <a:latin typeface="Times New Roman"/>
              </a:rPr>
              <a:t>после куп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9900"/>
                </a:solidFill>
                <a:latin typeface="Times New Roman"/>
              </a:rPr>
              <a:t>выходи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9900"/>
                </a:solidFill>
                <a:latin typeface="Times New Roman"/>
              </a:rPr>
              <a:t>сухим из воды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5" descr=""/>
          <p:cNvPicPr/>
          <p:nvPr/>
        </p:nvPicPr>
        <p:blipFill>
          <a:blip r:embed="rId1"/>
          <a:stretch/>
        </p:blipFill>
        <p:spPr>
          <a:xfrm>
            <a:off x="5334120" y="2209680"/>
            <a:ext cx="220968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400" spc="-1" strike="noStrike">
                <a:solidFill>
                  <a:srgbClr val="6600cc"/>
                </a:solidFill>
                <a:latin typeface="Times New Roman"/>
              </a:rPr>
              <a:t>Образовательная деятельность </a:t>
            </a:r>
            <a:br>
              <a:rPr sz="2400"/>
            </a:br>
            <a:r>
              <a:rPr b="1" lang="ru-RU" sz="2400" spc="-1" strike="noStrike">
                <a:solidFill>
                  <a:srgbClr val="6600cc"/>
                </a:solidFill>
                <a:latin typeface="Times New Roman"/>
              </a:rPr>
              <a:t>«Как продукты на стол пришли»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3429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эксперементально-исследовательская деятель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9900"/>
                </a:solidFill>
                <a:latin typeface="Times New Roman"/>
              </a:rPr>
              <a:t>«Получ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9900"/>
                </a:solidFill>
                <a:latin typeface="Times New Roman"/>
              </a:rPr>
              <a:t>крахмал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7" descr="P2220159"/>
          <p:cNvPicPr/>
          <p:nvPr/>
        </p:nvPicPr>
        <p:blipFill>
          <a:blip r:embed="rId1"/>
          <a:stretch/>
        </p:blipFill>
        <p:spPr>
          <a:xfrm>
            <a:off x="5181480" y="2154240"/>
            <a:ext cx="2362320" cy="18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Times New Roman"/>
              </a:rPr>
              <a:t>Образовательная деятельность </a:t>
            </a:r>
            <a:br>
              <a:rPr sz="2400"/>
            </a:br>
            <a:r>
              <a:rPr b="1" lang="ru-RU" sz="2400" spc="-1" strike="noStrike">
                <a:solidFill>
                  <a:srgbClr val="6600cc"/>
                </a:solidFill>
                <a:latin typeface="Times New Roman"/>
              </a:rPr>
              <a:t>«По морю, по океану…»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3429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эксперементально-исследовательская деятельность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9900"/>
                </a:solidFill>
                <a:latin typeface="Times New Roman"/>
              </a:rPr>
              <a:t>«Ка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9900"/>
                </a:solidFill>
                <a:latin typeface="Times New Roman"/>
              </a:rPr>
              <a:t>очисти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9900"/>
                </a:solidFill>
                <a:latin typeface="Times New Roman"/>
              </a:rPr>
              <a:t>воду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8" descr="SL270204"/>
          <p:cNvPicPr/>
          <p:nvPr/>
        </p:nvPicPr>
        <p:blipFill>
          <a:blip r:embed="rId1"/>
          <a:stretch/>
        </p:blipFill>
        <p:spPr>
          <a:xfrm>
            <a:off x="5257800" y="2057400"/>
            <a:ext cx="251460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400" spc="-1" strike="noStrike">
                <a:solidFill>
                  <a:srgbClr val="6600cc"/>
                </a:solidFill>
                <a:latin typeface="Times New Roman"/>
              </a:rPr>
              <a:t>Образовательная деятельность </a:t>
            </a:r>
            <a:br>
              <a:rPr sz="2400"/>
            </a:br>
            <a:r>
              <a:rPr b="1" lang="ru-RU" sz="2400" spc="-1" strike="noStrike">
                <a:solidFill>
                  <a:srgbClr val="6600cc"/>
                </a:solidFill>
                <a:latin typeface="Times New Roman"/>
              </a:rPr>
              <a:t>«Путешествие на морское дно…»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3429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эксперементально-исследовательская деятель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9900"/>
                </a:solidFill>
                <a:latin typeface="Times New Roman"/>
              </a:rPr>
              <a:t>«Поможем морским обитателям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6" descr="SL273373"/>
          <p:cNvPicPr/>
          <p:nvPr/>
        </p:nvPicPr>
        <p:blipFill>
          <a:blip r:embed="rId1"/>
          <a:stretch/>
        </p:blipFill>
        <p:spPr>
          <a:xfrm>
            <a:off x="5410080" y="2057400"/>
            <a:ext cx="236232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Тема образовательного комплекса «По морям, по океанам» </a:t>
            </a:r>
            <a:br>
              <a:rPr sz="2000"/>
            </a:br>
            <a:r>
              <a:rPr b="1" lang="ru-RU" sz="2400" spc="-1" strike="noStrike">
                <a:solidFill>
                  <a:srgbClr val="6600cc"/>
                </a:solidFill>
                <a:latin typeface="Times New Roman"/>
              </a:rPr>
              <a:t>Образовательная деятельность </a:t>
            </a:r>
            <a:br>
              <a:rPr sz="2400"/>
            </a:br>
            <a:r>
              <a:rPr b="1" lang="ru-RU" sz="2400" spc="-1" strike="noStrike">
                <a:solidFill>
                  <a:srgbClr val="6600cc"/>
                </a:solidFill>
                <a:latin typeface="Times New Roman"/>
              </a:rPr>
              <a:t>«Путешествие на корабле»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3429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эксперементально-исследовательская деятель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9900"/>
                </a:solidFill>
                <a:latin typeface="Times New Roman"/>
              </a:rPr>
              <a:t>«Тонет- не тоне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8" descr="SL270496"/>
          <p:cNvPicPr/>
          <p:nvPr/>
        </p:nvPicPr>
        <p:blipFill>
          <a:blip r:embed="rId1"/>
          <a:stretch/>
        </p:blipFill>
        <p:spPr>
          <a:xfrm>
            <a:off x="4648320" y="2490840"/>
            <a:ext cx="289548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5" descr="SL276079"/>
          <p:cNvPicPr/>
          <p:nvPr/>
        </p:nvPicPr>
        <p:blipFill>
          <a:blip r:embed="rId2"/>
          <a:stretch/>
        </p:blipFill>
        <p:spPr>
          <a:xfrm>
            <a:off x="685800" y="380880"/>
            <a:ext cx="2133720" cy="171144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276720" y="304920"/>
            <a:ext cx="3200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пыт: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Что тверже: камень или дерево?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9" name="Picture 7" descr="SL276088"/>
          <p:cNvPicPr/>
          <p:nvPr/>
        </p:nvPicPr>
        <p:blipFill>
          <a:blip r:embed="rId3"/>
          <a:stretch/>
        </p:blipFill>
        <p:spPr>
          <a:xfrm>
            <a:off x="6629400" y="45720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4" descr="SL272507"/>
          <p:cNvPicPr/>
          <p:nvPr/>
        </p:nvPicPr>
        <p:blipFill>
          <a:blip r:embed="rId4"/>
          <a:stretch/>
        </p:blipFill>
        <p:spPr>
          <a:xfrm>
            <a:off x="762120" y="3809880"/>
            <a:ext cx="2057400" cy="15433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5" descr="SL272481"/>
          <p:cNvPicPr/>
          <p:nvPr/>
        </p:nvPicPr>
        <p:blipFill>
          <a:blip r:embed="rId5"/>
          <a:stretch/>
        </p:blipFill>
        <p:spPr>
          <a:xfrm>
            <a:off x="6629400" y="3809880"/>
            <a:ext cx="198108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250" autoRev="1" fill="hold"/>
                                        <p:tgtEl>
                                          <p:spTgt spid="3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пыт «Извержение вулкана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3" name="Picture 4" descr="5"/>
          <p:cNvPicPr/>
          <p:nvPr/>
        </p:nvPicPr>
        <p:blipFill>
          <a:blip r:embed="rId2"/>
          <a:stretch/>
        </p:blipFill>
        <p:spPr>
          <a:xfrm>
            <a:off x="533520" y="1295280"/>
            <a:ext cx="2819160" cy="1787760"/>
          </a:xfrm>
          <a:prstGeom prst="rect">
            <a:avLst/>
          </a:prstGeom>
          <a:ln w="0">
            <a:noFill/>
          </a:ln>
        </p:spPr>
      </p:pic>
      <p:sp>
        <p:nvSpPr>
          <p:cNvPr id="374" name="Rectangle 8"/>
          <p:cNvSpPr/>
          <p:nvPr/>
        </p:nvSpPr>
        <p:spPr>
          <a:xfrm>
            <a:off x="609480" y="3657600"/>
            <a:ext cx="82296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Экспериментирование в свободное врем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Picture 4" descr="SL275133"/>
          <p:cNvPicPr/>
          <p:nvPr/>
        </p:nvPicPr>
        <p:blipFill>
          <a:blip r:embed="rId3"/>
          <a:stretch/>
        </p:blipFill>
        <p:spPr>
          <a:xfrm>
            <a:off x="5791320" y="4419720"/>
            <a:ext cx="2819160" cy="19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Экспериментирование в семь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7" name="Picture 4" descr=""/>
          <p:cNvPicPr/>
          <p:nvPr/>
        </p:nvPicPr>
        <p:blipFill>
          <a:blip r:embed="rId2"/>
          <a:stretch/>
        </p:blipFill>
        <p:spPr>
          <a:xfrm>
            <a:off x="457200" y="1143000"/>
            <a:ext cx="3048120" cy="2004840"/>
          </a:xfrm>
          <a:prstGeom prst="rect">
            <a:avLst/>
          </a:prstGeom>
          <a:ln w="0">
            <a:noFill/>
          </a:ln>
        </p:spPr>
      </p:pic>
      <p:sp>
        <p:nvSpPr>
          <p:cNvPr id="378" name="Rectangle 2"/>
          <p:cNvSpPr/>
          <p:nvPr/>
        </p:nvSpPr>
        <p:spPr>
          <a:xfrm>
            <a:off x="685800" y="3733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ксперимент - это интересно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Picture 4" descr="H:\опыт работы\маленькие исследователи\фото к занятию\4.JPG"/>
          <p:cNvPicPr/>
          <p:nvPr/>
        </p:nvPicPr>
        <p:blipFill>
          <a:blip r:embed="rId3"/>
          <a:stretch/>
        </p:blipFill>
        <p:spPr>
          <a:xfrm>
            <a:off x="5791320" y="4495680"/>
            <a:ext cx="304776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Результативность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0066"/>
              </a:buClr>
              <a:buSzPct val="9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т речевой актив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0066"/>
              </a:buClr>
              <a:buSzPct val="9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ес к  познавательной деятель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0066"/>
              </a:buClr>
              <a:buSzPct val="9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ание работать совместн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0066"/>
              </a:buClr>
              <a:buSzPct val="9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нно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0066"/>
              </a:buClr>
              <a:buSzPct val="9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0066"/>
              </a:buClr>
              <a:buSzPct val="9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ство взаимопомощи, взаимоподдерж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 rot="21099000">
            <a:off x="1216440" y="1353600"/>
            <a:ext cx="6049080" cy="4065480"/>
          </a:xfrm>
          <a:prstGeom prst="rect">
            <a:avLst/>
          </a:prstGeom>
          <a:solidFill>
            <a:srgbClr val="dbffdb"/>
          </a:solidFill>
          <a:ln w="9360">
            <a:solidFill>
              <a:srgbClr val="002060"/>
            </a:solidFill>
            <a:round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«Что я слышу – забыва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Что я вижу – помн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Что я делаю – я понимаю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Конфу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10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10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1000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f5a7"/>
            </a:gs>
            <a:gs pos="50000">
              <a:srgbClr val="cefad0"/>
            </a:gs>
            <a:gs pos="100000">
              <a:srgbClr val="a3f5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2286000" y="533520"/>
            <a:ext cx="64008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Умейте открыть перед ребёнком в окружающем мире что-то одно, но открыть так, чтобы кусочек жизни заиграл перед детьми всеми красками радуги. Оставляйте всегда что-то недосказанное, чтобы ребёнку захотелось ещё и ещё раз возвратиться к тому, что он узнал"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Сухомлинский В.А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Picture 5" descr="148866881"/>
          <p:cNvPicPr/>
          <p:nvPr/>
        </p:nvPicPr>
        <p:blipFill>
          <a:blip r:embed="rId1"/>
          <a:stretch/>
        </p:blipFill>
        <p:spPr>
          <a:xfrm>
            <a:off x="1219320" y="4724280"/>
            <a:ext cx="118116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2" descr="Картинка 1044 из 45594">
            <a:hlinkClick r:id="rId1"/>
          </p:cNvPr>
          <p:cNvPicPr/>
          <p:nvPr/>
        </p:nvPicPr>
        <p:blipFill>
          <a:blip r:embed="rId2">
            <a:lum bright="8000"/>
          </a:blip>
          <a:stretch/>
        </p:blipFill>
        <p:spPr>
          <a:xfrm>
            <a:off x="1440" y="-3240"/>
            <a:ext cx="9137880" cy="686124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дной из личностных предпосылок учебной деятельности, согласно ФГОС, является развитие познавательных потребностей ребенка, а именно интерес к собственно познавательным задачам, к овладению новыми знаниями и умениями, потребность в творчестве,  любознательность, мотивация в достижении успех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4876920" y="3962520"/>
            <a:ext cx="2209680" cy="17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Знания, почерпнутые не из книг, а добытые самостоятельно, всегда являются осознанными и более прочными.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0" name="Rectangle 4"/>
          <p:cNvSpPr/>
          <p:nvPr/>
        </p:nvSpPr>
        <p:spPr>
          <a:xfrm>
            <a:off x="914400" y="2819520"/>
            <a:ext cx="2590920" cy="2438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сполните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AutoShape 5"/>
          <p:cNvSpPr/>
          <p:nvPr/>
        </p:nvSpPr>
        <p:spPr>
          <a:xfrm>
            <a:off x="3581280" y="4114800"/>
            <a:ext cx="1524240" cy="457200"/>
          </a:xfrm>
          <a:custGeom>
            <a:avLst/>
            <a:gdLst>
              <a:gd name="textAreaLeft" fmla="*/ 266760 w 1524240"/>
              <a:gd name="textAreaRight" fmla="*/ 1105200 w 152424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AutoShape 6"/>
          <p:cNvSpPr/>
          <p:nvPr/>
        </p:nvSpPr>
        <p:spPr>
          <a:xfrm>
            <a:off x="5105520" y="2819520"/>
            <a:ext cx="3657600" cy="30477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ворческая лич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 активной жизненн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зицией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 собственны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огическим мышление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AutoShape 7"/>
          <p:cNvSpPr/>
          <p:nvPr/>
        </p:nvSpPr>
        <p:spPr>
          <a:xfrm>
            <a:off x="1066680" y="1752480"/>
            <a:ext cx="2210040" cy="381240"/>
          </a:xfrm>
          <a:prstGeom prst="flowChartTerminator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ч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895720" y="1808280"/>
            <a:ext cx="1924560" cy="268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60000"/>
          </a:bodyPr>
          <a:p>
            <a:pPr marL="205560" indent="-2055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год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10"/>
          <p:cNvSpPr/>
          <p:nvPr/>
        </p:nvSpPr>
        <p:spPr>
          <a:xfrm>
            <a:off x="2209680" y="2286000"/>
            <a:ext cx="76320" cy="457200"/>
          </a:xfrm>
          <a:prstGeom prst="downArrow">
            <a:avLst>
              <a:gd name="adj1" fmla="val 50000"/>
              <a:gd name="adj2" fmla="val 149764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AutoShape 11"/>
          <p:cNvSpPr/>
          <p:nvPr/>
        </p:nvSpPr>
        <p:spPr>
          <a:xfrm>
            <a:off x="6781680" y="2209680"/>
            <a:ext cx="76320" cy="457200"/>
          </a:xfrm>
          <a:prstGeom prst="downArrow">
            <a:avLst>
              <a:gd name="adj1" fmla="val 50000"/>
              <a:gd name="adj2" fmla="val 149764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33cc"/>
                </a:solidFill>
                <a:latin typeface="Times New Roman"/>
              </a:rPr>
              <a:t>В процессе исследовательской  деятельности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Активизируются мыслительные процес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Развивается способность к начальным формам обобщения, умозаключ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Развивается реч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Развивается памя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Развивается творч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Формируется интерес к окружающему ми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cxnSp>
        <p:nvCxnSpPr>
          <p:cNvPr id="320" name="AutoShape 13"/>
          <p:cNvCxnSpPr/>
          <p:nvPr/>
        </p:nvCxnSpPr>
        <p:spPr>
          <a:xfrm>
            <a:off x="4571640" y="-36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1" name="AutoShape 15"/>
          <p:cNvCxnSpPr/>
          <p:nvPr/>
        </p:nvCxnSpPr>
        <p:spPr>
          <a:xfrm>
            <a:off x="4571640" y="-36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22" name="Rectangle 16"/>
          <p:cNvSpPr/>
          <p:nvPr/>
        </p:nvSpPr>
        <p:spPr>
          <a:xfrm>
            <a:off x="1066680" y="1033200"/>
            <a:ext cx="7772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изучить   влияние использования опытно- исследовательской деятельности в педагогическом процессе на развитие дошкольник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>
              <a:lnSpc>
                <a:spcPct val="100000"/>
              </a:lnSpc>
              <a:buClr>
                <a:srgbClr val="990099"/>
              </a:buClr>
              <a:buSzPct val="9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Создать  мини-среду для проведения опыт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>
              <a:lnSpc>
                <a:spcPct val="100000"/>
              </a:lnSpc>
              <a:buClr>
                <a:srgbClr val="990099"/>
              </a:buClr>
              <a:buSzPct val="9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Создать картотеку опытов и экспериментов для каждой возрастной групп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>
              <a:lnSpc>
                <a:spcPct val="100000"/>
              </a:lnSpc>
              <a:buClr>
                <a:srgbClr val="990099"/>
              </a:buClr>
              <a:buSzPct val="9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Апробировать на практике  влияние проведения экспериментов в непосредственно образовательную деятельность дет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>
              <a:lnSpc>
                <a:spcPct val="100000"/>
              </a:lnSpc>
              <a:buClr>
                <a:srgbClr val="990099"/>
              </a:buClr>
              <a:buSzPct val="9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Повысить компетентность родителей в организации работы по развитию познавательной активности дошкольников</a:t>
            </a: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1"/>
          <a:stretch/>
        </p:blipFill>
        <p:spPr>
          <a:xfrm>
            <a:off x="0" y="-177840"/>
            <a:ext cx="9372600" cy="726444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536040"/>
            <a:ext cx="7772400" cy="8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66"/>
                </a:solidFill>
                <a:latin typeface="Times New Roman"/>
              </a:rPr>
              <a:t>Мини-лаборатория «Любознайки»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5257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боры-помощники: лупы, весы, песочные часы, компас, магнит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нообразные сосуды из различных материалов (пластмасса, стекло, металл, керамика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родный материал: камешки, глина, песок, ракушки, шишки, перья, мох, листья и др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тилизированный материал: проволока, кусочки кожи, меха, ткани, пластмассы, пробки и др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ехнические материалы: гайки, скрепки, болты, гвоздики и др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.;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ные виды бумаги: обычная, картон, наждачная, копировальная и др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расители: пищевые и непищевые (гуашь, акварельные краски и др.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едицинские материалы: пипетки, колбы, деревянные палочки, шприцы (без игл), мерные ложки, резиновые груши и др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чие материалы: зеркала, воздушные шары, масло, мука, соль, сахар, цветные и прозрачные стекла, сито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781680" y="2362320"/>
            <a:ext cx="14637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264440"/>
          </a:xfrm>
          <a:prstGeom prst="rect">
            <a:avLst/>
          </a:prstGeom>
          <a:ln w="0">
            <a:noFill/>
          </a:ln>
        </p:spPr>
      </p:pic>
      <p:sp>
        <p:nvSpPr>
          <p:cNvPr id="328" name="AutoShape 5"/>
          <p:cNvSpPr/>
          <p:nvPr/>
        </p:nvSpPr>
        <p:spPr>
          <a:xfrm>
            <a:off x="3581280" y="2590920"/>
            <a:ext cx="2210040" cy="1752480"/>
          </a:xfrm>
          <a:prstGeom prst="roundRect">
            <a:avLst>
              <a:gd name="adj" fmla="val 16667"/>
            </a:avLst>
          </a:prstGeom>
          <a:solidFill>
            <a:srgbClr val="cc99ff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ртоте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ксперимен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AutoShape 6"/>
          <p:cNvSpPr/>
          <p:nvPr/>
        </p:nvSpPr>
        <p:spPr>
          <a:xfrm>
            <a:off x="6095880" y="3124080"/>
            <a:ext cx="38124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AutoShape 7"/>
          <p:cNvSpPr/>
          <p:nvPr/>
        </p:nvSpPr>
        <p:spPr>
          <a:xfrm>
            <a:off x="2971800" y="3124080"/>
            <a:ext cx="457200" cy="381240"/>
          </a:xfrm>
          <a:prstGeom prst="leftArrow">
            <a:avLst>
              <a:gd name="adj1" fmla="val 50000"/>
              <a:gd name="adj2" fmla="val 29981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AutoShape 8"/>
          <p:cNvSpPr/>
          <p:nvPr/>
        </p:nvSpPr>
        <p:spPr>
          <a:xfrm>
            <a:off x="4495680" y="2133720"/>
            <a:ext cx="38124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AutoShape 9"/>
          <p:cNvSpPr/>
          <p:nvPr/>
        </p:nvSpPr>
        <p:spPr>
          <a:xfrm>
            <a:off x="4495680" y="441972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AutoShape 13"/>
          <p:cNvSpPr/>
          <p:nvPr/>
        </p:nvSpPr>
        <p:spPr>
          <a:xfrm>
            <a:off x="1066680" y="2438280"/>
            <a:ext cx="1752840" cy="1905120"/>
          </a:xfrm>
          <a:prstGeom prst="octagon">
            <a:avLst>
              <a:gd name="adj" fmla="val 2928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пыты 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вит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еографически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едставлени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AutoShape 14"/>
          <p:cNvSpPr/>
          <p:nvPr/>
        </p:nvSpPr>
        <p:spPr>
          <a:xfrm>
            <a:off x="6629400" y="2362320"/>
            <a:ext cx="1828800" cy="1904760"/>
          </a:xfrm>
          <a:prstGeom prst="octagon">
            <a:avLst>
              <a:gd name="adj" fmla="val 29287"/>
            </a:avLst>
          </a:prstGeom>
          <a:solidFill>
            <a:srgbClr val="cc99ff">
              <a:alpha val="8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пыты н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накомство 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сновным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ида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вижен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AutoShape 15"/>
          <p:cNvSpPr/>
          <p:nvPr/>
        </p:nvSpPr>
        <p:spPr>
          <a:xfrm>
            <a:off x="3581280" y="4952880"/>
            <a:ext cx="2133720" cy="1676520"/>
          </a:xfrm>
          <a:prstGeom prst="octagon">
            <a:avLst>
              <a:gd name="adj" fmla="val 2928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пыты н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накомство с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личным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войствам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ещест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AutoShape 16"/>
          <p:cNvSpPr/>
          <p:nvPr/>
        </p:nvSpPr>
        <p:spPr>
          <a:xfrm>
            <a:off x="3657600" y="457200"/>
            <a:ext cx="2057400" cy="1676520"/>
          </a:xfrm>
          <a:prstGeom prst="octagon">
            <a:avLst>
              <a:gd name="adj" fmla="val 2928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пыты 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ъектами живо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неживой природы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i?id=501091205-70-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38" name="Diagram 33"/>
          <p:cNvGrpSpPr/>
          <p:nvPr/>
        </p:nvGrpSpPr>
        <p:grpSpPr>
          <a:xfrm>
            <a:off x="228600" y="1039680"/>
            <a:ext cx="8686440" cy="4759560"/>
            <a:chOff x="228600" y="1039680"/>
            <a:chExt cx="8686440" cy="4759560"/>
          </a:xfrm>
        </p:grpSpPr>
        <p:sp>
          <p:nvSpPr>
            <p:cNvPr id="339" name="_s1028"/>
            <p:cNvSpPr/>
            <p:nvPr/>
          </p:nvSpPr>
          <p:spPr>
            <a:xfrm flipH="1">
              <a:off x="2399760" y="3419280"/>
              <a:ext cx="1085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_s1029"/>
            <p:cNvSpPr/>
            <p:nvPr/>
          </p:nvSpPr>
          <p:spPr>
            <a:xfrm>
              <a:off x="228600" y="2824200"/>
              <a:ext cx="2171160" cy="11894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В режимных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моментах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_s1030"/>
            <p:cNvSpPr/>
            <p:nvPr/>
          </p:nvSpPr>
          <p:spPr>
            <a:xfrm>
              <a:off x="4571640" y="4014000"/>
              <a:ext cx="0" cy="594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_s1031"/>
            <p:cNvSpPr/>
            <p:nvPr/>
          </p:nvSpPr>
          <p:spPr>
            <a:xfrm>
              <a:off x="3485880" y="4609080"/>
              <a:ext cx="2171160" cy="119016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В свободной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деятельности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_s1032"/>
            <p:cNvSpPr/>
            <p:nvPr/>
          </p:nvSpPr>
          <p:spPr>
            <a:xfrm>
              <a:off x="5657400" y="3419280"/>
              <a:ext cx="1085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_s1033"/>
            <p:cNvSpPr/>
            <p:nvPr/>
          </p:nvSpPr>
          <p:spPr>
            <a:xfrm>
              <a:off x="6743160" y="2824200"/>
              <a:ext cx="2171880" cy="11894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На прогулке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_s1034"/>
            <p:cNvSpPr/>
            <p:nvPr/>
          </p:nvSpPr>
          <p:spPr>
            <a:xfrm flipV="1">
              <a:off x="4571640" y="2229480"/>
              <a:ext cx="0" cy="594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_s1035"/>
            <p:cNvSpPr/>
            <p:nvPr/>
          </p:nvSpPr>
          <p:spPr>
            <a:xfrm>
              <a:off x="3485880" y="1039680"/>
              <a:ext cx="2171160" cy="11894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Образовательная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деятельность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_s1036"/>
            <p:cNvSpPr/>
            <p:nvPr/>
          </p:nvSpPr>
          <p:spPr>
            <a:xfrm>
              <a:off x="3485880" y="2824200"/>
              <a:ext cx="2171160" cy="11894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Экспериментальная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деятельность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48" name="Picture 18" descr="SL270025_2"/>
          <p:cNvPicPr/>
          <p:nvPr/>
        </p:nvPicPr>
        <p:blipFill>
          <a:blip r:embed="rId2"/>
          <a:stretch/>
        </p:blipFill>
        <p:spPr>
          <a:xfrm>
            <a:off x="609480" y="53352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9" descr="SL272095"/>
          <p:cNvPicPr/>
          <p:nvPr/>
        </p:nvPicPr>
        <p:blipFill>
          <a:blip r:embed="rId3"/>
          <a:stretch/>
        </p:blipFill>
        <p:spPr>
          <a:xfrm>
            <a:off x="6781680" y="514440"/>
            <a:ext cx="1752840" cy="13143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20" descr="SL273187"/>
          <p:cNvPicPr/>
          <p:nvPr/>
        </p:nvPicPr>
        <p:blipFill>
          <a:blip r:embed="rId4"/>
          <a:stretch/>
        </p:blipFill>
        <p:spPr>
          <a:xfrm>
            <a:off x="685800" y="48960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22" descr="SL271272"/>
          <p:cNvPicPr/>
          <p:nvPr/>
        </p:nvPicPr>
        <p:blipFill>
          <a:blip r:embed="rId5"/>
          <a:stretch/>
        </p:blipFill>
        <p:spPr>
          <a:xfrm>
            <a:off x="6858000" y="5029200"/>
            <a:ext cx="167652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орст Алексей Владимирович</cp:lastModifiedBy>
  <dcterms:modified xsi:type="dcterms:W3CDTF">2017-01-08T16:16:39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