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767-3C6F-4D0A-9DE6-CDC7A647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26B-78BB-4427-B0E5-322A7B19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AD4-4410-4B7F-A560-8D17DE58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C1F-CE39-4319-A5C9-206B74FB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7B42-F9E4-41F1-B9DF-04351A02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D64A-6F55-4D3B-8C9F-950CBB35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4EF7-E179-4D6E-B815-E3CC246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8B03-9DCF-47E9-B986-5661189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7401-FA99-4F12-B401-B6409370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41EF-ADD0-4254-9CC4-EF00083E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8188-93EB-4A78-9FCE-F4832C6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B70-C625-4858-9DD3-A7C2645E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E0A0-3EB4-45F4-ACD9-EC22C9E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CA68-7AD2-4D86-81FC-3AD18E2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8A39-7B44-44D7-BB37-97E1356C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D79C-E477-4462-A4D9-AFE8359A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5A8-2279-4070-B425-30C62F39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7C9-AA34-4A7E-A436-9BD3EE28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74A-1098-44B3-933A-E415090E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D3C-EB54-46AA-AFFE-24B28AB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277-76B5-4714-AF16-13747FB1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602-0080-4CC5-A1E3-9D6CDF4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CFB-C0FA-4385-86ED-A4F2E64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E6A-967C-499D-BAC8-10B6DDD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B5B2-3C01-4D8F-AB29-934E10A83E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9BE9-F12A-438E-BC91-C11E8ABEE4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ec94"/>
                </a:solidFill>
                <a:latin typeface="Times New Roman"/>
              </a:rPr>
              <a:t>«Осень в красках и звуках»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Лиричная, светлая, нежная, грустная, резкая, мягкая, взволнованная, успокаивающая, стремительная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Практическая работ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политра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468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kраски"/>
          <p:cNvPicPr/>
          <p:nvPr/>
        </p:nvPicPr>
        <p:blipFill>
          <a:blip r:embed="rId2"/>
          <a:stretch/>
        </p:blipFill>
        <p:spPr>
          <a:xfrm>
            <a:off x="4500720" y="1557360"/>
            <a:ext cx="43192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Times New Roman"/>
              </a:rPr>
              <a:t>Итог уро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чились с помощью цвета передавать состояние осеннего дня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лушали музыку, стихи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ссматривали пейзажи художников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Вывод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узыка, живопись и поэзия используют различные средства изображ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Композито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изображае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звук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Художник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цветом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оэ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словом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eec94"/>
                </a:solidFill>
                <a:uFillTx/>
                <a:latin typeface="Times New Roman"/>
              </a:rPr>
              <a:t>Задание на дом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делать фотографии осенних деревьев, или подобрать открытки с осенним пейзажем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Дерево чудес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img3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4950000" y="1628640"/>
          <a:ext cx="3943080" cy="4969080"/>
        </p:xfrm>
        <a:graphic>
          <a:graphicData uri="http://schemas.openxmlformats.org/drawingml/2006/table">
            <a:tbl>
              <a:tblPr/>
              <a:tblGrid>
                <a:gridCol w="3943080"/>
              </a:tblGrid>
              <a:tr h="49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 урок тебе понравился и твое состояние отличное, повесь красное яблочко, если не очень, то зелено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ff"/>
                </a:solidFill>
                <a:uFillTx/>
                <a:latin typeface="Times New Roman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ff"/>
                </a:solidFill>
                <a:uFillTx/>
                <a:latin typeface="Times New Roman"/>
              </a:rPr>
              <a:t>за внимание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Цели уро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авнение и анализ произведений художников, музыкантов, поэто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звитие навыков работы в цвет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оспитание любви и бережного отношения к окружающей природ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Г.Грабарь «СОН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жду летом и зим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се впадает в сон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сыхает зверобой, опадает кле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уб морозцем опален, спать сурки идут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юди этот самый сон осенью зову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 u="sng">
                <a:solidFill>
                  <a:srgbClr val="feec94"/>
                </a:solidFill>
                <a:uFillTx/>
                <a:latin typeface="Times New Roman"/>
              </a:rPr>
              <a:t>Пейзаж</a:t>
            </a:r>
            <a:endParaRPr b="1" lang="en-US" sz="15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ртины природы –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ес, долины, луг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писанные художником, называю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ейзаже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И. Остроухов «Золотая осень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Остроухов Золотая осень"/>
          <p:cNvPicPr/>
          <p:nvPr/>
        </p:nvPicPr>
        <p:blipFill>
          <a:blip r:embed="rId1"/>
          <a:stretch/>
        </p:blipFill>
        <p:spPr>
          <a:xfrm>
            <a:off x="250920" y="1268280"/>
            <a:ext cx="862812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И.Левитан «Золотая 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Левитан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8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Левитан"/>
          <p:cNvPicPr/>
          <p:nvPr/>
        </p:nvPicPr>
        <p:blipFill>
          <a:blip r:embed="rId2"/>
          <a:stretch/>
        </p:blipFill>
        <p:spPr>
          <a:xfrm>
            <a:off x="1486080" y="1447920"/>
            <a:ext cx="61722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. Поленов «Золотая 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В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етр Ильич Чайков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chaikovsky"/>
          <p:cNvPicPr/>
          <p:nvPr/>
        </p:nvPicPr>
        <p:blipFill>
          <a:blip r:embed="rId1"/>
          <a:stretch/>
        </p:blipFill>
        <p:spPr>
          <a:xfrm>
            <a:off x="1042920" y="1341360"/>
            <a:ext cx="6913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8" descr="Левитан"/>
          <p:cNvPicPr/>
          <p:nvPr/>
        </p:nvPicPr>
        <p:blipFill>
          <a:blip r:embed="rId1"/>
          <a:stretch/>
        </p:blipFill>
        <p:spPr>
          <a:xfrm>
            <a:off x="468360" y="620640"/>
            <a:ext cx="4194000" cy="590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В"/>
          <p:cNvPicPr/>
          <p:nvPr/>
        </p:nvPicPr>
        <p:blipFill>
          <a:blip r:embed="rId2"/>
          <a:stretch/>
        </p:blipFill>
        <p:spPr>
          <a:xfrm>
            <a:off x="4932360" y="62064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Остроухов Золотая осень"/>
          <p:cNvPicPr/>
          <p:nvPr/>
        </p:nvPicPr>
        <p:blipFill>
          <a:blip r:embed="rId3"/>
          <a:stretch/>
        </p:blipFill>
        <p:spPr>
          <a:xfrm>
            <a:off x="4788000" y="3860640"/>
            <a:ext cx="3960720" cy="26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9:19:13Z</dcterms:created>
  <dc:creator>Школа</dc:creator>
  <dc:description/>
  <dc:language>en-US</dc:language>
  <cp:lastModifiedBy>Home</cp:lastModifiedBy>
  <dcterms:modified xsi:type="dcterms:W3CDTF">2017-12-08T13:57:49Z</dcterms:modified>
  <cp:revision>4</cp:revision>
  <dc:subject/>
  <dc:title>«Осень в красках и звуках»</dc:title>
</cp:coreProperties>
</file>