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ADD-2132-4D66-8A69-696735E6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DBB6-9F82-47FA-91AE-7BD12431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F51-89D6-4B8B-97B7-E1351616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8BA-08B2-4488-98C4-7F2FBD70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EB61-3B20-49A2-8D4D-712C132A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1A6E-E9A3-4BAF-93EE-83A691EA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F8DF-5CF2-4805-8EA6-EF6DE78D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CF04-14D2-406E-A761-61CF93BC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339AA-EBC4-4DAC-8072-99AC10C13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83BC-F424-44C5-9C47-EF1994BC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F7A3-7BED-4518-8EA2-78078815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24A-2BA2-4DB6-AAB5-954E4E19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51C0-E9BE-4A3F-8C60-9B39A1F8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E2F6-9882-4E3D-9FDE-C0A042EF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3DCA-BF1F-4CE7-9060-68DB7039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E4E0-BC5A-4AAF-9DE0-86E57277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8DA0-2F1A-434B-BEFE-67467797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02CC-9C63-40F9-8033-4BF77C44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3E32-0BCF-4DA8-8FEB-E8FAA096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9FD1-2B9E-4E9F-9EEC-BF8EC196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178B-4921-4AE6-BBEF-7CEF17FF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EDB0-5EFE-4DAB-B94D-55F815AA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149-8E36-45BA-9107-A464DAF2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5E19-50F2-4F67-B2EA-34CA310E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3FB0-CFD9-499C-93E2-64B53E365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EE2B-0FFB-4820-9049-7E713A4F544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eec94"/>
                </a:solidFill>
                <a:latin typeface="Times New Roman"/>
              </a:rPr>
              <a:t>«Осень в красках и звуках»</a:t>
            </a:r>
            <a:endParaRPr b="1" lang="en-US" sz="8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333360"/>
            <a:ext cx="8540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Лиричная, светлая, нежная, грустная, резкая, мягкая, взволнованная, успокаивающая, стремительная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Практическая работа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472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6" descr="политра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468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kраски"/>
          <p:cNvPicPr/>
          <p:nvPr/>
        </p:nvPicPr>
        <p:blipFill>
          <a:blip r:embed="rId2"/>
          <a:stretch/>
        </p:blipFill>
        <p:spPr>
          <a:xfrm>
            <a:off x="4500720" y="1557360"/>
            <a:ext cx="43192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eec94"/>
                </a:solidFill>
                <a:latin typeface="Times New Roman"/>
              </a:rPr>
              <a:t>Итог урока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чились с помощью цвета передавать состояние осеннего дня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лушали музыку, стихи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ассматривали пейзажи художников;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ec94"/>
                </a:solidFill>
                <a:latin typeface="Times New Roman"/>
              </a:rPr>
              <a:t>Вывод: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узыка, живопись и поэзия используют различные средства изображе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Композито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изображает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звуко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Художник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цветом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Поэт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словом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feec94"/>
                </a:solidFill>
                <a:uFillTx/>
                <a:latin typeface="Times New Roman"/>
              </a:rPr>
              <a:t>Задание на дом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</a:rPr>
              <a:t>Сделать фотографии осенних деревьев, или подобрать открытки с осенним пейзажем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Дерево чудес!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img3"/>
          <p:cNvPicPr/>
          <p:nvPr/>
        </p:nvPicPr>
        <p:blipFill>
          <a:blip r:embed="rId1"/>
          <a:stretch/>
        </p:blipFill>
        <p:spPr>
          <a:xfrm>
            <a:off x="250920" y="1628640"/>
            <a:ext cx="4392360" cy="504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4950000" y="1628640"/>
          <a:ext cx="3943080" cy="4969080"/>
        </p:xfrm>
        <a:graphic>
          <a:graphicData uri="http://schemas.openxmlformats.org/drawingml/2006/table">
            <a:tbl>
              <a:tblPr/>
              <a:tblGrid>
                <a:gridCol w="3943080"/>
              </a:tblGrid>
              <a:tr h="496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Если урок тебе понравился и твое состояние отличное, повесь красное яблочко, если не очень, то зеленое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ff"/>
                </a:solidFill>
                <a:uFillTx/>
                <a:latin typeface="Times New Roman"/>
              </a:rPr>
              <a:t>Спасибо 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 u="sng">
                <a:solidFill>
                  <a:srgbClr val="ffffff"/>
                </a:solidFill>
                <a:uFillTx/>
                <a:latin typeface="Times New Roman"/>
              </a:rPr>
              <a:t>за внимание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ec94"/>
                </a:solidFill>
                <a:latin typeface="Times New Roman"/>
              </a:rPr>
              <a:t>Цели уро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равнение и анализ произведений художников, музыкантов, поэтов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азвитие навыков работы в цвет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оспитание любви и бережного отношения к окружающей природе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eec94"/>
                </a:solidFill>
                <a:latin typeface="Times New Roman"/>
              </a:rPr>
              <a:t>Г.Грабарь «СОН»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Между летом и зим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се впадает в сон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Засыхает зверобой, опадает клен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уб морозцем опален, спать сурки идут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Люди этот самый сон осенью зовут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 u="sng">
                <a:solidFill>
                  <a:srgbClr val="feec94"/>
                </a:solidFill>
                <a:uFillTx/>
                <a:latin typeface="Times New Roman"/>
              </a:rPr>
              <a:t>Пейзаж</a:t>
            </a:r>
            <a:endParaRPr b="1" lang="en-US" sz="15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артины природы –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ес, долины, луга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написанные художником, называют </a:t>
            </a:r>
            <a:r>
              <a:rPr b="1" lang="ru-RU" sz="4000" spc="-1" strike="noStrike" u="sng">
                <a:solidFill>
                  <a:srgbClr val="ffffff"/>
                </a:solidFill>
                <a:uFillTx/>
                <a:latin typeface="Times New Roman"/>
              </a:rPr>
              <a:t>пейзажем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eec94"/>
                </a:solidFill>
                <a:latin typeface="Times New Roman"/>
              </a:rPr>
              <a:t>И. Остроухов «Золотая осень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Остроухов Золотая осень"/>
          <p:cNvPicPr/>
          <p:nvPr/>
        </p:nvPicPr>
        <p:blipFill>
          <a:blip r:embed="rId1"/>
          <a:stretch/>
        </p:blipFill>
        <p:spPr>
          <a:xfrm>
            <a:off x="250920" y="1268280"/>
            <a:ext cx="8628120" cy="53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И.Левитан «Золотая осень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Левитан"/>
          <p:cNvPicPr/>
          <p:nvPr/>
        </p:nvPicPr>
        <p:blipFill>
          <a:blip r:embed="rId1"/>
          <a:stretch/>
        </p:blipFill>
        <p:spPr>
          <a:xfrm>
            <a:off x="324000" y="1413000"/>
            <a:ext cx="8569080" cy="518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Левитан"/>
          <p:cNvPicPr/>
          <p:nvPr/>
        </p:nvPicPr>
        <p:blipFill>
          <a:blip r:embed="rId2"/>
          <a:stretch/>
        </p:blipFill>
        <p:spPr>
          <a:xfrm>
            <a:off x="1486080" y="1447920"/>
            <a:ext cx="617220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В. Поленов «Золотая осень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В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eec94"/>
                </a:solidFill>
                <a:latin typeface="Times New Roman"/>
              </a:rPr>
              <a:t>Петр Ильич Чайковск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tchaikovsky"/>
          <p:cNvPicPr/>
          <p:nvPr/>
        </p:nvPicPr>
        <p:blipFill>
          <a:blip r:embed="rId1"/>
          <a:stretch/>
        </p:blipFill>
        <p:spPr>
          <a:xfrm>
            <a:off x="1042920" y="1341360"/>
            <a:ext cx="691380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2" name="Picture 8" descr="Левитан"/>
          <p:cNvPicPr/>
          <p:nvPr/>
        </p:nvPicPr>
        <p:blipFill>
          <a:blip r:embed="rId1"/>
          <a:stretch/>
        </p:blipFill>
        <p:spPr>
          <a:xfrm>
            <a:off x="468360" y="620640"/>
            <a:ext cx="4194000" cy="5904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В"/>
          <p:cNvPicPr/>
          <p:nvPr/>
        </p:nvPicPr>
        <p:blipFill>
          <a:blip r:embed="rId2"/>
          <a:stretch/>
        </p:blipFill>
        <p:spPr>
          <a:xfrm>
            <a:off x="4932360" y="620640"/>
            <a:ext cx="3745080" cy="2952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Остроухов Золотая осень"/>
          <p:cNvPicPr/>
          <p:nvPr/>
        </p:nvPicPr>
        <p:blipFill>
          <a:blip r:embed="rId3"/>
          <a:stretch/>
        </p:blipFill>
        <p:spPr>
          <a:xfrm>
            <a:off x="4788000" y="3860640"/>
            <a:ext cx="3960720" cy="26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09:19:13Z</dcterms:created>
  <dc:creator>Школа</dc:creator>
  <dc:description/>
  <dc:language>en-US</dc:language>
  <cp:lastModifiedBy>Home</cp:lastModifiedBy>
  <dcterms:modified xsi:type="dcterms:W3CDTF">2017-12-08T13:57:49Z</dcterms:modified>
  <cp:revision>4</cp:revision>
  <dc:subject/>
  <dc:title>«Осень в красках и звуках»</dc:title>
</cp:coreProperties>
</file>