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430-A774-4495-A7FE-45D061FC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7D6-661F-45D9-8180-29375F53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896B2-AF44-4529-BF5B-D50F9F7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1CF9B-906F-46AB-8ABB-45F744C5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F1BA4-288A-4A0B-A562-E75779C2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13F98-94F6-4E14-A26F-983BDA8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49253-C44D-4B8B-92FD-E5BA595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A5349-A2DF-42B6-97BC-D9F0C8C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D56B4-BDC5-4A8A-98CB-ABCBAAE1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EB211-A631-4FF9-9F01-535B188E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9F204-4910-4053-BE25-6998DFE4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4B94E-4138-4BFF-9A09-4CD11FCB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2DA-6467-4408-8A4E-807277C5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A7689-8FFA-472B-90C3-9C3E3605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9A9C0-41EE-4C00-B14D-A7EBA47A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320E5-3770-419F-A6D1-6B08B49D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65963-BC12-4CA7-88A0-CCE5060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8353E-0059-43B1-A222-3FEA8D4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7504B-4CCA-4576-AD9F-B057AFD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CAF4E-F9F0-435F-A893-2EC27E8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EF1B4-3025-4020-B886-22BB75B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9F6D8-FC08-41C7-AEAB-3CFC3F71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30791-3B56-4369-A716-B7BB14A9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E0F-E7C9-4E77-B97C-12A38B1F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C225F-D6C9-4B1E-B4F6-F0EE0973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1F48-4EE3-4722-B5CD-E18F8729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5A128-2D6A-4D26-8D9B-FFB41EDD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9710A-64C5-41C7-BEE2-D8C79CF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B0E0D-821B-42F2-91B2-72365469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7414A-9CCB-481F-9EF1-3005E90A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AFA1C-40EA-4C5A-844D-D0606460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4FC78-D8EA-476D-A137-6F11CD9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7AD24-E4FA-417D-AAF3-A4E4C9C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5CA21-45C9-4F18-B5CE-9336593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ADC6-2331-49CD-BBA3-38FB4978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BA66C-D8B4-4785-87D8-4D425FD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58535-F6A9-405B-BF62-14FFDE09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9D8EF-12B0-43A8-8620-6A16BF0F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AAC24-DBAD-4170-9263-B91D6E58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C3482-1C6D-4120-A2DC-024625F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25AC9-2FC5-43D3-9B9C-82C60D56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B61C4-C795-4FDB-B3F1-FDEF22BE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751A0-1E06-4EAB-A45B-98A538B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DF8EE-3CAC-465B-9D56-7C067E51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FB6C5-DB44-477C-884C-39B257EB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BCBF-D22F-439E-91EB-B61478CE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8433E-6753-4410-9CC2-704D950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F601E-DD5D-4951-932D-904E40A9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9D68B-EEE3-4976-A37C-8D834D6E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3A588-A0E2-435B-832B-2C547D5E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AF3D9-1110-4511-A9D3-E47060B0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508C1-7106-4D1A-92C6-0CB25256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4F46B-0838-4490-84A5-50AD285A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BD6AA-CEE2-4561-8F61-7D34AAFB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05294-147C-4820-8563-83A982A4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06A7E-C186-4715-88ED-0EF6A9B3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3A62-E17E-4A9C-8F27-BD537DB7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25F64-77A9-4A7B-B934-3DCEB7CA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1FD26-BBFD-493B-987A-71AD8DF6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507B6-D9A3-4B1F-88DD-1B053CD8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CCF26-446B-4E66-9FB2-FF74BBB9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4EBBF-FDBF-4F3F-876D-D4BA3101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51D77-088E-4EDF-9260-00B6AF3B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653F4-8AFC-4097-986A-61A3AD5B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2EB7-E7E6-4D79-90DC-4D867A1E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44FE-2ABE-403E-B2BE-073A7F5B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F6B-5B0C-4DA8-99C9-3F813D52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873-AC4E-45CC-A20C-ADC4386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AC1-ADA8-472E-8A87-566152A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7490-D742-4782-9015-E5E21C2D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D593-531B-40BB-BF2D-1C436E6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AEC6-1148-4AA0-B2C4-BAB7A2A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9A00-24FE-47B1-9003-AC9314F2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6570-2995-4C10-9FA5-CBF7F68E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87C5-8F69-465C-B951-2B319237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4FC5-3B2F-4B30-A192-145318B4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4ADF-2A3C-4C8E-8176-44B176BD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ADD4-01E0-402E-BB55-33B66D9A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DC67-2700-4917-B691-9FA189A0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D31-27E2-4E22-8CC5-42FDCD12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6950-A436-4BD2-993D-73F15A91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E24C-8BDD-4B8A-8040-2953FE8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5252-1704-4D65-9355-C79E0732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7875-A540-4740-BC30-48C59A78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3073-B5B6-4CF9-889D-D67E5DC8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160C-FB9A-450A-B88E-73F5F056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4AE1-B315-4A07-9F64-4BA53758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7F3A-4759-46A5-BC97-0DBC420D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35A2-34E5-42AC-BCB1-283743F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04DD-6FA7-494D-AE9C-FA74784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C16-F897-4425-943B-3B9F3EAD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F872-4C95-487A-94DE-B645142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F425A-28AC-40D0-B7F2-4C24BDDB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9F7C-0F8B-4916-8B67-C8109FC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DA07-5771-45C6-8441-359BAD6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0D0E-C8F0-4B92-B2DA-9FC3E39A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5AE3D-A4E1-4DA8-B651-CD23DB03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044F-A416-4077-A6B4-A5F99EC5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44CDB-BDDE-47AB-819D-21442E0F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5722-686C-4BC6-9F80-EB66ACD2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B354-F860-45E6-9C3E-019C685D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4C2-404A-4896-A909-7AC4E62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8628-D85D-4EF1-86F0-8592B667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7EB2-44EE-4B2A-BADB-166363AE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78D7-F70A-4671-B08C-61969945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E0798-3F97-4411-B0EC-FCFFEA3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11503-2B3A-4121-8E6F-67BF74F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A69B-7641-4963-9246-C724CCE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6D31E-D18A-4272-AC30-12769BE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EDB34-48A4-4B47-B503-2B3649E0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DC8AC-A9E6-4AC4-A264-DC7EC107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91320-3B1D-414B-A952-2610C903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002-C15A-4598-AF5B-8CB7CD42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F1807-7958-42CD-92A1-1742D536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43FAD-1325-42EF-A035-4B4A7455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D658-79FA-4C34-96B0-ED571DAE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D895-38E6-442A-84D0-05A3242D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E9BE-DD08-4299-9704-1985AA9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7DB4-6841-40A5-99F7-875F8847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E351C-C3FD-4B45-BC7C-EDE79B17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909F-66EC-43B6-BDD3-4C43854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A626D-139A-460E-872C-CC99FD04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C63D-DA03-422E-8129-75828EA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318-780E-4DE3-98BF-C4A54DEE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EC59C-1D5B-495A-8541-49BF79F9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05F6D-5842-4D27-BEA4-18C71354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6496-93BD-4AAE-BC4E-B009BDE5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B1B8-1DD7-49B2-995C-D070EBC0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6A8FC-2AC8-437D-9DAE-84445267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A4F15-403C-4748-87A9-BFFBA17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D12F-01B2-40B4-8820-55A635CC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78AC0-D24F-4EAC-AF7C-99C4F557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D7B58-BB77-4CB8-8000-0A1223FA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5E1C-510E-4CA9-82DC-02567702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A25-739B-4566-B60E-7CB67D9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5A4A-2C02-4710-81A8-144EFA65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B0020-8FE2-4CCC-AD52-0A323450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00785-FE15-41A4-BBE0-536D3CE5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BCC4-BD58-4D24-B493-D0F80606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0A00-0A51-4B0E-AACC-6C2283D6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9044-2C33-4D20-8764-10DF0B58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3B7F-D486-454B-BF19-7860917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8138-B10E-4208-9887-7B0CBAC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F81FD-B700-4710-A14E-3BF8BF90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9ACD2-C8E6-4E64-AB23-C073CC3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3CD-C5AC-4A25-9A04-E4EE2F26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F82EC-6754-4BF8-889C-3683A66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BC504-EB6D-4F44-9E99-A2844DE1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BFD88-9B52-44FD-BC1B-CC8AB6B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D4CB-C93B-4D1C-A83C-A9E0FA1D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EC138-C842-4DE5-8EA8-342DB08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0E2EF-5C28-49C6-8303-ABDB027E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5296-6BE3-4916-973A-9E03DFDB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43ACD-9E6D-4521-BCD2-D0EC7427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A6A62-85C2-481E-B1C4-03F741B7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72C83-B8BD-4E34-B8E7-9351A84B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ec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D750-4037-4A13-8FB8-D28BC46F1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AE7A-E9FD-4AB2-A802-4D7E66FD3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04F6-4969-4973-9B3C-AB07CFA5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6386-C7B5-4937-9172-01FB332C3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C34-FB56-45A1-9C46-C76BAA10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8A3B-F78A-421E-9058-486DB4B52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A55-BD54-4C45-BD28-A4CA8F1F8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4287-93F3-4400-8909-AE24823FF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C53-1A71-4684-8E2E-D4B7A9899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37C-0A69-410D-948C-F8AE6516A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E3B4-7584-4B01-80AD-8C83C696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D921-D479-4252-842D-EBEFF641E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4065-F66A-4165-8EC5-A3501B15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8000" spc="-1" strike="noStrike">
                <a:solidFill>
                  <a:srgbClr val="0066ff"/>
                </a:solidFill>
                <a:latin typeface="Tempus Sans ITC"/>
              </a:rPr>
              <a:t>Педагогическая э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0" y="5445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Tempus Sans ITC"/>
              </a:rPr>
              <a:t>«Счастье-это когда тебя понимаю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0" descr="%D0%BB%D0%BE%D0%B3%D0%BE%D1%82%D0%B8%D0%BF"/>
          <p:cNvPicPr/>
          <p:nvPr/>
        </p:nvPicPr>
        <p:blipFill>
          <a:blip r:embed="rId1"/>
          <a:stretch/>
        </p:blipFill>
        <p:spPr>
          <a:xfrm>
            <a:off x="5148360" y="1844640"/>
            <a:ext cx="27842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негибкого  реагирования  («Робот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авторитарная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(«Я сам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Palatino Linotype"/>
              </a:rPr>
              <a:t>Модель гиперрефлексивная  («Гамлет»)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53" name="Picture 6" descr="ap_arte_hamleth"/>
          <p:cNvPicPr/>
          <p:nvPr/>
        </p:nvPicPr>
        <p:blipFill>
          <a:blip r:embed="rId1"/>
          <a:stretch/>
        </p:blipFill>
        <p:spPr>
          <a:xfrm>
            <a:off x="2771640" y="1773360"/>
            <a:ext cx="3294360" cy="439236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гипорефлексивная  («Тетерев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213336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Palatino Linotype"/>
              </a:rPr>
              <a:t>Благоприятная модель об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Palatino Linotype"/>
              </a:rPr>
              <a:t>Модель активного взаимодействия («Союз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Правила разрешения конфликтов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-181080" y="1541520"/>
            <a:ext cx="4321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режде всего следует попытаться овладеть конфликтной ситуацией, а это значит- разрядить обоюдную эмоциональную напряж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Как? Начать с себя: убрать «лишнее» напряжение, скованность, бесцельные движения. Мимика, жесты. Поза, как мы знаем, не только выражают внутреннее состояние, но и влияют на него. Итак, внешнее спокойствие и выдерж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071217-bad-teacher"/>
          <p:cNvPicPr/>
          <p:nvPr/>
        </p:nvPicPr>
        <p:blipFill>
          <a:blip r:embed="rId1"/>
          <a:stretch/>
        </p:blipFill>
        <p:spPr>
          <a:xfrm>
            <a:off x="4140360" y="1484280"/>
            <a:ext cx="4895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" dur="5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" dur="5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Правила разрешения конфли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empus Sans ITC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empus Sans ITC"/>
              </a:rPr>
              <a:t>Попытаться понять мотивы поведения собеседника. Включение мысленного анализа снижает эмоциональное возбуждение. Лучше выразить понимание затруднительного положения: «Я не понимаю твое состояние», передать свое состояние: «Меня огорчает». Итак, не пытайтесь сразу оценивать поступок, стремитесь сначала выразить свое отношение к сложившейс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Правила разрешения конфли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-396720" y="1413000"/>
            <a:ext cx="4859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empus Sans ITC"/>
              </a:rPr>
              <a:t>Своим поведением повлиять на партнера (ученика, коллегу). Снять напряженность помогает молчаливое рассмотрение лица соучастника конфликта, что даст возможность учителю сосредоточиться, изучить его со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0_3a861_622bd068_L"/>
          <p:cNvPicPr/>
          <p:nvPr/>
        </p:nvPicPr>
        <p:blipFill>
          <a:blip r:embed="rId1"/>
          <a:stretch/>
        </p:blipFill>
        <p:spPr>
          <a:xfrm>
            <a:off x="4643280" y="1341360"/>
            <a:ext cx="41529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Заповеди педагогическ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Чаще улыбайтесь детям. Улыбка при входе учителя в класс говорит о том, что встреча с учащимися приятна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усть из ваших уст почаще звучат одобрение, похвала, поощ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Следует развивать коммуникативную память-это поможет быстро восстановит предыдущую ситуацию общения с классом, воспроизводить эмоциональную атмосферу общения. Расставлять верные акц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Не забывайте о коммуникативной подготовке к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Умейте анализировать процесс обще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Следите за собственной речью! Помните, что она -отражение вашей личности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empus Sans ITC"/>
              </a:rPr>
              <a:t>Педагогическая э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empus Sans ITC"/>
              </a:rPr>
              <a:t>Педагогическая этика-это наука о педагогической нрав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empus Sans ITC"/>
              </a:rPr>
              <a:t>Педагогическая этика-наука, изучающая нормы поведения учите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d181d0bfd18121"/>
          <p:cNvPicPr/>
          <p:nvPr/>
        </p:nvPicPr>
        <p:blipFill>
          <a:blip r:embed="rId1"/>
          <a:stretch/>
        </p:blipFill>
        <p:spPr>
          <a:xfrm>
            <a:off x="4572000" y="1628640"/>
            <a:ext cx="4392720" cy="50403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539640" y="188640"/>
            <a:ext cx="8229600" cy="71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Comic Sans MS"/>
                <a:ea typeface="Times New Roman"/>
              </a:rPr>
              <a:t>10 заповедей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1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Люби воспитанника, доверенного тебе родителями, всей душой, сердцем и разумом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2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Старайся видеть в каждом своем воспитаннике полноправную, уникальную личность, достойную признания и 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3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Осознавай в полной мере ответственность за каждого вверенного тебе ребенка: за его физическое состояние и эмоциональное благополучи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4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Отдавай ежедневно детям все, что знаешь и умеешь сам, развивай их способности, выбирая самые прогрессивные методы обуч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5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Помни, что знания без чувств, добрых дел и чистых помыслов, не окрыляют, а отягощают и разрушают любого человека, в том числе, ребенк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8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611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6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Твердо знай, что любое осуществляемое тобой насилие над личностью (физическое или моральное), независимо от его цели, ставит под вопрос твое звание «педагог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7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Оценивай поступок, а не личность, и никогда не предпринимай воспитательных воздействий в дурном настроен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8. 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Воспринимай родителей своих воспитанников как первых союзников в деле развития детской личност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9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Дорожи школой как своим родным домом, даже если в нем иногда протекает кр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3399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empus Sans ITC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957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333399">
                <a:alpha val="5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empus Sans ITC"/>
              </a:rPr>
              <a:t>«Пойми ученика»-</a:t>
            </a:r>
            <a:r>
              <a:rPr b="1" lang="ru-RU" sz="3200" spc="-1" strike="noStrike">
                <a:solidFill>
                  <a:srgbClr val="0066ff"/>
                </a:solidFill>
                <a:latin typeface="Tempus Sans ITC"/>
              </a:rPr>
              <a:t>профессиональная заповедь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ru-RU" sz="3200" spc="-1" strike="noStrike">
                <a:solidFill>
                  <a:srgbClr val="0066ff"/>
                </a:solidFill>
                <a:latin typeface="Tempus Sans ITC"/>
              </a:rPr>
              <a:t>Понять - это значит проникнуть во внутреннее, душевное состояние, понять мотивы действий, поступков, переживаний. Общение педагога и учащегося порой становится судьбоносным. Умение, слушая, слышать своего собеседника-это мастерство преподавателя и, безусловно, искусство общения.</a:t>
            </a: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19400" y="2276280"/>
            <a:ext cx="3932280" cy="4405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3333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empus Sans ITC"/>
              </a:rPr>
              <a:t>Творческих Вам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C:\Users\Вова\Desktop\35f867057ee9.jpg"/>
          <p:cNvPicPr/>
          <p:nvPr/>
        </p:nvPicPr>
        <p:blipFill>
          <a:blip r:embed="rId1"/>
          <a:stretch/>
        </p:blipFill>
        <p:spPr>
          <a:xfrm>
            <a:off x="287280" y="1989000"/>
            <a:ext cx="4657680" cy="4658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5297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empus Sans ITC"/>
              </a:rPr>
              <a:t>Некоторые качества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4356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Чес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Доброжела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Глубокая заинтересованность в успехах своих питомцев, уважение к их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Чувство ответственности за результаты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Соблюдение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logoip"/>
          <p:cNvPicPr/>
          <p:nvPr/>
        </p:nvPicPr>
        <p:blipFill>
          <a:blip r:embed="rId1"/>
          <a:stretch/>
        </p:blipFill>
        <p:spPr>
          <a:xfrm>
            <a:off x="5148360" y="1413000"/>
            <a:ext cx="38401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Требования педагогической эт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Установка, усиливающая веру в усп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Установление правильных взаимоотношений между учителем и учени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Доброжелательное отношение к каждому обучающему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Благоприятное речевое общение с учениками с самой первой вст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Облик самого учителя, внешний вид, сама обстановка в классной ауд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3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3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3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99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empus Sans ITC"/>
              </a:rPr>
              <a:t>Педагогический та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Такт – чувство меры, создающее умение вести себя приличным, подобающим образом(словарь С.И. Ожег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едагогический такт – принцип меры, который педагог должен соблюдать в процессе общения с детьми; определяется педагогическим мастерством, опытом, уровнем культуры и личностными качествами педагога; выражается в умении найти оптимальные меры воспитательного воздействия в любых ситуациях(в том числе и в конфликтных), не унижая достоинства ребенка и не вызывая у него сопротивления воспитанию(педагогический энциклопедический словарь под ред. Б.М. Бим-Б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едагогический такт предполагает учет личностных особенностей субъектов общения, соблюдение нравственно-этических профессиональных установок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едагогический такт - профессиональное качество педагога, часть е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7235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Негативные модел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общения педагогов с учащими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диктаторская («Монблан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«неконтактная» («Китайская стена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920" y="508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Palatino Linotype"/>
              </a:rPr>
              <a:t>Модель дифференцированного внимания («Локатор»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24:17Z</dcterms:created>
  <dc:creator>home</dc:creator>
  <dc:description/>
  <dc:language>en-US</dc:language>
  <cp:lastModifiedBy>Вова</cp:lastModifiedBy>
  <cp:lastPrinted>2014-02-04T13:38:54Z</cp:lastPrinted>
  <dcterms:modified xsi:type="dcterms:W3CDTF">2014-02-04T13:43:06Z</dcterms:modified>
  <cp:revision>14</cp:revision>
  <dc:subject/>
  <dc:title>Педагогическая этика</dc:title>
</cp:coreProperties>
</file>