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68E8-DE5E-410D-838F-062D7820E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888E-7B06-48C0-BC92-9C74026BF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3F7CAF-D609-43D4-95D8-B7D89B049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AF6B43-FC21-413A-8B60-F52E1BA15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DE3129-1AE8-4146-9020-F50686556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DFCBF7-47CA-43F6-BCB7-44A1EF14A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CA5786-0743-49DD-A925-D24C0B72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15F69A-690C-4B6E-A747-16C6AD39F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36FBA8-99E6-4FBC-91C3-B0366B078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E26A3A-E8DC-4635-9289-479689C02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064B53-8236-42B4-80E8-0ABB30068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84ED88-86B0-4768-9013-7BD8CB869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DFB0-F4F1-4B48-87A8-615C67A50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104BCD-E1F1-4759-815F-DBD2A0830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42CF2F-6992-4B67-B15B-5F99E7B06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CE607B-B97F-4FFB-A914-ABE43F582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516BB2-5191-40B3-8410-C2F4695BA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17132E-AAB4-43D2-9883-EBFA4ED43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751580-A8BD-4327-B426-8ACC9BBD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D46F8A-D4A8-4C6B-BA56-EDC08656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7EC9F4-A326-4DEC-8515-C7304C27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5A7224-D0C1-4593-8E09-267AC6F2F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43CB45-D089-4C46-9A8D-94CBEE654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555E-132E-4149-862C-5C84E213C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98316A-AC2F-460B-9954-DFAFD582D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A4DE64-CADB-48B7-8222-D974C168A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3B2653-337F-41CA-87FF-16A13C42D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8FED00-1A47-4FC5-A9D9-ED61B5CEE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B14F2B-FD4D-458E-BE34-417453FD8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C618FA-D9A9-4CDE-BF26-6DBBDE63D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F1D450-ABF3-43C2-AB44-D9A5A94A2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84CB97-2DCC-4864-B888-DFA53EC0E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F2E053-C237-4D57-8889-9E7EFA065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8BBA00-932F-4BF1-890E-E3E1FC5B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A4119-FAF1-4018-96A0-73C144376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7FCE86-E90D-44AE-B4A5-0F283D019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7B854B-D29F-4E4E-A180-3A4F1DDFC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6E408D-B2D3-4840-B954-14D40187F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C952AB-F2C8-4B6B-AD6A-CD82F3E4C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D68D85-D60C-438F-BCC7-6EF85E6BF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999224-D40D-4890-B867-CF2B85DF2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7B8602-F571-4B2F-9101-4860E0719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C7CB35-697A-4A69-8CA1-2608BB1E9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8BA6F5-DF15-433F-9BCD-7AD9AFA3C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AB34AE-517D-482C-8890-D36BA7E0D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0CC56-09D6-423C-8274-6A81E2BD5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A36393-128A-468B-BCAB-71275D20D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92D0F6-CDAA-492B-BDA4-C158CE86A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1FA036-2017-4E3D-95EB-5F63BD8C3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A125C8-7146-4E33-81C5-B6D37892E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88E188-8A40-4880-9078-3C7ADF875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E9B456-D4BE-4B0B-9380-0A605CEFF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18F698-2B2A-449A-8B5E-A2C4161D1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8DBAFF-7E16-43AA-A733-9EDE2182F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568C0B-8BC4-4AE2-89DD-CBAA9FE55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6DBF37-C662-474C-9A3A-5E18ABACB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4134B-1A05-4AF4-8F37-407B06105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A80FF6-CA9A-4858-8E39-FE4D6C045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D52C12-DBD1-4B13-9B23-6F50B7F78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86C1CC-0572-4790-9F75-5BF942D69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4F25C1-BF3B-4A15-8A30-C5716BBBA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658E13-C7E5-4121-BA50-089A8FAB8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A9A123-B375-4196-9CD0-CDB7CFED0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F3FE8C-4D01-400B-9234-5CFBC9FDF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AADBF-6636-4CBA-8331-1A96873CC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FD7CD-DDDA-46A9-991F-13CAF6CE3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CE7AF-25E1-4B88-9CAE-A01221857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314DD-B201-4378-A096-87D64B240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755A-D0A3-444C-A4B1-B0C305208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5515A-E823-43A3-ADBB-D0F032E10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DCC96-65EF-4F68-89F1-322D0D893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07FC0-1A73-42C5-8509-905916DF0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23A45-D703-48C0-9410-DFB72F861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46C42-2DB3-4A18-8C71-1EF2CA805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A35C2-1E3C-4C02-937A-DE9219320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AF423-2B8E-483B-80D1-EF806D274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DE450-E2C1-490A-9BB5-F633C1E4B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4F8D4-1AB7-46ED-8462-6747A1950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921C6-5E0D-4E29-B791-5C39E20EA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CB9E-1F8D-48AF-A4E5-17DFB5CA5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F5F8C-34E7-40D9-8080-3FC3EA5C4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210AC-4B96-469E-B12F-8A02CE763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9EFBD-A124-4E58-A79C-F078CD88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19732-A9A5-404C-91D2-1B3FAFC48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D5F21-15F7-4B20-A39B-97BE2B7F9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48972-4798-4A10-8F72-3A5F71389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B31FF-B93A-484C-8E8E-A103D879F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4B85A-E0DF-4B87-8577-C141DEDF7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35645-7342-4BF2-B37D-48076C00A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80D2A-F7C0-4BF9-970D-04854A9D9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9158-39D7-430C-A4E0-84432FD32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71683-7522-4F57-98B9-D9B4CCD7F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518CC-0CBA-4D45-8D5F-7F2B74EAF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61A94-9EAB-4E9E-80A1-BF4599787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01215-4BD7-475B-89D1-817E20931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A0FC0-60FE-43CE-86F1-0CFE8576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A9FF2-F2AA-4F8D-A179-AC32D03D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BAF4F-0FC2-494C-901D-24E060CA0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E6045-6AB8-4CD5-85D2-6661DC58E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93FC7-8E4A-4484-942F-61B8961C4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CD66D7-638F-446D-AC63-1D1BEADC7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67DD-725E-4576-8D36-AE17FFA76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479353-2028-4849-AF15-3101B98BE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7B207B-749D-4BED-96F8-3E20DD275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D83903-A665-47B5-A6D3-EC3E4AF27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EFD70-DD94-4EC5-95EA-34B1C1DBC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1F3A74-13CD-446B-9238-B41AAF9CB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030DB-159E-41AF-BFB8-90BA86653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D944B-2518-4F34-AF1B-DE7662C0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66E54A-D98A-4581-B035-8FAAC7BB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77968F-32EA-47D3-908D-213D11E61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9E9B34-6CED-4358-B740-126A1B579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846F-137F-4605-A86E-116C05A2D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C64BD4-6B4E-4FC9-BDD4-9D11E41DF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EF672D-7A61-4715-A176-FF11C65AC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EE7403-5649-46D3-9471-1F0416679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0FEC4-A9F7-4CC2-8C4A-13766E18D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B34784-4005-4C57-BFD2-E17A3E16D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523F52-3EFD-4FA5-B4E2-2CAB134FD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65DCB-E610-461E-8AF8-369241576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07D0E8-8ED9-4B18-8621-C56EEA5C4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DEAC5-4077-47FD-AC73-B1DE7203A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7B3A7-89E9-456E-920D-69FEC6EE3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BF5B-70F9-46E8-B0D1-25E2EDCC3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9BE5A1-122C-40C3-811B-438CB032D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394993-19F7-485E-AA05-CB86DEAC0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310E81-744A-430C-B216-6747B7689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026315-99D8-491D-B243-D76150FA9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8920CB-0F30-4E69-8071-172118B9A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C08672-F07B-44EB-A38C-EC3ED3EB8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76EC94-1A94-4740-9DD8-4B3BC4770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0AFC0F-1A2A-4575-AFD8-5CC9277BA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8F310C-3A0C-435A-8D4F-EA3AE633B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7D56CE-6B1A-433E-BEF9-94007C2E1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2F5E-5E0D-485D-B296-B4AEEA8E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4CEF2F-54BD-43E8-9047-C6C055BD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63EA48-3F57-44C0-A2C2-D2076CAB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F4B772-6377-4C4D-9999-D4A55005B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49B032-5849-45E7-BF5C-9A2824F18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F9FB23-7B09-4AFA-B669-D44B57C86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F59DCF-120F-4520-8235-BC0046061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0187BB-C663-4225-8679-524986948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E6B673-8704-4FE0-89BE-7A418A1A0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5E09C9-0C65-447C-8140-E0795E446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FF9576-196F-42FE-8A80-300C96913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CCE4-D5B1-4017-B984-D27E572F1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8F3619-93ED-4D1F-94DD-5592740D6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5A42F7-60D7-4F22-98EF-238DE5B5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FE099A-7C9E-4185-A36A-47C0E388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39B358-90C3-438E-971C-764B846DE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28E93F-0EF8-468A-9A6A-6422BDB91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41D512-69D6-410D-BDA2-850C76FBA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0EDD06-9161-4B37-9AA4-1AD62FD7C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85414A-A7FB-411C-8A08-B74AA2ED5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35E955-8CED-4728-8528-E5FB2A342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37E648-D5AA-4FFF-AD80-57ABC1437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4ec9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6C885-66C2-494B-8A13-8CA19EAAA6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1D3CF-1962-4BD7-BFF2-B05C9B0F21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1447920" y="18288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1447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9948A-8F43-4708-A074-7254D95E91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447920" y="18288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1218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19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5943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526EE-AE68-420F-AC50-C2A0FDD7AF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1447920" y="18288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1218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19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5943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1C890-53F4-48D5-B779-8B65D62560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8A8DB-B39B-4EE9-BB58-5C43E488FD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E025E-B434-4160-886A-164D1864FA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7AA6B-324C-44C4-9296-E2B96B6A3F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70B96-B617-490F-B445-76CAAD26BE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C47B1-2E00-4415-B99D-AB5D205408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9ED1E-6FD6-47D9-8E99-942ACD7E1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31DBC-6D44-4DE9-A2D4-AFAE3FF725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1447920" y="18288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1447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8B8C2-8830-49E3-8D08-4EF73EF6E8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0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99520" cy="1143000"/>
          </a:xfrm>
          <a:prstGeom prst="rect">
            <a:avLst/>
          </a:prstGeom>
          <a:noFill/>
          <a:ln w="0">
            <a:noFill/>
          </a:ln>
          <a:effectLst>
            <a:outerShdw dist="91658" dir="19582341" blurRad="0" rotWithShape="0">
              <a:srgbClr val="ffff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8000" spc="-1" strike="noStrike">
                <a:solidFill>
                  <a:srgbClr val="0066ff"/>
                </a:solidFill>
                <a:latin typeface="Tempus Sans ITC"/>
              </a:rPr>
              <a:t>Педагогическая этик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5"/>
          <p:cNvSpPr/>
          <p:nvPr/>
        </p:nvSpPr>
        <p:spPr>
          <a:xfrm>
            <a:off x="0" y="544500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cc0000"/>
                </a:solidFill>
                <a:uFillTx/>
                <a:latin typeface="Tempus Sans ITC"/>
              </a:rPr>
              <a:t>«Счастье-это когда тебя понимают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10" descr="%D0%BB%D0%BE%D0%B3%D0%BE%D1%82%D0%B8%D0%BF"/>
          <p:cNvPicPr/>
          <p:nvPr/>
        </p:nvPicPr>
        <p:blipFill>
          <a:blip r:embed="rId1"/>
          <a:stretch/>
        </p:blipFill>
        <p:spPr>
          <a:xfrm>
            <a:off x="5148360" y="1844640"/>
            <a:ext cx="278424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6836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Palatino Linotype"/>
              </a:rPr>
              <a:t>Модель негибкого  реагирования  («Робот»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39640" y="530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Palatino Linotype"/>
              </a:rPr>
              <a:t>Модель авторитарная 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Palatino Linotype"/>
              </a:rPr>
              <a:t>(«Я сам»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Palatino Linotype"/>
              </a:rPr>
              <a:t>Модель гиперрефлексивная  («Гамлет») 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553" name="Picture 6" descr="ap_arte_hamleth"/>
          <p:cNvPicPr/>
          <p:nvPr/>
        </p:nvPicPr>
        <p:blipFill>
          <a:blip r:embed="rId1"/>
          <a:stretch/>
        </p:blipFill>
        <p:spPr>
          <a:xfrm>
            <a:off x="2771640" y="1773360"/>
            <a:ext cx="3294360" cy="4392360"/>
          </a:xfrm>
          <a:prstGeom prst="rect">
            <a:avLst/>
          </a:prstGeom>
          <a:ln w="57240">
            <a:solidFill>
              <a:srgbClr val="990033"/>
            </a:solidFill>
            <a:miter/>
          </a:ln>
        </p:spPr>
      </p:pic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68360" y="494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Palatino Linotype"/>
              </a:rPr>
              <a:t>Модель гипорефлексивная  («Тетерев»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979280" y="2133360"/>
            <a:ext cx="657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Palatino Linotype"/>
              </a:rPr>
              <a:t>Благоприятная модель общ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39640" y="522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Palatino Linotype"/>
              </a:rPr>
              <a:t>Модель активного взаимодействия («Союз»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45929" dir="18228878" blurRad="0" rotWithShape="0">
              <a:srgbClr val="ffff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ff"/>
                </a:solidFill>
                <a:latin typeface="Tempus Sans ITC"/>
              </a:rPr>
              <a:t>Правила разрешения конфликтов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-181080" y="1541520"/>
            <a:ext cx="43214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empus Sans ITC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Tempus Sans ITC"/>
              </a:rPr>
              <a:t>Прежде всего следует попытаться овладеть конфликтной ситуацией, а это значит- разрядить обоюдную эмоциональную напряженн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empus Sans ITC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empus Sans ITC"/>
              </a:rPr>
              <a:t>Как? Начать с себя: убрать «лишнее» напряжение, скованность, бесцельные движения. Мимика, жесты. Поза, как мы знаем, не только выражают внутреннее состояние, но и влияют на него. Итак, внешнее спокойствие и выдержк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5" descr="071217-bad-teacher"/>
          <p:cNvPicPr/>
          <p:nvPr/>
        </p:nvPicPr>
        <p:blipFill>
          <a:blip r:embed="rId1"/>
          <a:stretch/>
        </p:blipFill>
        <p:spPr>
          <a:xfrm>
            <a:off x="4140360" y="1484280"/>
            <a:ext cx="4895640" cy="518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8" dur="50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2" dur="5000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18900000" blurRad="0" rotWithShape="0">
              <a:srgbClr val="ffff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ff"/>
                </a:solidFill>
                <a:latin typeface="Tempus Sans ITC"/>
              </a:rPr>
              <a:t>Правила разрешения конфликто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8820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empus Sans ITC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Tempus Sans ITC"/>
              </a:rPr>
              <a:t>Попытаться понять мотивы поведения собеседника. Включение мысленного анализа снижает эмоциональное возбуждение. Лучше выразить понимание затруднительного положения: «Я не понимаю твое состояние», передать свое состояние: «Меня огорчает». Итак, не пытайтесь сразу оценивать поступок, стремитесь сначала выразить свое отношение к сложившейся ситу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18900000" blurRad="0" rotWithShape="0">
              <a:srgbClr val="ffff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ff"/>
                </a:solidFill>
                <a:latin typeface="Tempus Sans ITC"/>
              </a:rPr>
              <a:t>Правила разрешения конфликто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-396720" y="1413000"/>
            <a:ext cx="48592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empus Sans ITC"/>
              </a:rPr>
              <a:t>Своим поведением повлиять на партнера (ученика, коллегу). Снять напряженность помогает молчаливое рассмотрение лица соучастника конфликта, что даст возможность учителю сосредоточиться, изучить его состоя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5" descr="0_3a861_622bd068_L"/>
          <p:cNvPicPr/>
          <p:nvPr/>
        </p:nvPicPr>
        <p:blipFill>
          <a:blip r:embed="rId1"/>
          <a:stretch/>
        </p:blipFill>
        <p:spPr>
          <a:xfrm>
            <a:off x="4643280" y="1341360"/>
            <a:ext cx="4152960" cy="49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ff"/>
                </a:solidFill>
                <a:latin typeface="Tempus Sans ITC"/>
              </a:rPr>
              <a:t>Заповеди педагогического общ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empus Sans ITC"/>
              </a:rPr>
              <a:t>Чаще улыбайтесь детям. Улыбка при входе учителя в класс говорит о том, что встреча с учащимися приятна в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empus Sans ITC"/>
              </a:rPr>
              <a:t>Пусть из ваших уст почаще звучат одобрение, похвала, поощр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empus Sans ITC"/>
              </a:rPr>
              <a:t>Следует развивать коммуникативную память-это поможет быстро восстановит предыдущую ситуацию общения с классом, воспроизводить эмоциональную атмосферу общения. Расставлять верные акцен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empus Sans ITC"/>
              </a:rPr>
              <a:t>Не забывайте о коммуникативной подготовке к уро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empus Sans ITC"/>
              </a:rPr>
              <a:t>Умейте анализировать процесс общения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empus Sans ITC"/>
              </a:rPr>
              <a:t>Следите за собственной речью! Помните, что она -отражение вашей личности.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71785" dir="18900000" blurRad="0" rotWithShape="0">
              <a:srgbClr val="0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3300"/>
                </a:solidFill>
                <a:uFillTx/>
                <a:latin typeface="Tempus Sans ITC"/>
              </a:rPr>
              <a:t>Педагогическая э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08000" y="1557000"/>
            <a:ext cx="4906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empus Sans ITC"/>
              </a:rPr>
              <a:t>Педагогическая этика-это наука о педагогической нравственно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empus Sans ITC"/>
              </a:rPr>
              <a:t>Педагогическая этика-наука, изучающая нормы поведения учителя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5" descr="d181d0bfd18121"/>
          <p:cNvPicPr/>
          <p:nvPr/>
        </p:nvPicPr>
        <p:blipFill>
          <a:blip r:embed="rId1"/>
          <a:stretch/>
        </p:blipFill>
        <p:spPr>
          <a:xfrm>
            <a:off x="4572000" y="1628640"/>
            <a:ext cx="4392720" cy="5040360"/>
          </a:xfrm>
          <a:prstGeom prst="rect">
            <a:avLst/>
          </a:prstGeom>
          <a:ln w="12600">
            <a:solidFill>
              <a:srgbClr val="ffff00"/>
            </a:solidFill>
            <a:miter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 txBox="1"/>
          <p:nvPr/>
        </p:nvSpPr>
        <p:spPr>
          <a:xfrm>
            <a:off x="539640" y="188640"/>
            <a:ext cx="8229600" cy="71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80074"/>
                </a:solidFill>
                <a:latin typeface="Comic Sans MS"/>
                <a:ea typeface="Times New Roman"/>
              </a:rPr>
              <a:t>10 заповедей педаг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e8007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80074"/>
                </a:solidFill>
                <a:latin typeface="Times New Roman"/>
                <a:ea typeface="Times New Roman"/>
              </a:rPr>
              <a:t>Заповедь 1.</a:t>
            </a:r>
            <a:r>
              <a:rPr b="1" lang="ru-RU" sz="2400" spc="-1" strike="noStrike">
                <a:solidFill>
                  <a:srgbClr val="8000ff"/>
                </a:solidFill>
                <a:latin typeface="Times New Roman"/>
                <a:ea typeface="Times New Roman"/>
              </a:rPr>
              <a:t> Люби воспитанника, доверенного тебе родителями, всей душой, сердцем и разумом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e8007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80074"/>
                </a:solidFill>
                <a:latin typeface="Times New Roman"/>
                <a:ea typeface="Times New Roman"/>
              </a:rPr>
              <a:t>Заповедь 2.</a:t>
            </a:r>
            <a:r>
              <a:rPr b="1" lang="ru-RU" sz="2400" spc="-1" strike="noStrike">
                <a:solidFill>
                  <a:srgbClr val="8000ff"/>
                </a:solidFill>
                <a:latin typeface="Times New Roman"/>
                <a:ea typeface="Times New Roman"/>
              </a:rPr>
              <a:t> Старайся видеть в каждом своем воспитаннике полноправную, уникальную личность, достойную признания и ува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e8007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80074"/>
                </a:solidFill>
                <a:latin typeface="Times New Roman"/>
                <a:ea typeface="Times New Roman"/>
              </a:rPr>
              <a:t>Заповедь 3.</a:t>
            </a:r>
            <a:r>
              <a:rPr b="1" lang="ru-RU" sz="2400" spc="-1" strike="noStrike">
                <a:solidFill>
                  <a:srgbClr val="8000ff"/>
                </a:solidFill>
                <a:latin typeface="Times New Roman"/>
                <a:ea typeface="Times New Roman"/>
              </a:rPr>
              <a:t> Осознавай в полной мере ответственность за каждого вверенного тебе ребенка: за его физическое состояние и эмоциональное благополучие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e8007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80074"/>
                </a:solidFill>
                <a:latin typeface="Times New Roman"/>
                <a:ea typeface="Times New Roman"/>
              </a:rPr>
              <a:t>Заповедь 4.</a:t>
            </a:r>
            <a:r>
              <a:rPr b="1" lang="ru-RU" sz="2400" spc="-1" strike="noStrike">
                <a:solidFill>
                  <a:srgbClr val="8000ff"/>
                </a:solidFill>
                <a:latin typeface="Times New Roman"/>
                <a:ea typeface="Times New Roman"/>
              </a:rPr>
              <a:t> Отдавай ежедневно детям все, что знаешь и умеешь сам, развивай их способности, выбирая самые прогрессивные методы обучения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e8007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80074"/>
                </a:solidFill>
                <a:latin typeface="Times New Roman"/>
                <a:ea typeface="Times New Roman"/>
              </a:rPr>
              <a:t>Заповедь 5.</a:t>
            </a:r>
            <a:r>
              <a:rPr b="1" lang="ru-RU" sz="2400" spc="-1" strike="noStrike">
                <a:solidFill>
                  <a:srgbClr val="8000ff"/>
                </a:solidFill>
                <a:latin typeface="Times New Roman"/>
                <a:ea typeface="Times New Roman"/>
              </a:rPr>
              <a:t> Помни, что знания без чувств, добрых дел и чистых помыслов, не окрыляют, а отягощают и разрушают любого человека, в том числе, ребенка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8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 txBox="1"/>
          <p:nvPr/>
        </p:nvSpPr>
        <p:spPr>
          <a:xfrm>
            <a:off x="61128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e8007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80074"/>
                </a:solidFill>
                <a:latin typeface="Times New Roman"/>
                <a:ea typeface="Times New Roman"/>
              </a:rPr>
              <a:t>Заповедь 6.</a:t>
            </a:r>
            <a:r>
              <a:rPr b="1" lang="ru-RU" sz="2400" spc="-1" strike="noStrike">
                <a:solidFill>
                  <a:srgbClr val="8000ff"/>
                </a:solidFill>
                <a:latin typeface="Times New Roman"/>
                <a:ea typeface="Times New Roman"/>
              </a:rPr>
              <a:t> Твердо знай, что любое осуществляемое тобой насилие над личностью (физическое или моральное), независимо от его цели, ставит под вопрос твое звание «педагог»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e8007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80074"/>
                </a:solidFill>
                <a:latin typeface="Times New Roman"/>
                <a:ea typeface="Times New Roman"/>
              </a:rPr>
              <a:t>Заповедь 7.</a:t>
            </a:r>
            <a:r>
              <a:rPr b="1" lang="ru-RU" sz="2400" spc="-1" strike="noStrike">
                <a:solidFill>
                  <a:srgbClr val="8000ff"/>
                </a:solidFill>
                <a:latin typeface="Times New Roman"/>
                <a:ea typeface="Times New Roman"/>
              </a:rPr>
              <a:t> Оценивай поступок, а не личность, и никогда не предпринимай воспитательных воздействий в дурном настроении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e8007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80074"/>
                </a:solidFill>
                <a:latin typeface="Times New Roman"/>
                <a:ea typeface="Times New Roman"/>
              </a:rPr>
              <a:t>Заповедь 8. </a:t>
            </a:r>
            <a:r>
              <a:rPr b="1" lang="ru-RU" sz="2400" spc="-1" strike="noStrike">
                <a:solidFill>
                  <a:srgbClr val="8000ff"/>
                </a:solidFill>
                <a:latin typeface="Times New Roman"/>
                <a:ea typeface="Times New Roman"/>
              </a:rPr>
              <a:t>Воспринимай родителей своих воспитанников как первых союзников в деле развития детской личности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e8007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80074"/>
                </a:solidFill>
                <a:latin typeface="Times New Roman"/>
                <a:ea typeface="Times New Roman"/>
              </a:rPr>
              <a:t>Заповедь 9.</a:t>
            </a:r>
            <a:r>
              <a:rPr b="1" lang="ru-RU" sz="2400" spc="-1" strike="noStrike">
                <a:solidFill>
                  <a:srgbClr val="8000ff"/>
                </a:solidFill>
                <a:latin typeface="Times New Roman"/>
                <a:ea typeface="Times New Roman"/>
              </a:rPr>
              <a:t> Дорожи школой как своим родным домом, даже если в нем иногда протекает крыш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45929" dir="18228878" blurRad="0" rotWithShape="0">
              <a:srgbClr val="339966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3300"/>
                </a:solidFill>
                <a:latin typeface="Tempus Sans ITC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748720" cy="49579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333399">
                <a:alpha val="50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Tempus Sans ITC"/>
              </a:rPr>
              <a:t>«Пойми ученика»-</a:t>
            </a:r>
            <a:r>
              <a:rPr b="1" lang="ru-RU" sz="3200" spc="-1" strike="noStrike">
                <a:solidFill>
                  <a:srgbClr val="0066ff"/>
                </a:solidFill>
                <a:latin typeface="Tempus Sans ITC"/>
              </a:rPr>
              <a:t>профессиональная заповедь педаго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empus Sans ITC"/>
              </a:rPr>
              <a:t>   </a:t>
            </a:r>
            <a:r>
              <a:rPr b="1" lang="ru-RU" sz="3200" spc="-1" strike="noStrike">
                <a:solidFill>
                  <a:srgbClr val="0066ff"/>
                </a:solidFill>
                <a:latin typeface="Tempus Sans ITC"/>
              </a:rPr>
              <a:t>Понять - это значит проникнуть во внутреннее, душевное состояние, понять мотивы действий, поступков, переживаний. Общение педагога и учащегося порой становится судьбоносным. Умение, слушая, слышать своего собеседника-это мастерство преподавателя и, безусловно, искусство общения.</a:t>
            </a:r>
            <a:r>
              <a:rPr b="1" lang="ru-RU" sz="3200" spc="-1" strike="noStrike">
                <a:solidFill>
                  <a:srgbClr val="000000"/>
                </a:solidFill>
                <a:latin typeface="Tempus Sans IT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919400" y="2276280"/>
            <a:ext cx="3932280" cy="4405320"/>
          </a:xfrm>
          <a:prstGeom prst="rect">
            <a:avLst/>
          </a:prstGeom>
          <a:noFill/>
          <a:ln w="0">
            <a:noFill/>
          </a:ln>
          <a:effectLst>
            <a:outerShdw dist="53966" dir="18900000" blurRad="0" rotWithShape="0">
              <a:srgbClr val="333399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2060"/>
                </a:solidFill>
                <a:latin typeface="Tempus Sans ITC"/>
              </a:rPr>
              <a:t>Творческих Вам успехов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Picture 3" descr="C:\Users\Вова\Desktop\35f867057ee9.jpg"/>
          <p:cNvPicPr/>
          <p:nvPr/>
        </p:nvPicPr>
        <p:blipFill>
          <a:blip r:embed="rId1"/>
          <a:stretch/>
        </p:blipFill>
        <p:spPr>
          <a:xfrm>
            <a:off x="287280" y="1989000"/>
            <a:ext cx="4657680" cy="465804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4" descr=""/>
          <p:cNvPicPr/>
          <p:nvPr/>
        </p:nvPicPr>
        <p:blipFill>
          <a:blip r:embed="rId2"/>
          <a:stretch/>
        </p:blipFill>
        <p:spPr>
          <a:xfrm>
            <a:off x="900000" y="333360"/>
            <a:ext cx="7529760" cy="151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45929" dir="19571123" blurRad="0" rotWithShape="0">
              <a:srgbClr val="00808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3300"/>
                </a:solidFill>
                <a:latin typeface="Tempus Sans ITC"/>
              </a:rPr>
              <a:t>Некоторые качества педаго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543564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empus Sans ITC"/>
              </a:rPr>
              <a:t>Честно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empus Sans ITC"/>
              </a:rPr>
              <a:t>Доброжелательно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empus Sans ITC"/>
              </a:rPr>
              <a:t>Глубокая заинтересованность в успехах своих питомцев, уважение к их лич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empus Sans ITC"/>
              </a:rPr>
              <a:t>Чувство ответственности за результаты тр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empus Sans ITC"/>
              </a:rPr>
              <a:t>Соблюдение дисципл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4" descr="logoip"/>
          <p:cNvPicPr/>
          <p:nvPr/>
        </p:nvPicPr>
        <p:blipFill>
          <a:blip r:embed="rId1"/>
          <a:stretch/>
        </p:blipFill>
        <p:spPr>
          <a:xfrm>
            <a:off x="5148360" y="1413000"/>
            <a:ext cx="3840120" cy="49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2600" dir="10800000" blurRad="0" rotWithShape="0">
              <a:srgbClr val="ffff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ff"/>
                </a:solidFill>
                <a:latin typeface="Tempus Sans ITC"/>
              </a:rPr>
              <a:t>Требования педагогической эти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empus Sans ITC"/>
              </a:rPr>
              <a:t>Установка, усиливающая веру в успе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empus Sans ITC"/>
              </a:rPr>
              <a:t>Установление правильных взаимоотношений между учителем и ученик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empus Sans ITC"/>
              </a:rPr>
              <a:t>Доброжелательное отношение к каждому обучающему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empus Sans ITC"/>
              </a:rPr>
              <a:t>Благоприятное речевое общение с учениками с самой первой встреч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mpus Sans IT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empus Sans ITC"/>
              </a:rPr>
              <a:t>Облик самого учителя, внешний вид, сама обстановка в классной аудитор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3000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3000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3000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3000"/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3000"/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18900000" blurRad="0" rotWithShape="0">
              <a:srgbClr val="009999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3300"/>
                </a:solidFill>
                <a:latin typeface="Tempus Sans ITC"/>
              </a:rPr>
              <a:t>Педагогический та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856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empus Sans ITC"/>
              </a:rPr>
              <a:t>Такт – чувство меры, создающее умение вести себя приличным, подобающим образом(словарь С.И. Ожегов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empus Sans ITC"/>
              </a:rPr>
              <a:t>Педагогический такт – принцип меры, который педагог должен соблюдать в процессе общения с детьми; определяется педагогическим мастерством, опытом, уровнем культуры и личностными качествами педагога; выражается в умении найти оптимальные меры воспитательного воздействия в любых ситуациях(в том числе и в конфликтных), не унижая достоинства ребенка и не вызывая у него сопротивления воспитанию(педагогический энциклопедический словарь под ред. Б.М. Бим-Бад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empus Sans ITC"/>
              </a:rPr>
              <a:t>Педагогический такт предполагает учет личностных особенностей субъектов общения, соблюдение нравственно-этических профессиональных установок педаго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empus Sans ITC"/>
              </a:rPr>
              <a:t>Педагогический такт - профессиональное качество педагога, часть его мастер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3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0" fill="hold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331640" y="1844640"/>
            <a:ext cx="723564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Palatino Linotype"/>
              </a:rPr>
              <a:t>Негативные модели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Palatino Linotype"/>
              </a:rPr>
              <a:t>общения педагогов с учащимис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450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Palatino Linotype"/>
              </a:rPr>
              <a:t>Модель диктаторская («Монблан»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11280" y="522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Palatino Linotype"/>
              </a:rPr>
              <a:t>Модель «неконтактная» («Китайская стена»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50920" y="508428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Palatino Linotype"/>
              </a:rPr>
              <a:t>Модель дифференцированного внимания («Локатор»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4:24:17Z</dcterms:created>
  <dc:creator>home</dc:creator>
  <dc:description/>
  <dc:language>en-US</dc:language>
  <cp:lastModifiedBy>Вова</cp:lastModifiedBy>
  <cp:lastPrinted>2014-02-04T13:38:54Z</cp:lastPrinted>
  <dcterms:modified xsi:type="dcterms:W3CDTF">2014-02-04T13:43:06Z</dcterms:modified>
  <cp:revision>14</cp:revision>
  <dc:subject/>
  <dc:title>Педагогическая этика</dc:title>
</cp:coreProperties>
</file>