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729-969F-45A1-A0F1-5016C787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364-100B-4FE2-AA40-6B339123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11A-47E1-46FA-A5F5-DFB1ED70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C00-4E97-415C-945C-17DBEFBE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8932-77FA-4F86-911F-A8D2CB3A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FAEB-7400-4152-B543-0834CA24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0496-64F1-4EF1-B72D-732C537E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D595-ABDE-45D6-9F95-8F9234F8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E2AE-F4A9-41ED-A8BA-04985670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E2D0-84CD-469F-A8B7-E4966153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1764-EBE3-418C-933E-706FA555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A83-38A9-47D9-AC88-27E75ACE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3039-7838-4836-B1DD-668A283F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3FC0-D7D6-4F8B-99A3-B0EA59D1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6EE1-3A9C-4C27-BEFB-17E0484E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D07C-25D8-40ED-A077-7633DFC6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4E0C-116B-4316-92CF-4E937B0B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902-372A-4377-AC58-585F465C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C12-B80D-4257-97FF-1986F0C1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60C-4E21-4EFE-8B5C-496E3526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153-EFE8-490A-98AA-A57EE9F5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213-F17B-4C9C-BD73-D5752D72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A69-0517-47B0-82FF-72159823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BB8-CAD4-4328-BE95-BB5740F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E3E7-B99A-446F-AFA3-B04D32EBCC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BD38-7285-45A8-A6CC-9BC95CDF2D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7280" y="549360"/>
            <a:ext cx="676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имени Альф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льфия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бское им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1940400"/>
            <a:ext cx="777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начение имени Альфия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Та, которая будет жить тысячу лет, долгожительница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Поэма, состоящая из тысячи строк.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Самая первая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возвышенная, благородная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дружелюбная, вызывающая симпатию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уквы имени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символ начала, жажда духовного и физического комфорта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Л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тонкое восприятие красоты, артистические таланты, стремление поделиться своими знаниями, ощущениями. Предупреждение своему владельцу не тратить жизнь впустую, найти свое истинное назначение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способность классифицировать, разделять, раскладывать по полочкам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потребность блистать, быть центром внимания, дружелюбие, оригинальность идей, содержащих ценное зерно истины. Удовольствие делать людей счастливыми. В голове - причудливая каша всех философских систем. Способность приврать, пустить в дело якобы необходимую ложь с самыми лучшими намерениями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тонкая духовность, чувствительность, доброта, миролюбие. Прикрывается внешне кажущейся практичностью, пряча романтическую мягкую натуру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Я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чувство собственного достоинства, желание добиться уважения и любви окружения и способность их получить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7543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ьф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яркая личность, очень активна и полна желания действовать. Как правило, хорошо учится. Королева внезапных ситуаций, способна к решительным действиям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ьф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 всем стремится быть первой и это ей удается. На протяжении всей жизни является лидером, причем и в семье тоже. Муж или принимает ее такой или уходит. Но оставшись с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ьф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н не пожалеет, она верная жена и к тому же с ней в семье всегда будет достаток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280" y="40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о 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ьф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1 (Единица)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- творческая реализация в любой ситуации. Постоянная активная отдача энергии миру через самопонимание и самореализацию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можные положительные качества чис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оригинальность, творческое мышление, энергичность, сила, сила воли, решительность, умение руководить, храбрость, инициативность, самостоятельность, твердые убеждения, мужественность, изобретательность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можные отрицательные качества чис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эгоизм, хвастливость, "всезнайство", упрямство, импульсивность, своеволие, склонность командовать, авторитаризм, цинизм, агрессив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вета единиц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огненный, сиреневый, абрикосовый, медны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ихия 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гонь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кольку первая буква слова относится к стихии Огня, то это призыв проявлять активность в жизн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бесный покровитель 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олнце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мен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авантюрин, гелиодор, сердолик, топаз, циркон, янтарь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вет 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т бледно-желтого до ярко-красного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машние растения, благоприятные для имени Альф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Бальзамин (недотрога), Камелия японская, Пеларгония царская, Зантедехия эфиопская, Кальцеолярия гибридная, Роза китайская, Амарантус хвостатый, Гардения жасминовидная, Мимоза стыдливая, Акалифа щетинистоволосиста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пах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роза, ладан, амбра, пачули, жасмин, кокос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язвимость здоровья женщины по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ьф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ердце, ноги, спина, в особенности позвоночник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ачный день воскресенье, неудачный день субб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имя понравилось моей бабушке и поэтому она меня так назв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менитая тез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ьфия Назмутдинова – знаменитая гимнастка, при выступлении она использует ленту(1 место), скакалку(5 место), мяч(2 место), обруч(6 место).В многоборье она заняла 3 мест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9:10:46Z</dcterms:created>
  <dc:creator>Lenovo</dc:creator>
  <dc:description/>
  <dc:language>en-US</dc:language>
  <cp:lastModifiedBy>Lenovo</cp:lastModifiedBy>
  <dcterms:modified xsi:type="dcterms:W3CDTF">2014-01-03T17:16:24Z</dcterms:modified>
  <cp:revision>3</cp:revision>
  <dc:subject/>
  <dc:title>Слайд 1</dc:title>
</cp:coreProperties>
</file>