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986-96D3-4AAE-BBCD-1F185C7A2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8579-5900-4867-AFB5-F968F4E1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8CB-2DD3-48EA-830A-02B40847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C471-3276-4A5B-8C5F-F56D3CB3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9C7A-381F-408E-8F8A-52645A0D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3FDC-EE23-4B08-8F2F-57D4BBA9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4F4E-86C0-4810-AEB2-EBF010CD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06E9-0AC0-41DA-9504-CCACDC3F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7E9A-497F-4466-9A6B-7DDD5D08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56CF-EFB8-47E9-9ACE-381AE977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C321-82B1-480A-B614-D0707FE3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A27C-5F23-47FF-A33E-E2D96EA8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21CE-CC82-4AC3-B6CF-601D6981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E60D-FC62-4F05-8942-FFE82F88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944A-8942-4463-9733-175DEAC53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A5A9-9F87-4AA6-A6C1-C1958914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6823-FFEE-42CF-9AB7-27EEC4D4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F5A-E2EA-43C4-A216-7F55DED6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3CFE-E7EC-43EE-9605-D0B15B72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D5F-68A9-4CF3-A43F-3B8A2610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5D93-62AD-4A62-9593-36703759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2A9-BB02-4F2D-AF2C-E73EBA92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D50-A5B3-4446-BA98-B16A24D2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981B-05DC-444A-922E-5F6171E0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FEAA-B576-4882-9799-88910C5443E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8CE3-3880-46E6-91F6-E2ED5726F64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7280" y="549360"/>
            <a:ext cx="6769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начение имени Альфи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" descr="розы"/>
          <p:cNvPicPr/>
          <p:nvPr/>
        </p:nvPicPr>
        <p:blipFill>
          <a:blip r:embed="rId1"/>
          <a:stretch/>
        </p:blipFill>
        <p:spPr>
          <a:xfrm>
            <a:off x="0" y="5097600"/>
            <a:ext cx="1297080" cy="1760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розы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760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Альфия -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рабское им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розы"/>
          <p:cNvPicPr/>
          <p:nvPr/>
        </p:nvPicPr>
        <p:blipFill>
          <a:blip r:embed="rId1"/>
          <a:stretch/>
        </p:blipFill>
        <p:spPr>
          <a:xfrm>
            <a:off x="0" y="5097600"/>
            <a:ext cx="1297080" cy="17604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розы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7604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84360" y="1940400"/>
            <a:ext cx="7775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начение имени Альфия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Та, которая будет жить тысячу лет, долгожительница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Поэма, состоящая из тысячи строк.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Самая первая;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) возвышенная, благородная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) дружелюбная, вызывающая симпатию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Буквы имени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А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символ начала, жажда духовного и физического комфорта.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Л</a:t>
            </a: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тонкое восприятие красоты, артистические таланты, стремление поделиться своими знаниями, ощущениями. Предупреждение своему владельцу не тратить жизнь впустую, найти свое истинное назначение.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Ь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способность классифицировать, разделять, раскладывать по полочкам.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Ф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потребность блистать, быть центром внимания, дружелюбие, оригинальность идей, содержащих ценное зерно истины. Удовольствие делать людей счастливыми. В голове - причудливая каша всех философских систем. Способность приврать, пустить в дело якобы необходимую ложь с самыми лучшими намерениями.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И</a:t>
            </a: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тонкая духовность, чувствительность, доброта, миролюбие. Прикрывается внешне кажущейся практичностью, пряча романтическую мягкую натуру. 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Я</a:t>
            </a:r>
            <a:r>
              <a:rPr b="0" lang="en-US" sz="20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 чувство собственного достоинства, желание добиться уважения и любви окружения и способность их получить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розы"/>
          <p:cNvPicPr/>
          <p:nvPr/>
        </p:nvPicPr>
        <p:blipFill>
          <a:blip r:embed="rId1"/>
          <a:stretch/>
        </p:blipFill>
        <p:spPr>
          <a:xfrm>
            <a:off x="0" y="5097600"/>
            <a:ext cx="1297080" cy="1760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розы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760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26560" y="981000"/>
            <a:ext cx="75438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ьф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- яркая личность, очень активна и полна желания действовать. Как правило, хорошо учится. Королева внезапных ситуаций, способна к решительным действиям.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ьф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о всем стремится быть первой и это ей удается. На протяжении всей жизни является лидером, причем и в семье тоже. Муж или принимает ее такой или уходит. Но оставшись с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льфи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н не пожалеет, она верная жена и к тому же с ней в семье всегда будет достаток.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розы"/>
          <p:cNvPicPr/>
          <p:nvPr/>
        </p:nvPicPr>
        <p:blipFill>
          <a:blip r:embed="rId1"/>
          <a:stretch/>
        </p:blipFill>
        <p:spPr>
          <a:xfrm>
            <a:off x="0" y="5097600"/>
            <a:ext cx="1297080" cy="1760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розы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760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71280" y="404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исло име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ьф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1 (Единица)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- творческая реализация в любой ситуации. Постоянная активная отдача энергии миру через самопонимание и самореализацию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зможные положительные качества числ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оригинальность, творческое мышление, энергичность, сила, сила воли, решительность, умение руководить, храбрость, инициативность, самостоятельность, твердые убеждения, мужественность, изобретательность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озможные отрицательные качества числ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эгоизм, хвастливость, "всезнайство", упрямство, импульсивность, своеволие, склонность командовать, авторитаризм, цинизм, агрессивн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розы"/>
          <p:cNvPicPr/>
          <p:nvPr/>
        </p:nvPicPr>
        <p:blipFill>
          <a:blip r:embed="rId1"/>
          <a:stretch/>
        </p:blipFill>
        <p:spPr>
          <a:xfrm>
            <a:off x="0" y="5097600"/>
            <a:ext cx="1297080" cy="17604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розы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760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вета единиц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огненный, сиреневый, абрикосовый, медный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тихия име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Огонь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кольку первая буква слова относится к стихии Огня, то это призыв проявлять активность в жизн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бесный покровитель име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Солнце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амен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авантюрин, гелиодор, сердолик, топаз, циркон, янтарь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Цвет име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от бледно-желтого до ярко-красного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розы"/>
          <p:cNvPicPr/>
          <p:nvPr/>
        </p:nvPicPr>
        <p:blipFill>
          <a:blip r:embed="rId1"/>
          <a:stretch/>
        </p:blipFill>
        <p:spPr>
          <a:xfrm>
            <a:off x="0" y="5097600"/>
            <a:ext cx="1297080" cy="1760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розы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760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71280" y="549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омашние растения, благоприятные для имени Альф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 Бальзамин (недотрога), Камелия японская, Пеларгония царская, Зантедехия эфиопская, Кальцеолярия гибридная, Роза китайская, Амарантус хвостатый, Гардения жасминовидная, Мимоза стыдливая, Акалифа щетинистоволосистая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апах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роза, ладан, амбра, пачули, жасмин, кокос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язвимость здоровья женщины по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ме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льф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- сердце, ноги, спина, в особенности позвоночник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ачный день воскресенье, неудачный день суббо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розы"/>
          <p:cNvPicPr/>
          <p:nvPr/>
        </p:nvPicPr>
        <p:blipFill>
          <a:blip r:embed="rId1"/>
          <a:stretch/>
        </p:blipFill>
        <p:spPr>
          <a:xfrm>
            <a:off x="0" y="5097600"/>
            <a:ext cx="1297080" cy="17604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розы"/>
          <p:cNvPicPr/>
          <p:nvPr/>
        </p:nvPicPr>
        <p:blipFill>
          <a:blip r:embed="rId2"/>
          <a:stretch/>
        </p:blipFill>
        <p:spPr>
          <a:xfrm>
            <a:off x="7846920" y="0"/>
            <a:ext cx="1297080" cy="17604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то имя понравилось моей бабушке и поэтому она меня так назвал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наменитая тез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льфия Назмутдинова – знаменитая гимнастка, при выступлении она использует ленту(1 место), скакалку(5 место), мяч(2 место), обруч(6 место).В многоборье она заняла 3 мест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19:10:46Z</dcterms:created>
  <dc:creator>Lenovo</dc:creator>
  <dc:description/>
  <dc:language>en-US</dc:language>
  <cp:lastModifiedBy>Lenovo</cp:lastModifiedBy>
  <dcterms:modified xsi:type="dcterms:W3CDTF">2014-01-03T17:16:24Z</dcterms:modified>
  <cp:revision>3</cp:revision>
  <dc:subject/>
  <dc:title>Слайд 1</dc:title>
</cp:coreProperties>
</file>