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3CA-A7B7-4363-BC12-91D4DA15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3F1-50A5-44C4-A27F-C36C423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25C-B338-4E1F-9BF1-75BA22BC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B4C-CBDD-4B0A-839B-289C800D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D25-E8F9-4231-A549-3C1B0920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C91-10A3-48CD-BB35-BE6B7047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8185-E530-4F45-83DC-F8CD1421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70EB-75B1-4C43-A296-C22F225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999F-3E5C-471E-AE44-902D0FA5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A52E-9204-409F-BFD5-F821F25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3B1-4EC1-4FC5-BB98-FCD1F931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F37-00EF-4CD5-BE5E-97D8BDB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0875-49CD-4BCD-A824-91FBC14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36D-8E94-4B95-8524-8D95694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A38-DBD6-4882-8A4B-8E6303B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7877-ADFF-4802-A06B-A2C60F84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134-1B6D-4958-8029-318AEABA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71A5-44DF-4A44-876B-A103AECB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16E0-EA7A-4A15-B35C-FB2549C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E4C1-C4D0-4D70-A27B-EB2672BA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7E6A-A1A6-4BA0-98B7-7C7B89A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01EC-3066-48ED-8F61-35DF917A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A8F-A0AB-4B8F-8CC1-7350595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E3241-95B2-4E9D-8A33-4D660CBD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2C55-4CB3-4930-8DB7-C40C8DF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E90B-FE6A-483A-AA16-627753E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5812-704B-4734-A8E4-8F30C7D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B860-42FC-442B-A465-EA66A0B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A07D-597E-4E15-9F31-9FFE8453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89A5-3B6C-41AE-9E7D-5F8BF123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BD54-13A4-4EC3-8772-E5CE61EB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ADC1-B37D-4A49-A1EE-B4DD5DA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01E6-6210-4209-A1B0-9182E8B9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F13-8D2B-4CA4-8CA0-CE5C86CE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2A30-D570-4B82-AAC5-0D1441B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524F-0330-4F74-9252-3A7E93D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160E-3D40-4BC5-9EFA-EB388F8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BA86E-F287-4F17-84B7-8169ED6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D2C4-F93E-47BF-B5C9-A29976D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3CEA-AB83-4080-A01E-11DC60D4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BDE6-1E6A-4980-B3EB-9A81D954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EC18-2DE2-49A0-8D88-9762AC1F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16BB-11F4-4D82-8930-77A4274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40B0-9471-4589-94CD-3CCA6BE9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B89-C802-4718-AB6F-8869E874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63FB-0929-411D-A628-DE088FBC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5E1D-6F4F-4BCB-8A0E-465F7735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F20E-B7AE-44F0-8532-6FE0C47E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1A93-6B93-4659-A9C7-38909A2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F697-E550-4244-A9B8-BAFB728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2F84E-2661-48F0-BECE-7766F1F3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1BFA-E1CD-4F05-A0B9-E96907D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E9C56-1B37-4211-AED7-C6DBE88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43C1-BD6B-4DE2-895C-9529BC5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AC3E-1CE7-498C-A811-967A8058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855-7CE9-4B57-841A-D04A32C7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586F-E74F-4420-8A31-C7B33D65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15EA-E9D0-4774-9F02-1A9BA51A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F0063-1C80-4E10-9327-BE808BBC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C80A-142D-4BF9-BAC0-7D1C184D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A033-2B7D-4385-A2F7-3A985694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38307-4484-4F31-A5C1-D97B5D64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C48D-B5B2-46C4-A043-CDA34866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DF333-F6AD-470A-A503-B20B5F1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4B87-25A4-4422-B83D-E234262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4CF01-912B-452B-9052-BDC21AA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6BF-E48B-40B1-A470-8A50FCF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DB1E7-5EEB-4228-BA17-34881C0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36B2-5DC6-46C4-B829-12EF00BE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B4E4B-0DDF-4BDF-8E06-66301731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BE4-19CF-4A40-B0F9-8249EC5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8C-9C2B-4F6A-8297-ABA3696E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F99-9734-45D8-BA91-DADA1098E55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ED54-3FA3-484E-B3B3-1C863B55366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C95B-5A96-4A08-9084-27B037824D0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17B-AE3B-4944-9D21-762841F267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F5E-4F44-493E-8173-AFCAAC58E5A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026-AA9E-4116-9EF7-A6CF208684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5" descr=""/>
          <p:cNvPicPr/>
          <p:nvPr/>
        </p:nvPicPr>
        <p:blipFill>
          <a:blip r:embed="rId1"/>
          <a:stretch/>
        </p:blipFill>
        <p:spPr>
          <a:xfrm>
            <a:off x="426960" y="1925640"/>
            <a:ext cx="7107480" cy="3713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" descr="2007_1110НаташаСестра0076.JPG"/>
          <p:cNvPicPr/>
          <p:nvPr/>
        </p:nvPicPr>
        <p:blipFill>
          <a:blip r:embed="rId1"/>
          <a:stretch/>
        </p:blipFill>
        <p:spPr>
          <a:xfrm>
            <a:off x="2195640" y="404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закат детские раб2.JPG"/>
          <p:cNvPicPr/>
          <p:nvPr/>
        </p:nvPicPr>
        <p:blipFill>
          <a:blip r:embed="rId1"/>
          <a:stretch/>
        </p:blipFill>
        <p:spPr>
          <a:xfrm>
            <a:off x="1332000" y="836640"/>
            <a:ext cx="6365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Цели 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особствовать расширению знаний ребенка младшего школьного возраста о технике живопис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учить ребенка пользоваться в живописной работе, использовать не только линию и цветное пят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особствовать развитию творческого и познавательного потенциала и интереса к живопис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правления работ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знакомление с творчеством художников, работающих с использованием различного характера мазка (например, Ван Гог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яснение и демонстрация различных видов живописного маз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ование техники мазка в объяснении темы: натюрморт и пейз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322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ртины Ван Гог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Рисунок 3" descr="портретван гог.jpg"/>
          <p:cNvPicPr/>
          <p:nvPr/>
        </p:nvPicPr>
        <p:blipFill>
          <a:blip r:embed="rId1"/>
          <a:stretch/>
        </p:blipFill>
        <p:spPr>
          <a:xfrm>
            <a:off x="5292720" y="1052640"/>
            <a:ext cx="3416400" cy="44305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5786280" y="5805360"/>
            <a:ext cx="22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olive-trees-with-yellow-sky.jpg"/>
          <p:cNvPicPr/>
          <p:nvPr/>
        </p:nvPicPr>
        <p:blipFill>
          <a:blip r:embed="rId1"/>
          <a:stretch/>
        </p:blipFill>
        <p:spPr>
          <a:xfrm>
            <a:off x="1476360" y="836640"/>
            <a:ext cx="6340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Пшенич поле с сзаходящим солнцем.jpg"/>
          <p:cNvPicPr/>
          <p:nvPr/>
        </p:nvPicPr>
        <p:blipFill>
          <a:blip r:embed="rId1"/>
          <a:stretch/>
        </p:blipFill>
        <p:spPr>
          <a:xfrm>
            <a:off x="928800" y="214200"/>
            <a:ext cx="7388280" cy="59533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2942640" y="62866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шеничное поле на зака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поле с кипарисом.jpg"/>
          <p:cNvPicPr/>
          <p:nvPr/>
        </p:nvPicPr>
        <p:blipFill>
          <a:blip r:embed="rId1"/>
          <a:stretch/>
        </p:blipFill>
        <p:spPr>
          <a:xfrm>
            <a:off x="714240" y="214200"/>
            <a:ext cx="76248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пейзаж с дорогой.jpg"/>
          <p:cNvPicPr/>
          <p:nvPr/>
        </p:nvPicPr>
        <p:blipFill>
          <a:blip r:embed="rId1"/>
          <a:stretch/>
        </p:blipFill>
        <p:spPr>
          <a:xfrm>
            <a:off x="1928880" y="33480"/>
            <a:ext cx="53118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3" descr="звездная ночь.jpg"/>
          <p:cNvPicPr/>
          <p:nvPr/>
        </p:nvPicPr>
        <p:blipFill>
          <a:blip r:embed="rId1"/>
          <a:stretch/>
        </p:blipFill>
        <p:spPr>
          <a:xfrm>
            <a:off x="571680" y="142920"/>
            <a:ext cx="7858080" cy="62611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5"/>
          <p:cNvSpPr/>
          <p:nvPr/>
        </p:nvSpPr>
        <p:spPr>
          <a:xfrm>
            <a:off x="1080360" y="648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ездная ночь с кипари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12-08T13:48:44Z</dcterms:modified>
  <cp:revision>17</cp:revision>
  <dc:subject/>
  <dc:title>Техника живописи с помощью «мазка»</dc:title>
</cp:coreProperties>
</file>