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5DCC-D8A6-4417-B036-14638B29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05E3-1900-4ACB-896A-5887D165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2FA7-1BD4-4D81-9FCB-697E98CD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D72D-2D7F-4C55-BF30-62AEF11A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BB72-448E-4202-84CE-FB93EE04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B779-40E6-4C3C-90C5-DA18B43A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62EC0-6552-4BCC-AD98-1477646E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621B-EC13-4EAF-827C-A878142A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EA764-7739-4373-82F5-2AF286AD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1F2C-BB30-49CE-B44D-E12010591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E455-BF75-40CE-8B96-D2D659B4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0CEE-0C00-46CA-A13D-C6F6801F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97525-6783-4564-875C-478E9D80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3406-B8FD-40F2-97A3-EA766AAD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0CF2-9B47-4667-9381-95CFFA0B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38A2-6089-4A09-9416-F288EE39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5FC5-E0FE-4CD8-961B-7E605365C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923A8-274D-48B4-9178-1D6444BD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7847E-700A-4E3E-B506-791B98F4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8F9A7-61CB-41B8-934B-417CD979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24E02-B560-484B-9C13-D5055F75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28A3E-8991-4FBD-8955-3362B3E4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BCE4-9A0E-4068-872F-44C85C20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0E59A-8572-492E-A169-745E5901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9D8C7-3953-4678-AF6E-4EC3832B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D637A-E492-446E-9F28-5031ADC4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358CD-D3BC-4ED8-B3A4-593B0FFD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3F598-AB13-4B77-8978-17B3DBC6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27C53-2909-4DF2-91ED-03BE37419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8996B-9C8F-4D23-80A9-735DF963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E2157-1E71-466D-90CD-A018B00E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2D467-1FF4-4C43-B8E5-253368AE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7851C-B688-44A2-A9AD-92DF1BC9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C6D-BF29-4BC8-AE1D-ED2CFEAD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6E745-AFB8-434D-815A-5F49322B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373A8-7B81-4EC8-879E-9C1F1E1F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68054-8A61-4671-90CE-4D298CF5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F7B46-E0D1-43A6-BE15-7BDA3C40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446B7-0DC8-4BB8-B70A-BC168F24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B1863-E7E6-4610-9A3A-617BC32B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AC6A6-C5FF-4460-8262-21C2966E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6AFE4-46D5-4D81-9515-FF98B609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0FB52-05ED-4A0D-8DF3-9A7462D2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9D526-AAEF-4AD3-85A5-193DCD18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8071-B7E7-494D-A018-744C3132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4D823-70FD-4C58-AC03-7CDD603F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DCF96-500E-4A8D-970A-F71540A6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C39F3-69B3-48E4-BB24-A46EA03E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9CC06-4601-465C-A712-488E4D7B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B498A-D522-46C9-8548-597F87FF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9E787-6A25-464A-8159-EBE8F9EF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07E08-2EA4-44C2-8236-0A4EA413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812AB-11CB-4E5D-80F6-7199E446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18530-E53B-4373-BA26-FCE7D2C2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E92A3-751E-41F3-903D-D49626A0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4DF5-F179-4886-972F-319FFDD0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4CE38-569C-4C9D-8AC9-1377779E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67417-D544-4AB1-8BDB-5B7C92A9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48C26-6021-4858-B307-F3140E87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CD779-2946-4A08-852A-1483EF68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04549-D9CA-40F3-8295-2BD5C4A2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5C309-FCA8-4249-8A00-9ACFC0AC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5124F-CD12-42D3-82E2-85B7F786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ABE09-F6C0-4323-A887-854704CE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D9C53-B70B-417E-83AB-20BC27E3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642E3-DBD1-4539-B767-CD66EBC8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DE67-7F09-4DCA-9068-2D05BE6F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E425B-FE78-46B6-9988-97083C17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A714B-CADD-45A1-B55B-7175D598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ACDF9-6507-4AFB-8133-5FB46A61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41D8-54D9-47AB-979D-03D07405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B28D-78EB-46F1-81EE-D424CD91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E89E-92EE-49EC-A713-1938ABF32F1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A7F8-E7A2-46B3-AE6C-021A4A0A639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1015-8AA3-4499-85EF-D2B2DB8AF5F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2444-0C99-41BC-B45E-BDD76FD741F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BA5B-1752-4028-95AA-1DC841AA191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218A-4733-4EEC-8FBD-A125212145A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5" descr=""/>
          <p:cNvPicPr/>
          <p:nvPr/>
        </p:nvPicPr>
        <p:blipFill>
          <a:blip r:embed="rId1"/>
          <a:stretch/>
        </p:blipFill>
        <p:spPr>
          <a:xfrm>
            <a:off x="426960" y="1925640"/>
            <a:ext cx="7107480" cy="37130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Рисунок 1" descr="2007_1110НаташаСестра0076.JPG"/>
          <p:cNvPicPr/>
          <p:nvPr/>
        </p:nvPicPr>
        <p:blipFill>
          <a:blip r:embed="rId1"/>
          <a:stretch/>
        </p:blipFill>
        <p:spPr>
          <a:xfrm>
            <a:off x="2195640" y="404640"/>
            <a:ext cx="47527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2" descr="закат детские раб2.JPG"/>
          <p:cNvPicPr/>
          <p:nvPr/>
        </p:nvPicPr>
        <p:blipFill>
          <a:blip r:embed="rId1"/>
          <a:stretch/>
        </p:blipFill>
        <p:spPr>
          <a:xfrm>
            <a:off x="1332000" y="836640"/>
            <a:ext cx="63658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Цели :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пособствовать расширению знаний ребенка младшего школьного возраста о технике живопис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учить ребенка пользоваться в живописной работе, использовать не только линию и цветное пятн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пособствовать развитию творческого и познавательного потенциала и интереса к живопис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Направления работы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знакомление с творчеством художников, работающих с использованием различного характера мазка (например, Ван Гог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бъяснение и демонстрация различных видов живописного мазк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пользование техники мазка в объяснении темы: натюрморт и пейзаж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829040" cy="3225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Картины Ван Гог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1" name="Рисунок 3" descr="портретван гог.jpg"/>
          <p:cNvPicPr/>
          <p:nvPr/>
        </p:nvPicPr>
        <p:blipFill>
          <a:blip r:embed="rId1"/>
          <a:stretch/>
        </p:blipFill>
        <p:spPr>
          <a:xfrm>
            <a:off x="5292720" y="1052640"/>
            <a:ext cx="3416400" cy="44305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4"/>
          <p:cNvSpPr/>
          <p:nvPr/>
        </p:nvSpPr>
        <p:spPr>
          <a:xfrm>
            <a:off x="5786280" y="5805360"/>
            <a:ext cx="22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портр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Содержимое 3" descr="olive-trees-with-yellow-sky.jpg"/>
          <p:cNvPicPr/>
          <p:nvPr/>
        </p:nvPicPr>
        <p:blipFill>
          <a:blip r:embed="rId1"/>
          <a:stretch/>
        </p:blipFill>
        <p:spPr>
          <a:xfrm>
            <a:off x="1476360" y="836640"/>
            <a:ext cx="6340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1" descr="Пшенич поле с сзаходящим солнцем.jpg"/>
          <p:cNvPicPr/>
          <p:nvPr/>
        </p:nvPicPr>
        <p:blipFill>
          <a:blip r:embed="rId1"/>
          <a:stretch/>
        </p:blipFill>
        <p:spPr>
          <a:xfrm>
            <a:off x="928800" y="214200"/>
            <a:ext cx="7388280" cy="5953320"/>
          </a:xfrm>
          <a:prstGeom prst="rect">
            <a:avLst/>
          </a:prstGeom>
          <a:ln w="0">
            <a:noFill/>
          </a:ln>
        </p:spPr>
      </p:pic>
      <p:sp>
        <p:nvSpPr>
          <p:cNvPr id="265" name="TextBox 2"/>
          <p:cNvSpPr/>
          <p:nvPr/>
        </p:nvSpPr>
        <p:spPr>
          <a:xfrm>
            <a:off x="2942640" y="6286680"/>
            <a:ext cx="30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шеничное поле на зака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Рисунок 1" descr="поле с кипарисом.jpg"/>
          <p:cNvPicPr/>
          <p:nvPr/>
        </p:nvPicPr>
        <p:blipFill>
          <a:blip r:embed="rId1"/>
          <a:stretch/>
        </p:blipFill>
        <p:spPr>
          <a:xfrm>
            <a:off x="714240" y="214200"/>
            <a:ext cx="76248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Рисунок 1" descr="пейзаж с дорогой.jpg"/>
          <p:cNvPicPr/>
          <p:nvPr/>
        </p:nvPicPr>
        <p:blipFill>
          <a:blip r:embed="rId1"/>
          <a:stretch/>
        </p:blipFill>
        <p:spPr>
          <a:xfrm>
            <a:off x="1928880" y="33480"/>
            <a:ext cx="53118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Рисунок 3" descr="звездная ночь.jpg"/>
          <p:cNvPicPr/>
          <p:nvPr/>
        </p:nvPicPr>
        <p:blipFill>
          <a:blip r:embed="rId1"/>
          <a:stretch/>
        </p:blipFill>
        <p:spPr>
          <a:xfrm>
            <a:off x="571680" y="142920"/>
            <a:ext cx="7858080" cy="6261120"/>
          </a:xfrm>
          <a:prstGeom prst="rect">
            <a:avLst/>
          </a:prstGeom>
          <a:ln w="0">
            <a:noFill/>
          </a:ln>
        </p:spPr>
      </p:pic>
      <p:sp>
        <p:nvSpPr>
          <p:cNvPr id="269" name="TextBox 5"/>
          <p:cNvSpPr/>
          <p:nvPr/>
        </p:nvSpPr>
        <p:spPr>
          <a:xfrm>
            <a:off x="1080360" y="648828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вездная ночь с кипарис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7-12-08T13:48:44Z</dcterms:modified>
  <cp:revision>17</cp:revision>
  <dc:subject/>
  <dc:title>Техника живописи с помощью «мазка»</dc:title>
</cp:coreProperties>
</file>