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CD8-2BCD-4C49-BE85-5B96ADB8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229-AC91-4BB4-B993-D3E872AE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C08-F648-4317-A731-7D4F7B97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289-14C2-4FD4-8809-19BE0BD3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69F-A442-423E-8CDE-755805D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AC2-D8E4-417E-AFF2-F7806672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791-9710-44D4-A6A2-A47CEEC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2DE-1138-4599-B312-1D09EB1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27E-B164-408C-A192-F1D32FE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6A9-1B9E-469A-8C08-D3B71EE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FB2-2737-4F39-99D0-28279B29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D35-1316-413F-A646-BBB833F3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C8D2-A949-4778-82D8-59656AA9F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348000" y="1125360"/>
            <a:ext cx="579600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071960" y="46753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zhik6_thumbnail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233f766c15at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77893a1aae64t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obez02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bear11_thumbnail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afc598c9a72t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ow003_thumbnail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ox01_thumbnail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tani52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pigX1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ult35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ult12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lion01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hipolino_thumbnail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47e70ce75cbt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ffc1609f0396t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fc4b62a12544t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skazka-princess-frog_thumbnail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mult10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>
            <a:hlinkClick r:id="rId12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мат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цветок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Копия цветок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Копия Копия цветок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Копия Копия Копия цветок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Копия Копия Копия Копия цветок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цветок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Копия цветок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Копия (2) Копия цветок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Копия (3) Копия цветок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опия (4) Копия цветок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0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dog001_thumbnail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f369a5c2bd2at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at3_thumbnail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dog002_thumbnail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at6_thumbnail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10_thumbnail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88e9d6630cet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9a82fc82b6d9t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584f4a3ea33at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fc4b62a12544t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9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d8d0762310a9t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0">
            <a:hlinkClick r:id="rId12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0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2вк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tehno26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и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п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парово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яп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e6b445a01863t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6546c10a927t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2405790adbc3t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>
            <a:hlinkClick r:id="rId12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бабочки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4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Я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Х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У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С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З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П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Б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О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В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Р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1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Admin</cp:lastModifiedBy>
  <dcterms:modified xsi:type="dcterms:W3CDTF">2013-10-27T08:31:53Z</dcterms:modified>
  <cp:revision>32</cp:revision>
  <dc:subject/>
  <dc:title>Слайд 1</dc:title>
</cp:coreProperties>
</file>