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36.png" ContentType="image/png"/>
  <Override PartName="/ppt/media/image39.png" ContentType="image/png"/>
  <Override PartName="/ppt/media/image37.png" ContentType="image/png"/>
  <Override PartName="/ppt/media/image48.jpeg" ContentType="image/jpeg"/>
  <Override PartName="/ppt/media/image44.jpeg" ContentType="image/jpeg"/>
  <Override PartName="/ppt/media/image43.jpeg" ContentType="image/jpeg"/>
  <Override PartName="/ppt/media/image35.png" ContentType="image/png"/>
  <Override PartName="/ppt/media/image45.jpeg" ContentType="image/jpeg"/>
  <Override PartName="/ppt/media/image33.png" ContentType="image/png"/>
  <Override PartName="/ppt/media/image46.jpeg" ContentType="image/jpeg"/>
  <Override PartName="/ppt/media/image31.png" ContentType="image/png"/>
  <Override PartName="/ppt/media/image47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52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4276-C5FA-431C-9A68-EE72C477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946F-9714-4931-AACF-4F504B45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91B7-F3DA-4510-B9FA-3FD2A84B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1786-4A7A-4A9C-B4BF-CFC411CC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FA9D-0A32-46D4-9456-50107D5F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8AA6-96B4-4486-8DEA-975BC246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A7AA-443A-47BC-9A33-76EB39FA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E9A8-93DA-426A-A906-503EF2F5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A9AD-8842-4CFA-BEBC-8AA71FBA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4D75-ED54-4B08-BAAE-D593CD20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765A-ADFA-4D96-A5BD-F6DF2134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DD9A-C855-4CD5-B3B8-CC7A106FC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F985-4EC8-46B2-8013-EB02170B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F617-C0EE-467F-9FC9-A77BDB0D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3810-5E11-4B60-AB76-8DA1EC88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FE33-58E2-4C0D-8AFA-4710D11D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40CE-77BF-4B7E-82CD-B31D5A22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BFF-9565-47AB-8044-EF31BF64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78F3-D253-45A6-8D75-23C0A348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FE3E-EEBE-40C0-BE5D-396F12F4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5A8D-2D27-4B61-B965-9CF7DBC1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EF1-EA04-484C-85F4-3FE1B0FD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A304-3685-4666-BC99-277D4B09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185-FC75-4BF0-852D-6A4B60FC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118E-4D59-4924-9CDB-F99663A7C3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D43B-0FFC-4599-98D8-06846E033C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ДЕКОРАТИВНЫЕ  ЦВЕТЫ  В  ИНТЕРЬЕРЕ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АЗАЛИЯ.  БЕГОНИ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Бегония бело-раскрашенная"/>
          <p:cNvPicPr/>
          <p:nvPr/>
        </p:nvPicPr>
        <p:blipFill>
          <a:blip r:embed="rId1"/>
          <a:stretch/>
        </p:blipFill>
        <p:spPr>
          <a:xfrm>
            <a:off x="4724280" y="2438280"/>
            <a:ext cx="4210200" cy="421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Азалия"/>
          <p:cNvPicPr/>
          <p:nvPr/>
        </p:nvPicPr>
        <p:blipFill>
          <a:blip r:embed="rId2"/>
          <a:stretch/>
        </p:blipFill>
        <p:spPr>
          <a:xfrm>
            <a:off x="228600" y="1371600"/>
            <a:ext cx="434340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ФУКСИЯ.  ЦИКЛАМЕН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Фуксия гибридная"/>
          <p:cNvPicPr/>
          <p:nvPr/>
        </p:nvPicPr>
        <p:blipFill>
          <a:blip r:embed="rId1"/>
          <a:stretch/>
        </p:blipFill>
        <p:spPr>
          <a:xfrm>
            <a:off x="228600" y="1523880"/>
            <a:ext cx="3848040" cy="4648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Цикламен европейский"/>
          <p:cNvPicPr/>
          <p:nvPr/>
        </p:nvPicPr>
        <p:blipFill>
          <a:blip r:embed="rId2"/>
          <a:stretch/>
        </p:blipFill>
        <p:spPr>
          <a:xfrm>
            <a:off x="5257800" y="3006720"/>
            <a:ext cx="38862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ЕЛАРГОНИЯ.  БАЛЬЗАМИН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Пеларгония зональная"/>
          <p:cNvPicPr/>
          <p:nvPr/>
        </p:nvPicPr>
        <p:blipFill>
          <a:blip r:embed="rId1"/>
          <a:stretch/>
        </p:blipFill>
        <p:spPr>
          <a:xfrm>
            <a:off x="228600" y="1447920"/>
            <a:ext cx="3565440" cy="4343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Бальзамин Валлера"/>
          <p:cNvPicPr/>
          <p:nvPr/>
        </p:nvPicPr>
        <p:blipFill>
          <a:blip r:embed="rId2"/>
          <a:stretch/>
        </p:blipFill>
        <p:spPr>
          <a:xfrm>
            <a:off x="4267080" y="3139920"/>
            <a:ext cx="46864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коративно-лиственные - это растения, ценность которых состоит в особой. изысканной окраске листового покрова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ольшинстве случаев, в эту группу входят представители тропической и экваториальной флоры и в связи с этим, данная группа, требует особых условий при разведении и выращивании в домашних услов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декоративно-лиственным растениям принадлежат антуриум, аспарагус, аукуба, драцена, колеус, разные пальмы, нефролепис, монстера, сансевьера, фикус, хлорофитум.</a:t>
            </a:r>
            <a:br>
              <a:rPr sz="28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АСПИДИСТРА.   КОДИЕУМ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Аспидистра"/>
          <p:cNvPicPr/>
          <p:nvPr/>
        </p:nvPicPr>
        <p:blipFill>
          <a:blip r:embed="rId1"/>
          <a:stretch/>
        </p:blipFill>
        <p:spPr>
          <a:xfrm>
            <a:off x="457200" y="1600200"/>
            <a:ext cx="3733920" cy="3733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Кодиеум пёстрый"/>
          <p:cNvPicPr/>
          <p:nvPr/>
        </p:nvPicPr>
        <p:blipFill>
          <a:blip r:embed="rId2"/>
          <a:stretch/>
        </p:blipFill>
        <p:spPr>
          <a:xfrm>
            <a:off x="5148360" y="2057400"/>
            <a:ext cx="3786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ДИФФЕНБАХИЯ. КАМНЕЛОМКА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Диффенбахия пятнистая"/>
          <p:cNvPicPr/>
          <p:nvPr/>
        </p:nvPicPr>
        <p:blipFill>
          <a:blip r:embed="rId1"/>
          <a:stretch/>
        </p:blipFill>
        <p:spPr>
          <a:xfrm>
            <a:off x="304920" y="1447920"/>
            <a:ext cx="3886200" cy="3886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Камнеломка"/>
          <p:cNvPicPr/>
          <p:nvPr/>
        </p:nvPicPr>
        <p:blipFill>
          <a:blip r:embed="rId2"/>
          <a:stretch/>
        </p:blipFill>
        <p:spPr>
          <a:xfrm>
            <a:off x="4876920" y="241920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МОНСТЕРА. МАРАНТ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Монстера"/>
          <p:cNvPicPr/>
          <p:nvPr/>
        </p:nvPicPr>
        <p:blipFill>
          <a:blip r:embed="rId1"/>
          <a:stretch/>
        </p:blipFill>
        <p:spPr>
          <a:xfrm>
            <a:off x="0" y="1371600"/>
            <a:ext cx="4191120" cy="4191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Маранта"/>
          <p:cNvPicPr/>
          <p:nvPr/>
        </p:nvPicPr>
        <p:blipFill>
          <a:blip r:embed="rId2"/>
          <a:stretch/>
        </p:blipFill>
        <p:spPr>
          <a:xfrm>
            <a:off x="449568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ХЛОРОФИТУМ. ШЕФФЛЕР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Хлорофитум хохлатый"/>
          <p:cNvPicPr/>
          <p:nvPr/>
        </p:nvPicPr>
        <p:blipFill>
          <a:blip r:embed="rId1"/>
          <a:stretch/>
        </p:blipFill>
        <p:spPr>
          <a:xfrm>
            <a:off x="0" y="1981080"/>
            <a:ext cx="4648320" cy="3830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Шеффлера восьмилисточковая"/>
          <p:cNvPicPr/>
          <p:nvPr/>
        </p:nvPicPr>
        <p:blipFill>
          <a:blip r:embed="rId2"/>
          <a:stretch/>
        </p:blipFill>
        <p:spPr>
          <a:xfrm>
            <a:off x="5375160" y="1219320"/>
            <a:ext cx="3768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группы суккулентных декоративных растений достаточно назвать такие популярные растения, как агава, алоэ, кактусы (опунции, цереусы, мамилярии)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ОПУНЦИЯ. ОЧИТОК. ТОЛСТЯНКА.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Опунция беловолосистая (леукотриха)"/>
          <p:cNvPicPr/>
          <p:nvPr/>
        </p:nvPicPr>
        <p:blipFill>
          <a:blip r:embed="rId1"/>
          <a:stretch/>
        </p:blipFill>
        <p:spPr>
          <a:xfrm>
            <a:off x="228600" y="1295280"/>
            <a:ext cx="3279600" cy="4114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Очиток Моргана"/>
          <p:cNvPicPr/>
          <p:nvPr/>
        </p:nvPicPr>
        <p:blipFill>
          <a:blip r:embed="rId2"/>
          <a:stretch/>
        </p:blipFill>
        <p:spPr>
          <a:xfrm>
            <a:off x="3429000" y="1752480"/>
            <a:ext cx="3352680" cy="28418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Толстянка древовидная"/>
          <p:cNvPicPr/>
          <p:nvPr/>
        </p:nvPicPr>
        <p:blipFill>
          <a:blip r:embed="rId3"/>
          <a:stretch/>
        </p:blipFill>
        <p:spPr>
          <a:xfrm>
            <a:off x="6172200" y="38862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растения украшали интерьер, они должны быть его органичной частью. Странно выглядит бутыль с кактусами внутри, если она находится на столе в зале заседаний, а в кабинете возле компьютера смотрится органично и оригинально. Фитодизайн, или украшение интерьера растениями и цветами – это и наука, и искусство. Искусство – потому что одна из главных функций растений и цветов – это удовлетворение наших эстетических потребностей, а также психологический комфорт, который мы испытываем оттого, что в окружении стекла, пластика, бетона и прочих искусственных материалов и форм есть эти островки живой природы. Они напоминают нам о лете, навевают мысли об экзотических местах и дикой природе, оживляют помещение, делают его теплее и уютней. При составлении композиций их стиль может быть различным – подобие дикой буйной растительности джунглей, изящество в восточном стиле, стройность и симметрия для тех, кому нравится строгая английская или немецкая классика. Возможны и совершенно неожиданные сочетания – стиль хай-тек и комнатные розы, например. Главное – чтобы нравилось хозяин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е большое разнообразие декоративных растений дает возможность выбирать их, придерживаясь определенных принципов (за временем цветения, цветом цветов, формой листков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дборе комнатных цветов нужно обратить внимание и на характер роста растений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этим признаком они делятся на кустовые, ампельные (свисающие) и вьющиеся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устовые растения быва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зкорослые (ахименес, бальзамин, бегония, глоксиния, сенполия, цикламен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ерослые (абутилон, азалия, амарилис, бильбергия, гортензия, кал, кливия, пеларгония, фукси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рослые (гибискус, рододендрон, пальмы, фикус, монсте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ельный интерес для комнатного озеленения представляют так называемые вьющиеся растения (стебля которых способны виться или цепляться к опорам) и ампельные (со свисающим стеблем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ампельных декоративных растений можно вспомнить такие декоративно-цветущие растения, как бегония лимминга и сизолистная, изолома, жасмин голоцветковый, кампанула, а также декоративно-лиственные: аспарагус Шпренгера, традесканция, фикус ползучий, хлорофиту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ТРАДИСКАНЦИЯ. АСПАРАГУС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Традесканция Блоссфельда"/>
          <p:cNvPicPr/>
          <p:nvPr/>
        </p:nvPicPr>
        <p:blipFill>
          <a:blip r:embed="rId1"/>
          <a:stretch/>
        </p:blipFill>
        <p:spPr>
          <a:xfrm>
            <a:off x="0" y="1447920"/>
            <a:ext cx="3648240" cy="3962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Аспарагус (спаржа)"/>
          <p:cNvPicPr/>
          <p:nvPr/>
        </p:nvPicPr>
        <p:blipFill>
          <a:blip r:embed="rId2"/>
          <a:stretch/>
        </p:blipFill>
        <p:spPr>
          <a:xfrm>
            <a:off x="4572000" y="2610000"/>
            <a:ext cx="4248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и вьющихся растений популярны: бугенвилея, вистария китайская, жасмин самбак и мадагаскарский, колюмнея, ломоносы, пасифлора, виноград комнатный, плющ обычный (хедера геликс) и восковый, сциндапсу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ЛЮЩ. ОПЛИСМЕНУС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Плющ"/>
          <p:cNvPicPr/>
          <p:nvPr/>
        </p:nvPicPr>
        <p:blipFill>
          <a:blip r:embed="rId1"/>
          <a:stretch/>
        </p:blipFill>
        <p:spPr>
          <a:xfrm>
            <a:off x="0" y="137160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Оплисменус коротковолосистый"/>
          <p:cNvPicPr/>
          <p:nvPr/>
        </p:nvPicPr>
        <p:blipFill>
          <a:blip r:embed="rId2"/>
          <a:stretch/>
        </p:blipFill>
        <p:spPr>
          <a:xfrm>
            <a:off x="4267080" y="2762280"/>
            <a:ext cx="487692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УХОД ЗА РАСТЕНИЯМИ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равильным было бы считать, что уход за растением начинается с момента высадки. Подготовка почвы и емкости, выбор места будущего размещения растения с учетом освещения, влажности и температурного режима помещения - все это является подготовительными этапами будущего правильного ух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обеспечении светового режима растениям необходимо учитывать, что требования растений к свету различны, а требования к интенсивности освещения изменяются в зависимости от времени года и светового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выращивании декоративных растений чрезвычайно важно соблюдение температурного режима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родный ареал обитания большинства декоративных растений - субтропические и тропические зоны. В связи с этим, декоративные растения весьма чувствительны к теплу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декоративных растений поддерживать определенный температурный режим, несоблюдение которого приводит к нарушению жизнедеятельности раст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ила ухода за растениями требуют, чтобы воздух в комнатах был свежим и чистым. Для этого помещения необходимо систематически проветривать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этом, большинство растений требует соблюдения определенной влажности воздуха. Для увлажнения воздуха, особенно при водяном отоплении, рекомендуется на батареях и между растениями ставить блюдца с вод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РАЗМЕЩЕНИЕ РАСТЕНИЙ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 дальнейшем уходе и выращивании комнатных растений жизненно важное значение имеет, насколько освещена ваша квартира. По отношению к интенсивности света растения делятся на светолюбивые, теплолюбивые и теневыносливые. Световой режим в комнатных помещениях зависит не только от географического положения, но и от состояния городской атмосферы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тодизайн как наука определяет место растения, требования к микроклимату помещения, а также совместимость растений в композициях как биологических видов. Не остается без внимания и влияние растений на человека. Существуют даже астрологические рекомендации по выбору растений. Можно относиться к этому по-разному, но растения действительно оказывают влияние на здоровье и настроение. Некоторые растения выделяют фитонциды, дезинфицируют воздух, некоторые впитывают вредные вещества, пыль, снижают влияние вредных излучений и радиационного фона. Многие домашние растения являются лекарственными. Между собой растения «дружат», «конфликтуют», то есть усиливают или ослабляют взаимный рост и развит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менее важен фактор режима температуры воздуха при выращивании комнатных культур. Многое зависит от того, в каком месте будут расположены комнатные растения, так как в разных местах комнаты температура воздуха не одинаковая. Особенно это относится к зимнему периоду. Например, в морозные дни температура воздуха на подоконнике может опуститься до 0 °С, а в верхней части окна может быть на 10–15 градусов выше. Чтобы правильно разместить растения, нужно измерить температуру в разных местах вашей квартиры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помощью ампельных растений, о которых мы говорили, можно устроить «зеленые гардины» – пусть их плети обрамляют окно, свисая или располагаясь по периметру. Для этого подойдут кронштейны или стойки около окна, на которых крепятся горшки (а лучше – кашпо) с растениями. Неплохо смотрятся и подвесные кашпо, выполненные в самых различных стилях из самых разных материалов. Это могут быть и кованые изделия, и пластиковые подвесные кашпо, и плетеные в различных техниках. Так что способов озеленения окна, которые не закрывают зеленой массой оконный проем, более чем достаточно. Нет ничего тоскливей, чем ряды горшков на подоконниках. Растения теряют свою индивидуальность и «теряются» среди общей массы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90720" y="0"/>
            <a:ext cx="7696080" cy="72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едующее место, которое заслуживает внимания с точки зрения расположения растений – это стена, противоположная окну. Она обычно достаточно освещена для того, чтобы на ней располагались растения, которые не нуждаются в сильном освещении. Растения можно располагать как на стенах, так и на столиках, полках и в напольных кашпо самого различного дизайна. Помните – чем оригинальнее емкость для растения, тем проще оно может быть само по себе, и тем меньше растений должно быть в комнате. И наоборот – чем пышнее и оригинальнее сами растения, тем проще должна быть посуд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 растениях, которые должны украсить длинные стационарные цветочницы в затененных местах, можно сказать следующее – композиция должна иметь смысл. Это может быть тропический лес, уголок с водоемом или другой ландшафт. Возможно, вам придется применить искусственную подсветку. Но она не только не испортит внешний вид, но может его украсить. Для тех, у кого есть лестница на второй этаж, под ней почти всегда есть пространство, которое можно назвать идеальным для такого уголка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НА СТЕНЕ. НА ПОЛУ.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Основы фитодизайна - необходимые понятия для решения проблем, связанных с самостоятельным озеленением интерьеров жилых помещений"/>
          <p:cNvPicPr/>
          <p:nvPr/>
        </p:nvPicPr>
        <p:blipFill>
          <a:blip r:embed="rId1"/>
          <a:stretch/>
        </p:blipFill>
        <p:spPr>
          <a:xfrm>
            <a:off x="228600" y="1447920"/>
            <a:ext cx="3143160" cy="41907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Основы фитодизайна - необходимые понятия для решения проблем, связанных с самостоятельным озеленением интерьеров жилых помещений"/>
          <p:cNvPicPr/>
          <p:nvPr/>
        </p:nvPicPr>
        <p:blipFill>
          <a:blip r:embed="rId2"/>
          <a:stretch/>
        </p:blipFill>
        <p:spPr>
          <a:xfrm>
            <a:off x="3962520" y="2224080"/>
            <a:ext cx="497196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НА ПОДСТАВКЕ. НА СТОЛЕ.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Основы фитодизайна - необходимые понятия для решения проблем, связанных с самостоятельным озеленением интерьеров жилых помещений"/>
          <p:cNvPicPr/>
          <p:nvPr/>
        </p:nvPicPr>
        <p:blipFill>
          <a:blip r:embed="rId1"/>
          <a:stretch/>
        </p:blipFill>
        <p:spPr>
          <a:xfrm>
            <a:off x="228600" y="1523880"/>
            <a:ext cx="3157560" cy="4221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Основы фитодизайна - необходимые понятия для решения проблем, связанных с самостоятельным озеленением интерьеров жилых помещений"/>
          <p:cNvPicPr/>
          <p:nvPr/>
        </p:nvPicPr>
        <p:blipFill>
          <a:blip r:embed="rId2"/>
          <a:stretch/>
        </p:blipFill>
        <p:spPr>
          <a:xfrm>
            <a:off x="5257800" y="1981080"/>
            <a:ext cx="3255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ое, на что следует обратить внимание, - это доминирующее цветовое решение комнаты, а именно окраска обоев и мебел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четание растения с обоями составляет особую проблему. Для большинства растений идеальным фоном является однотонная стена светлого пастельного цвета. При этом пестролистные растения и растения со светлыми цветками лучше смотрятся на более темном фоне. Для большинства растений с пестрыми листьями или разноцветными цветками большое значение имеет не только тон, но и цвет фона. Так, красные цветки и листья можно подчеркнуть зеленым фоном. Красиво смотрятся алые цветы и растения с темно-красной листвой на белом подоконнике. Растения с оранжевыми цветками наиболее эффектно будут смотреться на синем фоне, а также рядом с растениями с синей или голубой листв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фоне узорчатых обоев рекомендуются размещать растения с крупными листьями, так как мелколистные экземпляры просто-напросто сольются с фоном. При этом очертания растения не должны повторять рисунок обоев. Сансевиерия с длинными узкими листьями вряд ли будет красиво выглядеть на фоне обоев с вертикальными полосками, где более уместно растение раскидистой фор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ольшое значения для гармоничного расположения декоративных растений имеет окраска мебели. Так, на фоне светлой мебели хорошо смотрятся плющи, незабудки, колокольчики с синими цветами и традесканции с большими яркими листьями. Темно-коричневая мебель послужит идеальным фоном для растений светло-зеленой гаммы, растений с белыми цветками, а также для растений с пестрыми листья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им образом, есть существенная разница в оформлении жилых помещений, офисов и больших залов, и также отдельных комнат, в зависимости от их функций – гостиной, спальни, кухни и ванной комнаты, кабинета, холла, прихожей и террасы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равило, в обычной квартире или небольшом кабинете растения располагают на окнах, освещенных стенах, и в больших кадках в местах с достаточным освещением. Если не использовать искусственную подсветку, то расположение их в других местах нежелательно, так как даже тенелюбивые растения плохо растут в слишком затененных местах. Таким образом, все комнатное озеленение группируется вокруг окна и в местах, на которые попадает свет из него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натное растение можно разместить буквально на любом участке помещения: на полу, на стене, на подоконнике, на мебели и даже подвесить к потолку. Но при этом не следует пренебрегать такими параметрами, как форма растения и его потребность в свете, тепле и вла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правило, на пол ставят крупные одиночные растения в красивом кашпо. Такой выбор объясняется очень просто: большое растение не поставишь на стол, а тем более на подоконник. При этом высокое растение с прямостоячем стеблем зрительно увеличит высоту потолков, а крупное растение раскидистой формы "делает" ее мен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потолку можно привинтить подвесную корзину с одиночным ампельным растением или с висячим садиком. При этом ампельное растение зрительно уменьшит высоту потолка. Подвесные корзины не рекомендуется развешивать в местах оживленного движения, где они просто-напросто будут мешать проходу (это же относится и к напольным растениям). Подвесное растение должно быть в хорошем состоянии и отличаться высокими декоративными достоинствами. Сосуд, расположенный в корзине, должен быть водонепроницаемым хотя бы в нижней части. Уход за растениями, подвешенными к потолку, сопряжен с определенными неудобствами. Для полива лучше использовать лейку с длинным носи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СОЛИТЕР.ГРУППА. ТЕРРАРИУМ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лите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3664080" cy="4191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276720" y="3200400"/>
            <a:ext cx="3186000" cy="36576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400800" y="1523880"/>
            <a:ext cx="2830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ПРИХОЖА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219320" y="1501920"/>
            <a:ext cx="693396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ГОСТИННА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715000" cy="54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СПАЛЬН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784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КУХН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2481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ДЕТСКА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7732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КАБИНЕТ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90720" y="1360440"/>
            <a:ext cx="716256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ВАННАЯ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61976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ие декоративные растения и цветы использовать для озеленения интерьера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жде всего, нужно учесть конкретные условия, в которые попадают растения при переселении в ваш дом, соответствие условий жилья биологическим требованиям декоративных растений и цветов, которые мы выбираем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оме высоты стен, интенсивности освещения, влажности и температуры воздуха нужно учитывать и местоположение растения в комнате, то есть ее художественно-функциональное назначение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дь декоративно цветущие растения можно ставить на подоконниках и подвешивать в кашпо (декоративному весу) на окнах или стенах, размещать на подставках, полочках и расставлять на столиках, тумбочках или другой мебели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для каждого из этих мест нужно подбирать растение, которое подчеркивало бы уместность, привлекательность и неповторимость вашего замыс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БАЛКОН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784872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1504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Функциональная нагрузка комнатных растений в интерьере квартиры"/>
          <p:cNvPicPr/>
          <p:nvPr/>
        </p:nvPicPr>
        <p:blipFill>
          <a:blip r:embed="rId1"/>
          <a:stretch/>
        </p:blipFill>
        <p:spPr>
          <a:xfrm>
            <a:off x="155520" y="46080"/>
            <a:ext cx="5025960" cy="4240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Групповые композиции"/>
          <p:cNvPicPr/>
          <p:nvPr/>
        </p:nvPicPr>
        <p:blipFill>
          <a:blip r:embed="rId2"/>
          <a:stretch/>
        </p:blipFill>
        <p:spPr>
          <a:xfrm>
            <a:off x="5208480" y="2895480"/>
            <a:ext cx="3935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184560" cy="5897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191120" y="1523880"/>
            <a:ext cx="4591080" cy="34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543800" y="5181480"/>
            <a:ext cx="1238400" cy="9241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191120" y="3124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11480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038480" y="328608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3571920" cy="4762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381560" y="3124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следнее время приобретает популярность выращивания нескольких видов декоративных растений в одном сосуде с целью создания цветковых композици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 желательно подбирать керамическую посуду (вазы, кашпо, блюда, тарелки) или деревянные ящики разнообразных форм, цветов и размеров. Для усиления декоративности композиций можно использовать разные камешки (гранит, туф, ракушечник, гальку), вымощая ими пространство между растения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коративные растения следует подбирать в зависимости от индивидуального вкуса, но (обязательно!) с учетом их биологических требований и декоративности. Например, чудесно выглядит композиция из разных суккулентов в плоском весе с использованием туфа или гранит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вольно распространенные и композиции с сансевьери, нефролеписа и плюща, с узумбарской фиалкой, хлорофитума и комнатного винограда, из аспарагуса и разных традесканций. Такие цветковые композиции можно создавать на подоконниках, столиках, подставках, на окнах или стенах, на полочках или трельяж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рать группу растений, пригодных для выращивания в условиях помещения, - это лишь начало дела. Не менее сложный уход за ним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жде всего, предостерегаем от увлечения выращиванием большого количества растений, особенно быстрорастущих, ароматных и таких, что выделяют у воздуха эфирные масла или другие улетучивающие веществ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коративные растения, пригодные к выращиванию в закрытых помещениях (так называемые комнатные цветы), условно можно поделить на три групп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коративно-цветущие (или же красиво цветущи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коративно-листве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ккул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улярные декоративно-цветущие 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и декоративно-цветущих растений наиболее распространенные азалия индийская, амарилис, бальзамин (огонек), бегония (некоторые виды), гибискус (китайская роза), гортензия, кальцеолярия, пеларгония, сенполия (узумбарская фиалка), фуксия, хризантема индийская, цикламен, цинерария и много друг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этих, так сказать, традиционных, комнатных растений в закрытых помещениях выращивают и некоторые виды декоративных растений открытого грунта - агератум, астры, гвоздики, кохию, настурцию, петунию, флокс одногодичный, шалфей и прочие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этой группе можно также отнести и луковичные растения открытого грунта, которые используются для выгонки (гиацинты, нарциссы, тюльпаны, крокус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9-16T17:24:4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