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7.png" ContentType="image/png"/>
  <Override PartName="/ppt/media/image14.png" ContentType="image/png"/>
  <Override PartName="/ppt/media/image9.png" ContentType="image/png"/>
  <Override PartName="/ppt/media/image15.png" ContentType="image/png"/>
  <Override PartName="/ppt/media/image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34B-32A9-46DA-897D-0F51E1AF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4D19-7850-4924-A0FF-8F22BCC1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BD7-899D-4855-8AFE-F451C41FA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470-C746-4B47-A3A1-C6523877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EAEB-6AD2-46C2-8CD9-BA9065F9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5A15-39A5-4C58-B70B-52DC75BA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27290-A697-4A98-879B-6777A70C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84A8-3270-4C5E-94BD-BC1BF0BE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59A4-0CAE-4AE3-B80E-CFF5DA28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83228-44D7-469F-8DA1-8F8F0124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1967-D2EB-4E39-9BEE-6BC67186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D70-0701-4F80-8D03-67B81DA0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B97E-7B08-4C4B-AF35-A584EE38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2CF0-32E6-4912-BCC8-C67458FA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B67B-7FA1-4330-98EA-A03C0551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4D20-247C-444A-BF56-38667E2A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3FA6-FCD6-4F66-9747-E1005DA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D81-2680-432C-9060-92130491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82A-7BBA-4A02-B486-1408DB3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A94-0FF4-49AD-94D9-7FC428B0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C79-CD4D-4226-BF8D-18290B7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1BB0-8608-4DEB-B6A6-447B7BB9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850-A0BE-4FEF-8D68-51A8CE75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A0D-56EC-41AB-B809-1051EDA5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ADED-5B92-4F93-98BD-D75A76ED643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391C-F9C6-408E-94F9-6CB6795DB34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болезнь.jpg"/>
          <p:cNvPicPr/>
          <p:nvPr/>
        </p:nvPicPr>
        <p:blipFill>
          <a:blip r:embed="rId2"/>
          <a:stretch/>
        </p:blipFill>
        <p:spPr>
          <a:xfrm>
            <a:off x="2219400" y="1285920"/>
            <a:ext cx="4705200" cy="42861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6840" y="428760"/>
            <a:ext cx="3900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акеры частенько развлекаются и тем, что запускают в паутину всевозможные компьютерные вирусы. Так, по аналогии с известными возбудителями болезней, компьютерщики называют программы, которые специально предназначаются для того, чтобы вызывать разлад в работе других компьютеров. Началась такая «эпидемия» около 30 лет назад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Содержимое 4" descr="хакер.jpg"/>
          <p:cNvPicPr/>
          <p:nvPr/>
        </p:nvPicPr>
        <p:blipFill>
          <a:blip r:embed="rId1"/>
          <a:stretch/>
        </p:blipFill>
        <p:spPr>
          <a:xfrm>
            <a:off x="4500720" y="1714680"/>
            <a:ext cx="4429080" cy="435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аникул осталось  всего несколько дней. Но настроение у многих студентов Лихайского университета  в США было не праздничным. Ещё бы, теперь им придётся, как минимум; заново переделывать свои курсовые работы 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чём дело? Специальное расследование показало, что на сотни рабочих дисков поселилось кем-то явно специально сделанная микропрограмма - «вирус» . Именно она и отдавала команду на стирание записанной информации. Более того, программа оказалась столь хитро составленной, что, полезную информацию, она одновременно тиражировала саму себя, стоило лишь вставить диск в приемную щель персонального компьютера или подключить его к общей сети</a:t>
            </a:r>
            <a:r>
              <a:rPr b="0" lang="ru-RU" sz="18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42560" y="428760"/>
            <a:ext cx="33224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 известно, чем бы всё кончилось, если бы за дело не взялись Джозеф Сиковски  и его однокашники. Студенты вычислительного факультета сумели  найти «противоядие». Общими усилиями они успели смоделировать формулу «вакцины» раньше, чем студенты разъехались на каникулы, и таким образом предотвратили распространение вируса по всей стране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4" descr="чел.jpg"/>
          <p:cNvPicPr/>
          <p:nvPr/>
        </p:nvPicPr>
        <p:blipFill>
          <a:blip r:embed="rId1"/>
          <a:stretch/>
        </p:blipFill>
        <p:spPr>
          <a:xfrm>
            <a:off x="3357720" y="714240"/>
            <a:ext cx="5786280" cy="435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91" name="Содержимое 4" descr="вирус.jpg"/>
          <p:cNvPicPr/>
          <p:nvPr/>
        </p:nvPicPr>
        <p:blipFill>
          <a:blip r:embed="rId2"/>
          <a:stretch/>
        </p:blipFill>
        <p:spPr>
          <a:xfrm>
            <a:off x="457200" y="1714680"/>
            <a:ext cx="4038480" cy="471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Вместе с компьютерными вирусами в настоящее время получили распространение и программы –разрушители. Их можно условно разделить на три категори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l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3218040" cy="16509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2971800" cy="4602240"/>
          </a:xfrm>
          <a:prstGeom prst="rect">
            <a:avLst/>
          </a:prstGeom>
          <a:solidFill>
            <a:srgbClr val="382971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«Троянский конь»- это программы, которые под видом доброкачественных  программ на самом деле разрушают заложенную в компьютер информаци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6" descr="конь.jpg"/>
          <p:cNvPicPr/>
          <p:nvPr/>
        </p:nvPicPr>
        <p:blipFill>
          <a:blip r:embed="rId2"/>
          <a:stretch/>
        </p:blipFill>
        <p:spPr>
          <a:xfrm>
            <a:off x="3786120" y="1000080"/>
            <a:ext cx="52149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24000" y="274680"/>
            <a:ext cx="3138480" cy="1498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no Pro Light Display"/>
              </a:rPr>
              <a:t>«Черви»- программы, которые медленно, но верно подтачивают память компьютера, вызывая в один хороший день  паралич систем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червяк.jpg"/>
          <p:cNvPicPr/>
          <p:nvPr/>
        </p:nvPicPr>
        <p:blipFill>
          <a:blip r:embed="rId2"/>
          <a:stretch/>
        </p:blipFill>
        <p:spPr>
          <a:xfrm>
            <a:off x="3575160" y="593640"/>
            <a:ext cx="511164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281160" y="-12600"/>
            <a:ext cx="3157200" cy="1725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Бомбы замедленного действия»- это программы, ждущие своего часа, чтобы стереть на диске записанные данн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бомба.png"/>
          <p:cNvPicPr/>
          <p:nvPr/>
        </p:nvPicPr>
        <p:blipFill>
          <a:blip r:embed="rId2"/>
          <a:stretch/>
        </p:blipFill>
        <p:spPr>
          <a:xfrm>
            <a:off x="3786120" y="642960"/>
            <a:ext cx="5072040" cy="5143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29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341280" y="274680"/>
            <a:ext cx="3121200" cy="1395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дежно защитить информацию  поможет копирование  файлов на диски или распечатка  их на принтере. А также необходимо иметь копии своих программ, сделанные на не зараженном компьютер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пасайтесь электронных посланий, присланных незнакомыми людьми на ваш ящик электронной почты- там могут содержаться вирусы!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зашита.jpg"/>
          <p:cNvPicPr/>
          <p:nvPr/>
        </p:nvPicPr>
        <p:blipFill>
          <a:blip r:embed="rId2"/>
          <a:stretch/>
        </p:blipFill>
        <p:spPr>
          <a:xfrm>
            <a:off x="4143240" y="214200"/>
            <a:ext cx="4543560" cy="5857920"/>
          </a:xfrm>
          <a:prstGeom prst="rect">
            <a:avLst/>
          </a:prstGeom>
          <a:ln w="0">
            <a:noFill/>
          </a:ln>
        </p:spPr>
      </p:pic>
      <p:pic>
        <p:nvPicPr>
          <p:cNvPr id="105" name="MS900116608[1].wav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6T17:24:59Z</dcterms:created>
  <dc:creator>Анна</dc:creator>
  <dc:description/>
  <dc:language>en-US</dc:language>
  <cp:lastModifiedBy>Учитель</cp:lastModifiedBy>
  <dcterms:modified xsi:type="dcterms:W3CDTF">2014-11-28T06:39:58Z</dcterms:modified>
  <cp:revision>18</cp:revision>
  <dc:subject/>
  <dc:title>Внимание, вирусы!</dc:title>
</cp:coreProperties>
</file>