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4.png" ContentType="image/png"/>
  <Override PartName="/ppt/media/image9.png" ContentType="image/png"/>
  <Override PartName="/ppt/media/image15.png" ContentType="image/png"/>
  <Override PartName="/ppt/media/image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C1F-298B-4AE9-A287-E04B15F9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76F-7126-4541-B6DD-4DB6EF62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326-74DD-4DA2-B2BE-36E8D70E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07C-E412-43BA-B67C-A4A64861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2132-0CB3-42F4-B5BC-0304786D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322D-F079-4818-BDBA-0E24CB34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D502-5D8E-4763-ADEF-9A8AB510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17FB-0C7A-42EF-8C67-AA5217C5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1CDB-C0BE-4F79-A685-763574C7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6BEC-FF60-4D04-ADD8-26BC2D4B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8B19-9F53-4090-8EEB-D203C7F3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B41-CF9D-4700-B59E-DAB09C05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F8EE-8366-41D6-B958-7B6F08CA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4C58-5D70-4D88-9175-63E11D5D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3FFB-B4B6-4764-9434-17F82D1F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BFDB-E32E-411B-9BFF-2DDEEFE2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68F8-BD26-419B-A45C-55C36F91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51C-B59E-4FAF-9257-F2CE2BB7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E2B-BA1C-4737-9C7A-86F089DD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D74-007D-4667-92E5-8BCB8430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9F9-185E-42D6-94FA-8BB5C64B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B47-40CB-43C3-AC66-613AC993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C8B-F73B-4D34-9C39-78CCCAA3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1FF-1A9A-491A-88CD-58C9D99C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C018-96DC-4BFE-A3CA-B1FA46B0DB5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1868-27CD-450E-B647-1229565FCBC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болезнь.jpg"/>
          <p:cNvPicPr/>
          <p:nvPr/>
        </p:nvPicPr>
        <p:blipFill>
          <a:blip r:embed="rId2"/>
          <a:stretch/>
        </p:blipFill>
        <p:spPr>
          <a:xfrm>
            <a:off x="2219400" y="1285920"/>
            <a:ext cx="47052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6840" y="428760"/>
            <a:ext cx="3900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акеры частенько развлекаются и тем, что запускают в паутину всевозможные компьютерные вирусы. Так, по аналогии с известными возбудителями болезней, компьютерщики называют программы, которые специально предназначаются для того, чтобы вызывать разлад в работе других компьютеров. Началась такая «эпидемия» около 30 лет назад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Содержимое 4" descr="хакер.jpg"/>
          <p:cNvPicPr/>
          <p:nvPr/>
        </p:nvPicPr>
        <p:blipFill>
          <a:blip r:embed="rId1"/>
          <a:stretch/>
        </p:blipFill>
        <p:spPr>
          <a:xfrm>
            <a:off x="4500720" y="1714680"/>
            <a:ext cx="442908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 каникул осталось  всего несколько дней. Но настроение у многих студентов Лихайского университета  в США было не праздничным. Ещё бы, теперь им придётся, как минимум; заново переделывать свои курсовые работы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чём дело? Специальное расследование показало, что на сотни рабочих дисков поселилось кем-то явно специально сделанная микропрограмма - «вирус» . Именно она и отдавала команду на стирание записанной информации. Более того, программа оказалась столь хитро составленной, что, полезную информацию, она одновременно тиражировала саму себя, стоило лишь вставить диск в приемную щель персонального компьютера или подключить его к общей сети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42560" y="428760"/>
            <a:ext cx="33224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известно, чем бы всё кончилось, если бы за дело не взялись Джозеф Сиковски  и его однокашники. Студенты вычислительного факультета сумели  найти «противоядие». Общими усилиями они успели смоделировать формулу «вакцины» раньше, чем студенты разъехались на каникулы, и таким образом предотвратили распространение вируса по всей стран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4" descr="чел.jpg"/>
          <p:cNvPicPr/>
          <p:nvPr/>
        </p:nvPicPr>
        <p:blipFill>
          <a:blip r:embed="rId1"/>
          <a:stretch/>
        </p:blipFill>
        <p:spPr>
          <a:xfrm>
            <a:off x="3357720" y="714240"/>
            <a:ext cx="578628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вирус.jpg"/>
          <p:cNvPicPr/>
          <p:nvPr/>
        </p:nvPicPr>
        <p:blipFill>
          <a:blip r:embed="rId2"/>
          <a:stretch/>
        </p:blipFill>
        <p:spPr>
          <a:xfrm>
            <a:off x="457200" y="1714680"/>
            <a:ext cx="4038480" cy="471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месте с компьютерными вирусами в настоящее время получили распространение и программы –разрушители. Их можно условно разделить на три категори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3218040" cy="1650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2971800" cy="4602240"/>
          </a:xfrm>
          <a:prstGeom prst="rect">
            <a:avLst/>
          </a:prstGeom>
          <a:solidFill>
            <a:srgbClr val="38297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Троянский конь»- это программы, которые под видом доброкачественных  программ на самом деле разрушают заложенную в компьютер информац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6" descr="конь.jpg"/>
          <p:cNvPicPr/>
          <p:nvPr/>
        </p:nvPicPr>
        <p:blipFill>
          <a:blip r:embed="rId2"/>
          <a:stretch/>
        </p:blipFill>
        <p:spPr>
          <a:xfrm>
            <a:off x="3786120" y="1000080"/>
            <a:ext cx="52149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3138480" cy="1498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no Pro Light Display"/>
              </a:rPr>
              <a:t>«Черви»- программы, которые медленно, но верно подтачивают память компьютера, вызывая в один хороший день  паралич систем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червяк.jpg"/>
          <p:cNvPicPr/>
          <p:nvPr/>
        </p:nvPicPr>
        <p:blipFill>
          <a:blip r:embed="rId2"/>
          <a:stretch/>
        </p:blipFill>
        <p:spPr>
          <a:xfrm>
            <a:off x="3575160" y="593640"/>
            <a:ext cx="5111640" cy="521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281160" y="-12600"/>
            <a:ext cx="3157200" cy="1725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Бомбы замедленного действия»- это программы, ждущие своего часа, чтобы стереть на диске записанные данны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бомба.png"/>
          <p:cNvPicPr/>
          <p:nvPr/>
        </p:nvPicPr>
        <p:blipFill>
          <a:blip r:embed="rId2"/>
          <a:stretch/>
        </p:blipFill>
        <p:spPr>
          <a:xfrm>
            <a:off x="3786120" y="642960"/>
            <a:ext cx="507204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41280" y="274680"/>
            <a:ext cx="3121200" cy="1395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дежно защитить информацию  поможет копирование  файлов на диски или распечатка  их на принтере. А также необходимо иметь копии своих программ, сделанные на не зараженном компьютер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асайтесь электронных посланий, присланных незнакомыми людьми на ваш ящик электронной почты- там могут содержаться вирусы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зашита.jpg"/>
          <p:cNvPicPr/>
          <p:nvPr/>
        </p:nvPicPr>
        <p:blipFill>
          <a:blip r:embed="rId2"/>
          <a:stretch/>
        </p:blipFill>
        <p:spPr>
          <a:xfrm>
            <a:off x="4143240" y="214200"/>
            <a:ext cx="4543560" cy="5857920"/>
          </a:xfrm>
          <a:prstGeom prst="rect">
            <a:avLst/>
          </a:prstGeom>
          <a:ln w="0">
            <a:noFill/>
          </a:ln>
        </p:spPr>
      </p:pic>
      <p:pic>
        <p:nvPicPr>
          <p:cNvPr id="105" name="MS900116608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17:24:59Z</dcterms:created>
  <dc:creator>Анна</dc:creator>
  <dc:description/>
  <dc:language>en-US</dc:language>
  <cp:lastModifiedBy>Учитель</cp:lastModifiedBy>
  <dcterms:modified xsi:type="dcterms:W3CDTF">2014-11-28T06:39:58Z</dcterms:modified>
  <cp:revision>18</cp:revision>
  <dc:subject/>
  <dc:title>Внимание, вирусы!</dc:title>
</cp:coreProperties>
</file>