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B45-9E47-4695-9110-966D3DB4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F0B-F153-4EE3-A2B6-01F277E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462-9DB4-43B3-A96E-C37E4E21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F01-7251-414A-B562-668A9AE5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99E4-384D-4933-A326-9073809F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9B4E-3C74-4BD8-9A98-BED32580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CE61-2714-473B-9112-27F306B2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F96B-FE23-4083-A8D9-6BAFA582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8FC3-19D2-480D-B042-99917B97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3D26-C427-4E7D-B99F-396FCC3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7B12-86D5-466A-A2E8-6E48084E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5D2-C977-4A33-9162-55439639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C21B-3B88-47C1-A6F5-9803098B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ED7-FE8A-4192-A78A-DF45B61E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553F-2487-430E-A454-C394F978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743C-2FEE-4B70-8FC2-E6FC63CE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4B35-A911-4E58-9B52-939F2AC9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643-2F96-4C48-B00C-0A943F0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38C-744C-48C1-8F0B-C8C851C6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397-F3B2-4A83-BAD9-2E3939B8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34E-2203-4FDD-BB9B-F4435CC4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BDD-C38D-401D-BA59-B1194134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D4E-DC81-4797-8836-C2A5C1A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564-8B4F-4DAE-A046-D0CF5DBD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4196-5511-4012-BEE5-F3EB4008E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987C-910F-4E18-B500-8230E749E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835280" y="40464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Во что превращаютс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наши ладошк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780000" y="549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ДИНОЗАВ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3887640" cy="4392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16360" y="1484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Динозаврик-малыш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213372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лыбается спросон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2781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ама рядом,папа рядом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 rot="10800000">
            <a:off x="4716360" y="378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 ещё для счастья над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84720" y="4581360"/>
            <a:ext cx="2829240" cy="2016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08000" y="260280"/>
            <a:ext cx="314640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851280" y="620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КАКТ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4000" y="1773360"/>
            <a:ext cx="4011480" cy="48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00720" y="1773360"/>
            <a:ext cx="43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осмотрите-ка получш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 кактус. Он колю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когда дожди пойду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се колючки расцвет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859280" y="3933720"/>
            <a:ext cx="342108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484360" y="33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ЛОН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4200480" cy="4433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160720" cy="1656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7524720" y="4437000"/>
            <a:ext cx="1619280" cy="242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859280" y="907920"/>
            <a:ext cx="3889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лониха слонёнку цветы подари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после на ушко ещё говор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Ты кушай получше, мой славный сын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б сильным, как папа, ты вырасти смог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5148360" y="5157720"/>
            <a:ext cx="2087640" cy="147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492360" y="54936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Б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4200480" cy="4703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59280" y="1341360"/>
            <a:ext cx="3889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8ae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колько звёздочек на неб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Хоть одну достать бы мне 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-Не достанешь ни одн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Будем лаять на лу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16720" y="260280"/>
            <a:ext cx="50472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115920"/>
            <a:ext cx="288720" cy="3603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5080" y="189000"/>
            <a:ext cx="432000" cy="28728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981000"/>
            <a:ext cx="50508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4360" y="836640"/>
            <a:ext cx="433440" cy="3603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59640" y="907920"/>
            <a:ext cx="433440" cy="144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32000" y="981000"/>
            <a:ext cx="360360" cy="28728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27280" y="333360"/>
            <a:ext cx="432000" cy="28728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836640"/>
            <a:ext cx="433440" cy="43164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 rot="18477000">
            <a:off x="186480" y="64080"/>
            <a:ext cx="1544760" cy="1415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284720" y="189000"/>
            <a:ext cx="288720" cy="3603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635280" y="404640"/>
            <a:ext cx="20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ЕНЁ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4200480" cy="4968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932360" y="119700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а полянке есть пенё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н не низок, не выс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осмотрите-ка, ребя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Что растёт на нё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Опя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076720" y="6093000"/>
            <a:ext cx="935280" cy="647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924360" y="5589720"/>
            <a:ext cx="934920" cy="647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2195640" y="5877000"/>
            <a:ext cx="934920" cy="647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0" y="5950080"/>
            <a:ext cx="934920" cy="647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971640" y="5273640"/>
            <a:ext cx="995400" cy="1584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6588000" y="4437000"/>
            <a:ext cx="2556000" cy="22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356000" y="160020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на папа-осминог  целый час догнать не м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ле-еле осминожка успокоился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у что надо сп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о ножкам отдых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62064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МИН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635640" cy="452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183280" y="5013360"/>
            <a:ext cx="3960720" cy="15285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132000" y="5923080"/>
            <a:ext cx="720720" cy="93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755640" y="33336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 rot="20439600">
            <a:off x="6948360" y="475920"/>
            <a:ext cx="1440000" cy="647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 rot="20874000">
            <a:off x="1115640" y="5776920"/>
            <a:ext cx="1584360" cy="892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0" y="2276640"/>
            <a:ext cx="1112760" cy="4581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4211640" y="5573880"/>
            <a:ext cx="1295280" cy="128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3:53Z</dcterms:created>
  <dc:creator>Галина</dc:creator>
  <dc:description/>
  <dc:language>en-US</dc:language>
  <cp:lastModifiedBy>Галина</cp:lastModifiedBy>
  <dcterms:modified xsi:type="dcterms:W3CDTF">2009-08-13T04:02:23Z</dcterms:modified>
  <cp:revision>2</cp:revision>
  <dc:subject/>
  <dc:title>Слайд 1</dc:title>
</cp:coreProperties>
</file>