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0FBB-2F53-41B0-B2EC-1B720BF87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99B7-C5AF-43B6-956B-C99E23C6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6FE-B1D7-42A7-A8BF-7E18C3C21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73D-CA80-4A95-909A-611E4138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59BC-B01B-44D1-8EF0-16596490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1099-2C06-4EFA-9975-AEDC8326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0B81-2D0A-4B81-8482-21880D64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D07B-2731-487D-8E45-D7B9F89D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8D70-A585-492F-9614-093C44F1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CB92-BBD5-4785-9D61-5819326D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DB8C-1934-4EE7-8F8A-A4FAD436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4B1-B919-4BF6-8412-17C5D995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3A54-61B6-4448-95C2-D8C0785B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2C8E-D5B6-4F78-A017-C98639D7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B1A9-AF47-4509-AEBC-C5109C15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E883-A051-432E-8C00-FAD4662B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2656-B4A9-4F8B-A288-172999763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509-D881-4114-BECB-F627817F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917-C95E-44CC-A7A4-5DECBEA0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080C-B984-45BB-AB8B-80D58600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BE4-8A40-4352-967B-DC1901E3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359-7DC8-44BC-AF8B-AC5CEB7C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9FD9-4791-4BA3-BC54-64601FA7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35F-74C3-48D0-AC5F-7627D15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E2C7F-1782-4567-A3C5-E0628DB8F3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0B7-605F-40E4-A2A2-82B0DB266A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8a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31417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835280" y="40464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Во что превращаютс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ecff"/>
                </a:solidFill>
                <a:latin typeface="Arial"/>
              </a:rPr>
              <a:t>наши ладошки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3780000" y="549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ДИНОЗАВ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3887640" cy="4392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716360" y="14842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Динозаврик-малыш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2133720"/>
            <a:ext cx="44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Улыбается спросоно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78136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Мама рядом,папа рядом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 rot="10800000">
            <a:off x="4716360" y="3789000"/>
            <a:ext cx="374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 ещё для счастья над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829240" cy="2016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108000" y="260280"/>
            <a:ext cx="314640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3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9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3851280" y="620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КАКТУ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24000" y="1773360"/>
            <a:ext cx="4011480" cy="48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00720" y="1773360"/>
            <a:ext cx="431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Посмотрите-ка получш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Это кактус. Он колюч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когда дожди пойду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Все колючки расцвету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342108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3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60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484360" y="33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ЛОНЯ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68360" y="1916280"/>
            <a:ext cx="4200480" cy="4433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79280" y="260280"/>
            <a:ext cx="2160720" cy="1656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7524720" y="4437000"/>
            <a:ext cx="1619280" cy="2421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859280" y="907920"/>
            <a:ext cx="388944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лониха слонёнку цветы подарил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А после на ушко ещё говорил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Ты кушай получше, мой славный сын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Чтоб сильным, как папа, ты вырасти смог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5148360" y="5157720"/>
            <a:ext cx="2087640" cy="147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3492360" y="549360"/>
            <a:ext cx="24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СОБА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4200480" cy="47037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1341360"/>
            <a:ext cx="38894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8ae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колько звёздочек на неб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Хоть одну достать бы мне 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-Не достанешь ни одну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Будем лаять на лу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14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16720" y="260280"/>
            <a:ext cx="50472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8720" y="115920"/>
            <a:ext cx="288720" cy="3603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5080" y="189000"/>
            <a:ext cx="432000" cy="28728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24360" y="981000"/>
            <a:ext cx="505080" cy="21600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164360" y="836640"/>
            <a:ext cx="433440" cy="3603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459640" y="907920"/>
            <a:ext cx="433440" cy="14472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981000"/>
            <a:ext cx="360360" cy="28728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627280" y="333360"/>
            <a:ext cx="432000" cy="28728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836640"/>
            <a:ext cx="433440" cy="43164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 rot="18477000">
            <a:off x="186480" y="64080"/>
            <a:ext cx="1544760" cy="14158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284720" y="189000"/>
            <a:ext cx="288720" cy="360360"/>
          </a:xfrm>
          <a:prstGeom prst="star5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3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9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635280" y="404640"/>
            <a:ext cx="20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ЕНЁ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4200480" cy="49687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4932360" y="119700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а полянке есть пенё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н не низок, не выс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Посмотрите-ка, ребятк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Что растёт на нё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ff"/>
                </a:solidFill>
                <a:latin typeface="Arial"/>
              </a:rPr>
              <a:t>Опят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5076720" y="6093000"/>
            <a:ext cx="935280" cy="647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924360" y="558972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2195640" y="587700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0" y="5950080"/>
            <a:ext cx="934920" cy="647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971640" y="5273640"/>
            <a:ext cx="995400" cy="15843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6588000" y="4437000"/>
            <a:ext cx="2556000" cy="22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000"/>
                            </p:stCondLst>
                            <p:childTnLst>
                              <p:par>
                                <p:cTn id="1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90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3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3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35600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ына папа-осминог  целый час догнать не м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ле-еле осминожка успокоился немнож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у что надо сп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о ножкам отдых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62064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ОСМИН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635640" cy="4525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183280" y="5013360"/>
            <a:ext cx="3960720" cy="152856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3132000" y="5923080"/>
            <a:ext cx="720720" cy="93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755640" y="333360"/>
            <a:ext cx="1224000" cy="116676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 rot="20439600">
            <a:off x="6948360" y="475920"/>
            <a:ext cx="1440000" cy="6476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 rot="20874000">
            <a:off x="1115640" y="5776920"/>
            <a:ext cx="1584360" cy="892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7"/>
          <a:stretch/>
        </p:blipFill>
        <p:spPr>
          <a:xfrm>
            <a:off x="0" y="2276640"/>
            <a:ext cx="1112760" cy="45813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8"/>
          <a:stretch/>
        </p:blipFill>
        <p:spPr>
          <a:xfrm>
            <a:off x="4211640" y="5573880"/>
            <a:ext cx="1295280" cy="128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01:03:53Z</dcterms:created>
  <dc:creator>Галина</dc:creator>
  <dc:description/>
  <dc:language>en-US</dc:language>
  <cp:lastModifiedBy>Галина</cp:lastModifiedBy>
  <dcterms:modified xsi:type="dcterms:W3CDTF">2009-08-13T04:02:23Z</dcterms:modified>
  <cp:revision>2</cp:revision>
  <dc:subject/>
  <dc:title>Слайд 1</dc:title>
</cp:coreProperties>
</file>