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6AD-BE2B-474D-B786-9D23C936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335-2EF1-4F43-B58A-A33A2300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7D96-82A4-4A3E-AA11-577ABC37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F87-F118-4A97-A987-FCE92559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1181-1FB6-4FB3-A194-588152DB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77B-84C3-4D2A-A562-403558B3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1C7-1AE8-4353-8FA4-E81C4CE9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BDAF-E86E-4964-8D01-D4AB78E4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9499-F7F2-4FBA-A292-CBFC99D7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F6F-B407-4413-808F-927FFD58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84F-0C6C-4103-A038-DD444433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A7FF-2B7E-4A73-9BE0-3C9C5D89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C758-73F2-4746-B931-6F64A89523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22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ртины  русских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художни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1640" y="3500280"/>
            <a:ext cx="6545160" cy="25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рмашев «Лиловый снег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germashev-m-m-lilovyj-sneg"/>
          <p:cNvPicPr/>
          <p:nvPr/>
        </p:nvPicPr>
        <p:blipFill>
          <a:blip r:embed="rId1"/>
          <a:stretch/>
        </p:blipFill>
        <p:spPr>
          <a:xfrm>
            <a:off x="1403280" y="1341360"/>
            <a:ext cx="62643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рмашев «Снег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germashev-m-m-sneg"/>
          <p:cNvPicPr/>
          <p:nvPr/>
        </p:nvPicPr>
        <p:blipFill>
          <a:blip r:embed="rId1"/>
          <a:stretch/>
        </p:blipFill>
        <p:spPr>
          <a:xfrm>
            <a:off x="1332000" y="1263600"/>
            <a:ext cx="640872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ишкин «Зима в лес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shishkin-i-i-zimnij-les"/>
          <p:cNvPicPr/>
          <p:nvPr/>
        </p:nvPicPr>
        <p:blipFill>
          <a:blip r:embed="rId1"/>
          <a:stretch/>
        </p:blipFill>
        <p:spPr>
          <a:xfrm>
            <a:off x="324000" y="1413000"/>
            <a:ext cx="849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ишкин «Зимо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hishkin-i-i-zimoj-1883"/>
          <p:cNvPicPr/>
          <p:nvPr/>
        </p:nvPicPr>
        <p:blipFill>
          <a:blip r:embed="rId1"/>
          <a:stretch/>
        </p:blipFill>
        <p:spPr>
          <a:xfrm>
            <a:off x="1547640" y="1141560"/>
            <a:ext cx="619308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витан «Ле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levitan-i-i-les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9:41:01Z</dcterms:created>
  <dc:creator>USER</dc:creator>
  <dc:description/>
  <dc:language>en-US</dc:language>
  <cp:lastModifiedBy>Home</cp:lastModifiedBy>
  <dcterms:modified xsi:type="dcterms:W3CDTF">2017-12-08T13:21:26Z</dcterms:modified>
  <cp:revision>4</cp:revision>
  <dc:subject/>
  <dc:title>Гермашев «Лиловый снег»</dc:title>
</cp:coreProperties>
</file>