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C2BB-4EDD-4B45-8D59-962736DF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FC86-07FE-4C5F-97BA-A64DEB29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74F7-F115-4C56-8780-348880E1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6760-39F9-471D-A501-4E87B87C1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2512-5FFD-426F-81C9-7F3211E3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7A5-9AD7-405B-9A81-3F8AA070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E0A-1B38-4987-8712-EBFFF183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5FC-523C-4EA5-99A2-B79BBC41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67E5-7E27-4E73-BD31-77773D9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7802-B580-4031-A62C-E743F6E1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DC41-C70A-42E9-BC0A-A1E4F93E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F7A7-D888-4EFF-93C1-C8E4AE7D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9A8A-8D08-4F9A-873B-C31E25478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ртины  русских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художник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1640" y="3500280"/>
            <a:ext cx="6545160" cy="25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машев «Лиловый сне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germashev-m-m-lilovyj-sneg"/>
          <p:cNvPicPr/>
          <p:nvPr/>
        </p:nvPicPr>
        <p:blipFill>
          <a:blip r:embed="rId1"/>
          <a:stretch/>
        </p:blipFill>
        <p:spPr>
          <a:xfrm>
            <a:off x="1403280" y="1341360"/>
            <a:ext cx="6264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ермашев «Сне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germashev-m-m-sneg"/>
          <p:cNvPicPr/>
          <p:nvPr/>
        </p:nvPicPr>
        <p:blipFill>
          <a:blip r:embed="rId1"/>
          <a:stretch/>
        </p:blipFill>
        <p:spPr>
          <a:xfrm>
            <a:off x="1332000" y="1263600"/>
            <a:ext cx="64087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шкин «Зима в лесу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hishkin-i-i-zimnij-les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Шишкин «Зимо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hishkin-i-i-zimoj-1883"/>
          <p:cNvPicPr/>
          <p:nvPr/>
        </p:nvPicPr>
        <p:blipFill>
          <a:blip r:embed="rId1"/>
          <a:stretch/>
        </p:blipFill>
        <p:spPr>
          <a:xfrm>
            <a:off x="1547640" y="1141560"/>
            <a:ext cx="6193080" cy="55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витан «Ле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levitan-i-i-les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1:01Z</dcterms:created>
  <dc:creator>USER</dc:creator>
  <dc:description/>
  <dc:language>en-US</dc:language>
  <cp:lastModifiedBy>Home</cp:lastModifiedBy>
  <dcterms:modified xsi:type="dcterms:W3CDTF">2017-12-08T13:21:26Z</dcterms:modified>
  <cp:revision>4</cp:revision>
  <dc:subject/>
  <dc:title>Гермашев «Лиловый снег»</dc:title>
</cp:coreProperties>
</file>