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0F2-10DF-49A3-8D5E-2EAA0DEB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BF7-63C9-47AE-80E9-A31907D7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2C4-02BD-43EA-A62B-09ECBB52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0BC-9901-4085-A4A7-504B7349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A0C-1206-43D9-A4A1-6743894C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1BA-4B39-487D-8B33-D457A108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8EB-74CE-4C5B-A1FE-9ABD590F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C01-5589-48B7-8A30-88F587FE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C33-DB41-459E-B79A-027EC748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6FC-1F48-47FD-9879-CFE17487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DC5-E660-498B-B962-36454961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D948-8D3B-4F6F-899A-6809466D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867"/>
            </a:gs>
            <a:gs pos="50000">
              <a:srgbClr val="fef5ce"/>
            </a:gs>
            <a:gs pos="100000">
              <a:srgbClr val="ef98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D4A1-ACEE-4B38-8680-384206EE87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80360" cy="6858000"/>
            <a:chOff x="0" y="0"/>
            <a:chExt cx="9180360" cy="6858000"/>
          </a:xfrm>
        </p:grpSpPr>
        <p:pic>
          <p:nvPicPr>
            <p:cNvPr id="42" name="Picture 3" descr="Рисунок1"/>
            <p:cNvPicPr/>
            <p:nvPr/>
          </p:nvPicPr>
          <p:blipFill>
            <a:blip r:embed="rId1"/>
            <a:srcRect l="31097" t="0" r="0" b="0"/>
            <a:stretch/>
          </p:blipFill>
          <p:spPr>
            <a:xfrm>
              <a:off x="3636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4" descr="gh"/>
            <p:cNvPicPr/>
            <p:nvPr/>
          </p:nvPicPr>
          <p:blipFill>
            <a:blip r:embed="rId2"/>
            <a:srcRect l="2438" t="0" r="69574" b="0"/>
            <a:stretch/>
          </p:blipFill>
          <p:spPr>
            <a:xfrm>
              <a:off x="0" y="0"/>
              <a:ext cx="1655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Rectangle 10"/>
          <p:cNvSpPr/>
          <p:nvPr/>
        </p:nvSpPr>
        <p:spPr>
          <a:xfrm>
            <a:off x="2286000" y="990720"/>
            <a:ext cx="655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62c0a"/>
                </a:solidFill>
                <a:latin typeface="Bookman Old Style"/>
              </a:rPr>
              <a:t>4 ноября –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62c0a"/>
                </a:solidFill>
                <a:latin typeface="Bookman Old Style"/>
              </a:rPr>
              <a:t>День народного единст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В День единства будем ряд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Будем вместе навсег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Все народност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В дальних сёлах, города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Изображение 039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3" descr="rusflaga"/>
          <p:cNvPicPr/>
          <p:nvPr/>
        </p:nvPicPr>
        <p:blipFill>
          <a:blip r:embed="rId1"/>
          <a:stretch/>
        </p:blipFill>
        <p:spPr>
          <a:xfrm>
            <a:off x="4191120" y="1523880"/>
            <a:ext cx="4724280" cy="3409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герб"/>
          <p:cNvPicPr/>
          <p:nvPr/>
        </p:nvPicPr>
        <p:blipFill>
          <a:blip r:embed="rId2"/>
          <a:stretch/>
        </p:blipFill>
        <p:spPr>
          <a:xfrm>
            <a:off x="304920" y="1295280"/>
            <a:ext cx="3689280" cy="4419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533160" y="6095520"/>
            <a:ext cx="22860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7120" y="837720"/>
            <a:ext cx="2666880" cy="40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Люблю тебя, моя Россия,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За яркий свет твоих очей,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За ум, за подвиги святые,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За голос звонкий, как руче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238880" y="5272920"/>
            <a:ext cx="106704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Изображение 038"/>
          <p:cNvPicPr/>
          <p:nvPr/>
        </p:nvPicPr>
        <p:blipFill>
          <a:blip r:embed="rId1"/>
          <a:stretch/>
        </p:blipFill>
        <p:spPr>
          <a:xfrm>
            <a:off x="152280" y="380880"/>
            <a:ext cx="64008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Праздник 4 ноября- День народного единства- был установлен в честь победы русского народа в 1612 году над поля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Изображение 041"/>
          <p:cNvPicPr/>
          <p:nvPr/>
        </p:nvPicPr>
        <p:blipFill>
          <a:blip r:embed="rId1"/>
          <a:stretch/>
        </p:blipFill>
        <p:spPr>
          <a:xfrm>
            <a:off x="152280" y="304920"/>
            <a:ext cx="4191120" cy="3863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Изображение 040"/>
          <p:cNvPicPr/>
          <p:nvPr/>
        </p:nvPicPr>
        <p:blipFill>
          <a:blip r:embed="rId2"/>
          <a:stretch/>
        </p:blipFill>
        <p:spPr>
          <a:xfrm>
            <a:off x="4419720" y="1676520"/>
            <a:ext cx="45720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62520" y="9144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Никогда русское государство не было так близко к распаду , как в период Смутного времени,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 почти 400 лет назад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3863880"/>
            <a:ext cx="457200" cy="15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2" descr="Изображение 039"/>
          <p:cNvPicPr/>
          <p:nvPr/>
        </p:nvPicPr>
        <p:blipFill>
          <a:blip r:embed="rId1"/>
          <a:stretch/>
        </p:blipFill>
        <p:spPr>
          <a:xfrm>
            <a:off x="304920" y="533520"/>
            <a:ext cx="3587760" cy="373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241-1"/>
          <p:cNvPicPr/>
          <p:nvPr/>
        </p:nvPicPr>
        <p:blipFill>
          <a:blip r:embed="rId2"/>
          <a:stretch/>
        </p:blipFill>
        <p:spPr>
          <a:xfrm>
            <a:off x="4343400" y="3124080"/>
            <a:ext cx="4495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81480" y="914040"/>
            <a:ext cx="32767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Изменники бояре провозгласили главой русского государства польского королевича Владисл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1520" y="3795480"/>
            <a:ext cx="381240" cy="12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Изображение 042"/>
          <p:cNvPicPr/>
          <p:nvPr/>
        </p:nvPicPr>
        <p:blipFill>
          <a:blip r:embed="rId1"/>
          <a:stretch/>
        </p:blipFill>
        <p:spPr>
          <a:xfrm>
            <a:off x="609480" y="304920"/>
            <a:ext cx="45957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2160" y="3049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Народ начал войну против польско-литовских захватчиков, которую возглавил староста из Нижнего Новгорода Козьма Минин  и князь Дмитрий Пожар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520" y="3232440"/>
            <a:ext cx="3049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990382"/>
          <p:cNvPicPr/>
          <p:nvPr/>
        </p:nvPicPr>
        <p:blipFill>
          <a:blip r:embed="rId1"/>
          <a:stretch/>
        </p:blipFill>
        <p:spPr>
          <a:xfrm>
            <a:off x="3962520" y="2590920"/>
            <a:ext cx="5181480" cy="4044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Изображение 044"/>
          <p:cNvPicPr/>
          <p:nvPr/>
        </p:nvPicPr>
        <p:blipFill>
          <a:blip r:embed="rId2"/>
          <a:stretch/>
        </p:blipFill>
        <p:spPr>
          <a:xfrm>
            <a:off x="228600" y="228600"/>
            <a:ext cx="3521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62c0a"/>
                </a:solidFill>
                <a:latin typeface="Arial"/>
              </a:rPr>
              <a:t>Минин и Пожа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600200" y="5638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Под Москвой была жестокая битва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4 ноября поляки открыли ворота Кремля и сдали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[IS7IR_1-10]_[PD_03-r]"/>
          <p:cNvPicPr/>
          <p:nvPr/>
        </p:nvPicPr>
        <p:blipFill>
          <a:blip r:embed="rId1"/>
          <a:stretch/>
        </p:blipFill>
        <p:spPr>
          <a:xfrm>
            <a:off x="1219320" y="914400"/>
            <a:ext cx="68580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86800" y="1896480"/>
            <a:ext cx="45720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8080" y="5333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Это был пример единения: представители разных сословий и разных религий объединились ради выживания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990380"/>
          <p:cNvPicPr/>
          <p:nvPr/>
        </p:nvPicPr>
        <p:blipFill>
          <a:blip r:embed="rId1"/>
          <a:stretch/>
        </p:blipFill>
        <p:spPr>
          <a:xfrm>
            <a:off x="1143000" y="380880"/>
            <a:ext cx="693432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4998960" cy="5791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1520" y="870120"/>
            <a:ext cx="3812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638680" y="1599840"/>
            <a:ext cx="33530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В Москве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Красной площ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героям Минину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Пожарск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постав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бронз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памя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4-10-29T10:42:2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