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B6F-5722-44DB-95FF-8F3C42CF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7F0-8BB7-406B-8549-86D84EEF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745-7B7C-45B4-875E-19F17E84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87A-78D7-43C8-AE43-C952B5ED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BA7E-0644-47FD-A87D-B0A187A2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B58-F4E0-4CC6-9886-8D8065F5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56E7-4032-455A-8AD1-2769DA8D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0B46-9604-429F-9DC2-5867141A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9CE5-1693-48D7-B333-8794C3E3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3E2D-2635-4B89-A4BB-C637DE0A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348-EDAF-4CE9-AA37-B32B1905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860-92BC-4050-97B5-63CE43D4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5DE5-BA1E-4578-A812-48478A351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commons.wikimedia.org/wiki/File:Alexander_Borodin.jpg?uselang=ru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4986000"/>
            <a:ext cx="8281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лександр Порфирьевич Бородин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833 – 188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Alexander Borodi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189000"/>
            <a:ext cx="3179880" cy="475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й композитор, учёный —химик, доктор медицины, профессор, академ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астник кружка «Могучая куч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оположник русского эпического симфониз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читается одним из основателей классических жанров симфонии и квартета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ивный общественный деятель: один из организаторов и педагогов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Женских врачебных курсов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торые дали возможность женщина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учить высшее образование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должатель традиций М.И.Гли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.П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роди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дился в Петербур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учался дома по всем предметам гимназического курса, изучал немецкий и французский языки и получил прекрасное образование. Уже в детстве обнаружил музыкальную одарённость, в 9 лет написав первое произведение — польку «Елена». Обучался игре 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лейте, фортепиано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виолонч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возрасте 10 лет стал интересоваться химией, которая с годами из увлечения превратилась в дело всей его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326880"/>
            <a:ext cx="9144000" cy="65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кончил Петербургскую Медико-хирургическую академию, потом работал в военно-сухопутном госпитале врач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года находился вместе со своим другом Дмитрием Менделеевым за границей в командировке для научного усовершенств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29 лет стал профессором в Медико-хирургической академии, где работал до конца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874872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мер в возрасте 53 лет от разрыва серд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270828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хоронен на кладбище Александро-Невской Лав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4114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гила А. П. Бородина на Тихвинском кладбище в Александро-Невской лав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95640" y="189000"/>
            <a:ext cx="4916520" cy="633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музыкальном творчестве Бородина отчётливо звучит тема величия русского народа, патриотизма и свободолюбия, совмещающая в себе эпическую широту и мужественность с глубоким лиризм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ворческое наследие Бородина, совмещавшего научную и преподавательскую деятельность со служением искусству, сравнительно невелико по объёму, однако внесло ценнейший вклад в сокровищницу русской музыкальной класс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Основные произвед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052640"/>
            <a:ext cx="8137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ера «Князь Игорь»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симфон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мерные произведения (трио, квартеты,     квинтеты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изведения для фортепиано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омансы, большинство из которых написаны на стихи Бородин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статьи о музык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 42 научные работ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иболее значительным произведением Бородина по праву признаётся опера «Князь Игорь», являющаяся образцом национального героического эпоса в музыке. Автор работал над главным произведением своей жизни в течение 18 лет, но опера так и не была окончена: уже после смерти Бородина оперу дописали и сделали оркестровку по материалам Бородина композитор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. А. Римский-Корсаков и А. К. Глазун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6T16:51:48Z</dcterms:created>
  <dc:creator>Татьяна</dc:creator>
  <dc:description/>
  <dc:language>en-US</dc:language>
  <cp:lastModifiedBy>Татьяна</cp:lastModifiedBy>
  <dcterms:modified xsi:type="dcterms:W3CDTF">2015-10-16T18:49:12Z</dcterms:modified>
  <cp:revision>2</cp:revision>
  <dc:subject/>
  <dc:title>Александр Порфирьевич Бородин</dc:title>
</cp:coreProperties>
</file>