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0F8-9A99-49B4-9313-842C7FB3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234-0F15-4FA7-A9D1-1EE2E98F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CC50-72FC-4254-ACC5-F534AF063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4C8-A2D9-4E13-AA64-B7AA1912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1110-AC38-4B6B-911D-E7F5576FE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17F5-09D6-45A4-B559-70535DC2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20F9-4B65-4147-A0C7-B961F2E2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ED1C-230E-48A0-A454-82723B5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94EB-3687-4598-AC6C-09579619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81B-A62A-4919-9078-B699EF82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8665-76E0-4134-9FF9-0D15BEE9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7113-6D32-4AA4-A992-04B0630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8898-B719-4BB4-BD10-FE2EF98B7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commons.wikimedia.org/wiki/File:Alexander_Borodin.jpg?uselang=ru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4986000"/>
            <a:ext cx="82818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лександр Порфирьевич Бородин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833 – 188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Alexander Borod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189000"/>
            <a:ext cx="3179880" cy="475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й композитор, учёный —химик, доктор медицины, профессор, академ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частник кружка «Могучая ку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новоположник русского эпического симфо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читается одним из основателей классических жанров симфонии и квартет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тивный общественный деятель: один из организаторов и педагогов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Женских врачебных курсов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торые дали возможность женщинам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лучить высшее образование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должатель традиций М.И.Гл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.П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ород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одился в Петербур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учался дома по всем предметам гимназического курса, изучал немецкий и французский языки и получил прекрасное образование. Уже в детстве обнаружил музыкальную одарённость, в 9 лет написав первое произведение — польку «Елена». Обучался игре н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лейте, фортепиано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виолонче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возрасте 10 лет стал интересоваться химией, которая с годами из увлечения превратилась в дело всей его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326880"/>
            <a:ext cx="9144000" cy="65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кончил Петербургскую Медико-хирургическую академию, потом работал в военно-сухопутном госпитале врач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года находился вместе со своим другом Дмитрием Менделеевым за границей в командировке для научного усовершенств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9 лет стал профессором в Медико-хирургической академии, где работал до конца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74872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мер в возрасте 53 лет от разрыва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08280"/>
            <a:ext cx="74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хоронен на кладбище Александро-Невской Лав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4114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гила А. П. Бородина на Тихвинском кладбище в Александро-Невской лав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995640" y="189000"/>
            <a:ext cx="4916520" cy="633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музыкальном творчестве Бородина отчётливо звучит тема величия русского народа, патриотизма и свободолюбия, совмещающая в себе эпическую широту и мужественность с глубоким лиризм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ворческое наследие Бородина, совмещавшего научную и преподавательскую деятельность со служением искусству, сравнительно невелико по объёму, однако внесло ценнейший вклад в сокровищницу русской музыкальной класс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Основные произвед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052640"/>
            <a:ext cx="813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ера «Князь Игорь»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симфони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амерные произведения (трио, квартеты,     квинтеты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изведения для фортепиано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омансы, большинство из которых написаны на стихи Бородина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статьи о музы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42 научные работ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иболее значительным произведением Бородина по праву признаётся опера «Князь Игорь», являющаяся образцом национального героического эпоса в музыке. Автор работал над главным произведением своей жизни в течение 18 лет, но опера так и не была окончена: уже после смерти Бородина оперу дописали и сделали оркестровку по материалам Бородина композитор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. А. Римский-Корсаков и А. К. Глазун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6T16:51:48Z</dcterms:created>
  <dc:creator>Татьяна</dc:creator>
  <dc:description/>
  <dc:language>en-US</dc:language>
  <cp:lastModifiedBy>Татьяна</cp:lastModifiedBy>
  <dcterms:modified xsi:type="dcterms:W3CDTF">2015-10-16T18:49:12Z</dcterms:modified>
  <cp:revision>2</cp:revision>
  <dc:subject/>
  <dc:title>Александр Порфирьевич Бородин</dc:title>
</cp:coreProperties>
</file>