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4AC-8828-4C4D-9F6F-00608FCD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F0F-7862-4E2E-B4E6-C903388F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78D-670D-41BD-8345-21849568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FB9-2EDD-488F-8730-6985F34F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D5D-A0AA-487A-BFE8-016E1855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4FF-6BC2-40DD-AD31-FC7678C0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A75-232E-471C-9BC3-F48D158E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752-DF4E-4687-B478-63F0324F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C44-7FC5-42A6-9AA9-1171805D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378-08D9-435C-BEA7-C3AE1388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B9C-7AF4-4563-9003-BFC6F26A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E9C-DA92-4F3E-9395-0D95123D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2E42-DECA-48BC-B7C0-D0204D39C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 rot="5400000">
            <a:off x="-1261080" y="2780280"/>
            <a:ext cx="5545080" cy="136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2000"/>
                  </a:srgbClr>
                </a:solidFill>
                <a:latin typeface="Arial"/>
              </a:rPr>
              <a:t>Баскет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2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Контроль мяч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к контролирует мяч, когда он держит или ведет живой мяч, или живой мяч находится в его распоря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оманда контролирует мяч, когда Игрок этой команды контролирует живой мяч или Игроки этой команды передают мяч друг д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783-copy"/>
          <p:cNvPicPr/>
          <p:nvPr/>
        </p:nvPicPr>
        <p:blipFill>
          <a:blip r:embed="rId1"/>
          <a:stretch/>
        </p:blipFill>
        <p:spPr>
          <a:xfrm>
            <a:off x="0" y="260280"/>
            <a:ext cx="471492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равило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56000" y="148428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яч, заброшенный с площадки, засчитывается команде, атакующей корзину, в которую он заброшен,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со штрафного броска, засчитывается одно (1) оч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с игры, из 2-х очковой зоны засчитывается два (2) оч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из 3-х очковой зоны, засчитывается три (3) 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Если Игрок случайно забрасывает мяч с площадки в свою корзину, очки записываются Капитану соперников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Зона трехочковых бро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860480"/>
            <a:ext cx="5435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оной трехочковых бросков с игры для команды является вся игровая площадка, за исключением области около корзины соперника, ограниченно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вумя параллельными линиями, начинающимся с лицевой линии на расстоянии 6.25 м от точки на площадке, полученной на пересечении с ней перпендикуляра, опущенного из центра корзины соперника. Расстояние от этой точки до внутреннего края середины лицевой линии равно 1.575 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олукругом радиусом 6.25 м до внешнего края его линии с центром в той же точке, что указана выше, до соединения с параллельными ли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линия трехочкового броска"/>
          <p:cNvPicPr/>
          <p:nvPr/>
        </p:nvPicPr>
        <p:blipFill>
          <a:blip r:embed="rId1"/>
          <a:stretch/>
        </p:blipFill>
        <p:spPr>
          <a:xfrm>
            <a:off x="5508720" y="1413000"/>
            <a:ext cx="3333600" cy="277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8-3"/>
          <p:cNvPicPr/>
          <p:nvPr/>
        </p:nvPicPr>
        <p:blipFill>
          <a:blip r:embed="rId2"/>
          <a:stretch/>
        </p:blipFill>
        <p:spPr>
          <a:xfrm>
            <a:off x="5508720" y="422100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Ведение мяч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5435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едение начинается, когда Игрок, получивший контроль над живым мячом на площадке, бросает, отбивает его в пол или катит его по полу и касается мяча опять, прежде, чем его коснется другой Иг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едение заканчивается в тот момент, когда Игрок касается мяча одновременно двумя руками или допускает задержку мяча в одной или обеих рук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и ведении мяч может быть подброшен в воздух при условии, что мяч коснется пола раньше, чем Игрок снова коснется мяча своей ру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Число шагов, которые Игрок может сделать, когда мяч не находится в контакте с его рукой, не ограниче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ледующие действия не являются ведени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следовательные броски в корзину против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лучайная потеря мяча в начале или в конце ве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пытки установить контроль над мячом путем выбивания его из области расположения других Игро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ыбивание мяча из-под контроля другого Игро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епятствование передаче и перехват мяч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еребрасывание мяча из руки (рук) в руку (руки) и задержка его прежде, чем он коснется пола, при условии, что Игрок не совершает нарушения в передвижении с мяч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asketball_game"/>
          <p:cNvPicPr/>
          <p:nvPr/>
        </p:nvPicPr>
        <p:blipFill>
          <a:blip r:embed="rId1"/>
          <a:stretch/>
        </p:blipFill>
        <p:spPr>
          <a:xfrm>
            <a:off x="5457960" y="1197000"/>
            <a:ext cx="36860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робеж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211640" y="62064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робежка - запрещенное перемещение одной или обеих ног в любом направлении, во время контроля живого мяча на площад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preview"/>
          <p:cNvPicPr/>
          <p:nvPr/>
        </p:nvPicPr>
        <p:blipFill>
          <a:blip r:embed="rId1"/>
          <a:stretch/>
        </p:blipFill>
        <p:spPr>
          <a:xfrm>
            <a:off x="6516720" y="3284640"/>
            <a:ext cx="2230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80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Три секунд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71280" y="3860640"/>
            <a:ext cx="61563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к не должен оставаться более трех (3) секунд подряд в ограниченной зоне соперника, когда его команда контролирует живой мяч на площадке и игровые часы включ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Для того, чтобы Игрок рассматривался находящимся вне ограниченной зоны, он должен расположить обе ноги на полу вне эт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553899"/>
          <p:cNvPicPr/>
          <p:nvPr/>
        </p:nvPicPr>
        <p:blipFill>
          <a:blip r:embed="rId1"/>
          <a:stretch/>
        </p:blipFill>
        <p:spPr>
          <a:xfrm>
            <a:off x="5003640" y="620640"/>
            <a:ext cx="3240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Ф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32000" y="1341360"/>
            <a:ext cx="39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ол - это несоблюдение Правил, вследствие персонального контакта с соперником и/или неспортивного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ол фиксируется провинившемуся и наказывается согласно положениям соответствующей статьи Правил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21830m"/>
          <p:cNvPicPr/>
          <p:nvPr/>
        </p:nvPicPr>
        <p:blipFill>
          <a:blip r:embed="rId1"/>
          <a:stretch/>
        </p:blipFill>
        <p:spPr>
          <a:xfrm>
            <a:off x="179280" y="333360"/>
            <a:ext cx="47037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Наказани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679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в нападении, никакие очки не засчитываются и мяч передается сопернику для вбрасывания из-за пределов площадки напротив линии штрафного брос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в защите, атакующей команде засчитыва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два (2) очка, если мяч был выпущен из 2-очковой з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три (3) очка, если мяч был выпущен из 3-очковой з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Засчитывание мяча и последующая процедура таковы, как в случае попадания мяча в корзи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одновременно Игроками обеих команд, никакие очки не засчитываются. Игра возобновляется спорным брос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Штрафные броск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3789360"/>
            <a:ext cx="864216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Штрафной бросок - это возможность, предоставляемая Игроку, набрать одно (1) очко броском в корзину без помех с позиции за линией штрафного броска и внутри полукруг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ерия штрафных бросков - это все штрафные броски в результате наказания за один фо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Штрафной бросок и все действия, связанные с ним, заканчиваются, когда мяч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ходит непосредственно в корзину сверху, остается в ней или проходит сквозь не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Не имеет больше возможности попасть в корзину непосредственно или после касания ко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авильно был сыгран Игроком после того, как коснулся ко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асается по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288627762_b2_1266608318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12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нахождение игроков при штрафном броске"/>
          <p:cNvPicPr/>
          <p:nvPr/>
        </p:nvPicPr>
        <p:blipFill>
          <a:blip r:embed="rId2"/>
          <a:stretch/>
        </p:blipFill>
        <p:spPr>
          <a:xfrm>
            <a:off x="4859280" y="1052640"/>
            <a:ext cx="3333960" cy="2076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4420800" y="3284640"/>
            <a:ext cx="40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ждение игроков при штрафном брос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550-1"/>
          <p:cNvPicPr/>
          <p:nvPr/>
        </p:nvPicPr>
        <p:blipFill>
          <a:blip r:embed="rId1"/>
          <a:stretch/>
        </p:blipFill>
        <p:spPr>
          <a:xfrm>
            <a:off x="6516720" y="260280"/>
            <a:ext cx="2444760" cy="2963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Развитие баскетбольных навыков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Ведение мяч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89308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Стоя на месте. Ведение вокруг корпу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2. Стоя на месте. Ведение вокруг и между ног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3. Стоя на месте. Разновысокое ведение. Несколько ударов с высотой отскока 60-80 см и сразу же переход на низкое ведение с высотой отскока 10-15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4. Стоя на месте. Очень частое низкое ведение попеременно левой и правой ру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5. Стоя на месте. Ведение двух мяч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6. Стоя на месте. Ведение трех-четырех мяч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7. Сидя на скамейке. Очень низкое ведение, высота отскока не более 5-7 см от по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8. Сидя на скамейке. Ведение мяча под вытянутыми вперед ногами в быстром тем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9. Бег на носках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10. Бег на пятках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11. Бег на краях стопы (поочередно внешнем и внутреннем)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12. Бег в полуприседе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48000" y="5157360"/>
            <a:ext cx="57960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зентация подготовлена </a:t>
            </a: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Светловой Е.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преподавателем физкультур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ГБОУ гимназии №39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СПБ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067280" y="404280"/>
            <a:ext cx="4619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о спортивной игрой -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 основными  правилами игры в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учить навыкам владения элементами техники баскет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3. Передвижение в глубоком приседе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4. Спортивная ходьба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5. Гладкий бег с поворотами и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6. Гладкий бег с переводами мяча с руки на руку перед собой, за спиной и между ног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7. Бег приставными шагами: мяч проходит между ногами на каждом ша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8. Бег окрестным шагом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9. Бег спиной впере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. Передвижение спиной вперед в глубоком приседе с поворотами на 90* с ведением мяча. Таким образом тренируется пивотный ша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1. Бег с выбрасыванием прямых ног впере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2. Бег взахлест наза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3. Бег с высоким подниманием бедра. Мяч переводится с руки на руку ударом под ногой на каждом ша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4. Передвижение попеременными прыжками с ноги на ногу с ведением мя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Тренировка брос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691920"/>
            <a:ext cx="43927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Броски из-под щита. Игроки выстраиваются в две колонны. В каждой колонне по два - три мяча. После ведения головной игрок забрасывает мяч и передает его в свою колонну. Затем переходит в хвост другой колонны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. Броски из-под кольца с препятствием. Игрок отдает мяч тренеру, разбегается к кольцу, получает ответную передачу, делает два шага, перепрыгивая через стул, и бросает по кольцу. Задача: при броске выпрыгнуть максимально вверх, не задеть стул и быть готовым к борьбе на щите. Упражнение воспитывает у игроков стремление завершать бросок из-под кольца в высшей точке прыжка, оставаться в игре после броска и участвовать в борьбе за отскок на чужом щите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3. То же, что и упр. 2, но тренер передает игроку мяч для завершения атаки в одном прыж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review"/>
          <p:cNvPicPr/>
          <p:nvPr/>
        </p:nvPicPr>
        <p:blipFill>
          <a:blip r:embed="rId1"/>
          <a:stretch/>
        </p:blipFill>
        <p:spPr>
          <a:xfrm>
            <a:off x="324000" y="260280"/>
            <a:ext cx="4105080" cy="6096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653200" y="260280"/>
            <a:ext cx="63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Техника выполнения бро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Basketball"/>
          <p:cNvPicPr/>
          <p:nvPr/>
        </p:nvPicPr>
        <p:blipFill>
          <a:blip r:embed="rId1"/>
          <a:stretch/>
        </p:blipFill>
        <p:spPr>
          <a:xfrm>
            <a:off x="0" y="260280"/>
            <a:ext cx="5477040" cy="6248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46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роски со средней дистанции без сопротивления. Игрок ведет мяч от центра поля к линии штрафного броска, выполняет бросок в прыжке, идет на подбор, в случае промаха добивает мяч в кольцо, вновь подбирает его и с ведением возвращается к линии штрафного броска. Повторить 10-15 раз подряд в быстром тем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. То же, что и упр. 4, но ведение начинается от лицевой линии к линии штрафного броска и бросок выполняется с поворотом на 180*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. То же, что и упр. 4, но бросок выполняется с расстояния 5-6-8 м, с раз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7. То же, что и упр. 6, но после выполнения передачи от ст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Улыбнемся вместе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                           Последний уда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basketbol.mpg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Basketball"/>
          <p:cNvPicPr/>
          <p:nvPr/>
        </p:nvPicPr>
        <p:blipFill>
          <a:blip r:embed="rId1"/>
          <a:stretch/>
        </p:blipFill>
        <p:spPr>
          <a:xfrm>
            <a:off x="5508720" y="3013200"/>
            <a:ext cx="3370320" cy="384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ballon"/>
          <p:cNvPicPr/>
          <p:nvPr/>
        </p:nvPicPr>
        <p:blipFill>
          <a:blip r:embed="rId2"/>
          <a:stretch/>
        </p:blipFill>
        <p:spPr>
          <a:xfrm>
            <a:off x="395280" y="333360"/>
            <a:ext cx="3282840" cy="388764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4211640" y="1341360"/>
            <a:ext cx="417672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Удачной иг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sport.rin.ru/html/rools_5-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mlhttp://sport.rin.ru/images/rools/-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dic.academic.ru/dic.nsf/bse/67613/Баскетб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asketb.wordpress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top-desktop.ru/files/sport/800/8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olympus.ourlife.ru/gallery/data/media/35/0783-copy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Физкультура и Спорт малая энциклопедия (Гусевой Г.В., Кондрашовой Н.М., Милютина В.П., 1992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портивные игры. Учебник для физ. ин-тов. Под ред. Портных Ю. И.М. 1975г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Баскетбол учебник для физкультурных институтов. Под ред. Н.В. Семашко. "Физкультура и спорт", 197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4. Упражнения в баскетболе. "Физкультура и спорт", 1972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ратко о баскетболе можно сказать, что это спортивная командная игра, в которой игроки забрасывают мяч в "корзину", состоящую из кольца с сеткой в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одиной баскетбола являются Соединенные Штаты Америки. Игра была придумана в 1891 году в учебном центре Христианской молодежной ассоциации в Спрингфилде, штат Массачусетс. Чтобы оживить уроки по гимнастике, молодой преподаватель, уроженец Канады, доктор Дисеймс Нейсмит придумал новую игру. Он прикрепил к перилам балкона две фруктовые корзины без дна, в которые нужно было забрасывать футбольный мяч (basket - корзина, boll - мяч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Игра Баскетбо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4000" y="981000"/>
            <a:ext cx="50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 баскетбол играют две (2) команды, в каждой из которых по пять (5) игроков. Цель каждой команды - забросить мяч в корзину соперника и помешать другой команде овладеть мячом, и забросить его в корз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2 Корзина: своя/соперн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орзина, которую команда атакует, является корзиной соперника, а корзина, которую та же команда защищает, называется собственной корзиной коман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3 Перемещение мяч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Мяч можно передавать, бросать, отбивать, катить или вести в любом направлении при условии соблюдения положений соответствующих статей, изложенных Прави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4 Победитель 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бедителем игры становится команда, которая по окончании игрового времени четвертого периода или, если необходимо, дополнительного(-ых) периода(-ов) набрала большее количество оч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BasketballPlayers"/>
          <p:cNvPicPr/>
          <p:nvPr/>
        </p:nvPicPr>
        <p:blipFill>
          <a:blip r:embed="rId1"/>
          <a:stretch/>
        </p:blipFill>
        <p:spPr>
          <a:xfrm>
            <a:off x="0" y="0"/>
            <a:ext cx="2843280" cy="2054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лощадк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 размеры л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вая площадка должна представлять собой плоскую прямоугольную твердую поверхность без каких-либо препятствий Для главных официальных соревнований ФИБА, а также для строящихся новых игровых площадок размеры, измеренные от внутреннего края ограничительных линий, должны быть 28 метров в длину и 15 метров шир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205526878"/>
          <p:cNvPicPr/>
          <p:nvPr/>
        </p:nvPicPr>
        <p:blipFill>
          <a:blip r:embed="rId2"/>
          <a:stretch/>
        </p:blipFill>
        <p:spPr>
          <a:xfrm>
            <a:off x="4211640" y="4076640"/>
            <a:ext cx="4762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Щиты и опоры щ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2436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Размеры щитов должны быть: 1,80 м по горизонтали и 1,05 м по вертикал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кольцо"/>
          <p:cNvPicPr/>
          <p:nvPr/>
        </p:nvPicPr>
        <p:blipFill>
          <a:blip r:embed="rId1"/>
          <a:stretch/>
        </p:blipFill>
        <p:spPr>
          <a:xfrm>
            <a:off x="6012000" y="2492280"/>
            <a:ext cx="2879640" cy="200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nd1"/>
          <p:cNvPicPr/>
          <p:nvPr/>
        </p:nvPicPr>
        <p:blipFill>
          <a:blip r:embed="rId2"/>
          <a:stretch/>
        </p:blipFill>
        <p:spPr>
          <a:xfrm>
            <a:off x="2987640" y="4653000"/>
            <a:ext cx="47023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19280" y="259920"/>
            <a:ext cx="4824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аждая команда должна состоять и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е более чем десяти (10) членов команды, имеющих право игр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ренера и, по желанию команды, помощника трен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апитана, который должен быть одним из членов команды, имеющего право игр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ять (5) Игроков каждой команды должны находиться на площадке в течение игрового времени и они могут быть замен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Basketball_game"/>
          <p:cNvPicPr/>
          <p:nvPr/>
        </p:nvPicPr>
        <p:blipFill>
          <a:blip r:embed="rId1"/>
          <a:stretch/>
        </p:blipFill>
        <p:spPr>
          <a:xfrm>
            <a:off x="0" y="260280"/>
            <a:ext cx="4316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Игровое время, ничейный счет и дополнительные периоды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а состоит из четырех (4) периодов по десять (10)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родолжительность перерыва между первым и вторым, третьим и четвертым периодами игры и перед каждым дополнительным периодом составляет две (2) мину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родолжительность перерыва между половинами игры - пятнадцать (15)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Как играют мячом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24360" y="764640"/>
            <a:ext cx="4402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 баскетболе мячом играют только ру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Бежать с мячом, преднамеренно бить по нему ногой, блокировать любой частью ноги или бить по нему кулаком является наруше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Случайное соприкосновение или касание мяча стопой или ногой не является наруш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BasketballPlayers"/>
          <p:cNvPicPr/>
          <p:nvPr/>
        </p:nvPicPr>
        <p:blipFill>
          <a:blip r:embed="rId1"/>
          <a:stretch/>
        </p:blipFill>
        <p:spPr>
          <a:xfrm>
            <a:off x="5940360" y="4508640"/>
            <a:ext cx="295128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1:29:03Z</dcterms:created>
  <dc:creator>Admin</dc:creator>
  <dc:description/>
  <dc:language>en-US</dc:language>
  <cp:lastModifiedBy>Андрей</cp:lastModifiedBy>
  <dcterms:modified xsi:type="dcterms:W3CDTF">2017-01-08T07:14:44Z</dcterms:modified>
  <cp:revision>6</cp:revision>
  <dc:subject/>
  <dc:title>Слайд 1</dc:title>
</cp:coreProperties>
</file>