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DAA-0D36-4EDA-84BF-DA46346A5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903-F5D5-4573-8FDD-27E28A4F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610-0E86-4F2B-8A28-0A786A8FE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D48E-8675-4AE8-B601-435F44D0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FB5-8645-43B9-A8C1-91A8547C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361-A4D8-48EE-9E74-C5C92908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64F-69B4-4E97-B028-416571B9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C81-3334-4FD3-A2C4-9C11FCA2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415-2A0C-45DB-9445-58D9D85E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7B2-FC18-4B27-BC38-131F1A0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55F-FF69-44D7-80C6-D6FCF554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9B9-52D6-4A6F-965C-BEE5816F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8373-5CA5-41CD-8F71-712C387D3B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 rot="5400000">
            <a:off x="-1261080" y="2780280"/>
            <a:ext cx="5545080" cy="136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>
                    <a:alpha val="92000"/>
                  </a:srgbClr>
                </a:solidFill>
                <a:latin typeface="Arial"/>
              </a:rPr>
              <a:t>Баске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>
                  <a:alpha val="92000"/>
                </a:srgbClr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онтроль мяч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88000" y="162864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контролирует мяч, когда он держит или ведет живой мяч, или живой мяч находится в его распоряж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оманда контролирует мяч, когда Игрок этой команды контролирует живой мяч или Игроки этой команды передают мяч друг друг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0783-copy"/>
          <p:cNvPicPr/>
          <p:nvPr/>
        </p:nvPicPr>
        <p:blipFill>
          <a:blip r:embed="rId1"/>
          <a:stretch/>
        </p:blipFill>
        <p:spPr>
          <a:xfrm>
            <a:off x="0" y="260280"/>
            <a:ext cx="471492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авил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56000" y="1484280"/>
            <a:ext cx="460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Мяч, заброшенный с площадки, засчитывается команде, атакующей корзину, в которую он заброшен,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о штрафного броска, засчитывается одно (1) оч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с игры, из 2-х очковой зоны засчитывается два (2) о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а мяч, заброшенный из 3-х очковой зоны, засчитывается три (3) 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Если Игрок случайно забрасывает мяч с площадки в свою корзину, очки записываются Капитану соперников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Зона трехочковых брос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860480"/>
            <a:ext cx="54356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Зоной трехочковых бросков с игры для команды является вся игровая площадка, за исключением области около корзины соперника, ограниченно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Двумя параллельными линиями, начинающимся с лицевой линии на расстоянии 6.25 м от точки на площадке, полученной на пересечении с ней перпендикуляра, опущенного из центра корзины соперника. Расстояние от этой точки до внутреннего края середины лицевой линии равно 1.575 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олукругом радиусом 6.25 м до внешнего края его линии с центром в той же точке, что указана выше, до соединения с параллельными ли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линия трехочкового броска"/>
          <p:cNvPicPr/>
          <p:nvPr/>
        </p:nvPicPr>
        <p:blipFill>
          <a:blip r:embed="rId1"/>
          <a:stretch/>
        </p:blipFill>
        <p:spPr>
          <a:xfrm>
            <a:off x="5508720" y="1413000"/>
            <a:ext cx="3333600" cy="277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8-3"/>
          <p:cNvPicPr/>
          <p:nvPr/>
        </p:nvPicPr>
        <p:blipFill>
          <a:blip r:embed="rId2"/>
          <a:stretch/>
        </p:blipFill>
        <p:spPr>
          <a:xfrm>
            <a:off x="5508720" y="4221000"/>
            <a:ext cx="3384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5435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начинается, когда Игрок, получивший контроль над живым мячом на площадке, бросает, отбивает его в пол или катит его по полу и касается мяча опять, прежде, чем его коснется другой Иг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едение заканчивается в тот момент, когда Игрок касается мяча одновременно двумя руками или допускает задержку мяча в одной или обеих ру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и ведении мяч может быть подброшен в воздух при условии, что мяч коснется пола раньше, чем Игрок снова коснется мяча своей ру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Число шагов, которые Игрок может сделать, когда мяч не находится в контакте с его рукой, не ограниче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едующие действия не являются ведение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следовательные броски в корзину противни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лучайная потеря мяча в начале или в конце вед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пытки установить контроль над мячом путем выбивания его из области расположения других Игро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ыбивание мяча из-под контроля другого Игро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епятствование передаче и перехват мяч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еребрасывание мяча из руки (рук) в руку (руки) и задержка его прежде, чем он коснется пола, при условии, что Игрок не совершает нарушения в передвижении с мяч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Basketball_game"/>
          <p:cNvPicPr/>
          <p:nvPr/>
        </p:nvPicPr>
        <p:blipFill>
          <a:blip r:embed="rId1"/>
          <a:stretch/>
        </p:blipFill>
        <p:spPr>
          <a:xfrm>
            <a:off x="5457960" y="1197000"/>
            <a:ext cx="368604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робеж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211640" y="620640"/>
            <a:ext cx="46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Пробежка - запрещенное перемещение одной или обеих ног в любом направлении, во время контроля живого мяча на площад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preview"/>
          <p:cNvPicPr/>
          <p:nvPr/>
        </p:nvPicPr>
        <p:blipFill>
          <a:blip r:embed="rId1"/>
          <a:stretch/>
        </p:blipFill>
        <p:spPr>
          <a:xfrm>
            <a:off x="6516720" y="3284640"/>
            <a:ext cx="22305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0800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и секунды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771280" y="3860640"/>
            <a:ext cx="615636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к не должен оставаться более трех (3) секунд подряд в ограниченной зоне соперника, когда его команда контролирует живой мяч на площадке и игровые часы включе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Для того, чтобы Игрок рассматривался находящимся вне ограниченной зоны, он должен расположить обе ноги на полу вне эт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1553899"/>
          <p:cNvPicPr/>
          <p:nvPr/>
        </p:nvPicPr>
        <p:blipFill>
          <a:blip r:embed="rId1"/>
          <a:stretch/>
        </p:blipFill>
        <p:spPr>
          <a:xfrm>
            <a:off x="5003640" y="620640"/>
            <a:ext cx="3240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Ф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32000" y="1341360"/>
            <a:ext cx="399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- это несоблюдение Правил, вследствие персонального контакта с соперником и/или неспортивного пове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Фол фиксируется провинившемуся и наказывается согласно положениям соответствующей статьи Правил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121830m"/>
          <p:cNvPicPr/>
          <p:nvPr/>
        </p:nvPicPr>
        <p:blipFill>
          <a:blip r:embed="rId1"/>
          <a:stretch/>
        </p:blipFill>
        <p:spPr>
          <a:xfrm>
            <a:off x="179280" y="333360"/>
            <a:ext cx="47037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Наказание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40000" y="1599840"/>
            <a:ext cx="4679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нападении, никакие очки не засчитываются и мяч передается сопернику для вбрасывания из-за пределов площадки напротив линии штрафного брос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в защите, атакующей команде засчиты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два (2) очка, если мяч был выпущен из 2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три (3) очка, если мяч был выпущен из 3-очковой зо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Засчитывание мяча и последующая процедура таковы, как в случае попадания мяча в корзин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Если нарушение совершается одновременно Игроками обеих команд, никакие очки не засчитываются. Игра возобновляется спорным брос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Штрафные броск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3789360"/>
            <a:ext cx="864216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- это возможность, предоставляемая Игроку, набрать одно (1) очко броском в корзину без помех с позиции за линией штрафного броска и внутри полукруг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ерия штрафных бросков - это все штрафные броски в результате наказания за один фо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Штрафной бросок и все действия, связанные с ним, заканчиваются, когда мяч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ходит непосредственно в корзину сверху, остается в ней или проходит сквозь не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Не имеет больше возможности попасть в корзину непосредственно или после касани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равильно был сыгран Игроком после того, как коснулся кольц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асается пол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288627762_b2_1266608318"/>
          <p:cNvPicPr/>
          <p:nvPr/>
        </p:nvPicPr>
        <p:blipFill>
          <a:blip r:embed="rId1"/>
          <a:stretch/>
        </p:blipFill>
        <p:spPr>
          <a:xfrm>
            <a:off x="250920" y="907920"/>
            <a:ext cx="3313080" cy="3121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нахождение игроков при штрафном броске"/>
          <p:cNvPicPr/>
          <p:nvPr/>
        </p:nvPicPr>
        <p:blipFill>
          <a:blip r:embed="rId2"/>
          <a:stretch/>
        </p:blipFill>
        <p:spPr>
          <a:xfrm>
            <a:off x="4859280" y="1052640"/>
            <a:ext cx="3333960" cy="2076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4420800" y="3284640"/>
            <a:ext cx="40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хождение игроков при штрафном брос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550-1"/>
          <p:cNvPicPr/>
          <p:nvPr/>
        </p:nvPicPr>
        <p:blipFill>
          <a:blip r:embed="rId1"/>
          <a:stretch/>
        </p:blipFill>
        <p:spPr>
          <a:xfrm>
            <a:off x="6516720" y="260280"/>
            <a:ext cx="2444760" cy="29638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Развитие баскетбольных навыков.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Ведение мяч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0560" y="2133360"/>
            <a:ext cx="8893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. </a:t>
            </a: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Стоя на месте. Ведение вокруг корпу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2. Стоя на месте. Ведение вокруг и между нога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3. Стоя на месте. Разновысокое ведение. Несколько ударов с высотой отскока 60-80 см и сразу же переход на низкое ведение с высотой отскока 10-15 с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4. Стоя на месте. Очень частое низкое ведение попеременно левой и правой рук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5. Стоя на месте. Ведение дву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6. Стоя на месте. Ведение трех-четырех мяч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7. Сидя на скамейке. Очень низкое ведение, высота отскока не более 5-7 см от п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8. Сидя на скамейке. Ведение мяча под вытянутыми вперед ногами в быстром тем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9. Бег на нос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0. Бег на пятках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1. Бег на краях стопы (поочередно внешнем и внутреннем)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eorgia"/>
              </a:rPr>
              <a:t>12. Бег в полуприседе с ведением мяч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48000" y="5157360"/>
            <a:ext cx="5796000" cy="15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зентация подготовлена </a:t>
            </a: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Светловой Е.Г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преподавателем физкультур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ГБОУ гимназии №39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Lucida Sans Unicode"/>
              </a:rPr>
              <a:t>СПБ 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67280" y="404280"/>
            <a:ext cx="46195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Цель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о спортивной игрой -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ознакомить учащихся с основными  правилами игры в баскетб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Обучить навыкам владения элементами техники баскетб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3. Передвижение в глубоком приседе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4. Спортивная ходьба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5. Гладкий бег с поворотами и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6. Гладкий бег с переводами мяча с руки на руку перед собой, за спиной и между ног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7. Бег приставными шагами: мяч проходит между ногами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8. Бег окрестным шагом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9. Бег спиной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0. Передвижение спиной вперед в глубоком приседе с поворотами на 90* с ведением мяча. Таким образом тренируется пивотный ша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1. Бег с выбрасыванием прямых ног впере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2. Бег взахлест назад с ведением мяч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3. Бег с высоким подниманием бедра. Мяч переводится с руки на руку ударом под ногой на каждом шаг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4. Передвижение попеременными прыжками с ноги на ногу с ведением мяч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Тренировка брос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691920"/>
            <a:ext cx="43927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Броски из-под щита. Игроки выстраиваются в две колонны. В каждой колонне по два - три мяча. После ведения головной игрок забрасывает мяч и передает его в свою колонну. Затем переходит в хвост другой колонны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2. Броски из-под кольца с препятствием. Игрок отдает мяч тренеру, разбегается к кольцу, получает ответную передачу, делает два шага, перепрыгивая через стул, и бросает по кольцу. Задача: при броске выпрыгнуть максимально вверх, не задеть стул и быть готовым к борьбе на щите. Упражнение воспитывает у игроков стремление завершать бросок из-под кольца в высшей точке прыжка, оставаться в игре после броска и участвовать в борьбе за отскок на чужом щите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3. То же, что и упр. 2, но тренер передает игроку мяч для завершения атаки в одном прыж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preview"/>
          <p:cNvPicPr/>
          <p:nvPr/>
        </p:nvPicPr>
        <p:blipFill>
          <a:blip r:embed="rId1"/>
          <a:stretch/>
        </p:blipFill>
        <p:spPr>
          <a:xfrm>
            <a:off x="324000" y="260280"/>
            <a:ext cx="4105080" cy="6096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2653200" y="260280"/>
            <a:ext cx="632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"/>
              </a:rPr>
              <a:t>Техника выполнения бро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Basketball"/>
          <p:cNvPicPr/>
          <p:nvPr/>
        </p:nvPicPr>
        <p:blipFill>
          <a:blip r:embed="rId1"/>
          <a:stretch/>
        </p:blipFill>
        <p:spPr>
          <a:xfrm>
            <a:off x="0" y="260280"/>
            <a:ext cx="5477040" cy="6248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00720" y="62064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роски со средней дистанции без сопротивления. Игрок ведет мяч от центра поля к линии штрафного броска, выполняет бросок в прыжке, идет на подбор, в случае промаха добивает мяч в кольцо, вновь подбирает его и с ведением возвращается к линии штрафного броска. Повторить 10-15 раз подряд в быстром темп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 То же, что и упр. 4, но ведение начинается от лицевой линии к линии штрафного броска и бросок выполняется с поворотом на 180*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 То же, что и упр. 4, но бросок выполняется с расстояния 5-6-8 м, с разных точе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. То же, что и упр. 6, но после выполнения передачи от ст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Улыбнемся вместе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                          Последний уд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basketbol.mpg" descr=""/>
          <p:cNvPicPr/>
          <p:nvPr/>
        </p:nvPicPr>
        <p:blipFill>
          <a:blip r:embed="rId1"/>
          <a:stretch/>
        </p:blipFill>
        <p:spPr>
          <a:xfrm>
            <a:off x="4427640" y="2205000"/>
            <a:ext cx="3352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Basketball"/>
          <p:cNvPicPr/>
          <p:nvPr/>
        </p:nvPicPr>
        <p:blipFill>
          <a:blip r:embed="rId1"/>
          <a:stretch/>
        </p:blipFill>
        <p:spPr>
          <a:xfrm>
            <a:off x="5508720" y="3013200"/>
            <a:ext cx="3370320" cy="384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ballon"/>
          <p:cNvPicPr/>
          <p:nvPr/>
        </p:nvPicPr>
        <p:blipFill>
          <a:blip r:embed="rId2"/>
          <a:stretch/>
        </p:blipFill>
        <p:spPr>
          <a:xfrm>
            <a:off x="395280" y="333360"/>
            <a:ext cx="3282840" cy="3887640"/>
          </a:xfrm>
          <a:prstGeom prst="rect">
            <a:avLst/>
          </a:prstGeom>
          <a:ln w="0">
            <a:noFill/>
          </a:ln>
        </p:spPr>
      </p:pic>
      <p:sp>
        <p:nvSpPr>
          <p:cNvPr id="105" name="WordArt 5"/>
          <p:cNvSpPr txBox="1"/>
          <p:nvPr/>
        </p:nvSpPr>
        <p:spPr>
          <a:xfrm>
            <a:off x="4211640" y="1341360"/>
            <a:ext cx="4176720" cy="23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Удачной иг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140000" y="160020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sport.rin.ru/html/rools_5-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mlhttp://sport.rin.ru/images/rools/-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dic.academic.ru/dic.nsf/bse/67613/Баскетб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://basketb.wordpress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top-desktop.ru/files/sport/800/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olympus.ourlife.ru/gallery/data/media/35/0783-cop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Физкультура и Спорт малая энциклопедия (Гусевой Г.В., Кондрашовой Н.М., Милютина В.П., 1992г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Спортивные игры. Учебник для физ. ин-тов. Под ред. Портных Ю. И.М. 1975г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Баскетбол учебник для физкультурных институтов. Под ред. Н.В. Семашко. "Физкультура и спорт", 197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4. Упражнения в баскетболе. "Физкультура и спорт", 1972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ратко о баскетболе можно сказать, что это спортивная командная игра, в которой игроки забрасывают мяч в "корзину", состоящую из кольца с сеткой вни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Родиной баскетбола являются Соединенные Штаты Америки. Игра была придумана в 1891 году в учебном центре Христианской молодежной ассоциации в Спрингфилде, штат Массачусетс. Чтобы оживить уроки по гимнастике, молодой преподаватель, уроженец Канады, доктор Дисеймс Нейсмит придумал новую игру. Он прикрепил к перилам балкона две фруктовые корзины без дна, в которые нужно было забрасывать футбольный мяч (basket - корзина, boll - мяч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гра Баскетбол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24000" y="981000"/>
            <a:ext cx="50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В баскетбол играют две (2) команды, в каждой из которых по пять (5) игроков. Цель каждой команды - забросить мяч в корзину соперника и помешать другой команде овладеть мячом, и забросить его в корзин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2 Корзина: своя/соперник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Корзина, которую команда атакует, является корзиной соперника, а корзина, которую та же команда защищает, называется собственной корзиной коман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3 Перемещение мяч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Мяч можно передавать, бросать, отбивать, катить или вести в любом направлении при условии соблюдения положений соответствующих статей, изложенных Прави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1.4 Победитель иг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eorgia"/>
              </a:rPr>
              <a:t>Победителем игры становится команда, которая по окончании игрового времени четвертого периода или, если необходимо, дополнительного(-ых) периода(-ов) набрала большее количество оч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BasketballPlayers"/>
          <p:cNvPicPr/>
          <p:nvPr/>
        </p:nvPicPr>
        <p:blipFill>
          <a:blip r:embed="rId1"/>
          <a:stretch/>
        </p:blipFill>
        <p:spPr>
          <a:xfrm>
            <a:off x="0" y="0"/>
            <a:ext cx="2843280" cy="20541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Площадка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и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 размеры ли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569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овая площадка должна представлять собой плоскую прямоугольную твердую поверхность без каких-либо препятствий Для главных официальных соревнований ФИБА, а также для строящихся новых игровых площадок размеры, измеренные от внутреннего края ограничительных линий, должны быть 28 метров в длину и 15 метров шир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205526878"/>
          <p:cNvPicPr/>
          <p:nvPr/>
        </p:nvPicPr>
        <p:blipFill>
          <a:blip r:embed="rId2"/>
          <a:stretch/>
        </p:blipFill>
        <p:spPr>
          <a:xfrm>
            <a:off x="4211640" y="4076640"/>
            <a:ext cx="47624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omic"/>
              </a:rPr>
              <a:t>Щиты и опоры щи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Georgia"/>
              </a:rPr>
              <a:t>Размеры щитов должны быть: 1,80 м по горизонтали и 1,05 м по вертикали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кольцо"/>
          <p:cNvPicPr/>
          <p:nvPr/>
        </p:nvPicPr>
        <p:blipFill>
          <a:blip r:embed="rId1"/>
          <a:stretch/>
        </p:blipFill>
        <p:spPr>
          <a:xfrm>
            <a:off x="6012000" y="2492280"/>
            <a:ext cx="2879640" cy="200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nd1"/>
          <p:cNvPicPr/>
          <p:nvPr/>
        </p:nvPicPr>
        <p:blipFill>
          <a:blip r:embed="rId2"/>
          <a:stretch/>
        </p:blipFill>
        <p:spPr>
          <a:xfrm>
            <a:off x="2987640" y="4653000"/>
            <a:ext cx="47023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319280" y="259920"/>
            <a:ext cx="48243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ждая команда должна состоять из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Не более чем десяти (10) членов команды, имеющих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Тренера и, по желанию команды, помощника трен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Капитана, который должен быть одним из членов команды, имеющего право игр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ять (5) Игроков каждой команды должны находиться на площадке в течение игрового времени и они могут быть замен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Basketball_game"/>
          <p:cNvPicPr/>
          <p:nvPr/>
        </p:nvPicPr>
        <p:blipFill>
          <a:blip r:embed="rId1"/>
          <a:stretch/>
        </p:blipFill>
        <p:spPr>
          <a:xfrm>
            <a:off x="0" y="260280"/>
            <a:ext cx="4316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Игровое время, ничейный счет и дополнительные периоды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Игра состоит из четырех (4) периодов по десять (10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ервым и вторым, третьим и четвертым периодами игры и перед каждым дополнительным периодом составляет две (2) мину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Продолжительность перерыва между половинами игры - пятнадцать (15) мину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mic"/>
              </a:rPr>
              <a:t>Как играют мячом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24360" y="764640"/>
            <a:ext cx="4402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баскетболе мячом играют только ру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Бежать с мячом, преднамеренно бить по нему ногой, блокировать любой частью ноги или бить по нему кулаком является нарушени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Случайное соприкосновение или касание мяча стопой или ногой не является наруш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BasketballPlayers"/>
          <p:cNvPicPr/>
          <p:nvPr/>
        </p:nvPicPr>
        <p:blipFill>
          <a:blip r:embed="rId1"/>
          <a:stretch/>
        </p:blipFill>
        <p:spPr>
          <a:xfrm>
            <a:off x="5940360" y="4508640"/>
            <a:ext cx="2951280" cy="21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21:29:03Z</dcterms:created>
  <dc:creator>Admin</dc:creator>
  <dc:description/>
  <dc:language>en-US</dc:language>
  <cp:lastModifiedBy>Андрей</cp:lastModifiedBy>
  <dcterms:modified xsi:type="dcterms:W3CDTF">2017-01-08T07:14:44Z</dcterms:modified>
  <cp:revision>6</cp:revision>
  <dc:subject/>
  <dc:title>Слайд 1</dc:title>
</cp:coreProperties>
</file>