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9FAD-EA3D-4EEA-BC80-1926389B69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171B-05FE-4B4B-89AD-97C3F47CCE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1927-A00F-4F99-A067-5D571E7D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FDA-73B0-483E-A5E5-0CFA54CA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22FA-E5C8-4D7F-858E-71381E95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2FF-CE04-44E5-A954-D979A318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EC0-648A-4D32-8686-283E8EFE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603-ABD0-494E-BC43-073E7CAB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8CAF-0A88-4664-B181-E3C98899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609-AFDB-4B1C-97B0-5460A09F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B3E0-D268-4E60-BDA6-E148D82F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A2B-4466-4ADF-B7C1-BB1AB312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4E9A-1AF3-4631-BC80-01A1A1F2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A443-473B-4F1C-B4A7-A668B74E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BCB9-532E-4F9A-8C02-3D26D9FBB9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pklabdo.lanta-net.ru/ipk_mediawiki/images/1/1d/&#1056;&#1080;&#1089;&#1091;&#1085;&#1086;&#1082;1&#1090;&#1100;&#1090;&#1080;&#1095;&#1089;.jpg" TargetMode="External"/><Relationship Id="rId2" Type="http://schemas.openxmlformats.org/officeDocument/2006/relationships/hyperlink" Target="http://s41.radikal.ru/i091/0905/7e/a9ee017dae5f.png" TargetMode="External"/><Relationship Id="rId3" Type="http://schemas.openxmlformats.org/officeDocument/2006/relationships/hyperlink" Target="http://www.clipartov.net/images/mini/18/0000017010.jpg" TargetMode="External"/><Relationship Id="rId4" Type="http://schemas.openxmlformats.org/officeDocument/2006/relationships/hyperlink" Target="http://img-fotki.yandex.ru/get/4610/89635038.560/0_6d34c_1bb10d84_XL" TargetMode="External"/><Relationship Id="rId5" Type="http://schemas.openxmlformats.org/officeDocument/2006/relationships/hyperlink" Target="http://radikal.ua/data/upload/49112/4efc3/3bd0a3d6bb.jpg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765000"/>
            <a:ext cx="720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b00000"/>
                </a:solidFill>
                <a:latin typeface="Times New Roman"/>
              </a:rPr>
              <a:t>Система оценки достижений учащихся начальной школ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47640" y="3789360"/>
            <a:ext cx="7345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дготовила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айкина Наталья Васильев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БОУ СОШ с. Новодевичь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/р Шигонский Самарской области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57200" y="500040"/>
            <a:ext cx="73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Оценивание может быть только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критериальным. Основным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критериями оценивания выступают ожидаемые результаты, соответствующие учебным целям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Оцениваться с помощью отметки могут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только результаты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деятельности ученика, но не его личные качества. Оценивать можно только то, чему учат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28480" y="356760"/>
            <a:ext cx="72579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Критерии оценивания и алгоритм выставления отметки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заране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известны и педагогам, и учащимся. Они могут вырабатываться ими совместно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Система оценивания выстраивается таким образом, чтобы учащиеся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включались в контрольно-оценочную деятельность, приобретая навыки и привычку к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самооценке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сточники информации для оценивания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357200" y="1356840"/>
            <a:ext cx="73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бот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ащихся, выполняющиеся в ходе обучения (домашние задания, мини-проекты и презентации, формализованные письменные задания –разнообразные тексты, отчеты о наблюдениях и экспериментах, различные  памятки, дневники, собранные массивы данных, подборки информационных  материалов, поздравительные открытки и т.п., а также разнообразные  инициативные творческие работы – иллюстрированные сочинения, плакаты, постеры, изделия и т.п.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213920" y="500040"/>
            <a:ext cx="747252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дивидуальная и совместна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ятель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чащихся в ходе выполнения рабо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атистические данные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анные на ясно выраженных показателях и получаемые в ходе целенаправленных наблюдений или мини-исследован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езультаты тестировани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результаты устных и письменных проверочных  работ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спользование системы контроля и мониторинга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Содержимое 3" descr="IMG_4401.JPG"/>
          <p:cNvPicPr/>
          <p:nvPr/>
        </p:nvPicPr>
        <p:blipFill>
          <a:blip r:embed="rId1"/>
          <a:stretch/>
        </p:blipFill>
        <p:spPr>
          <a:xfrm>
            <a:off x="1857240" y="1600200"/>
            <a:ext cx="6572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иды оцени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начальной школе рекомендуется использовать три вида оценивани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стартовую диагностику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екущее оценивание, тесно связанное с процессом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уче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итоговое оценивани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85920" y="428760"/>
            <a:ext cx="740088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тартовая диагностика содержит примеры проверочных заданий 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можные структуры проверочных работ в зависимости от методики и времени их проведен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Текущее оценивание предполагает комплексный подход к оцен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ультатов образования (оценка предметных, метапредметных и личностных  результатов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85920" y="428760"/>
            <a:ext cx="740088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ираясь на требования к предметным и метапредметным результатам, разработан инструментарий оценивания предметных и метапредметных  результатов на материале используемых УМ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истеме оценки присутствуют как оценка успешности осво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я отдельных учебных предметов, так и оценк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динам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тельных достижений уча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Методы оцени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блюдение - метод сбора первичной информации путем непосредственной регистрации учителем наличия заранее выделенных им показателей какого-либо аспекта деятельности всего класса или одного ученика. Для фиксации результатов наблюдения обычно используются специальные формы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листы наблюдений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57200" y="356760"/>
            <a:ext cx="7329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 ходу изучения темы индивидуальные достижения младших школьников удобно фиксировать с помощью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линеек достижений. Особая ценность данного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иема состоит в том, что он направлен на оценку формирования именно данног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выка, а не личности ребенка в целом. Линейки достижений позволяют наглядно увидеть как степень сформированности того или иного навыка на данный момент, так и индивидуальный прогресс ребенк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2640" y="356760"/>
            <a:ext cx="75438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оответствии с требованиями Федерального государственного образовательного стандарта начального общего образования в школе разработана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истема оцен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ориентированная на выявление и оценку образовательных достижений учащихся с целью итоговой оценки подготовки выпускников на  ступени начального общего образ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14240" y="571320"/>
            <a:ext cx="79725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отслеживания и оценивания предметных знаний, способ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ятельности можно использовать листы индивидуальных достиж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енные навыки дети и учитель могут отмечать в листах с помощ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неечек или закрашивая определенную клеточку – полностью или частично.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сте индивидуальных достижений полезно фиксировать текущие оценки по всем формируемым на данном этапе навык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3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Метод самоанали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28480" y="1214280"/>
            <a:ext cx="72579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Этот метод рекомендуется использовать в ситуациях, требующих от учащихся строгого самоконтроля и саморегуляции своей учебной деятельности на разных этапах формирования ключевых предметных умений, ключевых понятий, а также своего поведения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3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 для самоанали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57200" y="1214280"/>
            <a:ext cx="73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ыполнение этой работы мне понравилось (не понравилось), потому что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иболее трудным мне показалось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Я думаю, это потому, что 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амым интересным было 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сли бы я еще раз выполнял эту работу, то я бы сделал следующее 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сли бы я еще раз выполнял эту работу, то я бы по-другому сделал следующее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ооценка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меть галочкой выбор своего отв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285920" y="1428840"/>
          <a:ext cx="7400880" cy="5381640"/>
        </p:xfrm>
        <a:graphic>
          <a:graphicData uri="http://schemas.openxmlformats.org/drawingml/2006/table">
            <a:tbl>
              <a:tblPr/>
              <a:tblGrid>
                <a:gridCol w="954000"/>
                <a:gridCol w="5189760"/>
                <a:gridCol w="642600"/>
                <a:gridCol w="61452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тверж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 задания в работе показались мне легки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 задания в работе показались мне  трудны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24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работе были и легкие, и трудные зад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4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легко справился со всеми задан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которые задания вызвали у меня затруд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выполнил все задания правильн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сомневаюсь, что все задания выполнил правильн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тоговое оцени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42640" y="1500120"/>
            <a:ext cx="75438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тоговое оценивание происходит в конце обучения и может проводиться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акопительной оценки (синтеза имеющейся информации за 4 года), а такж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формах сбора данных (в том числе – с помощью итоговых тестов) ил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тоговой демонстрации примеров применения полученных знаний и освоенных способ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00080" y="713880"/>
            <a:ext cx="768672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монстрация может проводиться как в форме выставки результатов проектной работы, которая велась ребенком на протяжении всего периода обучения, так и в форме комплексной письменной работы, охватывающей наиболее существенные и значимые для дальнейшего обучения аспект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нципы итогового оцени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дельная оценка достижения базового и повышенных уровней требований к подготовке учащихс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ивание методом «сложения», при котором фиксируется достижение опорного (базового) уровня требований и его превышени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копительная оцен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787248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орма проведения итогового оценивания –итоговая комплексная контрольная рабо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3920" y="1928520"/>
            <a:ext cx="74725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лексная контрольная работа строится на основе несплошного (с иллюстрациями) текста, к которому дается ряд заданий по русскому языку и чтению, математике, окружающему мир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и комплексной работы –установить уровень овладения ключевыми умени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57200" y="21384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Инструменты оцени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28480" y="1356840"/>
            <a:ext cx="72579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Критериальные описания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, или наборы критериев. Они указывают на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определенные черты или ключевые знаки, которые следует отметить в работе, а также устанавливают правила количественной оценки работы по заранее установленной шкале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.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85920" y="1143000"/>
            <a:ext cx="7400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тражает признак, по которому оценивается результат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атель можно рассматривать  как частный критерий, расшифровывающий его содерж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.-греч. κριτήριον - средство суждения, мерило) -  признак, основание, правило принятия решения по оценке чего-либо на соответствие предъявленным требованиям (мере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28480" y="356760"/>
            <a:ext cx="72579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ходя в состав универсальных учебных действий, оценка 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нтрольно-оценочная деятельность в целом выступает как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амостоятельный  элемент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держания образования, который необходимо формировать и развива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0080" y="213840"/>
            <a:ext cx="76867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ценочные шкалы (2-4 класс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85920" y="928440"/>
            <a:ext cx="74008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шность освоения учебных программ обучающихся 2 – 4 классов в соответствии с ФГОС НОО (2009г.) оценивается по пятибалльной шкал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вод отметки в пятибалльную шкалу осуществляется по следующей схем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643040" y="2857680"/>
          <a:ext cx="6929640" cy="3571560"/>
        </p:xfrm>
        <a:graphic>
          <a:graphicData uri="http://schemas.openxmlformats.org/drawingml/2006/table">
            <a:tbl>
              <a:tblPr/>
              <a:tblGrid>
                <a:gridCol w="2309760"/>
                <a:gridCol w="2309760"/>
                <a:gridCol w="2310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чество освоения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достиж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метка в балльной шка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6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-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-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-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ьше 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же средн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2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7200" y="214200"/>
            <a:ext cx="73296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f1984"/>
                </a:solidFill>
                <a:latin typeface="Times New Roman"/>
              </a:rPr>
              <a:t>Возможные варианты оценочной шкалы, используемой в начальной школ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57200" y="1600200"/>
            <a:ext cx="73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 вариант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  знаю и уме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?  знаю неуверен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пока не знаю и не уме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тоговая - зачтено/ не зачте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 вариант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балла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ждое задание  может быть оценено от  0   до 3 баллов. Итоговый балл или  %  от выполнения всех зад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57200" y="642600"/>
            <a:ext cx="73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Эталоны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ни представляют собой образцы детских работ, с которыми сравниваются оцениваемые работы. Обычно используются в связи с критериальными описаниями или текущими задачами оценива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47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амятки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держащие перечни информации, данных, элементов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арактерных признаков или свойств, которые должны быть отражены в работе или в процессе ее выполн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57200" y="1119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57200" y="1071720"/>
            <a:ext cx="73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Линейки достижений –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наглядные свидетельства достижения какого-либо этапа обучения. Используются, чтобы продемонстрировать индивидуальный прогресс или определить этап, на котором находится ребенок в данный момент времени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ценка метапредметных результат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ценка метапредметных результат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олагает оценку универсальных учебных действий учащихся (регулятивных, коммуникативных, познавательных), т. е. таких умственных действий обучающихся, которые направлены на анализ своей познавательной деятельности и управление ею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28480" y="571320"/>
            <a:ext cx="72579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ижение метапредметных результатов обеспечивается за счёт основных компонентов образовательного процесса – учебных предметов, представленных в обязательной части учебного пла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о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держание оценки метапредметных результат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ступени начального общего образования строится вокруг умения учить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285920" y="356760"/>
            <a:ext cx="740088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метапредметных результатов проводится в ходе различных процедур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 задач творческого и поискового характер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ое проектировани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тоговые проверочные работ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лексные работы на межпредметной основ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иторинг сформированности основных учебных ум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овые  формы оценки метапредметных результатов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357200" y="1600200"/>
            <a:ext cx="73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омплексные контрольные работы комплексны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ртфоли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сследовательская рабо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роект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57200" y="1600200"/>
            <a:ext cx="73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ичество их должно быть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птимальны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ждый обучающийся может быть минимально включен в проектную деятельность как групповую, так и индивидуальну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екты учитель вправе разрабатывать самостоятельно, а также использовать проекты, рекомендованные методистами и авторами учебников соответствующего учебно-методического комплек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57200" y="1600200"/>
            <a:ext cx="73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истема оценивания позволяет отслеживать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ндивидуальный прогресс учащихся в достижени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ланируемых  результатов, обеспечивать обратную связь для учителей, учащихся и родител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Праздник первого снег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Содержимое 5" descr="IMG_4273.JPG"/>
          <p:cNvPicPr/>
          <p:nvPr/>
        </p:nvPicPr>
        <p:blipFill>
          <a:blip r:embed="rId1"/>
          <a:stretch/>
        </p:blipFill>
        <p:spPr>
          <a:xfrm>
            <a:off x="2286000" y="164304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Рисунок 4" descr="IMG_4269.JPG"/>
          <p:cNvPicPr/>
          <p:nvPr/>
        </p:nvPicPr>
        <p:blipFill>
          <a:blip r:embed="rId1"/>
          <a:stretch/>
        </p:blipFill>
        <p:spPr>
          <a:xfrm>
            <a:off x="5786280" y="2571840"/>
            <a:ext cx="2857680" cy="38574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5" descr="IMG_4272.JPG"/>
          <p:cNvPicPr/>
          <p:nvPr/>
        </p:nvPicPr>
        <p:blipFill>
          <a:blip r:embed="rId2"/>
          <a:stretch/>
        </p:blipFill>
        <p:spPr>
          <a:xfrm>
            <a:off x="1357200" y="2643120"/>
            <a:ext cx="2857680" cy="3786120"/>
          </a:xfrm>
          <a:prstGeom prst="rect">
            <a:avLst/>
          </a:prstGeom>
          <a:ln w="0">
            <a:noFill/>
          </a:ln>
        </p:spPr>
      </p:pic>
      <p:pic>
        <p:nvPicPr>
          <p:cNvPr id="132" name="Содержимое 3" descr="IMG_4263.JPG"/>
          <p:cNvPicPr/>
          <p:nvPr/>
        </p:nvPicPr>
        <p:blipFill>
          <a:blip r:embed="rId3"/>
          <a:stretch/>
        </p:blipFill>
        <p:spPr>
          <a:xfrm>
            <a:off x="2500200" y="357120"/>
            <a:ext cx="4214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4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нтегрированные, комплексные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трольные работ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этапе рубежного контроля (за полугодие и год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одится после изучения основного содержания учебных програм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у и ту же работу можно использовать на разных предметах (умение работать с текстом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итогам обучения в каждом классе и в качестве стартовой в следующе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имствованы и из других УМК, адаптированные к применению с учетом концептуальных идей  и содержания программ используемого учителем УМ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личество и срок проведения комплексных работ определяется образовательным учрежде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ртфолио  - форма накопительной оценки результатов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57200" y="1600200"/>
            <a:ext cx="73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ртфолио  «… показать все, на ч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ы способен» (обучающийс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назначено для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ективного фиксирования и рефлексивного оценивания индивидуальных достижен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ументального подтверждения индивидуальных достиж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8800" y="500040"/>
            <a:ext cx="77580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 об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спользовании портфел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ижений в рамках системы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нутренней оцен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инимает образовательное учрежд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бор рабо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ортфеля достижений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ед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амим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учающим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овместно с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лассным руководителе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при участии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емь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ключение каких-либо материалов в портфель достижений </a:t>
            </a:r>
            <a:r>
              <a:rPr b="1" i="1" lang="ru-RU" sz="3200" spc="-1" strike="noStrike">
                <a:solidFill>
                  <a:srgbClr val="af1984"/>
                </a:solidFill>
                <a:latin typeface="Times New Roman"/>
              </a:rPr>
              <a:t>без согласия ученика не допускае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4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овременные подходы к системе оценив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57200" y="1600200"/>
            <a:ext cx="73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Система оценки выходит за узкие рамки модели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троля качества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разования и становится принципиально необходимым  элементом модели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еспечения качества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разования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яснительная записка к ФГО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71360" y="500040"/>
            <a:ext cx="77151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пользуемая в школе система оценки должна быть ориентирована на стимулирование  обучающегося стремиться к объективному контролю, а не сокрытию своего  незнания и неумения, на формирование потребности в адекватной и  конструктивной самооценк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85920" y="214200"/>
            <a:ext cx="7400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нятия, их определе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499760" y="1214280"/>
            <a:ext cx="71866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Оценка 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цесс установления соответствия эталону, норме (индивидуальной, статистической, культурной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 Отметка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 фиксации результата оцен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Оценка базового уровня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ценка достижений  результатов, планируемых стандартом на уровне «ученик научитс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Оценка повышенного уровня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ценка достижений, выходящих за рамки базового уров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Система оценки образовательных  результатов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одержание оценки, критерии, процедуры оценивания, инструментарий, формы представления результатов; условия и границы примен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42640" y="428760"/>
            <a:ext cx="75438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Система оценки достижения  планируемых результатов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нешняя оценка и внутренняя оц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Внешняя оценка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ценка осуществляемая внешними по отношению к субъекту служб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Внутренняя оценка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ценка осуществляемая самим субъектом (обучающимися, педагогом, администрацией) в зависимости от уровн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Вычитательная оценка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фиксирует пробелы, не предполагает право выбора зад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Накопительная оценка  (суммирующая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-фиксирует наличие результата, предоставляет право выбора  зад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1. Текущая оценка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дусматривает оценивание частичного, единичного результа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2. Итоговая оценка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существляется по окончании изучения курса, темы, ступе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763640" y="1557360"/>
            <a:ext cx="6696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Мудрая со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Линейка, карандаш, ласти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Цирку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Подставк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Фон "тетрадная клетка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точник шаблон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ОУ лицей №21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собые требования на выстраивание системы оценивани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85920" y="785520"/>
            <a:ext cx="74008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ключение учащихся в контрольно-оценочную деятельность с те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бы они приобретали навыки и привычку к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амооценке и самоанализ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рефлексии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критериальной системы оценивания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нообразных видов, методов, форм и объектов оцени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3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Особенности системы оцен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57200" y="1571400"/>
            <a:ext cx="73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лексный подход к оценке результатов образования (оценка предметных, метапредметных и личностных результатов общего образования)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планируемых результатов освоения основных образовательных программ в качестве содержательной и критериальной базы  оценк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13920" y="356760"/>
            <a:ext cx="74725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успешности освоения содержания отдельных учебных предметов  на основе системно-деятельностного подхода, проявляющегося в способности 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ению учебно-практических и учебно-познавательных задач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четание внешней и внутренней оценки как механизма обеспечения качества образов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динамики образовательных достижений обучающихс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43000" y="356760"/>
            <a:ext cx="7786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ровневый подход к разработке планируемых результатов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спользование накопительной системы оценивания (портфолио), характеризующей динамику индивидуальных образовательных достижений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спользование наряду со стандартизированными письменными или устными работами таких форм и методов оценки, как проекты, практические работы, творческие работы, самоанализ, самооценка, наблюдения и др.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ринципы системы оценива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ценивание является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остоянным процессом;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в зависимости от этап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учения используется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диагностическое (стартовое, текущее) и срезовое (тематическое, промежуточное, рубежное, итоговое) оценивани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ользователь</cp:lastModifiedBy>
  <dcterms:modified xsi:type="dcterms:W3CDTF">2017-01-09T15:00:08Z</dcterms:modified>
  <cp:revision>105</cp:revision>
  <dc:subject/>
  <dc:title>Слайд 1</dc:title>
</cp:coreProperties>
</file>