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267-4E54-4E6B-9693-4DF29C43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E88-CFCC-464C-A574-DE246D5C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E99-FB01-45AB-BA6C-6F1D2A80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8D9-517C-4724-9569-A3277C5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785-06B8-4627-917D-869E51D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B6C-EA35-42FB-8548-37D1273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AD-9821-4CC1-B778-61925EC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E9B-5627-4587-811E-773E225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6C7-A8AB-451C-ACAB-A83F0D7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E74-C031-4F3B-930C-CE4F36F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CBE-D80A-4D42-A3CC-AE78925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EA0-63BE-4481-A287-5D4214E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7AE1-3AF2-4F88-B7DD-827B4BC8D0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besm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вычислительной техн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Второе поколение ЭВМ   (1958-1964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Память на магнитных сердечниках"/>
          <p:cNvPicPr/>
          <p:nvPr/>
        </p:nvPicPr>
        <p:blipFill>
          <a:blip r:embed="rId1"/>
          <a:stretch/>
        </p:blipFill>
        <p:spPr>
          <a:xfrm>
            <a:off x="685800" y="1523880"/>
            <a:ext cx="2590920" cy="202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ЭСМ-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447920"/>
            <a:ext cx="4648320" cy="4876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04920" y="3581280"/>
            <a:ext cx="3352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проводниковый транзистор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заменял 40 электронных лам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8600" y="4648320"/>
            <a:ext cx="58672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ЭСМ-6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ольшая электронная счетная машина) –                лучшая в ми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СК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Л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втор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1905120"/>
            <a:ext cx="7620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транзис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стоек, чуть выше человеческого роста, занимает специальный з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1 млн.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магнитные ле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алгоритмических язык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тыся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Третье поколение ЭВМ    (1964-1971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ИС"/>
          <p:cNvPicPr/>
          <p:nvPr/>
        </p:nvPicPr>
        <p:blipFill>
          <a:blip r:embed="rId1"/>
          <a:stretch/>
        </p:blipFill>
        <p:spPr>
          <a:xfrm>
            <a:off x="685800" y="2057400"/>
            <a:ext cx="3048120" cy="1868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85800" y="41148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ая схема (микросхема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495680" y="2209680"/>
            <a:ext cx="426744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4 год -  создание шести моде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 ЭВ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емейство малых ЭВ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е машины 3-го поколения программно совместимы и имеют развитую операцион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третье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1676520"/>
            <a:ext cx="7315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И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стоек, чуть выше человеческого роста, не требует специального зала (мини ЭВ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 миллионов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магнитные дис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языках программ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сотни тыся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Четвертое поколение ЭВМ       (с 1971 г.- по настоящее время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новение БИС и СБИС: одна БИС по мощности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ует 1000 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299736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1 год – создание первого микропроцессора фирм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4 год - создание первого персонального компьютера фирм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6 год – массовое производство 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рмой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1 год – создание П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рмы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images"/>
          <p:cNvPicPr/>
          <p:nvPr/>
        </p:nvPicPr>
        <p:blipFill>
          <a:blip r:embed="rId1"/>
          <a:stretch/>
        </p:blipFill>
        <p:spPr>
          <a:xfrm>
            <a:off x="6372360" y="4508640"/>
            <a:ext cx="25923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четверт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2057400"/>
            <a:ext cx="7391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БИС и СБИ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микро ЭВ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 тысяч миллионов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гибкие и лазерные дис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языках программ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милли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До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http://historyvt.narod.ru/1_1pal1.jpg"/>
          <p:cNvPicPr/>
          <p:nvPr/>
        </p:nvPicPr>
        <p:blipFill>
          <a:blip r:embed="rId1"/>
          <a:stretch/>
        </p:blipFill>
        <p:spPr>
          <a:xfrm>
            <a:off x="380880" y="1143000"/>
            <a:ext cx="113688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historyvt.narod.ru/do_mex1.jpg"/>
          <p:cNvPicPr/>
          <p:nvPr/>
        </p:nvPicPr>
        <p:blipFill>
          <a:blip r:embed="rId2"/>
          <a:stretch/>
        </p:blipFill>
        <p:spPr>
          <a:xfrm>
            <a:off x="3962520" y="1066680"/>
            <a:ext cx="3047760" cy="134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Абак"/>
          <p:cNvPicPr/>
          <p:nvPr/>
        </p:nvPicPr>
        <p:blipFill>
          <a:blip r:embed="rId3"/>
          <a:stretch/>
        </p:blipFill>
        <p:spPr>
          <a:xfrm>
            <a:off x="152280" y="289548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итайские счеты: суан-пан"/>
          <p:cNvPicPr/>
          <p:nvPr/>
        </p:nvPicPr>
        <p:blipFill>
          <a:blip r:embed="rId4"/>
          <a:stretch/>
        </p:blipFill>
        <p:spPr>
          <a:xfrm>
            <a:off x="380880" y="4495680"/>
            <a:ext cx="1600200" cy="1381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447920" y="1143000"/>
            <a:ext cx="198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на пальцах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30 тыс. лет д.н.э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7086600" y="1295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на кам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90920" y="3124080"/>
            <a:ext cx="198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«саламинская доска»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5-4 в. д. н. э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86400" y="30481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очки Непера  - первое устройство для выполнения умнож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6 век н. э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562720" y="5334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арифмическая линейка                   (1654 год,  Р. Биссака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12408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82296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45720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1629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Паскалина"/>
          <p:cNvPicPr/>
          <p:nvPr/>
        </p:nvPicPr>
        <p:blipFill>
          <a:blip r:embed="rId1"/>
          <a:stretch/>
        </p:blipFill>
        <p:spPr>
          <a:xfrm>
            <a:off x="380880" y="1447920"/>
            <a:ext cx="388620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Машина Лейбница"/>
          <p:cNvPicPr/>
          <p:nvPr/>
        </p:nvPicPr>
        <p:blipFill>
          <a:blip r:embed="rId2"/>
          <a:stretch/>
        </p:blipFill>
        <p:spPr>
          <a:xfrm>
            <a:off x="4800600" y="1447920"/>
            <a:ext cx="3962520" cy="2361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57200" y="4191120"/>
            <a:ext cx="3733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аскалин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счетная машина, выполняющая сложение и вычит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642 год, Блез Паскал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724280" y="4267080"/>
            <a:ext cx="373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шина Лейбн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машина, выполняющая 4 арифметических действ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673 год, Г. Лейбниц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Арифмометр Феликс"/>
          <p:cNvPicPr/>
          <p:nvPr/>
        </p:nvPicPr>
        <p:blipFill>
          <a:blip r:embed="rId1"/>
          <a:stretch/>
        </p:blipFill>
        <p:spPr>
          <a:xfrm>
            <a:off x="609480" y="1447920"/>
            <a:ext cx="2971800" cy="1785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809880" y="1371600"/>
            <a:ext cx="5334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ифмоме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етная машина, выполняющая все 4 арифметических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74 год, Одн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Разностная машина Беббиджа"/>
          <p:cNvPicPr/>
          <p:nvPr/>
        </p:nvPicPr>
        <p:blipFill>
          <a:blip r:embed="rId2"/>
          <a:stretch/>
        </p:blipFill>
        <p:spPr>
          <a:xfrm>
            <a:off x="1143000" y="3657600"/>
            <a:ext cx="20779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114800" y="3657600"/>
            <a:ext cx="4572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тическая маш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вычислительная машина, выполняющая определенные программы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33 год,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Ч. Беббидж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343400" y="2971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лись вплоть до сер. 20 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962520" y="533412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не был реализован из-за недостаточного развития технических средств, но идеи Беббиджа использовались многими изобретател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Чарльз Беббидж"/>
          <p:cNvPicPr/>
          <p:nvPr/>
        </p:nvPicPr>
        <p:blipFill>
          <a:blip r:embed="rId1"/>
          <a:stretch/>
        </p:blipFill>
        <p:spPr>
          <a:xfrm>
            <a:off x="609480" y="457200"/>
            <a:ext cx="207828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352680" y="1143000"/>
            <a:ext cx="50292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арльз Беббид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1791-1864 г.)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татель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Ада Лавлейс"/>
          <p:cNvPicPr/>
          <p:nvPr/>
        </p:nvPicPr>
        <p:blipFill>
          <a:blip r:embed="rId2"/>
          <a:stretch/>
        </p:blipFill>
        <p:spPr>
          <a:xfrm>
            <a:off x="609480" y="3657600"/>
            <a:ext cx="197352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57600" y="4038480"/>
            <a:ext cx="4724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да Лавлей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программист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6201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Машина Холлерита"/>
          <p:cNvPicPr/>
          <p:nvPr/>
        </p:nvPicPr>
        <p:blipFill>
          <a:blip r:embed="rId1"/>
          <a:stretch/>
        </p:blipFill>
        <p:spPr>
          <a:xfrm>
            <a:off x="609480" y="1523880"/>
            <a:ext cx="3657600" cy="2486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952880" y="1600200"/>
            <a:ext cx="3505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, использующая перфокарты, с которых информация считывалась с помощью электрического тока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88 год, Г. Холлер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04920" y="4495680"/>
            <a:ext cx="8381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ая машина была использована при переписи населения, проводимой в США (1890 год), что позволило обработать результаты переписи за 3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24 году Холлерит основал фирм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серийного выпуска табулят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Электронная лампа"/>
          <p:cNvPicPr/>
          <p:nvPr/>
        </p:nvPicPr>
        <p:blipFill>
          <a:blip r:embed="rId1"/>
          <a:stretch/>
        </p:blipFill>
        <p:spPr>
          <a:xfrm>
            <a:off x="762120" y="762120"/>
            <a:ext cx="236844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429000" y="1143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– годы 20 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– возникновение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электронно-вакуумной лам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58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62520" y="3505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6 г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оздание в США первой вычислительной машины, получившей название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ЭНИ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(«электронный численный интегратор и калькулятор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ервое поколение ЭВ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Эниак"/>
          <p:cNvPicPr/>
          <p:nvPr/>
        </p:nvPicPr>
        <p:blipFill>
          <a:blip r:embed="rId1"/>
          <a:stretch/>
        </p:blipFill>
        <p:spPr>
          <a:xfrm>
            <a:off x="250920" y="765000"/>
            <a:ext cx="4465440" cy="277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788000" y="907920"/>
            <a:ext cx="414000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И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46 г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. Эккерт, Д. Моучл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ме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30 м. в длину, вес 30 тон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оя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20000 эл. лам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я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00 операций умножения и 5000 сложений многоразрядных чисел в секун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3645000"/>
            <a:ext cx="85690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ДС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49 го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машина с хранимой программой (Англия). Данная ЭВМ была создана в соответствии с принципами фон Ней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ЭС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51 год) – первая отечественная ЭВМ, разработана академиком С.А. Лебедев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ИВ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51го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ервые использовались магнитные ленты для записи и хранения информации (Англ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ЭСМ-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1952 год) – отечественная ЭВ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перв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1981080"/>
            <a:ext cx="7924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электронно-вакуумные ламп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громадных шкафов и занимает специальный з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10-20 тыс.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перфокарта, перфолен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состоят из машинных код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деся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8:58:07Z</dcterms:created>
  <dc:creator>ирина</dc:creator>
  <dc:description/>
  <dc:language>en-US</dc:language>
  <cp:lastModifiedBy>админ</cp:lastModifiedBy>
  <dcterms:modified xsi:type="dcterms:W3CDTF">2014-12-08T01:57:18Z</dcterms:modified>
  <cp:revision>13</cp:revision>
  <dc:subject/>
  <dc:title>История развития вычислительной техники.</dc:title>
</cp:coreProperties>
</file>