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4EB6-B4C0-427D-B28C-078DB8599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B36B-6D28-4C3B-BD53-E509EF39F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6DBF-82DF-4361-8F94-055D687BC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C5DF-0F7E-4F09-BC4B-399F0552A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FE97-AF49-4764-B277-70503153D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CF01-52D8-4FBE-9863-E8607818D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B201-410F-4F3B-A42F-FA552F976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DAED-4327-47E2-9F86-14F410F6E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BE71-CE7B-4653-A95D-7629F680E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E93B-6F07-4E3B-812E-5CA845BB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8128-FD0E-45AE-B8E0-956CC99B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D0DA-27F6-4AB7-8316-D9FC0A3B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26A94-5FD8-4501-BF58-B506C4F272A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file:///besm.htm" TargetMode="External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История развития вычислительной техники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Times New Roman"/>
              </a:rPr>
              <a:t>Второе поколение ЭВМ   (1958-1964)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Память на магнитных сердечниках"/>
          <p:cNvPicPr/>
          <p:nvPr/>
        </p:nvPicPr>
        <p:blipFill>
          <a:blip r:embed="rId1"/>
          <a:stretch/>
        </p:blipFill>
        <p:spPr>
          <a:xfrm>
            <a:off x="685800" y="1523880"/>
            <a:ext cx="2590920" cy="2022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БЭСМ-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343400" y="1447920"/>
            <a:ext cx="4648320" cy="48765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304920" y="3581280"/>
            <a:ext cx="33526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упроводниковый транзистор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заменял 40 электронных ламп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228600" y="4648320"/>
            <a:ext cx="5867280" cy="21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ЭСМ-6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большая электронная счетная машина) –                лучшая в мир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ИНСК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РАЛ-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Times New Roman"/>
              </a:rPr>
              <a:t>Характерные черты ЭВМ второго поколения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838080" y="1905120"/>
            <a:ext cx="762012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лементная база: транзистор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абариты: выполнена в виде стоек, чуть выше человеческого роста, занимает специальный зал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ыстродействие: до 1 млн. операций в секунду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ситель информации: магнитные лент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граммы пишутся на алгоритмических языках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личество машин в мире – тысяч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Times New Roman"/>
              </a:rPr>
              <a:t>Третье поколение ЭВМ    (1964-1971)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3" descr="ИС"/>
          <p:cNvPicPr/>
          <p:nvPr/>
        </p:nvPicPr>
        <p:blipFill>
          <a:blip r:embed="rId1"/>
          <a:stretch/>
        </p:blipFill>
        <p:spPr>
          <a:xfrm>
            <a:off x="685800" y="2057400"/>
            <a:ext cx="3048120" cy="18684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685800" y="411480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тегральная схема (микросхема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4495680" y="2209680"/>
            <a:ext cx="4267440" cy="30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64 год -  создание шести моделей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3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3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М ЭВМ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семейство малых ЭВМ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990720" y="55627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се машины 3-го поколения программно совместимы и имеют развитую операционную систем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Times New Roman"/>
              </a:rPr>
              <a:t>Характерные черты ЭВМ третьего поколения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066680" y="1676520"/>
            <a:ext cx="731520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лементная база: ИС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абариты: выполнена в виде стоек, чуть выше человеческого роста, не требует специального зала (мини ЭВМ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ыстродействие: до  миллионов операций в секунду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ситель информации: магнитные диск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граммы пишутся на языках программирован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личество машин в мире – сотни тысяч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Times New Roman"/>
              </a:rPr>
              <a:t>Четвертое поколение ЭВМ       (с 1971 г.- по настоящее время)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304920" y="182880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зникновение БИС и СБИС: одна БИС по мощности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ответствует 1000 И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304920" y="266688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324000" y="2997360"/>
            <a:ext cx="8458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71 год – создание первого микропроцессора фирмой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74 год - создание первого персонального компьютера фирмой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T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76 год – массовое производство П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ирмой 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81 год – создание ПК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M P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ирмы 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0" y="288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6" descr="images"/>
          <p:cNvPicPr/>
          <p:nvPr/>
        </p:nvPicPr>
        <p:blipFill>
          <a:blip r:embed="rId1"/>
          <a:stretch/>
        </p:blipFill>
        <p:spPr>
          <a:xfrm>
            <a:off x="6372360" y="4508640"/>
            <a:ext cx="259236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Times New Roman"/>
              </a:rPr>
              <a:t>Характерные черты ЭВМ четвертого поколения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914400" y="2057400"/>
            <a:ext cx="739152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лементная база: БИС и СБИС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абариты: микро ЭВМ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ыстродействие: до  тысяч миллионов операций в секунду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ситель информации: гибкие и лазерные диск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граммы пишутся на языках программирован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личество машин в мире – миллион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Times New Roman"/>
              </a:rPr>
              <a:t>Домеханический перио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3" descr="http://historyvt.narod.ru/1_1pal1.jpg"/>
          <p:cNvPicPr/>
          <p:nvPr/>
        </p:nvPicPr>
        <p:blipFill>
          <a:blip r:embed="rId1"/>
          <a:stretch/>
        </p:blipFill>
        <p:spPr>
          <a:xfrm>
            <a:off x="380880" y="1143000"/>
            <a:ext cx="1136880" cy="1219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ttp://historyvt.narod.ru/do_mex1.jpg"/>
          <p:cNvPicPr/>
          <p:nvPr/>
        </p:nvPicPr>
        <p:blipFill>
          <a:blip r:embed="rId2"/>
          <a:stretch/>
        </p:blipFill>
        <p:spPr>
          <a:xfrm>
            <a:off x="3962520" y="1066680"/>
            <a:ext cx="3047760" cy="1344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Абак"/>
          <p:cNvPicPr/>
          <p:nvPr/>
        </p:nvPicPr>
        <p:blipFill>
          <a:blip r:embed="rId3"/>
          <a:stretch/>
        </p:blipFill>
        <p:spPr>
          <a:xfrm>
            <a:off x="152280" y="2895480"/>
            <a:ext cx="2286000" cy="1447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Китайские счеты: суан-пан"/>
          <p:cNvPicPr/>
          <p:nvPr/>
        </p:nvPicPr>
        <p:blipFill>
          <a:blip r:embed="rId4"/>
          <a:stretch/>
        </p:blipFill>
        <p:spPr>
          <a:xfrm>
            <a:off x="380880" y="4495680"/>
            <a:ext cx="1600200" cy="1381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7"/>
          <p:cNvSpPr/>
          <p:nvPr/>
        </p:nvSpPr>
        <p:spPr>
          <a:xfrm>
            <a:off x="1447920" y="1143000"/>
            <a:ext cx="19810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чет на пальцах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30 тыс. лет д.н.э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7086600" y="129528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чет на камня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2590920" y="3124080"/>
            <a:ext cx="1981080" cy="25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ба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 «саламинская доска»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5-4 в. д. н. э.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5486400" y="3048120"/>
            <a:ext cx="3429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лочки Непера  - первое устройство для выполнения умножения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(16 век н. э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5562720" y="5334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огарифмическая линейка                   (1654 год,  Р. Биссакар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3124080" y="1676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8229600" y="1676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4"/>
          <p:cNvSpPr/>
          <p:nvPr/>
        </p:nvSpPr>
        <p:spPr>
          <a:xfrm>
            <a:off x="4572000" y="3733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5"/>
          <p:cNvSpPr/>
          <p:nvPr/>
        </p:nvSpPr>
        <p:spPr>
          <a:xfrm>
            <a:off x="716292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Times New Roman"/>
              </a:rPr>
              <a:t>Механический перио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" descr="Паскалина"/>
          <p:cNvPicPr/>
          <p:nvPr/>
        </p:nvPicPr>
        <p:blipFill>
          <a:blip r:embed="rId1"/>
          <a:stretch/>
        </p:blipFill>
        <p:spPr>
          <a:xfrm>
            <a:off x="380880" y="1447920"/>
            <a:ext cx="3886200" cy="2428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Машина Лейбница"/>
          <p:cNvPicPr/>
          <p:nvPr/>
        </p:nvPicPr>
        <p:blipFill>
          <a:blip r:embed="rId2"/>
          <a:stretch/>
        </p:blipFill>
        <p:spPr>
          <a:xfrm>
            <a:off x="4800600" y="1447920"/>
            <a:ext cx="3962520" cy="23619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457200" y="4191120"/>
            <a:ext cx="37339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Паскалина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вая счетная машина, выполняющая сложение и вычита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1642 год, Блез Паскаль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4724280" y="4267080"/>
            <a:ext cx="37339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шина Лейбниц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вая машина, выполняющая 4 арифметических действия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1673 год, Г. Лейбниц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Times New Roman"/>
              </a:rPr>
              <a:t>Механический перио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3" descr="Арифмометр Феликс"/>
          <p:cNvPicPr/>
          <p:nvPr/>
        </p:nvPicPr>
        <p:blipFill>
          <a:blip r:embed="rId1"/>
          <a:stretch/>
        </p:blipFill>
        <p:spPr>
          <a:xfrm>
            <a:off x="609480" y="1447920"/>
            <a:ext cx="2971800" cy="17859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4"/>
          <p:cNvSpPr/>
          <p:nvPr/>
        </p:nvSpPr>
        <p:spPr>
          <a:xfrm>
            <a:off x="3809880" y="1371600"/>
            <a:ext cx="5334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рифмомет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четная машина, выполняющая все 4 арифметических действ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1874 год, Однер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5" descr="Разностная машина Беббиджа"/>
          <p:cNvPicPr/>
          <p:nvPr/>
        </p:nvPicPr>
        <p:blipFill>
          <a:blip r:embed="rId2"/>
          <a:stretch/>
        </p:blipFill>
        <p:spPr>
          <a:xfrm>
            <a:off x="1143000" y="3657600"/>
            <a:ext cx="2077920" cy="28195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4114800" y="3657600"/>
            <a:ext cx="45720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налитическая маши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вая вычислительная машина, выполняющая определенные программы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1833 год,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Ч. Беббидж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4343400" y="297180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менялись вплоть до сер. 20 ве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3962520" y="5334120"/>
            <a:ext cx="4952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ект не был реализован из-за недостаточного развития технических средств, но идеи Беббиджа использовались многими изобретателя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Чарльз Беббидж"/>
          <p:cNvPicPr/>
          <p:nvPr/>
        </p:nvPicPr>
        <p:blipFill>
          <a:blip r:embed="rId1"/>
          <a:stretch/>
        </p:blipFill>
        <p:spPr>
          <a:xfrm>
            <a:off x="609480" y="457200"/>
            <a:ext cx="2078280" cy="27432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3352680" y="1143000"/>
            <a:ext cx="502920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Чарльз Беббидж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1791-1864 г.)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обретатель компьюте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Ада Лавлейс"/>
          <p:cNvPicPr/>
          <p:nvPr/>
        </p:nvPicPr>
        <p:blipFill>
          <a:blip r:embed="rId2"/>
          <a:stretch/>
        </p:blipFill>
        <p:spPr>
          <a:xfrm>
            <a:off x="609480" y="3657600"/>
            <a:ext cx="1973520" cy="27432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3657600" y="4038480"/>
            <a:ext cx="472428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Ада Лавлей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вый программист компьютер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7620120" y="61722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Times New Roman"/>
              </a:rPr>
              <a:t>Механический перио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3" descr="Машина Холлерита"/>
          <p:cNvPicPr/>
          <p:nvPr/>
        </p:nvPicPr>
        <p:blipFill>
          <a:blip r:embed="rId1"/>
          <a:stretch/>
        </p:blipFill>
        <p:spPr>
          <a:xfrm>
            <a:off x="609480" y="1523880"/>
            <a:ext cx="3657600" cy="24861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4"/>
          <p:cNvSpPr/>
          <p:nvPr/>
        </p:nvSpPr>
        <p:spPr>
          <a:xfrm>
            <a:off x="4952880" y="1600200"/>
            <a:ext cx="350532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булятор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-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шина, использующая перфокарты, с которых информация считывалась с помощью электрического тока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1888 год, Г. Холлерит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304920" y="4495680"/>
            <a:ext cx="83818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анная машина была использована при переписи населения, проводимой в США (1890 год), что позволило обработать результаты переписи за 3 год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1924 году Холлерит основал фирму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BM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для серийного выпуска табулятор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Электронная лампа"/>
          <p:cNvPicPr/>
          <p:nvPr/>
        </p:nvPicPr>
        <p:blipFill>
          <a:blip r:embed="rId1"/>
          <a:stretch/>
        </p:blipFill>
        <p:spPr>
          <a:xfrm>
            <a:off x="762120" y="762120"/>
            <a:ext cx="2368440" cy="52578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3429000" y="114300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0 – годы 20 ве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– возникновение   </a:t>
            </a:r>
            <a:r>
              <a:rPr b="0" lang="ru-RU" sz="2400" spc="-1" strike="noStrike">
                <a:solidFill>
                  <a:srgbClr val="990000"/>
                </a:solidFill>
                <a:latin typeface="Times New Roman"/>
              </a:rPr>
              <a:t>электронно-вакуумной ламп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4"/>
          <p:cNvSpPr/>
          <p:nvPr/>
        </p:nvSpPr>
        <p:spPr>
          <a:xfrm>
            <a:off x="6095880" y="2514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3962520" y="3505320"/>
            <a:ext cx="4495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946 год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создание в США первой вычислительной машины, получившей название </a:t>
            </a:r>
            <a:r>
              <a:rPr b="1" lang="ru-RU" sz="2400" spc="-1" strike="noStrike">
                <a:solidFill>
                  <a:srgbClr val="990000"/>
                </a:solidFill>
                <a:latin typeface="Times New Roman"/>
              </a:rPr>
              <a:t>ЭНИА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(«электронный численный интегратор и калькулятор»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Times New Roman"/>
              </a:rPr>
              <a:t>Первое поколение ЭВМ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6" descr="Эниак"/>
          <p:cNvPicPr/>
          <p:nvPr/>
        </p:nvPicPr>
        <p:blipFill>
          <a:blip r:embed="rId1"/>
          <a:stretch/>
        </p:blipFill>
        <p:spPr>
          <a:xfrm>
            <a:off x="250920" y="765000"/>
            <a:ext cx="4465440" cy="27734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7"/>
          <p:cNvSpPr/>
          <p:nvPr/>
        </p:nvSpPr>
        <p:spPr>
          <a:xfrm>
            <a:off x="4788000" y="907920"/>
            <a:ext cx="4140000" cy="253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НИАК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1946 год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. Эккерт, Д. Моучли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змер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 30 м. в длину, вес 30 тонн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стоял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з 20000 эл. ламп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полнял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300 операций умножения и 5000 сложений многоразрядных чисел в секунд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324000" y="3645000"/>
            <a:ext cx="8569080" cy="28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ДСАК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1949 год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вая машина с хранимой программой (Англия). Данная ЭВМ была создана в соответствии с принципами фон Нейман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ЭСМ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1951 год) – первая отечественная ЭВМ, разработана академиком С.А. Лебедевы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ЮНИВАК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1951год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первые использовались магнитные ленты для записи и хранения информации (Англия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ЭСМ-2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1952 год) – отечественная ЭВ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Times New Roman"/>
              </a:rPr>
              <a:t>Характерные черты ЭВМ первого поколения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990720" y="1981080"/>
            <a:ext cx="79246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лементная база: электронно-вакуумные ламп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абариты: выполнена в виде громадных шкафов и занимает специальный зал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ыстродействие: 10-20 тыс. операций в секунду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ситель информации: перфокарта, перфолент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граммы состоят из машинных кодов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личество машин в мире – десят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1T08:58:07Z</dcterms:created>
  <dc:creator>ирина</dc:creator>
  <dc:description/>
  <dc:language>en-US</dc:language>
  <cp:lastModifiedBy>админ</cp:lastModifiedBy>
  <dcterms:modified xsi:type="dcterms:W3CDTF">2014-12-08T01:57:18Z</dcterms:modified>
  <cp:revision>13</cp:revision>
  <dc:subject/>
  <dc:title>История развития вычислительной техники.</dc:title>
</cp:coreProperties>
</file>