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075C-47BE-4A3D-9465-B567C5691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7D7B-06A7-4D29-ADDB-59DBA7A4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D31-0319-4738-A316-1245978A5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36A6-7D33-4ACE-8A5D-3B42466C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3D283-3D85-4A47-B0A6-A5A11D45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821B-5FFD-4F26-9987-C248367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10B39-2F18-46B4-9C16-03586A52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F82F-C9EC-4A0D-B420-1D224C08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59C0-48A7-4080-88EB-946B305F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F65A-695B-47BE-9ED4-ABCECC65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9EC-02E7-4A29-8257-7F125FDE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4279-833F-4770-B90A-69FB5EC9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C080-A07A-43F3-889E-95378EDE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CC41E-97D4-467F-A967-A7F00EA6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9898-03B9-412C-8A08-EE13032E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7A92-D69D-4BA0-97D8-1DAFEE74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AC2D-136C-49FD-9759-7BA7FB86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E7A1-C397-4FE8-9B3E-20AD38A8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B02-E605-49A9-9E1F-9C0F0470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1FD-22FA-4426-8289-5DF7A46F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5C1-C14F-4CAC-AB2E-386661FC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D70-95DB-4EE5-91A0-BD4C7A5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1B7-28D6-49C4-9262-6858E415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F63-653D-4B05-8B06-14073690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gif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4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BF19-FCE8-42FD-B483-CB0077FECB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0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1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123"/>
          <p:cNvPicPr/>
          <p:nvPr/>
        </p:nvPicPr>
        <p:blipFill>
          <a:blip r:embed="rId5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" name="Picture 14" descr="water_2"/>
          <p:cNvPicPr/>
          <p:nvPr/>
        </p:nvPicPr>
        <p:blipFill>
          <a:blip r:embed="rId6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13" name="Freeform 15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16" descr="butterfly 19"/>
          <p:cNvPicPr/>
          <p:nvPr/>
        </p:nvPicPr>
        <p:blipFill>
          <a:blip r:embed="rId7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53" name="Picture 4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5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6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7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1" name="Picture 17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Freeform 18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9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64" name="Picture 20" descr="7"/>
            <p:cNvPicPr/>
            <p:nvPr/>
          </p:nvPicPr>
          <p:blipFill>
            <a:blip r:embed="rId11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1" descr="04"/>
            <p:cNvPicPr/>
            <p:nvPr/>
          </p:nvPicPr>
          <p:blipFill>
            <a:blip r:embed="rId12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" name="Picture 22" descr="123"/>
          <p:cNvPicPr/>
          <p:nvPr/>
        </p:nvPicPr>
        <p:blipFill>
          <a:blip r:embed="rId13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67" name="Picture 23" descr="water_2"/>
          <p:cNvPicPr/>
          <p:nvPr/>
        </p:nvPicPr>
        <p:blipFill>
          <a:blip r:embed="rId14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fire14"/>
          <p:cNvPicPr/>
          <p:nvPr/>
        </p:nvPicPr>
        <p:blipFill>
          <a:blip r:embed="rId15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B_Fly26"/>
          <p:cNvPicPr/>
          <p:nvPr/>
        </p:nvPicPr>
        <p:blipFill>
          <a:blip r:embed="rId16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B_Fly26"/>
          <p:cNvPicPr/>
          <p:nvPr/>
        </p:nvPicPr>
        <p:blipFill>
          <a:blip r:embed="rId17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bupestrid beetle 5"/>
          <p:cNvPicPr/>
          <p:nvPr/>
        </p:nvPicPr>
        <p:blipFill>
          <a:blip r:embed="rId18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72" name="Picture 28" descr="WB01292_"/>
          <p:cNvPicPr/>
          <p:nvPr/>
        </p:nvPicPr>
        <p:blipFill>
          <a:blip r:embed="rId19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E64C-3379-403E-B4B0-3433AFA27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21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Картофел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267080" y="38095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: Воробьев Кирилл ученик 3 – А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Роман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762120" y="92376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ные факты про картофе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алендаре Инков существовал один из двух способов определения дневного времени: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рением времени служило время, затрачиваемое на варку картофел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что приблизительно равнялось одному часу. То есть, в Перу говорили: прошло столько времени, сколько ушло бы на приготовление блюда из карто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Для того, чтобы уменьшить время запекания картофеля, можно вставить в него гвоздь (этим вы сэкономите 15 минут) или отварить его в соленой воде в течение 10 минут перед закладкой в разогретую духовку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ртофель стал первым овощем, испытавшем на себе невесомость - его вырастили на космическом корабле «Колумбия» в октябре 1995 года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5"/>
          <p:cNvSpPr/>
          <p:nvPr/>
        </p:nvSpPr>
        <p:spPr>
          <a:xfrm>
            <a:off x="609480" y="190512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артошка – удивительный корнеплод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4038480"/>
            <a:ext cx="7086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́ф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— вид многолетних клубненосных травянистых растений из рода Паслён семейства Паслёновые. Клубни картофеля являются важным продуктом питания, в отличие от ядовитых плодов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на картофеля — Южная Америка, где до сих пор можно встретить дикорастущий картоф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5">
            <a:hlinkClick r:id="" action="ppaction://hlinkshowjump?jump=nextslide"/>
          </p:cNvPr>
          <p:cNvSpPr/>
          <p:nvPr/>
        </p:nvSpPr>
        <p:spPr>
          <a:xfrm>
            <a:off x="2819520" y="762120"/>
            <a:ext cx="2666880" cy="1523880"/>
          </a:xfrm>
          <a:custGeom>
            <a:avLst/>
            <a:gdLst>
              <a:gd name="textAreaLeft" fmla="*/ 98640 w 2666880"/>
              <a:gd name="textAreaRight" fmla="*/ 2568240 w 2666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7797" h="21600">
                <a:moveTo>
                  <a:pt x="0" y="0"/>
                </a:moveTo>
                <a:lnTo>
                  <a:pt x="37797" y="0"/>
                </a:lnTo>
                <a:lnTo>
                  <a:pt x="37797" y="21600"/>
                </a:lnTo>
                <a:lnTo>
                  <a:pt x="0" y="21600"/>
                </a:lnTo>
                <a:close/>
              </a:path>
              <a:path fill="lightenLess" w="37797" h="21600">
                <a:moveTo>
                  <a:pt x="0" y="0"/>
                </a:moveTo>
                <a:lnTo>
                  <a:pt x="37797" y="0"/>
                </a:lnTo>
                <a:lnTo>
                  <a:pt x="36398" y="1400"/>
                </a:lnTo>
                <a:lnTo>
                  <a:pt x="1400" y="1400"/>
                </a:lnTo>
                <a:close/>
              </a:path>
              <a:path fill="darken" w="37797" h="21600">
                <a:moveTo>
                  <a:pt x="37797" y="0"/>
                </a:moveTo>
                <a:lnTo>
                  <a:pt x="37797" y="21600"/>
                </a:lnTo>
                <a:lnTo>
                  <a:pt x="36398" y="20200"/>
                </a:lnTo>
                <a:lnTo>
                  <a:pt x="36398" y="1400"/>
                </a:lnTo>
                <a:close/>
              </a:path>
              <a:path fill="darkenLess" w="37797" h="21600">
                <a:moveTo>
                  <a:pt x="37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98" y="20200"/>
                </a:lnTo>
                <a:close/>
              </a:path>
              <a:path fill="lighten" w="37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6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029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533520" y="3962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бель голый, ребристый. Часть стебля, погружённая в почву, выпускает длинные побеги (длиной 15—20, у некоторых сортов 40—50 см)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 картофеля тёмно-зелёны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ки белые, розовые и фиолетовые. Из пазух зачаточных листьев в подземной части стебля отрастают подземные побеги — столоны, которые, утолщаясь на вершинах, дают начало новым клубням. На концах столонов развиваются клубни, которые созревают в августе — сентябре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д — многосемянная, тёмно-зелёная, ядовитая ягода диаметром 2 с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2819520" y="228600"/>
            <a:ext cx="316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1219320" y="5334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1371600" cy="2362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4267080" y="838080"/>
            <a:ext cx="4191120" cy="2362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"/>
          <p:cNvPicPr/>
          <p:nvPr/>
        </p:nvPicPr>
        <p:blipFill>
          <a:blip r:embed="rId4"/>
          <a:stretch/>
        </p:blipFill>
        <p:spPr>
          <a:xfrm>
            <a:off x="2133720" y="3733920"/>
            <a:ext cx="3200400" cy="2895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3"/>
          <p:cNvSpPr/>
          <p:nvPr/>
        </p:nvSpPr>
        <p:spPr>
          <a:xfrm>
            <a:off x="2185920" y="31993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ветие, лист, плоды, клуб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304920" y="3657600"/>
            <a:ext cx="8610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размножают вегетативно — небольшими клубнями или частями клубней.  Они высаживаются на глубину от 5 до 10 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растание почек клубней в почве начинается при 5-8 °C (оптимальная температура для прорастания картофеля 15-20 °C). Наиболее интенсивно клубни образуются при ночной температуре воздуха 10-13 °C. Высокая температура (ночная около 20 °C и выше) вызывает тепловое вырождение. Всходы и молодые растения повреждаются при заморозках в −2 °C. Наибольшее количество воды растение потребляет во время цветения и клубнеобразования. Избыток влаги вреден для картоф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3124080" y="0"/>
            <a:ext cx="2438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838080" y="4419720"/>
            <a:ext cx="7940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ртофель обладает уникальным набором органических и неорганических соединений жизненно важных для человеческого организма. Недаром после внедрения картофеля в Европе практически прекратились эпидемии цинги. Это объясняется тем, что употребляя в пищу блюда из картофеля, европейцы обогатили свой организм витамином C, а ведь именно его дефицит служит главной причиной возникновения этого страшного заболевания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457200" y="76212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имо высокого содержания витамина C – 45 процентов от дневной нормы в одном среднем клубне –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фель также весьма богат кал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21% дневной нормы) и клетчаткой (12% дневной нормы).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воды в картофеле – порядка 80%, в зависимости от сорта. Лишь немногим меньше, чем в молоке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приготовить картофель в мундире, это позволит сохранить большую питательную ценность. Перед подачей кожуру лучше счистить – есть ее не рекомендуется: полезных веществ в ней немного, зато много токси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еки распространенному мнению,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ртофель не очень калори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одной порции содержится 110 калорий, зато одна столовая ложка сливочного масла удвоит калорийность картоф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0" y="3276720"/>
            <a:ext cx="8991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один интересный факт: если капнуть настойкой йода на срез картофеля,то увидим, что бурый цвет йода превратился в темно-фиолетовый. Здесь происходит химическая реакция между йодом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хмал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оторый содержится в картофеле, и получается новое вещество сине-фиолетового цвета. Химики используют эту реакцию для того, чтобы установить, содержится ли в том или ином пищевом продукте крахмал, а если содержится - то в каком количестве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взять для сравнения яблоко и картофель, то мы увидим, что йодное пятно на срезе картофеля заметно ярче, чем на яблоке - значит, в картофеле крахмала больш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2819520" cy="2362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"/>
          <p:cNvPicPr/>
          <p:nvPr/>
        </p:nvPicPr>
        <p:blipFill>
          <a:blip r:embed="rId2"/>
          <a:stretch/>
        </p:blipFill>
        <p:spPr>
          <a:xfrm>
            <a:off x="5257800" y="380880"/>
            <a:ext cx="32004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990720" y="350532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 два редких сорта, у которых цвет кожуры и мякоти остается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ни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после вар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 из самых распространённых сортов с синеватой кожурой, выращиваемых на российских огородах — «синеглазка». Однако мало кто знает, что по-научному она называется «Ганнибал», в честь прадеда Александра Пушкина Абрама Ганнибала, который первым провёл опыты по селекции и хранению картофеля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городе Минске в 2000-х годах открыт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картофел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10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7-01-09T13:55:58Z</dcterms:modified>
  <cp:revision>3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