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8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61D-1D4F-405A-B6CA-8ACC0E59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ABFB-1966-4B7D-AE21-15FB37D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E9A-E1E7-44BE-B745-C819A068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081A-88F7-4ED7-A07C-F21CAB05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56BA-2A10-46AE-8EF6-BAEBB4D7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730-0855-4213-A9D6-12AAF03C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322-3BF7-476D-8A0A-6FB9B19E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E47-30A1-4BBC-B659-E05D8AA0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F27-F092-4829-97E3-C40770EE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D49-A521-4D72-9658-61C1D460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F395-2016-4B52-898F-F15E3A8D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17E3-8E22-40C4-B5A5-92B44C7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32F2-351C-48AA-898E-2C7194D8B9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льтура СССР в 20-30 гг.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хитектура. Конструктивиз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D:\Учеба\4 курс\Суслов\урок\Башня Татлина.jpg"/>
          <p:cNvPicPr/>
          <p:nvPr/>
        </p:nvPicPr>
        <p:blipFill>
          <a:blip r:embed="rId1"/>
          <a:stretch/>
        </p:blipFill>
        <p:spPr>
          <a:xfrm>
            <a:off x="595440" y="1857240"/>
            <a:ext cx="2666880" cy="35625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595440" y="578628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. Е. Татлин. «Башня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II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интернациона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D:\Учеба\4 курс\Суслов\урок\Конструктивизм.jpg"/>
          <p:cNvPicPr/>
          <p:nvPr/>
        </p:nvPicPr>
        <p:blipFill>
          <a:blip r:embed="rId2"/>
          <a:stretch/>
        </p:blipFill>
        <p:spPr>
          <a:xfrm>
            <a:off x="3944880" y="1928880"/>
            <a:ext cx="4776840" cy="30002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4167360" y="53578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ример здания в стиле конструктивизм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хитектура. Сталинский ампи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File:Dom sovetov spb.jpg"/>
          <p:cNvPicPr/>
          <p:nvPr/>
        </p:nvPicPr>
        <p:blipFill>
          <a:blip r:embed="rId1"/>
          <a:stretch/>
        </p:blipFill>
        <p:spPr>
          <a:xfrm>
            <a:off x="179280" y="1268280"/>
            <a:ext cx="5616720" cy="2989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File:Parque de Moscú II.JPG"/>
          <p:cNvPicPr/>
          <p:nvPr/>
        </p:nvPicPr>
        <p:blipFill>
          <a:blip r:embed="rId2"/>
          <a:stretch/>
        </p:blipFill>
        <p:spPr>
          <a:xfrm>
            <a:off x="4334040" y="3622680"/>
            <a:ext cx="4809960" cy="3205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3"/>
          <p:cNvSpPr/>
          <p:nvPr/>
        </p:nvSpPr>
        <p:spPr>
          <a:xfrm>
            <a:off x="6952320" y="32529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ДН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049400" y="42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м Сов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кульп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Картинки по запросу мухина рабочий и колхозница"/>
          <p:cNvPicPr/>
          <p:nvPr/>
        </p:nvPicPr>
        <p:blipFill>
          <a:blip r:embed="rId1"/>
          <a:stretch/>
        </p:blipFill>
        <p:spPr>
          <a:xfrm>
            <a:off x="971640" y="1413000"/>
            <a:ext cx="2571840" cy="40003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193320" y="541332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И. Мухина. Рабочий и колхозн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5580000" y="1352520"/>
            <a:ext cx="2343240" cy="44308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5461920" y="578340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И. Мухина. Крестья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т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 мая 1935 г. - открытие первой очереди Московского метрополитена на участках от станции «Сокольники» до станции «Парк культур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05_1935.jpg"/>
          <p:cNvPicPr/>
          <p:nvPr/>
        </p:nvPicPr>
        <p:blipFill>
          <a:blip r:embed="rId1"/>
          <a:stretch/>
        </p:blipFill>
        <p:spPr>
          <a:xfrm>
            <a:off x="0" y="3068640"/>
            <a:ext cx="3171960" cy="2381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Картинки по запросу станции «Парк культуры»"/>
          <p:cNvPicPr/>
          <p:nvPr/>
        </p:nvPicPr>
        <p:blipFill>
          <a:blip r:embed="rId2"/>
          <a:stretch/>
        </p:blipFill>
        <p:spPr>
          <a:xfrm>
            <a:off x="3211560" y="4259160"/>
            <a:ext cx="3760920" cy="254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s://upload.wikimedia.org/wikipedia/commons/thumb/e/e9/Novokuznetskaya_station.jpg/220px-Novokuznetskaya_station.jpg"/>
          <p:cNvPicPr/>
          <p:nvPr/>
        </p:nvPicPr>
        <p:blipFill>
          <a:blip r:embed="rId3"/>
          <a:stretch/>
        </p:blipFill>
        <p:spPr>
          <a:xfrm>
            <a:off x="6986520" y="2658960"/>
            <a:ext cx="2157480" cy="28735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3"/>
          <p:cNvSpPr/>
          <p:nvPr/>
        </p:nvSpPr>
        <p:spPr>
          <a:xfrm>
            <a:off x="4169520" y="38703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Парк культуры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4"/>
          <p:cNvSpPr/>
          <p:nvPr/>
        </p:nvSpPr>
        <p:spPr>
          <a:xfrm>
            <a:off x="7212960" y="553392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Новокузнецка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и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ергей Эйзенштей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зиг Вер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в Кулешов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волод Пудовк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ександр Довжен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рис Барнет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ратья Василье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4" descr="Sergei Eisenstein 03.jpg"/>
          <p:cNvPicPr/>
          <p:nvPr/>
        </p:nvPicPr>
        <p:blipFill>
          <a:blip r:embed="rId1"/>
          <a:stretch/>
        </p:blipFill>
        <p:spPr>
          <a:xfrm>
            <a:off x="4788000" y="0"/>
            <a:ext cx="2238120" cy="3333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https://upload.wikimedia.org/wikipedia/commons/thumb/8/85/Vintage_Potemkin.jpg/300px-Vintage_Potemkin.jpg"/>
          <p:cNvPicPr/>
          <p:nvPr/>
        </p:nvPicPr>
        <p:blipFill>
          <a:blip r:embed="rId2"/>
          <a:stretch/>
        </p:blipFill>
        <p:spPr>
          <a:xfrm>
            <a:off x="6286680" y="2819520"/>
            <a:ext cx="2857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18 г. – отменена плата за образование, введение трудового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20 г. – программа ликвидация безграмот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30 г. – введение всеобщего начально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808360" cy="403848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6490440" y="565956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С. Макаренк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у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5280" y="83628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925 г. – Академия наук СССР перенесена из Ленинграда в Москв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Картинки по запросу"/>
          <p:cNvPicPr/>
          <p:nvPr/>
        </p:nvPicPr>
        <p:blipFill>
          <a:blip r:embed="rId1"/>
          <a:stretch/>
        </p:blipFill>
        <p:spPr>
          <a:xfrm>
            <a:off x="0" y="1828800"/>
            <a:ext cx="2795760" cy="2232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728280" y="406080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.Л. Капи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Картинки по запросу"/>
          <p:cNvPicPr/>
          <p:nvPr/>
        </p:nvPicPr>
        <p:blipFill>
          <a:blip r:embed="rId2"/>
          <a:stretch/>
        </p:blipFill>
        <p:spPr>
          <a:xfrm>
            <a:off x="2795760" y="2513160"/>
            <a:ext cx="2214360" cy="30956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151800" y="55627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.В. Курч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Картинки по запросу"/>
          <p:cNvPicPr/>
          <p:nvPr/>
        </p:nvPicPr>
        <p:blipFill>
          <a:blip r:embed="rId3"/>
          <a:stretch/>
        </p:blipFill>
        <p:spPr>
          <a:xfrm>
            <a:off x="5032440" y="1550880"/>
            <a:ext cx="1957320" cy="2943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5356800" y="449424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Ф. Иофф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https://upload.wikimedia.org/wikipedia/commons/7/7a/Marr.jpg"/>
          <p:cNvPicPr/>
          <p:nvPr/>
        </p:nvPicPr>
        <p:blipFill>
          <a:blip r:embed="rId4"/>
          <a:stretch/>
        </p:blipFill>
        <p:spPr>
          <a:xfrm>
            <a:off x="7153200" y="2638440"/>
            <a:ext cx="1974960" cy="2968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7558920" y="564192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.Я. Мар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Картинки по запросу"/>
          <p:cNvPicPr/>
          <p:nvPr/>
        </p:nvPicPr>
        <p:blipFill>
          <a:blip r:embed="rId1"/>
          <a:stretch/>
        </p:blipFill>
        <p:spPr>
          <a:xfrm>
            <a:off x="108000" y="1465200"/>
            <a:ext cx="2095560" cy="3048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Картинки по запросу а н толстой"/>
          <p:cNvPicPr/>
          <p:nvPr/>
        </p:nvPicPr>
        <p:blipFill>
          <a:blip r:embed="rId2"/>
          <a:stretch/>
        </p:blipFill>
        <p:spPr>
          <a:xfrm>
            <a:off x="2203560" y="3141720"/>
            <a:ext cx="2447640" cy="3276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13000" y="45133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Горь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726640" y="277164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Н. Толст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Картинки по запросу булгаков"/>
          <p:cNvPicPr/>
          <p:nvPr/>
        </p:nvPicPr>
        <p:blipFill>
          <a:blip r:embed="rId3"/>
          <a:stretch/>
        </p:blipFill>
        <p:spPr>
          <a:xfrm>
            <a:off x="4651200" y="1465200"/>
            <a:ext cx="2179800" cy="295596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4968720" y="442116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А. Булга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8" descr="Картинки по запросу"/>
          <p:cNvPicPr/>
          <p:nvPr/>
        </p:nvPicPr>
        <p:blipFill>
          <a:blip r:embed="rId4"/>
          <a:stretch/>
        </p:blipFill>
        <p:spPr>
          <a:xfrm>
            <a:off x="6818400" y="2736720"/>
            <a:ext cx="2311200" cy="4086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7193160" y="236700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А. Шолох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эз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Картинки по запросу ахматова"/>
          <p:cNvPicPr/>
          <p:nvPr/>
        </p:nvPicPr>
        <p:blipFill>
          <a:blip r:embed="rId1"/>
          <a:stretch/>
        </p:blipFill>
        <p:spPr>
          <a:xfrm>
            <a:off x="5987880" y="469800"/>
            <a:ext cx="3171960" cy="354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Картинки по запросу цветаева"/>
          <p:cNvPicPr/>
          <p:nvPr/>
        </p:nvPicPr>
        <p:blipFill>
          <a:blip r:embed="rId2"/>
          <a:stretch/>
        </p:blipFill>
        <p:spPr>
          <a:xfrm>
            <a:off x="155520" y="442800"/>
            <a:ext cx="2544840" cy="3435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Картинки по запросу есенин"/>
          <p:cNvPicPr/>
          <p:nvPr/>
        </p:nvPicPr>
        <p:blipFill>
          <a:blip r:embed="rId3"/>
          <a:stretch/>
        </p:blipFill>
        <p:spPr>
          <a:xfrm>
            <a:off x="1979640" y="3068640"/>
            <a:ext cx="2685960" cy="3672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Картинки по запросу маяковский"/>
          <p:cNvPicPr/>
          <p:nvPr/>
        </p:nvPicPr>
        <p:blipFill>
          <a:blip r:embed="rId4"/>
          <a:stretch/>
        </p:blipFill>
        <p:spPr>
          <a:xfrm>
            <a:off x="4660920" y="3068640"/>
            <a:ext cx="2573280" cy="3672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186120" y="38782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. Цветае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7791840" y="405936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Ахма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2772000" y="26780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. Есен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366080" y="267804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Маяков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Картинки по запросу Марка Шагала"/>
          <p:cNvPicPr/>
          <p:nvPr/>
        </p:nvPicPr>
        <p:blipFill>
          <a:blip r:embed="rId1"/>
          <a:stretch/>
        </p:blipFill>
        <p:spPr>
          <a:xfrm>
            <a:off x="33480" y="1305000"/>
            <a:ext cx="3421080" cy="264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Картинки по запросу Марка Шагала"/>
          <p:cNvPicPr/>
          <p:nvPr/>
        </p:nvPicPr>
        <p:blipFill>
          <a:blip r:embed="rId2"/>
          <a:stretch/>
        </p:blipFill>
        <p:spPr>
          <a:xfrm>
            <a:off x="2050920" y="3141720"/>
            <a:ext cx="3173400" cy="3065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357840" y="42498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арк Шага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Картинки по запросу малевич"/>
          <p:cNvPicPr/>
          <p:nvPr/>
        </p:nvPicPr>
        <p:blipFill>
          <a:blip r:embed="rId3"/>
          <a:stretch/>
        </p:blipFill>
        <p:spPr>
          <a:xfrm>
            <a:off x="6072120" y="1141560"/>
            <a:ext cx="3071880" cy="243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Супрематизм. 1915. Холст, масло. 87,5×72 см. Государственный Русский музей, Санкт-Петербург"/>
          <p:cNvPicPr/>
          <p:nvPr/>
        </p:nvPicPr>
        <p:blipFill>
          <a:blip r:embed="rId4"/>
          <a:stretch/>
        </p:blipFill>
        <p:spPr>
          <a:xfrm>
            <a:off x="6345360" y="3560760"/>
            <a:ext cx="2525760" cy="3174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/>
          <p:cNvSpPr/>
          <p:nvPr/>
        </p:nvSpPr>
        <p:spPr>
          <a:xfrm rot="16200000">
            <a:off x="4908240" y="316440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D:\Учеба\4 курс\Суслов\урок\Бродский И. И. Сталин.jpg"/>
          <p:cNvPicPr/>
          <p:nvPr/>
        </p:nvPicPr>
        <p:blipFill>
          <a:blip r:embed="rId1"/>
          <a:stretch/>
        </p:blipFill>
        <p:spPr>
          <a:xfrm>
            <a:off x="5724360" y="1554120"/>
            <a:ext cx="1995480" cy="2567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7724880" y="1839960"/>
            <a:ext cx="192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И. И. Бродский. Портрет Стали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D:\Учеба\4 курс\Суслов\урок\Кустодиев Большевик.JPG"/>
          <p:cNvPicPr/>
          <p:nvPr/>
        </p:nvPicPr>
        <p:blipFill>
          <a:blip r:embed="rId2"/>
          <a:stretch/>
        </p:blipFill>
        <p:spPr>
          <a:xfrm>
            <a:off x="642960" y="1625760"/>
            <a:ext cx="3000240" cy="2179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3714840" y="155412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Кустодиев Б. М. Большеви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D:\Учеба\4 курс\Суслов\урок\Герасимов Ленин на трибуне.jpg"/>
          <p:cNvPicPr/>
          <p:nvPr/>
        </p:nvPicPr>
        <p:blipFill>
          <a:blip r:embed="rId3"/>
          <a:stretch/>
        </p:blipFill>
        <p:spPr>
          <a:xfrm>
            <a:off x="3059280" y="400536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773280" y="4362480"/>
            <a:ext cx="192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Герасимов А. М. Ленин  на трибу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к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D:\Учеба\4 курс\Суслов\урок\Буржуи.jpg"/>
          <p:cNvPicPr/>
          <p:nvPr/>
        </p:nvPicPr>
        <p:blipFill>
          <a:blip r:embed="rId1"/>
          <a:stretch/>
        </p:blipFill>
        <p:spPr>
          <a:xfrm>
            <a:off x="646200" y="1182600"/>
            <a:ext cx="338112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D:\Учеба\4 курс\Суслов\урок\Субботник.jpg"/>
          <p:cNvPicPr/>
          <p:nvPr/>
        </p:nvPicPr>
        <p:blipFill>
          <a:blip r:embed="rId2"/>
          <a:stretch/>
        </p:blipFill>
        <p:spPr>
          <a:xfrm>
            <a:off x="4361040" y="1254240"/>
            <a:ext cx="3714480" cy="4727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432160" y="582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Окна 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реал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Картинки по запросу соцреализм дейнека"/>
          <p:cNvPicPr/>
          <p:nvPr/>
        </p:nvPicPr>
        <p:blipFill>
          <a:blip r:embed="rId1"/>
          <a:stretch/>
        </p:blipFill>
        <p:spPr>
          <a:xfrm>
            <a:off x="23760" y="1384200"/>
            <a:ext cx="4280040" cy="280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Картинки по запросу соцреализм дейнека"/>
          <p:cNvPicPr/>
          <p:nvPr/>
        </p:nvPicPr>
        <p:blipFill>
          <a:blip r:embed="rId2"/>
          <a:stretch/>
        </p:blipFill>
        <p:spPr>
          <a:xfrm>
            <a:off x="2700360" y="3714840"/>
            <a:ext cx="4103640" cy="3143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Картинки по запросу Герасимов, Сергей Васильевич"/>
          <p:cNvPicPr/>
          <p:nvPr/>
        </p:nvPicPr>
        <p:blipFill>
          <a:blip r:embed="rId3"/>
          <a:stretch/>
        </p:blipFill>
        <p:spPr>
          <a:xfrm>
            <a:off x="5029200" y="1360440"/>
            <a:ext cx="4114800" cy="26402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1280520" y="422748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. Дейн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4"/>
          <p:cNvSpPr/>
          <p:nvPr/>
        </p:nvSpPr>
        <p:spPr>
          <a:xfrm>
            <a:off x="7656480" y="41925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. Герасим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8T14:11:19Z</dcterms:created>
  <dc:creator>Danil Semenov</dc:creator>
  <dc:description/>
  <dc:language>en-US</dc:language>
  <cp:lastModifiedBy>учитель</cp:lastModifiedBy>
  <dcterms:modified xsi:type="dcterms:W3CDTF">2017-01-09T06:04:53Z</dcterms:modified>
  <cp:revision>9</cp:revision>
  <dc:subject/>
  <dc:title>Культура СССР в 20-30 гг. XX в.</dc:title>
</cp:coreProperties>
</file>