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CDF-46B7-4D8E-B401-52098FFC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56C-7000-41B3-8AB1-23BCF73E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3FF-28F8-45DE-A2F2-212369E6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6A3-D120-4D06-B4B7-F4FE89FC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1448-CE2D-464C-BA4C-BE96BAE1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4779-89F3-45ED-9E65-A0995ADC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43B6-6390-4946-9FA8-CA1D1B4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3ACD-8AD8-424A-8E59-BBD96705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B6AF-739C-44F5-8AAA-DDE2D6EB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589C-9631-46CA-8281-332E6BB2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DF13-BD91-4A25-9E79-B2AD215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793-45FA-4912-8128-905DF94A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0BE8-F964-49B0-B825-A107525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341D-C7BF-4637-95EF-BB152EB9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DA25-EC14-401D-86B9-1A69D8C8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FF1-6E1E-4C5D-82A0-B4984D32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5906-AC7D-4C07-AD53-289B7D3A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702E-C6B8-4A39-BC80-30C4FA3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7B15-CB26-415E-8C5C-015B389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C220-29F7-4052-8C6D-7B59CBD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5B1F-BF39-4241-99CD-D3B1083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220D-B7FF-479E-ADDC-40628B9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764-48AF-4404-AC76-49343A9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EACC-5C5E-41DA-B862-56F5A728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7785-56B9-4B5F-8A7F-EB07371A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0920-2751-4195-BFBD-50D7B0E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C7F3-6094-4B21-AD28-D06F557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58D5-632D-4893-9ADD-E8484FB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C364-842F-4271-9B7B-139087A5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4975-050E-4EB1-842A-E5BC7858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5CD-12BB-4ABA-B639-AB4918E9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39C-004B-4DCB-AF4C-A0CB6D45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EED-AFAB-45F9-9658-AC5BB0FF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D5F-CBB0-431F-817C-EAD70FF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6BC-18C7-4E92-B7EE-FC40188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AFB-8648-4397-9105-F222E564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06B-8DEC-471F-95C9-F5F24701C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A59-CCD7-4374-AE01-437ACFDE61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1427-FE6B-4952-B1F1-3D724A984E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71760" y="499680"/>
            <a:ext cx="6408720" cy="1366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олзни, сели, обвалы, лав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опасное явление"/>
          <p:cNvPicPr/>
          <p:nvPr/>
        </p:nvPicPr>
        <p:blipFill>
          <a:blip r:embed="rId1"/>
          <a:stretch/>
        </p:blipFill>
        <p:spPr>
          <a:xfrm>
            <a:off x="1619280" y="2060640"/>
            <a:ext cx="6264360" cy="4440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129" name="TextBox 3"/>
          <p:cNvSpPr/>
          <p:nvPr/>
        </p:nvSpPr>
        <p:spPr>
          <a:xfrm>
            <a:off x="1687320" y="6072120"/>
            <a:ext cx="4545360" cy="337320"/>
          </a:xfrm>
          <a:prstGeom prst="rect">
            <a:avLst/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полнил студент группы 22СЗ Толчин О.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ели образуются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ичины 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197000"/>
          <a:ext cx="8218440" cy="54673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авильн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вержение вулкан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вода и пепе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ое разрушение го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СЕЛЬ 1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1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Обвал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рыв и катастрофическое падение больших масс горных пород, их дробление  и скатывание на крутых горных скло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50920" y="2924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новидности обвал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амнепа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бвалы гру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брушение лед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чины обва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 основном антропогенные (до 80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ильное проведение работ при строительстве и горных разработках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иродные прич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льные дож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обвал2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977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обвал1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61722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Лавина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ыстрое, внезапно возникающее движение снега и (или) льда вниз по крутым склонам гор, представляющее угрозу жизни и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0920" y="29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зникают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ход лавины сопровождается  образованием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здушной предударной волн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зводящей наибольшие разруш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акторы, влияющие на возникновение л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Много сне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клон, угол наклона которого превышает 14 градусов (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сли угол склона 30 – 40 градусов, то лавина неизбежна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Наличие открытого склона длиной 100 – 500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лавины1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6048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авины2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50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ее условие возникновения этих опасных природных явл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Начало смещения грунта, скальных пород или снега вниз по ск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ерритории нашей страны, где часто происходят оползни, сели, обвалы, лави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верный Кавказ, Урал, Саяны, Приморье, Камчатка, Сахал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лавины3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869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681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Еще в прошлом веке в Альпах людей, засыпанных снегом, помогали обнаруживать большие сильные собак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нбернар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названные так в честь высокогорного монастыря Святого Бернара, где их разводили. Близ Парижа на специальном собачьем кладбище установлен памятник сенбернару Барри, спасшему 40 человек. Эти добродушные крупные собаки отыскали в горах более 2000 человек. Сейчас на смену сенбернарам пришл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осточноевропейские овчарк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30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Оползен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мещение масс горных пород по склону под воздействием  собственного тела и дополнительной нагрузки вследствие подмыва склона, переувлажнения, сейсмических толчков и иных проце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ичины ополз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836640"/>
          <a:ext cx="8424720" cy="5761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увлажнение поч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ожди, наводнени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Вода – «смазка» между пластами горных пор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контролируемая распашка  и полив земельных участков на склон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плзень1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оплзень2"/>
          <p:cNvPicPr/>
          <p:nvPr/>
        </p:nvPicPr>
        <p:blipFill>
          <a:blip r:embed="rId1"/>
          <a:stretch/>
        </p:blipFill>
        <p:spPr>
          <a:xfrm>
            <a:off x="395280" y="333360"/>
            <a:ext cx="8496360" cy="57596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оползень3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5724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оползень4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9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Сель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сайль – «бурный поток»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орный поток, состоящий из смеси воды, грязи, камней (б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в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19:16Z</dcterms:created>
  <dc:creator>жилин олег юрьевич</dc:creator>
  <dc:description/>
  <dc:language>en-US</dc:language>
  <cp:lastModifiedBy>Библиотека</cp:lastModifiedBy>
  <dcterms:modified xsi:type="dcterms:W3CDTF">2016-12-12T07:13:09Z</dcterms:modified>
  <cp:revision>5</cp:revision>
  <dc:subject/>
  <dc:title>Слайд 1</dc:title>
</cp:coreProperties>
</file>