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D778-8634-46AF-82FE-462D29C7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73D-39FC-4718-A913-1051D67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D2A5-ACA6-4868-AF63-AC0AC5D6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E4D-B0B5-4BDD-BC67-94C9F144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22B-BEF6-47DF-A55C-6E62913C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32B0-CF31-4E11-A31E-6F1C460A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BEB1-08B9-4636-A21F-549F3802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A92-4EA7-4172-B817-C24D12CF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7A5-EC93-4719-96F1-2E273A9D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0654-2E3E-4BD6-82ED-0582B78C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3636-C031-4C2A-8224-514FD692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59A-CE42-4544-A391-CB066F76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27EE-D4F5-48F8-91B5-CBB6079B1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36080" cy="460836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3"/>
          <p:cNvSpPr/>
          <p:nvPr/>
        </p:nvSpPr>
        <p:spPr>
          <a:xfrm>
            <a:off x="380880" y="152280"/>
            <a:ext cx="8305920" cy="2133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приёма ключевых понятий при отработке зада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ГЭ по обществознанию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46480" y="1765080"/>
            <a:ext cx="8051040" cy="447012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Духовная куль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828800"/>
          <a:ext cx="7696080" cy="4100400"/>
        </p:xfrm>
        <a:graphic>
          <a:graphicData uri="http://schemas.openxmlformats.org/drawingml/2006/table">
            <a:tbl>
              <a:tblPr/>
              <a:tblGrid>
                <a:gridCol w="3505320"/>
                <a:gridCol w="41907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и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Фантаст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имволиз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елиг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верхъестеств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скус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Художественные обра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Эмоциональ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у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Теоретич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Логичность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Объектив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5. Задание на выбор ответа (ОГЭ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09480" y="1295280"/>
            <a:ext cx="830592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Религия, в отличие от других форм (областей) духовной культуры, предполаг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отражение мира в художественных обра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особую значимость субъективного восприятия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эмоциональное воздействие на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признание идеи сотворения мира сверхъестественными си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щийся находит в задании ключевое слово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верхъестественным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быстро определя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ьный ответ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ED00019_"/>
          <p:cNvPicPr/>
          <p:nvPr/>
        </p:nvPicPr>
        <p:blipFill>
          <a:blip r:embed="rId1"/>
          <a:stretch/>
        </p:blipFill>
        <p:spPr>
          <a:xfrm>
            <a:off x="7391520" y="5519880"/>
            <a:ext cx="15238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50440" y="1693440"/>
            <a:ext cx="8043120" cy="453816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Виды деятельност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480" y="1828800"/>
          <a:ext cx="7696440" cy="4103640"/>
        </p:xfrm>
        <a:graphic>
          <a:graphicData uri="http://schemas.openxmlformats.org/drawingml/2006/table">
            <a:tbl>
              <a:tblPr/>
              <a:tblGrid>
                <a:gridCol w="3276720"/>
                <a:gridCol w="441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г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оображаемая обстан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Условный характ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ру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Изменяет объе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Удовлетворяет потреб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зн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Приобретение зн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убъект изменя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б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Коммуникация</a:t>
                      </a:r>
                      <a:r>
                        <a:rPr b="0" lang="ru-RU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убъект обязатель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54040" y="1620720"/>
            <a:ext cx="8035920" cy="460728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Право и морал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33520" y="1752480"/>
          <a:ext cx="8153280" cy="3989520"/>
        </p:xfrm>
        <a:graphic>
          <a:graphicData uri="http://schemas.openxmlformats.org/drawingml/2006/table">
            <a:tbl>
              <a:tblPr/>
              <a:tblGrid>
                <a:gridCol w="3184560"/>
                <a:gridCol w="496872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ора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озникла с общест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Необязатель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Юридически не обоснован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а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озникло с государство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Обязатель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Закреплено юридичес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20560" y="2272680"/>
            <a:ext cx="8102880" cy="398844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3"/>
          <p:cNvSpPr/>
          <p:nvPr/>
        </p:nvSpPr>
        <p:spPr>
          <a:xfrm>
            <a:off x="380880" y="380880"/>
            <a:ext cx="8458200" cy="12956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Тема: Типы экономического роста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2362320"/>
          <a:ext cx="7696080" cy="25794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Экстенсив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Медл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Количеств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нтенсив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Быстр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Качествен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7. Выбор позиций из списка (ЕГ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ите в приведённом ниже списке факторы экстенсивного экономического роста. Запишите цифры, под которыми они указ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 освоение целинных и залежных зем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повышение квалификации работ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внедрение нов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увеличение капиталовло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 привлечение дополнительно рабоч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) рациональное распределение ресур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ED00019_"/>
          <p:cNvPicPr/>
          <p:nvPr/>
        </p:nvPicPr>
        <p:blipFill>
          <a:blip r:embed="rId1"/>
          <a:stretch/>
        </p:blipFill>
        <p:spPr>
          <a:xfrm>
            <a:off x="6934320" y="4630680"/>
            <a:ext cx="2209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61600" y="1704240"/>
            <a:ext cx="8020800" cy="474444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Формы государств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752480"/>
          <a:ext cx="7772400" cy="4572000"/>
        </p:xfrm>
        <a:graphic>
          <a:graphicData uri="http://schemas.openxmlformats.org/drawingml/2006/table">
            <a:tbl>
              <a:tblPr/>
              <a:tblGrid>
                <a:gridCol w="3657600"/>
                <a:gridCol w="41148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Форма 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Кому принадлежит вла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орма государственного устр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оотношения власти в целом и его отдельных ча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олитический реж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Метод и способ осуществления вла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24160" y="2199960"/>
            <a:ext cx="8095680" cy="405756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533520" y="228600"/>
            <a:ext cx="8305560" cy="990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ема: Форма правл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2362320"/>
          <a:ext cx="7696080" cy="227484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стемный бл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ючевые поня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онарх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ласть по наследств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спубл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Власть выбир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ча учителя, который готовит выпускника к ЕГЭ – не завалить его огромным количеством материала, а научить самостоятельно применять минимальный набор фактических знаний. Как говорят математики – выбрать главное, отрезать лишнее, оставить нужное. Одним словом - Мысли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" descr="ED00019_"/>
          <p:cNvPicPr/>
          <p:nvPr/>
        </p:nvPicPr>
        <p:blipFill>
          <a:blip r:embed="rId1"/>
          <a:stretch/>
        </p:blipFill>
        <p:spPr>
          <a:xfrm>
            <a:off x="7238880" y="4952880"/>
            <a:ext cx="1905120" cy="16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0099"/>
                </a:solidFill>
                <a:latin typeface="Times New Roman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533520" y="1600200"/>
            <a:ext cx="8305560" cy="48006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скуссия по результатам совместной деятельности Мастера и слушател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D00019_"/>
          <p:cNvPicPr/>
          <p:nvPr/>
        </p:nvPicPr>
        <p:blipFill>
          <a:blip r:embed="rId1"/>
          <a:stretch/>
        </p:blipFill>
        <p:spPr>
          <a:xfrm>
            <a:off x="6934320" y="4630680"/>
            <a:ext cx="2209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21160" y="821160"/>
            <a:ext cx="7653240" cy="391932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амостоятельность головы учащегося – единственно прочное основание всякого плодотворного уче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К.Д. Ушински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ED00019_"/>
          <p:cNvPicPr/>
          <p:nvPr/>
        </p:nvPicPr>
        <p:blipFill>
          <a:blip r:embed="rId1"/>
          <a:stretch/>
        </p:blipFill>
        <p:spPr>
          <a:xfrm>
            <a:off x="6629400" y="4724280"/>
            <a:ext cx="2209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Скругленный прямоугольник 3"/>
          <p:cNvSpPr/>
          <p:nvPr/>
        </p:nvSpPr>
        <p:spPr>
          <a:xfrm>
            <a:off x="533520" y="228600"/>
            <a:ext cx="8305560" cy="762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спользованная литература и ссыл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ED00019_"/>
          <p:cNvPicPr/>
          <p:nvPr/>
        </p:nvPicPr>
        <p:blipFill>
          <a:blip r:embed="rId1"/>
          <a:stretch/>
        </p:blipFill>
        <p:spPr>
          <a:xfrm>
            <a:off x="6934320" y="4630680"/>
            <a:ext cx="2209680" cy="1940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голюбов Л.Н. Методические рекомендации по изучению курса «Обществоведение». – М., 2004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йшвилло Е.К. Понятие как форма мышления: логико-гносеологический анализ. Изд.2-е, М.,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унер Дж. Психология познания. М., 199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юкова О. Ю. Использование «облака слов» при работе с обществоведческой терминологией на уроках истории в  школе / О. Ю. Крюкова // Молодой ученый. — 2014. — №11.1. — С. 8-1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тельный портал Гущина Д. Д. «РЕШУ ЕГЭ» (http://решуегэ.рф, http://ege.sdamgia.r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3"/>
          <p:cNvSpPr/>
          <p:nvPr/>
        </p:nvSpPr>
        <p:spPr>
          <a:xfrm>
            <a:off x="685800" y="228600"/>
            <a:ext cx="8153280" cy="19051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нятийное мышление -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ид мышления, где используются понятия и логические конструкции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3"/>
          <p:cNvSpPr/>
          <p:nvPr/>
        </p:nvSpPr>
        <p:spPr>
          <a:xfrm>
            <a:off x="533520" y="2438280"/>
            <a:ext cx="8305560" cy="35816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ED00019_"/>
          <p:cNvPicPr/>
          <p:nvPr/>
        </p:nvPicPr>
        <p:blipFill>
          <a:blip r:embed="rId1"/>
          <a:stretch/>
        </p:blipFill>
        <p:spPr>
          <a:xfrm>
            <a:off x="7010280" y="4952880"/>
            <a:ext cx="1981440" cy="1739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76960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йное мышление не врожденно и не развивается само по себе, оно развивается у детей в школьном возрасте (сначала в простейших формах) на основе их практическ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81560" y="2077560"/>
            <a:ext cx="7732440" cy="319032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сутствие навыка рабо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 терминами и понятиями при решении заданий ЕГЭ по обществозн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3"/>
          <p:cNvSpPr/>
          <p:nvPr/>
        </p:nvSpPr>
        <p:spPr>
          <a:xfrm>
            <a:off x="1219320" y="260280"/>
            <a:ext cx="7038720" cy="11527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: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ED00019_"/>
          <p:cNvPicPr/>
          <p:nvPr/>
        </p:nvPicPr>
        <p:blipFill>
          <a:blip r:embed="rId1"/>
          <a:stretch/>
        </p:blipFill>
        <p:spPr>
          <a:xfrm>
            <a:off x="6629400" y="4724280"/>
            <a:ext cx="22096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3"/>
          <p:cNvSpPr/>
          <p:nvPr/>
        </p:nvSpPr>
        <p:spPr>
          <a:xfrm>
            <a:off x="1066680" y="228600"/>
            <a:ext cx="7191360" cy="8380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ы: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763120" cy="5257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ED00019_"/>
          <p:cNvPicPr/>
          <p:nvPr/>
        </p:nvPicPr>
        <p:blipFill>
          <a:blip r:embed="rId2"/>
          <a:stretch/>
        </p:blipFill>
        <p:spPr>
          <a:xfrm>
            <a:off x="152280" y="5105520"/>
            <a:ext cx="182880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93160" y="3331800"/>
            <a:ext cx="7661880" cy="2434320"/>
          </a:xfrm>
          <a:prstGeom prst="rect">
            <a:avLst/>
          </a:prstGeom>
          <a:solidFill>
            <a:srgbClr val="ccecff"/>
          </a:solidFill>
          <a:ln w="31680">
            <a:solidFill>
              <a:srgbClr val="000000"/>
            </a:solidFill>
            <a:round/>
          </a:ln>
        </p:spPr>
        <p:txBody>
          <a:bodyPr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Терми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– слово или словосочетание, являющееся названием определенного понятия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какой-нибудь области науки, техники, искусства и так да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62120" y="533520"/>
            <a:ext cx="7924680" cy="2361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нят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– логически оформленная общая мысль о предмете, идея чего-нибуд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D00019_"/>
          <p:cNvPicPr/>
          <p:nvPr/>
        </p:nvPicPr>
        <p:blipFill>
          <a:blip r:embed="rId1"/>
          <a:stretch/>
        </p:blipFill>
        <p:spPr>
          <a:xfrm>
            <a:off x="7086600" y="4800600"/>
            <a:ext cx="20574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Скругленный прямоугольник 3"/>
          <p:cNvSpPr/>
          <p:nvPr/>
        </p:nvSpPr>
        <p:spPr>
          <a:xfrm>
            <a:off x="380880" y="152280"/>
            <a:ext cx="8305920" cy="152424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тизац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ого материал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"/>
          <p:cNvSpPr/>
          <p:nvPr/>
        </p:nvSpPr>
        <p:spPr>
          <a:xfrm>
            <a:off x="609480" y="2362320"/>
            <a:ext cx="3657600" cy="350496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че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5"/>
          <p:cNvSpPr/>
          <p:nvPr/>
        </p:nvSpPr>
        <p:spPr>
          <a:xfrm flipH="1">
            <a:off x="2514600" y="1752480"/>
            <a:ext cx="1371600" cy="53352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5334120" y="1752480"/>
            <a:ext cx="1371600" cy="533520"/>
          </a:xfrm>
          <a:prstGeom prst="line">
            <a:avLst/>
          </a:prstGeom>
          <a:ln w="114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3"/>
          <p:cNvSpPr/>
          <p:nvPr/>
        </p:nvSpPr>
        <p:spPr>
          <a:xfrm>
            <a:off x="4876920" y="2438280"/>
            <a:ext cx="3657600" cy="35053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 ключевых понятий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стемный бло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ED00019_"/>
          <p:cNvPicPr/>
          <p:nvPr/>
        </p:nvPicPr>
        <p:blipFill>
          <a:blip r:embed="rId1"/>
          <a:stretch/>
        </p:blipFill>
        <p:spPr>
          <a:xfrm>
            <a:off x="152280" y="4724280"/>
            <a:ext cx="221004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кругленный прямоугольник 3"/>
          <p:cNvSpPr/>
          <p:nvPr/>
        </p:nvSpPr>
        <p:spPr>
          <a:xfrm>
            <a:off x="609480" y="22860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ы работы с терминами и понятиями на уроках обществозн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ED00019_"/>
          <p:cNvPicPr/>
          <p:nvPr/>
        </p:nvPicPr>
        <p:blipFill>
          <a:blip r:embed="rId1"/>
          <a:stretch/>
        </p:blipFill>
        <p:spPr>
          <a:xfrm>
            <a:off x="7315200" y="3962520"/>
            <a:ext cx="1828800" cy="1604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14400" y="182844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ить однокоренные слова с данным понятием или подбор сходных, родственных терминов для 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рать слова – синонимы к данному поня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вать 2-3 ассоци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брать слово противоположное к данному понят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общее понятие для приведенных с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ить лишнее поня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 на конструирование понят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щение к этимологии данного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ение синквейна с данным поня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ставление схемы с использованием поня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Скругленный прямоугольник 3"/>
          <p:cNvSpPr/>
          <p:nvPr/>
        </p:nvSpPr>
        <p:spPr>
          <a:xfrm>
            <a:off x="609480" y="228600"/>
            <a:ext cx="822960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тоды работы с терминами и понятиями на уроках обществознания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3"/>
          <p:cNvSpPr/>
          <p:nvPr/>
        </p:nvSpPr>
        <p:spPr>
          <a:xfrm>
            <a:off x="533520" y="1295280"/>
            <a:ext cx="8305560" cy="510552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ED00019_"/>
          <p:cNvPicPr/>
          <p:nvPr/>
        </p:nvPicPr>
        <p:blipFill>
          <a:blip r:embed="rId1"/>
          <a:stretch/>
        </p:blipFill>
        <p:spPr>
          <a:xfrm>
            <a:off x="0" y="2133720"/>
            <a:ext cx="1523880" cy="13381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ем использования подчёркивани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пример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и работе с термином "право" учащимся предлагается подчеркнуть главные сло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 - систем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еобязательны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авил поведения, приняты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о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обеспечиваемых силой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осударственного принужд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ем использования маркеро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ер - это сущностный, родовой смысл понят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ер - это смысловой ключ к понятию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пример: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- "суверенитет" - маркер - "независимость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7T15:20:04Z</dcterms:created>
  <dc:creator>Пользователь</dc:creator>
  <dc:description/>
  <dc:language>en-US</dc:language>
  <cp:lastModifiedBy>Пользователь</cp:lastModifiedBy>
  <dcterms:modified xsi:type="dcterms:W3CDTF">2017-01-09T18:55:2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