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0DA-7F1A-4CEA-9052-9D96947E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431-42A1-4D1F-827E-CB5CC53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7FB-14EF-4E0E-AF4B-0486378C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536-9DC9-4F5F-8960-6DDF0163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485-0F90-439A-9BBD-3BB7A33F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A0D-E070-4668-81DA-F6D88093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96A-C751-4234-8116-937DB2A5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389-36FC-489C-8251-891F7F87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91B-9FEB-49DD-9334-9C3C1AA7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E31-CCD0-438C-BEF4-CBCE086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D0B-41BC-43A2-8D57-1B46936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8E4-9A46-4236-898F-D58CCB5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F679-B514-475F-B2A1-FFD55805F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36080" cy="46083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380880" y="152280"/>
            <a:ext cx="8305920" cy="2133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приёма ключевых понятий при отработке зад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ГЭ по обществознанию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46480" y="1765080"/>
            <a:ext cx="8051040" cy="44701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Духовная куль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828800"/>
          <a:ext cx="7696080" cy="4100400"/>
        </p:xfrm>
        <a:graphic>
          <a:graphicData uri="http://schemas.openxmlformats.org/drawingml/2006/table">
            <a:tbl>
              <a:tblPr/>
              <a:tblGrid>
                <a:gridCol w="3505320"/>
                <a:gridCol w="4190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и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Фантас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имвол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ли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ерхъесте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Художественные обр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Эмо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еоре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Логично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бъ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5. Задание на выбор ответа (О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09480" y="1295280"/>
            <a:ext cx="830592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Религия, в отличие от других форм (областей) духовной культуры, предпо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отражение мира в художественных обр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особую значимость субъективного восприятия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эмоциональное воздействие н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признание идеи сотворения мира сверхъестественными си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йся находит в задании ключевое сло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ерхъестественн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быстро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ый 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ED00019_"/>
          <p:cNvPicPr/>
          <p:nvPr/>
        </p:nvPicPr>
        <p:blipFill>
          <a:blip r:embed="rId1"/>
          <a:stretch/>
        </p:blipFill>
        <p:spPr>
          <a:xfrm>
            <a:off x="7391520" y="5519880"/>
            <a:ext cx="15238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50440" y="1693440"/>
            <a:ext cx="8043120" cy="453816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Виды деятель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828800"/>
          <a:ext cx="7696440" cy="4103640"/>
        </p:xfrm>
        <a:graphic>
          <a:graphicData uri="http://schemas.openxmlformats.org/drawingml/2006/table">
            <a:tbl>
              <a:tblPr/>
              <a:tblGrid>
                <a:gridCol w="3276720"/>
                <a:gridCol w="441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г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ображаемая обстан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слов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р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зменяет 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довлетворяет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Приобретение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убъект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ммуникация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убъект обязат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54040" y="1620720"/>
            <a:ext cx="8035920" cy="460728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Право и мора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752480"/>
          <a:ext cx="8153280" cy="3989520"/>
        </p:xfrm>
        <a:graphic>
          <a:graphicData uri="http://schemas.openxmlformats.org/drawingml/2006/table">
            <a:tbl>
              <a:tblPr/>
              <a:tblGrid>
                <a:gridCol w="3184560"/>
                <a:gridCol w="496872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р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зникла с обще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еобязатель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Юридически не обоснова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зникло с государ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Обяза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Закреплено юридиче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20560" y="2272680"/>
            <a:ext cx="8102880" cy="398844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3"/>
          <p:cNvSpPr/>
          <p:nvPr/>
        </p:nvSpPr>
        <p:spPr>
          <a:xfrm>
            <a:off x="380880" y="380880"/>
            <a:ext cx="8458200" cy="1295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ма: Типы экономического рост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2362320"/>
          <a:ext cx="7696080" cy="25794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кстенсив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Медл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оличеств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тенсив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Быст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ачеств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7. Выбор позиций из списка (ЕГ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в приведённом ниже списке факторы экстенсивного экономического роста. Запишите цифры, под которыми они указ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освоение целинных и залежны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повышение квалификации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внедрение н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увеличение капиталов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привлечение дополнительно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рациональное распределение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61600" y="1704240"/>
            <a:ext cx="8020800" cy="474444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Формы государ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752480"/>
          <a:ext cx="7772400" cy="4572000"/>
        </p:xfrm>
        <a:graphic>
          <a:graphicData uri="http://schemas.openxmlformats.org/drawingml/2006/table">
            <a:tbl>
              <a:tblPr/>
              <a:tblGrid>
                <a:gridCol w="3657600"/>
                <a:gridCol w="41148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ому принадлежит в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рма государственного 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оотношения власти в целом и его отдельных ча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итический реж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Метод и способ осуществления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4160" y="2199960"/>
            <a:ext cx="8095680" cy="405756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Форма пра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2362320"/>
          <a:ext cx="7696080" cy="22748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нарх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ласть по наследств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ласть выбир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учителя, который готовит выпускника к ЕГЭ – не завалить его огромным количеством материала, а научить самостоятельно применять минимальный набор фактических знаний. Как говорят математики – выбрать главное, отрезать лишнее, оставить нужное. Одним словом - Мысл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ED00019_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533520" y="1600200"/>
            <a:ext cx="8305560" cy="4800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скуссия по результатам совместной деятельности Мастера и слуша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21160" y="821160"/>
            <a:ext cx="7653240" cy="3919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амостоятельность головы учащегося – единственно прочное основание всякого плодотворного уч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.Д. Ушин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ED00019_"/>
          <p:cNvPicPr/>
          <p:nvPr/>
        </p:nvPicPr>
        <p:blipFill>
          <a:blip r:embed="rId1"/>
          <a:stretch/>
        </p:blipFill>
        <p:spPr>
          <a:xfrm>
            <a:off x="6629400" y="47242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ная литература и 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олюбов Л.Н. Методические рекомендации по изучению курса «Обществоведение». – М., 2004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швилло Е.К. Понятие как форма мышления: логико-гносеологический анализ. Изд.2-е, М.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нер Дж. Психология познания. М., 199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юкова О. Ю. Использование «облака слов» при работе с обществоведческой терминологией на уроках истории в  школе / О. Ю. Крюкова // Молодой ученый. — 2014. — №11.1. — С. 8-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й портал Гущина Д. Д. «РЕШУ ЕГЭ» (http://решуегэ.рф, http://ege.sdamgia.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3"/>
          <p:cNvSpPr/>
          <p:nvPr/>
        </p:nvSpPr>
        <p:spPr>
          <a:xfrm>
            <a:off x="685800" y="228600"/>
            <a:ext cx="8153280" cy="1905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нятийное мышление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д мышления, где используются понятия и логические конструкции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533520" y="2438280"/>
            <a:ext cx="8305560" cy="3581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ED00019_"/>
          <p:cNvPicPr/>
          <p:nvPr/>
        </p:nvPicPr>
        <p:blipFill>
          <a:blip r:embed="rId1"/>
          <a:stretch/>
        </p:blipFill>
        <p:spPr>
          <a:xfrm>
            <a:off x="7010280" y="4952880"/>
            <a:ext cx="1981440" cy="173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7696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йное мышление не врожденно и не развивается само по себе, оно развивается у детей в школьном возрасте (сначала в простейших формах) на основе их практическ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81560" y="2077560"/>
            <a:ext cx="7732440" cy="3190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сутствие навыка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терминами и понятиями при решении заданий ЕГЭ по общество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219320" y="260280"/>
            <a:ext cx="7038720" cy="1152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ED00019_"/>
          <p:cNvPicPr/>
          <p:nvPr/>
        </p:nvPicPr>
        <p:blipFill>
          <a:blip r:embed="rId1"/>
          <a:stretch/>
        </p:blipFill>
        <p:spPr>
          <a:xfrm>
            <a:off x="6629400" y="47242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1066680" y="228600"/>
            <a:ext cx="7191360" cy="838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: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5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D00019_"/>
          <p:cNvPicPr/>
          <p:nvPr/>
        </p:nvPicPr>
        <p:blipFill>
          <a:blip r:embed="rId2"/>
          <a:stretch/>
        </p:blipFill>
        <p:spPr>
          <a:xfrm>
            <a:off x="152280" y="5105520"/>
            <a:ext cx="18288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93160" y="3331800"/>
            <a:ext cx="7661880" cy="2434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рм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– слово или словосочетание, являющееся названием определенного понятия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ой-нибудь области науки, техники, искусства и так да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62120" y="533520"/>
            <a:ext cx="7924680" cy="2361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нят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– логически оформленная общая мысль о предмете, идея чего-нибу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D00019_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3"/>
          <p:cNvSpPr/>
          <p:nvPr/>
        </p:nvSpPr>
        <p:spPr>
          <a:xfrm>
            <a:off x="380880" y="152280"/>
            <a:ext cx="8305920" cy="152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го материал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609480" y="2362320"/>
            <a:ext cx="3657600" cy="3504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 flipH="1">
            <a:off x="2514600" y="1752480"/>
            <a:ext cx="1371600" cy="5335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5334120" y="1752480"/>
            <a:ext cx="1371600" cy="5335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4876920" y="2438280"/>
            <a:ext cx="3657600" cy="3505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ключевых поняти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стемный бло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ED00019_"/>
          <p:cNvPicPr/>
          <p:nvPr/>
        </p:nvPicPr>
        <p:blipFill>
          <a:blip r:embed="rId1"/>
          <a:stretch/>
        </p:blipFill>
        <p:spPr>
          <a:xfrm>
            <a:off x="152280" y="4724280"/>
            <a:ext cx="2210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3"/>
          <p:cNvSpPr/>
          <p:nvPr/>
        </p:nvSpPr>
        <p:spPr>
          <a:xfrm>
            <a:off x="609480" y="22860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ы работы с терминами и понятиями на уроках общество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ED00019_"/>
          <p:cNvPicPr/>
          <p:nvPr/>
        </p:nvPicPr>
        <p:blipFill>
          <a:blip r:embed="rId1"/>
          <a:stretch/>
        </p:blipFill>
        <p:spPr>
          <a:xfrm>
            <a:off x="7315200" y="3962520"/>
            <a:ext cx="1828800" cy="1604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ть однокоренные слова с данным понятием или подбор сходных, родственных терминов для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слова – синонимы к данному поня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ть 2-3 а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слово противоположное к данному поня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общее понятие для приведенных с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ь лишнее пон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на конструирование пон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щение к этимологии данного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е синквейна с данным поня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е схемы с использованием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кругленный прямоугольник 3"/>
          <p:cNvSpPr/>
          <p:nvPr/>
        </p:nvSpPr>
        <p:spPr>
          <a:xfrm>
            <a:off x="609480" y="22860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ы работы с терминами и понятиями на уроках общество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D00019_"/>
          <p:cNvPicPr/>
          <p:nvPr/>
        </p:nvPicPr>
        <p:blipFill>
          <a:blip r:embed="rId1"/>
          <a:stretch/>
        </p:blipFill>
        <p:spPr>
          <a:xfrm>
            <a:off x="0" y="2133720"/>
            <a:ext cx="1523880" cy="1338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ем использования подчёркивани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пример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 работе с термином "право" учащимся предлагается подчеркнуть главны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- систем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обязате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авил поведения, принят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еспечиваемых сило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ого принуж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ем использования марке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 - это сущностный, родовой смысл пон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 - это смысловой ключ к понятию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- "суверенитет" - маркер - "независимост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15:20:04Z</dcterms:created>
  <dc:creator>Пользователь</dc:creator>
  <dc:description/>
  <dc:language>en-US</dc:language>
  <cp:lastModifiedBy>Пользователь</cp:lastModifiedBy>
  <dcterms:modified xsi:type="dcterms:W3CDTF">2017-01-09T18:55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