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EFF-2D4C-4667-AEC7-BA140122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340-F826-447E-8059-F9BB16B3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81B-7FC2-4333-85E3-5B51700E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DF73-8BEA-4BAB-8315-F31DCF410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EE55-8B56-4404-88F9-10F1A887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B9B2-4522-4D3D-A5BC-E7AEBDA1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9ECD-139E-476C-8159-47DC57A4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C216-2E8C-459A-880E-E168E89A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2767-FD9A-4E1D-89C8-B4AF458E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C400-FCEE-44F8-B73F-5D437979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BC0F-CC7F-49E6-B8EC-A91A57E6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A2F-4683-47B0-AFF4-DE43C0AC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1F09-DA2F-46FC-8D57-52108E39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D599-943E-4A56-93E6-EF5A0E5F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104A-5899-4173-9B37-5FE3FE10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B40AD-F0C2-4F96-ADA8-E8E19F69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5A75-E112-4314-A7D2-B0D3520A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CA5-3CD0-4FE3-B719-4CDDE83C3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10A0-0A1C-4D45-8A3B-F581C7ED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72B-758E-41D5-8683-32E2FD87B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3B40-2E8D-41F3-92D3-2B355C4D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FF50-927A-41EC-979F-C20EB76D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592-14E1-4B4A-A090-49825E26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CF34-572F-49D9-848B-D09D449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FF74-C4DC-4D24-A3C5-AFD879AF3F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C0DC-5AE7-4F51-BF94-D3F95091C2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2060280"/>
            <a:ext cx="695484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ДОБРО ПОЖАЛОВАТЬ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ГАДАЙ СЛО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1828800"/>
            <a:ext cx="4357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л'йот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й‘унаша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з'д'элат'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lnSpc>
                <a:spcPct val="15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шолкавый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142880" y="1828800"/>
            <a:ext cx="464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м'от]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1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раскас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1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разб'ижалс'а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168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[абжэч']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СТРОЙ СЛОВ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810756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mic Sans MS"/>
              </a:rPr>
              <a:t>«СТРОИТЕЛЬНЫЙ МАТЕРИАЛ»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[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],[б],[в], [г], [о], [р], [и],[ш], [у]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САЛА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85840" y="1714680"/>
            <a:ext cx="8389800" cy="41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огороде выросли следующие овощи: </a:t>
            </a:r>
            <a:r>
              <a:rPr b="1" i="1" lang="ru-RU" sz="2400" spc="-1" strike="noStrike">
                <a:solidFill>
                  <a:srgbClr val="7030a0"/>
                </a:solidFill>
                <a:latin typeface="Comic Sans MS"/>
              </a:rPr>
              <a:t>морковь, капуста, репа, редька, укроп, картофель, огурцы, помидоры, свекла, лук, петрушка, салат, горох, перец, чеснок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озяйка для приготовления салата взяла овощи, название которых состоит из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слогов, 7 букв, 6 звук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слогов, с ударением на первый слог, 2 согласных звука мягких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слога, все согласные звуки тверды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 слого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7120" y="152280"/>
            <a:ext cx="742968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ШУТОЧНЫЕ ВОПРО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42960" y="1643040"/>
            <a:ext cx="769608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м кончается день и ноч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стоит посредине земл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ем кончается лето и начинается осен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находится в начале книги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мы слышим в начале урока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Что у человека есть одно, а у вороны вдвое, в лисе не встретиться оно, а в огороде втро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 какой сонорной буквой спрятано большое, просторное помещение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28760" y="1828440"/>
            <a:ext cx="814392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нать </a:t>
            </a: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таблицы «Звуки»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(смотри в тетрадь с правилами)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14440">
              <a:spcBef>
                <a:spcPts val="9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писать транскрипцию слов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omic Sans MS"/>
              </a:rPr>
              <a:t>малыши, песня, пень, деревья, Ева, мороз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3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F9B0-92BD-4627-9052-A03B1BA2D64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Содержимое 4" descr=""/>
          <p:cNvPicPr/>
          <p:nvPr/>
        </p:nvPicPr>
        <p:blipFill>
          <a:blip r:embed="rId1"/>
          <a:stretch/>
        </p:blipFill>
        <p:spPr>
          <a:xfrm>
            <a:off x="353880" y="480960"/>
            <a:ext cx="829656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642960"/>
            <a:ext cx="377208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егодня я узна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ыло интересн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Было трудн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понял, чт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Теперь я могу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почувствовал, чт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Я приобрел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609800" y="714240"/>
            <a:ext cx="39625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научился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 меня получилось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смог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Я попробую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ня удивило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рок дал мне для жизни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е захотелось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999800"/>
            <a:ext cx="6400800" cy="20718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СПАСИБО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2BBA-CAB3-4B36-B7E3-B7E9F96A783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Содержимое 6" descr="clip-art-telephone-038082.jpg"/>
          <p:cNvPicPr/>
          <p:nvPr/>
        </p:nvPicPr>
        <p:blipFill>
          <a:blip r:embed="rId1"/>
          <a:stretch/>
        </p:blipFill>
        <p:spPr>
          <a:xfrm>
            <a:off x="5143680" y="428760"/>
            <a:ext cx="1873080" cy="2771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8" descr="h2sJ-tJmCkg.jpg"/>
          <p:cNvPicPr/>
          <p:nvPr/>
        </p:nvPicPr>
        <p:blipFill>
          <a:blip r:embed="rId2"/>
          <a:stretch/>
        </p:blipFill>
        <p:spPr>
          <a:xfrm>
            <a:off x="0" y="3846600"/>
            <a:ext cx="2928960" cy="28652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9" descr="magnito07.png"/>
          <p:cNvPicPr/>
          <p:nvPr/>
        </p:nvPicPr>
        <p:blipFill>
          <a:blip r:embed="rId3"/>
          <a:stretch/>
        </p:blipFill>
        <p:spPr>
          <a:xfrm>
            <a:off x="4857840" y="3500280"/>
            <a:ext cx="3571920" cy="31546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0" descr="Sax-2.jpg"/>
          <p:cNvPicPr/>
          <p:nvPr/>
        </p:nvPicPr>
        <p:blipFill>
          <a:blip r:embed="rId4"/>
          <a:stretch/>
        </p:blipFill>
        <p:spPr>
          <a:xfrm>
            <a:off x="214200" y="285840"/>
            <a:ext cx="2892600" cy="2892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ttp://www.playcast.ru/uploads/2016/03/03/17633927.png"/>
          <p:cNvPicPr/>
          <p:nvPr/>
        </p:nvPicPr>
        <p:blipFill>
          <a:blip r:embed="rId5"/>
          <a:stretch/>
        </p:blipFill>
        <p:spPr>
          <a:xfrm>
            <a:off x="2214720" y="164304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Прямоугольник 4" descr=""/>
          <p:cNvPicPr/>
          <p:nvPr/>
        </p:nvPicPr>
        <p:blipFill>
          <a:blip r:embed="rId1"/>
          <a:stretch/>
        </p:blipFill>
        <p:spPr>
          <a:xfrm>
            <a:off x="1755720" y="2401920"/>
            <a:ext cx="58150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НАШИ ЦЕЛИ: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057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авать определение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объяснять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именять 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спользовать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нализировать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сравнивать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4" descr="gCUZ2at3xYE.jpg"/>
          <p:cNvPicPr/>
          <p:nvPr/>
        </p:nvPicPr>
        <p:blipFill>
          <a:blip r:embed="rId1"/>
          <a:stretch/>
        </p:blipFill>
        <p:spPr>
          <a:xfrm>
            <a:off x="54000" y="0"/>
            <a:ext cx="908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Содержимое 5" descr=""/>
          <p:cNvPicPr/>
          <p:nvPr/>
        </p:nvPicPr>
        <p:blipFill>
          <a:blip r:embed="rId1"/>
          <a:stretch/>
        </p:blipFill>
        <p:spPr>
          <a:xfrm>
            <a:off x="281160" y="609480"/>
            <a:ext cx="8442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УГАДАЙ ПЕСЕНК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1680" y="1642680"/>
            <a:ext cx="7696080" cy="25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 лс рдлсь лчк,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 лс н рсл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16000" indent="-2160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Ио и ео оая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Еёая ыа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2160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7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ГЛАСНЫЕ (6)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Схема 5" descr=""/>
          <p:cNvPicPr/>
          <p:nvPr/>
        </p:nvPicPr>
        <p:blipFill>
          <a:blip r:embed="rId1"/>
          <a:stretch/>
        </p:blipFill>
        <p:spPr>
          <a:xfrm>
            <a:off x="480960" y="1390680"/>
            <a:ext cx="7755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СОГЛАСНЫЕ (36)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Схема 4" descr=""/>
          <p:cNvPicPr/>
          <p:nvPr/>
        </p:nvPicPr>
        <p:blipFill>
          <a:blip r:embed="rId1"/>
          <a:stretch/>
        </p:blipFill>
        <p:spPr>
          <a:xfrm>
            <a:off x="73080" y="1352520"/>
            <a:ext cx="8808840" cy="5372280"/>
          </a:xfrm>
          <a:prstGeom prst="rect">
            <a:avLst/>
          </a:prstGeom>
          <a:ln w="0">
            <a:noFill/>
          </a:ln>
        </p:spPr>
      </p:pic>
      <p:cxnSp>
        <p:nvCxnSpPr>
          <p:cNvPr id="168" name="Прямая со стрелкой 6"/>
          <p:cNvCxnSpPr/>
          <p:nvPr/>
        </p:nvCxnSpPr>
        <p:spPr>
          <a:xfrm flipH="1">
            <a:off x="1071000" y="1284840"/>
            <a:ext cx="1500840" cy="142956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69" name="Прямая со стрелкой 13"/>
          <p:cNvCxnSpPr/>
          <p:nvPr/>
        </p:nvCxnSpPr>
        <p:spPr>
          <a:xfrm flipH="1">
            <a:off x="4284360" y="1285920"/>
            <a:ext cx="2160" cy="164376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170" name="Прямая со стрелкой 14"/>
          <p:cNvCxnSpPr/>
          <p:nvPr/>
        </p:nvCxnSpPr>
        <p:spPr>
          <a:xfrm>
            <a:off x="5929200" y="1213920"/>
            <a:ext cx="1501200" cy="1715400"/>
          </a:xfrm>
          <a:prstGeom prst="straightConnector1">
            <a:avLst/>
          </a:prstGeom>
          <a:ln w="7632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1:49:23Z</dcterms:created>
  <dc:creator>www.PHILka.RU</dc:creator>
  <dc:description/>
  <dc:language>en-US</dc:language>
  <cp:lastModifiedBy>Кошечки</cp:lastModifiedBy>
  <dcterms:modified xsi:type="dcterms:W3CDTF">2016-12-16T03:44:23Z</dcterms:modified>
  <cp:revision>33</cp:revision>
  <dc:subject/>
  <dc:title>Синтаксический разбор сложного предлож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010000000000010250300207f7000400038000</vt:lpwstr>
  </property>
</Properties>
</file>