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F52-C7C9-4CA2-8B9D-A513ABDB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488-9C7D-43AC-94DD-F4F0BF6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B36-5994-4253-88DA-B54F49AB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CE3-0EED-487B-886D-AAD92506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14D3-1C01-4379-A85A-C3E116E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DD5D-0F5D-4F88-9CF0-19B2A7B6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CC97-C978-487C-BA31-1FE8D716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30F6-D316-4D73-A73A-3E23202B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197B-F983-4B8F-B830-AA254F6C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859A-A4EE-4BFC-8343-7EF1359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D0CC-FE42-4FAB-B473-0A4221DA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8DD-817F-494D-AFD5-1C6CD47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29D-AAEC-4AA1-8AB5-F06EDEC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45E5-252C-4B61-B2B2-E65185B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43DC-0C51-46F9-9886-F34DF83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29C-ADB7-473C-841B-033B2ED6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D224-DF81-4709-B224-4D228B03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F8C-F8B8-4700-A126-D30D6882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656-80DA-4EC0-A11D-1DB7DA32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AE7-CB3D-4FC7-A465-07CC9BE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B57-7C27-46F8-8A90-AAFF137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090-160B-49A9-AB0A-E8FD4C9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3FC-FB42-4075-9741-73D51B9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AFD-2E75-4AAD-BE89-52A16F5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A7A7-6F59-4B8F-8826-4C2228872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407F-9683-4427-A76D-94AC5E0318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2060280"/>
            <a:ext cx="695484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ДОБРО ПОЖАЛОВАТЬ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ГАДАЙ СЛ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1828800"/>
            <a:ext cx="43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л'йот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й‘унаша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з'д'элат'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шолкавый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2880" y="1828800"/>
            <a:ext cx="464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м'от]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раскас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разб'ижалс'а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абжэч'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СТРОЙ СЛ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1075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«СТРОИТЕЛЬНЫЙ МАТЕРИАЛ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],[б],[в], [г], [о], [р], [и],[ш], [у]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АЛА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5840" y="1714680"/>
            <a:ext cx="838980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городе выросли следующие овощи: </a:t>
            </a: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морковь, капуста, репа, редька, укроп, картофель, огурцы, помидоры, свекла, лук, петрушка, салат, горох, перец, чеснок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озяйка для приготовления салата взяла овощи, название которых состоит и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слогов, 7 букв, 6 зву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слогов, с ударением на первый слог, 2 согласных звука мягк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слога, все согласные звуки тверд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 слог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7120" y="152280"/>
            <a:ext cx="742968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УТОЧ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643040"/>
            <a:ext cx="769608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 кончается день и ноч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стоит посредине земл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 кончается лето и начинается осен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находится в начале книг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мы слышим в начале уро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у человека есть одно, а у вороны вдвое, в лисе не встретиться оно, а в огороде втро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 какой сонорной буквой спрятано большое, просторное помещени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828440"/>
            <a:ext cx="81439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нать </a:t>
            </a: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таблицы «Звуки»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смотри в тетрадь с правилами)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1444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исать транскрипцию слов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малыши, песня, пень, деревья, Ева, мороз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484B-210A-4399-9AA4-B16979EC186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Содержимое 4" descr=""/>
          <p:cNvPicPr/>
          <p:nvPr/>
        </p:nvPicPr>
        <p:blipFill>
          <a:blip r:embed="rId1"/>
          <a:stretch/>
        </p:blipFill>
        <p:spPr>
          <a:xfrm>
            <a:off x="353880" y="480960"/>
            <a:ext cx="8296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42960"/>
            <a:ext cx="37720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09800" y="714240"/>
            <a:ext cx="39625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999800"/>
            <a:ext cx="6400800" cy="2071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654-586E-44EC-8AD6-18E41DB172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Содержимое 6" descr="clip-art-telephone-038082.jpg"/>
          <p:cNvPicPr/>
          <p:nvPr/>
        </p:nvPicPr>
        <p:blipFill>
          <a:blip r:embed="rId1"/>
          <a:stretch/>
        </p:blipFill>
        <p:spPr>
          <a:xfrm>
            <a:off x="5143680" y="428760"/>
            <a:ext cx="1873080" cy="2771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8" descr="h2sJ-tJmCkg.jpg"/>
          <p:cNvPicPr/>
          <p:nvPr/>
        </p:nvPicPr>
        <p:blipFill>
          <a:blip r:embed="rId2"/>
          <a:stretch/>
        </p:blipFill>
        <p:spPr>
          <a:xfrm>
            <a:off x="0" y="3846600"/>
            <a:ext cx="2928960" cy="2865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9" descr="magnito07.png"/>
          <p:cNvPicPr/>
          <p:nvPr/>
        </p:nvPicPr>
        <p:blipFill>
          <a:blip r:embed="rId3"/>
          <a:stretch/>
        </p:blipFill>
        <p:spPr>
          <a:xfrm>
            <a:off x="4857840" y="3500280"/>
            <a:ext cx="3571920" cy="3154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0" descr="Sax-2.jpg"/>
          <p:cNvPicPr/>
          <p:nvPr/>
        </p:nvPicPr>
        <p:blipFill>
          <a:blip r:embed="rId4"/>
          <a:stretch/>
        </p:blipFill>
        <p:spPr>
          <a:xfrm>
            <a:off x="214200" y="285840"/>
            <a:ext cx="2892600" cy="2892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www.playcast.ru/uploads/2016/03/03/17633927.png"/>
          <p:cNvPicPr/>
          <p:nvPr/>
        </p:nvPicPr>
        <p:blipFill>
          <a:blip r:embed="rId5"/>
          <a:stretch/>
        </p:blipFill>
        <p:spPr>
          <a:xfrm>
            <a:off x="2214720" y="164304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4" descr=""/>
          <p:cNvPicPr/>
          <p:nvPr/>
        </p:nvPicPr>
        <p:blipFill>
          <a:blip r:embed="rId1"/>
          <a:stretch/>
        </p:blipFill>
        <p:spPr>
          <a:xfrm>
            <a:off x="1755720" y="2401920"/>
            <a:ext cx="5815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АШИ ЦЕЛИ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авать определение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ъясня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менять 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пользова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нализирова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равнива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gCUZ2at3xYE.jpg"/>
          <p:cNvPicPr/>
          <p:nvPr/>
        </p:nvPicPr>
        <p:blipFill>
          <a:blip r:embed="rId1"/>
          <a:stretch/>
        </p:blipFill>
        <p:spPr>
          <a:xfrm>
            <a:off x="5400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Содержимое 5" descr=""/>
          <p:cNvPicPr/>
          <p:nvPr/>
        </p:nvPicPr>
        <p:blipFill>
          <a:blip r:embed="rId1"/>
          <a:stretch/>
        </p:blipFill>
        <p:spPr>
          <a:xfrm>
            <a:off x="281160" y="609480"/>
            <a:ext cx="8442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ГАДАЙ ПЕСЕН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69608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 лс рдлсь лчк,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 лс н рсл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16000" indent="-2160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Ио и ео оая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Еёая ыа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160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ГЛАСНЫЕ (6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хема 5" descr=""/>
          <p:cNvPicPr/>
          <p:nvPr/>
        </p:nvPicPr>
        <p:blipFill>
          <a:blip r:embed="rId1"/>
          <a:stretch/>
        </p:blipFill>
        <p:spPr>
          <a:xfrm>
            <a:off x="480960" y="1390680"/>
            <a:ext cx="7755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СОГЛАСНЫЕ (36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хема 4" descr=""/>
          <p:cNvPicPr/>
          <p:nvPr/>
        </p:nvPicPr>
        <p:blipFill>
          <a:blip r:embed="rId1"/>
          <a:stretch/>
        </p:blipFill>
        <p:spPr>
          <a:xfrm>
            <a:off x="73080" y="1352520"/>
            <a:ext cx="8808840" cy="5372280"/>
          </a:xfrm>
          <a:prstGeom prst="rect">
            <a:avLst/>
          </a:prstGeom>
          <a:ln w="0">
            <a:noFill/>
          </a:ln>
        </p:spPr>
      </p:pic>
      <p:cxnSp>
        <p:nvCxnSpPr>
          <p:cNvPr id="168" name="Прямая со стрелкой 6"/>
          <p:cNvCxnSpPr/>
          <p:nvPr/>
        </p:nvCxnSpPr>
        <p:spPr>
          <a:xfrm flipH="1">
            <a:off x="1071000" y="1284840"/>
            <a:ext cx="1500840" cy="14295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69" name="Прямая со стрелкой 13"/>
          <p:cNvCxnSpPr/>
          <p:nvPr/>
        </p:nvCxnSpPr>
        <p:spPr>
          <a:xfrm flipH="1">
            <a:off x="4284360" y="1285920"/>
            <a:ext cx="2160" cy="16437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70" name="Прямая со стрелкой 14"/>
          <p:cNvCxnSpPr/>
          <p:nvPr/>
        </p:nvCxnSpPr>
        <p:spPr>
          <a:xfrm>
            <a:off x="5929200" y="1213920"/>
            <a:ext cx="1501200" cy="171540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1:49:23Z</dcterms:created>
  <dc:creator>www.PHILka.RU</dc:creator>
  <dc:description/>
  <dc:language>en-US</dc:language>
  <cp:lastModifiedBy>Кошечки</cp:lastModifiedBy>
  <dcterms:modified xsi:type="dcterms:W3CDTF">2016-12-16T03:44:23Z</dcterms:modified>
  <cp:revision>33</cp:revision>
  <dc:subject/>
  <dc:title>Синтаксический разбор сложного предло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10000000000010250300207f7000400038000</vt:lpwstr>
  </property>
</Properties>
</file>