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0DF-24FA-49D1-831D-2650B36F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E4B-2846-40E7-92BC-10522449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A78-3BA4-4561-B252-A3919C52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F42-36F8-4519-B66B-FEA1EC81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96F1-E636-4A5B-9005-2082BE8B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8658-B7D8-4D6F-BF9B-87519337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4A66-DAA4-4F78-8248-628145ED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4BBA-1694-41EA-BB27-77F32B37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9D4A-B96F-42D8-8E6D-5396F38F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F8D3-8455-4AE2-A6D5-01C24557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C125-AD2F-4229-9F0A-63DE2D93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01B-DC92-4A0B-A78C-5F405F01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EA9B-4D86-4950-A620-E72889A8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540C-C522-4CD4-A455-5E0EF599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1F81-BC62-4856-87D1-55F16F1D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D5FF-03A5-47D5-A3B3-71C025E6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21F4-2D11-480C-9EC2-47944752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43F8-E076-4627-9869-7C18DFBD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461E-E2ED-46E3-B041-DC110710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5BD7-9100-452B-B399-5D4B03B2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1574-3265-4213-9A69-FCE36F60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9E34-329D-4053-92DC-4769FB22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353-7A12-44C1-9022-11A71550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E5F3-9B63-485B-81D7-5BA48458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96A2-5F8F-4E70-850D-CDA5443A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21C80-1D99-44FD-8D62-DC779002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6FD8-CEBA-456E-8D87-9F42948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3806-6E3D-47A9-AD85-BEDE3192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AF2B-0385-4050-8FFE-DF79EB6A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1516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944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088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1516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944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7038-2484-4DEC-9313-1E88BA07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B14-F78E-4C4C-A87A-8C4E417B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7CB-6115-4927-9517-063CE29F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1D7-9DED-48D1-AEDD-4844C28C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3B6-F704-4197-8C6E-0B55E2A4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8D3-B0EC-4880-BC54-9D545483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D47-72E0-4187-8A23-5B466DD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022"/>
          <p:cNvPicPr/>
          <p:nvPr/>
        </p:nvPicPr>
        <p:blipFill>
          <a:blip r:embed="rId2"/>
          <a:stretch/>
        </p:blipFill>
        <p:spPr>
          <a:xfrm>
            <a:off x="0" y="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0470-3547-4F8B-AECB-1FC7F3116F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9"/>
          <p:cNvSpPr/>
          <p:nvPr/>
        </p:nvSpPr>
        <p:spPr>
          <a:xfrm>
            <a:off x="304920" y="2133720"/>
            <a:ext cx="853416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8961"/>
              </a:gs>
              <a:gs pos="50000">
                <a:srgbClr val="ffffff"/>
              </a:gs>
              <a:gs pos="100000">
                <a:srgbClr val="b389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30" descr="b18d2880812f"/>
          <p:cNvPicPr/>
          <p:nvPr/>
        </p:nvPicPr>
        <p:blipFill>
          <a:blip r:embed="rId3"/>
          <a:stretch/>
        </p:blipFill>
        <p:spPr>
          <a:xfrm>
            <a:off x="152280" y="174600"/>
            <a:ext cx="1905120" cy="1730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1" descr="370010c0bd9b"/>
          <p:cNvPicPr/>
          <p:nvPr/>
        </p:nvPicPr>
        <p:blipFill>
          <a:blip r:embed="rId4"/>
          <a:stretch/>
        </p:blipFill>
        <p:spPr>
          <a:xfrm>
            <a:off x="7238880" y="4876920"/>
            <a:ext cx="1677960" cy="19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E94B-2AD6-4C55-AC81-D3D41B85B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1" descr="022"/>
          <p:cNvPicPr/>
          <p:nvPr/>
        </p:nvPicPr>
        <p:blipFill>
          <a:blip r:embed="rId2"/>
          <a:stretch/>
        </p:blipFill>
        <p:spPr>
          <a:xfrm>
            <a:off x="0" y="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C837-87CF-4B14-8886-8D7229EE26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гоголь"/>
          <p:cNvPicPr/>
          <p:nvPr/>
        </p:nvPicPr>
        <p:blipFill>
          <a:blip r:embed="rId1"/>
          <a:stretch/>
        </p:blipFill>
        <p:spPr>
          <a:xfrm>
            <a:off x="762120" y="1447920"/>
            <a:ext cx="2286000" cy="2921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для фонвизина"/>
          <p:cNvPicPr/>
          <p:nvPr/>
        </p:nvPicPr>
        <p:blipFill>
          <a:blip r:embed="rId2"/>
          <a:stretch/>
        </p:blipFill>
        <p:spPr>
          <a:xfrm>
            <a:off x="457200" y="990720"/>
            <a:ext cx="3035160" cy="382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00400" y="38088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hruti"/>
              </a:rPr>
              <a:t>Николай Васильевич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Shruti"/>
              </a:rPr>
              <a:t>Гогол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962160" y="2286000"/>
            <a:ext cx="5181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Shruti"/>
              </a:rPr>
              <a:t>Комедия «Ревизор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Shruti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370010c0bd9b"/>
          <p:cNvPicPr/>
          <p:nvPr/>
        </p:nvPicPr>
        <p:blipFill>
          <a:blip r:embed="rId3"/>
          <a:stretch/>
        </p:blipFill>
        <p:spPr>
          <a:xfrm>
            <a:off x="0" y="38098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b18d2880812f"/>
          <p:cNvPicPr/>
          <p:nvPr/>
        </p:nvPicPr>
        <p:blipFill>
          <a:blip r:embed="rId4"/>
          <a:stretch/>
        </p:blipFill>
        <p:spPr>
          <a:xfrm>
            <a:off x="1676520" y="3657600"/>
            <a:ext cx="3200400" cy="2906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39cac01a1a5"/>
          <p:cNvPicPr/>
          <p:nvPr/>
        </p:nvPicPr>
        <p:blipFill>
          <a:blip r:embed="rId5"/>
          <a:stretch/>
        </p:blipFill>
        <p:spPr>
          <a:xfrm>
            <a:off x="6942240" y="2971800"/>
            <a:ext cx="2201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9.Отметьте черту, которая не характерна для чиновников – персонажей комед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очнич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лат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х перед началь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еприим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у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служебного по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7162920" cy="16002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то является положительным героем комеди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тмейс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и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х Гог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рья Антон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кого персонажа 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816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. </a:t>
            </a:r>
            <a:r>
              <a:rPr b="1" lang="ru-RU" sz="4000" spc="-1" strike="noStrike">
                <a:solidFill>
                  <a:srgbClr val="ffffff"/>
                </a:solidFill>
                <a:latin typeface="Shruti"/>
              </a:rPr>
              <a:t>В чем загадка характер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hruti"/>
              </a:rPr>
              <a:t>  Хлестаков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н  умеет ловко и искусно врать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н играет роль, на которую меньше всего способен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н является упреком всему чиновничеств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2. Хлестаковщина - это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рия дружбы Антона Антоновича Сквозник-Дмухановского и Хлестак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рия взаимоотношений Хлестакова с крепост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рия любви Хлестакова и Марии Антоновн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жь, в самом человеке сидящая, когда он сам не понимает, что лж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3. О ком говорится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…оба низенькие, коротенькие, очень любопытные;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резвычайно похожи друг на друга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а с небольшими брюшками; оба говорят скороговоркою и  чрезвычайно  много  помогают  жестами и руками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Бобчинском и Добчинск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Ляпкине - Тяпкине и Землян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Захаре и Оси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Городничем и Хлестако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816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4.</a:t>
            </a:r>
            <a:r>
              <a:rPr b="1" lang="ru-RU" sz="3600" spc="-1" strike="noStrike">
                <a:solidFill>
                  <a:srgbClr val="ffffff"/>
                </a:solidFill>
                <a:latin typeface="Shruti"/>
              </a:rPr>
              <a:t> Кому принадлежит фраза: « Я хочу, чтобы наш дом был первым в Петербурге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на Андреевн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лестаков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9032a"/>
              </a:buClr>
              <a:buSzPct val="105000"/>
              <a:buFont typeface="Script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hruti"/>
              </a:rPr>
              <a:t>городнич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5. Послушаем голос. Кому принадлежат данные сло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лестаков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емляни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ородничем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ип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городничий.mp3" descr=""/>
          <p:cNvPicPr/>
          <p:nvPr/>
        </p:nvPicPr>
        <p:blipFill>
          <a:blip r:embed="rId1"/>
          <a:stretch/>
        </p:blipFill>
        <p:spPr>
          <a:xfrm>
            <a:off x="838188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605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6. О каком герое идет речь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слушаем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Хлестаков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Ляпкине- Тяпки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 Земляни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Щепки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хлестаков.mp3" descr=""/>
          <p:cNvPicPr/>
          <p:nvPr/>
        </p:nvPicPr>
        <p:blipFill>
          <a:blip r:embed="rId1"/>
          <a:stretch/>
        </p:blipFill>
        <p:spPr>
          <a:xfrm>
            <a:off x="8001000" y="1295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6372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70102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7. Кому принадлежит фраза: «Такой дурак теперь сделался, каким еще никогда не был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емляника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квозник –Дмухановский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лестак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85800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8.</a:t>
            </a:r>
            <a:r>
              <a:rPr b="1" lang="ru-RU" sz="3600" spc="-1" strike="noStrike">
                <a:solidFill>
                  <a:srgbClr val="ffffff"/>
                </a:solidFill>
                <a:latin typeface="Shruti"/>
              </a:rPr>
              <a:t> Выберите неправильный ответ: «Немая сцена» в пьесе являетс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нешней развязкой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вращением действия к началу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гической точкой происходяще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договоренностью: каждый зритель должен сделать свой вывод, что будет после немой сце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70102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Какой из вариантов происхождения сюжета комедии «Ревизор» верный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614020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думан Н.В. Гого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614020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арен автору А.С. Пушкины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614020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ят из других источник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053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9. </a:t>
            </a:r>
            <a:r>
              <a:rPr b="1" lang="ru-RU" sz="4000" spc="-1" strike="noStrike">
                <a:solidFill>
                  <a:srgbClr val="ffffff"/>
                </a:solidFill>
                <a:latin typeface="Shruti"/>
              </a:rPr>
              <a:t>Какое чувство объединяет героев в «немой сцене»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дивление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ах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лос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2640" y="152280"/>
            <a:ext cx="683100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ловарная работа по вариантам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вариант – мошенничество, произво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когнито, афиша, арапни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 вариант – транжир, бахвальство, пассаж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хоимство, самоуправств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вариант – раболепие,  назидательнос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нтюх, казнокрадств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тикуляр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41600" y="152280"/>
            <a:ext cx="60688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Shruti"/>
              </a:rPr>
              <a:t>Ответы на тест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b, 3b, 4c, 5b, 6b, 7a, 8c, 9d,10c, 11b, 12d, 13a, 14c,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5с, 16а,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, 1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, 1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. Укажите верную дату постановки комед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825 г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836 г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852 г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809 го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053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. Кто из присутствующих на премьере воскликнул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032a"/>
                </a:solidFill>
                <a:latin typeface="Times New Roman"/>
              </a:rPr>
              <a:t>«Ну и пьеска! Всем досталось, а мне более всех!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.С. Пушк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мператор Николай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убернатор Петербур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Что хотел сказать комедией Н.В. Гогол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тел посмеяться над глупыми чиновни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тел  сказать, что недоразумения могут привести  к трагическому финал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тел собрать в одну кучу все дурное  в России и посмеяться над всем раз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93432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ой из видов комического жанра преимущественно  использован в комед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Юм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ати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ро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арказ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731520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6.Как называется авторское пояснение, предваряющее или сопровождающее ход действия в пьесе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яс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мар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провожд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сы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053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7. Каков эпиграф к пьесе «Ревизор»?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На зеркало неча пенять, коль рожа крив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Вкушая, вкусих мало меда, и се аз умираю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Береги честь смолоду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Стрелялись мы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98144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21176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8. Отметьте, к какой группе можно отнести город, изображенный Гоголем в «Ревизоре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никальный, вобравший все пороки Ро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лод фантазии автора, с надуманными проблем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ипичный российский провинциальный горо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1-09T19:08:33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