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7A3B-5917-4D4F-93B5-AF332FD8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5394-815E-4D0D-A6F6-67BF3D6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594B-EB7D-445D-A4C5-343CE2CE1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BB6F-38D2-427F-BB1E-0F86C84E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1E3F-C1F5-462E-8AC3-011E553B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A796-B23D-49F1-A43B-422950BB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4527-EBF1-4FF3-A23F-26A499ED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19C8-F540-4E58-992F-A4B5C5CB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D0B9-1AB7-4952-98BC-D0AA3C9D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7B38-FDB5-4DD3-9207-0BED0E38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3AF3-F019-4AE6-816D-BEE238A6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D046-E0D4-4B97-A08E-A40B7BA0A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CCFF-4DD9-40F5-9EC6-CDE60880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3E31-6153-4811-AE98-231B71DA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073E-1478-4FBB-B5E3-EA735807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6A8C0-542E-4E4F-BA69-936C1E81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774C-4DC2-430C-BDED-BD1729C56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CC49-44BC-4F8E-93F2-7E3288E4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E2236-1E59-4344-A0F1-A2D38B1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422E-3A4B-4A21-9795-D8842C37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ED453-B3EE-423A-9A86-71FA1D6D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363BF-D568-4249-9967-1513BDAE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700-0C88-48FA-88D0-4F7A28AF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75CF6-043A-404D-8C5A-36B1EBAA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3E6F-A9D1-45DC-B2A5-1DBDD2EE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52EB4-D5C8-4775-9E7E-C5960BCA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16867-CC66-4D25-AE23-8E380A5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A1C1-1045-4049-8079-A4D3B8BD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430F7-D11B-4BFF-9CC0-4530032D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1516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9440" y="220932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8088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1516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9440" y="4478040"/>
            <a:ext cx="26989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2D346-EC3D-4158-BACB-91AF067F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464-EF9C-46BA-89A5-2382D63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9EF7-E449-429D-A7D2-541B696D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152280"/>
            <a:ext cx="647676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163-7BDC-4BF2-B6BA-6224E20C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73EF-FB3A-4265-94A2-AC16DF36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44780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0C7-8717-40CF-A540-CA22973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22093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4478040"/>
            <a:ext cx="83822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A4F2-CF68-4952-A8A8-2561AEE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22"/>
          <p:cNvPicPr/>
          <p:nvPr/>
        </p:nvPicPr>
        <p:blipFill>
          <a:blip r:embed="rId2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7687-2325-49A9-A6B6-33055BDA0A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AutoShape 29"/>
          <p:cNvSpPr/>
          <p:nvPr/>
        </p:nvSpPr>
        <p:spPr>
          <a:xfrm>
            <a:off x="304920" y="2133720"/>
            <a:ext cx="853416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38961"/>
              </a:gs>
              <a:gs pos="50000">
                <a:srgbClr val="ffffff"/>
              </a:gs>
              <a:gs pos="100000">
                <a:srgbClr val="b3896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30" descr="b18d2880812f"/>
          <p:cNvPicPr/>
          <p:nvPr/>
        </p:nvPicPr>
        <p:blipFill>
          <a:blip r:embed="rId3"/>
          <a:stretch/>
        </p:blipFill>
        <p:spPr>
          <a:xfrm>
            <a:off x="152280" y="174600"/>
            <a:ext cx="1905120" cy="17305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31" descr="370010c0bd9b"/>
          <p:cNvPicPr/>
          <p:nvPr/>
        </p:nvPicPr>
        <p:blipFill>
          <a:blip r:embed="rId4"/>
          <a:stretch/>
        </p:blipFill>
        <p:spPr>
          <a:xfrm>
            <a:off x="7238880" y="4876920"/>
            <a:ext cx="16779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296-45B4-4364-BC8E-8A99E58E63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1" descr="022"/>
          <p:cNvPicPr/>
          <p:nvPr/>
        </p:nvPicPr>
        <p:blipFill>
          <a:blip r:embed="rId2"/>
          <a:stretch/>
        </p:blipFill>
        <p:spPr>
          <a:xfrm>
            <a:off x="0" y="0"/>
            <a:ext cx="9144000" cy="7024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55A4-AD3E-4DE5-81D1-36302C0BC7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гоголь"/>
          <p:cNvPicPr/>
          <p:nvPr/>
        </p:nvPicPr>
        <p:blipFill>
          <a:blip r:embed="rId1"/>
          <a:stretch/>
        </p:blipFill>
        <p:spPr>
          <a:xfrm>
            <a:off x="762120" y="1447920"/>
            <a:ext cx="2286000" cy="2921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для фонвизина"/>
          <p:cNvPicPr/>
          <p:nvPr/>
        </p:nvPicPr>
        <p:blipFill>
          <a:blip r:embed="rId2"/>
          <a:stretch/>
        </p:blipFill>
        <p:spPr>
          <a:xfrm>
            <a:off x="457200" y="990720"/>
            <a:ext cx="3035160" cy="382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00400" y="38088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hruti"/>
              </a:rPr>
              <a:t>Николай Васильевич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Shruti"/>
              </a:rPr>
              <a:t>Гого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962160" y="2286000"/>
            <a:ext cx="51814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Shruti"/>
              </a:rPr>
              <a:t>Комедия «Ревизор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Shruti"/>
              </a:rPr>
              <a:t>Тес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370010c0bd9b"/>
          <p:cNvPicPr/>
          <p:nvPr/>
        </p:nvPicPr>
        <p:blipFill>
          <a:blip r:embed="rId3"/>
          <a:stretch/>
        </p:blipFill>
        <p:spPr>
          <a:xfrm>
            <a:off x="0" y="3809880"/>
            <a:ext cx="1677960" cy="1981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b18d2880812f"/>
          <p:cNvPicPr/>
          <p:nvPr/>
        </p:nvPicPr>
        <p:blipFill>
          <a:blip r:embed="rId4"/>
          <a:stretch/>
        </p:blipFill>
        <p:spPr>
          <a:xfrm>
            <a:off x="1676520" y="3657600"/>
            <a:ext cx="3200400" cy="2906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b39cac01a1a5"/>
          <p:cNvPicPr/>
          <p:nvPr/>
        </p:nvPicPr>
        <p:blipFill>
          <a:blip r:embed="rId5"/>
          <a:stretch/>
        </p:blipFill>
        <p:spPr>
          <a:xfrm>
            <a:off x="6942240" y="2971800"/>
            <a:ext cx="2201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9.Отметьте черту, которая не характерна для чиновников – персонажей комед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очниче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лат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х перед началь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еприимств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уп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служебного по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0720" y="456840"/>
            <a:ext cx="7162920" cy="16002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0.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то является положительным героем комедии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тмейст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и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мех Гог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рья Антонов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акого персонажа н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1. </a:t>
            </a: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В чем загадка характер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  Хлестакова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 умеет ловко и искусно врать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играет роль, на которую меньше всего способен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н является упреком всему чиновничеств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2. Хлестаковщина - это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дружбы Антона Антоновича Сквозник-Дмухановского и Хлестак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взаимоотношений Хлестакова с крепост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я любви Хлестакова и Марии Антоновн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жь, в самом человеке сидящая, когда он сам не понимает, что лж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739152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3. О ком говорится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…оба низенькие, коротенькие, очень любопытные;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резвычайно похожи друг на друга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ба с небольшими брюшками; оба говорят скороговоркою и  чрезвычайно  много  помогают  жестами и руками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Бобчинском и Добчинск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Ляпкине - Тяпкине и Землян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Захаре и Осип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 Городничем и Хлестако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816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4.</a:t>
            </a:r>
            <a:r>
              <a:rPr b="1" lang="ru-RU" sz="3600" spc="-1" strike="noStrike">
                <a:solidFill>
                  <a:srgbClr val="ffffff"/>
                </a:solidFill>
                <a:latin typeface="Shruti"/>
              </a:rPr>
              <a:t> Кому принадлежит фраза: « Я хочу, чтобы наш дом был первым в Петербурге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нна Андреевн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лестаков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b9032a"/>
              </a:buClr>
              <a:buSzPct val="105000"/>
              <a:buFont typeface="Script MT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Shruti"/>
              </a:rPr>
              <a:t>городнич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5. Послушаем голос. Кому принадлежат данные сло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лестаков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емлян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ородничем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сип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городничий.mp3" descr=""/>
          <p:cNvPicPr/>
          <p:nvPr/>
        </p:nvPicPr>
        <p:blipFill>
          <a:blip r:embed="rId1"/>
          <a:stretch/>
        </p:blipFill>
        <p:spPr>
          <a:xfrm>
            <a:off x="8381880" y="1600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9605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440" y="15228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16. О каком герое идет речь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ослушаем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Хлестаков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Ляпкине- Тяпк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 Земляни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4299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 Щепкин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хлестаков.mp3" descr=""/>
          <p:cNvPicPr/>
          <p:nvPr/>
        </p:nvPicPr>
        <p:blipFill>
          <a:blip r:embed="rId1"/>
          <a:stretch/>
        </p:blipFill>
        <p:spPr>
          <a:xfrm>
            <a:off x="8001000" y="1295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6372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7. Кому принадлежит фраза: «Такой дурак теперь сделался, каким еще никогда не был»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емляника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квозник –Дмухановский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лестак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05120" y="304920"/>
            <a:ext cx="68580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18.</a:t>
            </a:r>
            <a:r>
              <a:rPr b="1" lang="ru-RU" sz="3600" spc="-1" strike="noStrike">
                <a:solidFill>
                  <a:srgbClr val="ffffff"/>
                </a:solidFill>
                <a:latin typeface="Shruti"/>
              </a:rPr>
              <a:t> Выберите неправильный ответ: «Немая сцена» в пьесе является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нешней развязкой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вращением действия к началу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логической точкой происходящего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договоренностью: каждый зритель должен сделать свой вывод, что будет после немой сце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760" y="76320"/>
            <a:ext cx="70102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. Какой из вариантов происхождения сюжета комедии «Ревизор» верный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думан Н.В. Гого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арен автору А.С. Пушкины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614020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ят из других источник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19. </a:t>
            </a:r>
            <a:r>
              <a:rPr b="1" lang="ru-RU" sz="4000" spc="-1" strike="noStrike">
                <a:solidFill>
                  <a:srgbClr val="ffffff"/>
                </a:solidFill>
                <a:latin typeface="Shruti"/>
              </a:rPr>
              <a:t>Какое чувство объединяет героев в «немой сцене»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удивление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рах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лость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2640" y="152280"/>
            <a:ext cx="68310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Словарная работа по вариантам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вариант – мошенничество, произво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когнито, афиша, арапни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 вариант – транжир, бахвальство, пассаж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хоимство, самоуправств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 вариант – раболепие,  назидательность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нтюх, казнокрадство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артикуляр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41600" y="152280"/>
            <a:ext cx="606888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Shruti"/>
              </a:rPr>
              <a:t>Ответы на тест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-360" y="2209320"/>
            <a:ext cx="891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2b, 3b, 4c, 5b, 6b, 7a, 8c, 9d,10c, 11b, 12d, 13a, 14c,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5с, 16а,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, 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c, 1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2. Укажите верную дату постановки комеди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25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36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52 го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1809 го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3. Кто из присутствующих на премьере воскликну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b9032a"/>
                </a:solidFill>
                <a:latin typeface="Times New Roman"/>
              </a:rPr>
              <a:t>«Ну и пьеска! Всем досталось, а мне более всех!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А.С. Пушки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мператор Николай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Губернатор Петербург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360" y="152280"/>
            <a:ext cx="64767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Что хотел сказать комедией Н.В. Гоголь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посмеяться над глупыми чиновни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 сказать, что недоразумения могут привести  к трагическому финал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отел собрать в одну кучу все дурное  в России и посмеяться над всем раз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93432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акой из видов комического жанра преимущественно  использован в комеди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Юмо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тир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ро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арказ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8800" y="609480"/>
            <a:ext cx="731520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6.Как называется авторское пояснение, предваряющее или сопровождающее ход действия в пьесе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8191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ясн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емар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опровожд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сыл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33720" y="152280"/>
            <a:ext cx="6705360" cy="182880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51372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7. Каков эпиграф к пьесе «Ревизор»?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На зеркало неча пенять, коль рожа крив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Вкушая, вкусих мало меда, и се аз умираю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Береги честь смолоду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001"/>
              </a:spcBef>
              <a:buClr>
                <a:srgbClr val="b9032a"/>
              </a:buClr>
              <a:buSzPct val="110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Стрелялись мы»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981440"/>
          </a:xfrm>
          <a:prstGeom prst="rect">
            <a:avLst/>
          </a:prstGeom>
          <a:gradFill rotWithShape="0">
            <a:gsLst>
              <a:gs pos="0">
                <a:srgbClr val="614020">
                  <a:alpha val="47058"/>
                </a:srgbClr>
              </a:gs>
              <a:gs pos="50000">
                <a:srgbClr val="b9032a">
                  <a:alpha val="21176"/>
                </a:srgbClr>
              </a:gs>
              <a:gs pos="100000">
                <a:srgbClr val="614020">
                  <a:alpha val="47058"/>
                </a:srgbClr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8. Отметьте, к какой группе можно отнести город, изображенный Гоголем в «Ревизоре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никальный, вобравший все пороки Росс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лод фантазии автора, с надуманными проблем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b9032a"/>
              </a:buClr>
              <a:buSzPct val="10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ипичный российский провинциальный город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09T19:08:33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