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2DC-50D8-4A92-8975-20E15523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6FAA-61AD-4AC4-8457-F08F4789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89B60-FBFA-4A23-8B31-C636888A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CB19B-3F6A-4835-9BA2-EDA62F77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9DA9E-1A47-4EDC-82F8-436B769C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32FC4-0B7D-428A-8F32-AF883C45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6CE27-1B32-4F5F-B28D-21E03703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77195-9788-4E03-9023-E1475EB1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ACBA1-DA5C-4BF1-87D9-74362E2F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6683C-41C3-45A6-A22F-A9BF04FD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1A756-A4E5-4885-81E6-E9DDC067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0FAAA-5394-482B-8FB4-A2C38ABC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9611-8F5B-4A7E-88FB-99B1A9CD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6BDD3-E504-43BA-A4EB-D1533854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C4B29-F259-4A39-B561-2853CF68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BA23A-7529-4857-A933-D1D201B4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F1FFC-DBE6-44BE-8565-72111DD5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770E1-89D7-4E05-AFA0-BB84DF22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A19B4-CB60-4FDB-A9CB-D7438442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409B2-710D-4716-BEF6-773FCC29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01796-AE80-4368-9EE1-58FD020A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B0E7E-A1CE-47BA-AEC0-433F925A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6DC2A-2195-453E-8495-B3A59DF0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92C9-C9A2-4FB9-A3EF-0E2F9142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22A61-203C-4FF7-8B72-ADBBC559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47DB5-5408-46F4-98EA-6B860829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A9A73-324C-47C1-8D38-107F3ABE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FA1B2-D349-464D-8817-A532C827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41621-A48B-42E1-960D-C0677711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67B9A-7F88-4108-AA1D-D6C4F7A8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B58B1-B131-4090-A703-768154E8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FF3A3-5ACC-4177-942C-DC29EC51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28475-BBD6-48E2-9A7B-BB2EC9FD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6D01C-E13C-40CD-A8BA-92EE9EF4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639D-AB0F-4C4F-809A-7DC5E189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4D8E6-B6B6-4CC4-9C77-226032DB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7650D-3FE4-43FB-9835-67123242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A0F93-D066-4CFD-A9DB-1F00BD34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DA97B-E6DB-4345-AA3A-76D5DCF0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995B9-7511-4E20-99C0-7E430C1D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A2266-B9E5-4ADE-AE75-D0025AA9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1CC35-B245-4AFD-8EFD-0CA76E1E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2D0AC-786C-448B-A486-AE569754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9BBEB-AAF1-4046-9543-9B666B3A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D25A6-7494-446B-AEAB-7F92C27E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E6B1-88D9-4DA6-AD5A-F00833E5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01722-F8BE-42E9-B203-A1D56E8C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DC749-8310-480D-AA40-AF43D246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B22C1-7CAD-4302-B16A-B400E224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47559-A14D-4F04-90B4-D7CBABA2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96E63-06B7-4D50-A562-6AF108AC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A979EA-9CEB-4231-A2FB-6AD87C6D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BA975C-EF78-411C-B562-A3B6C716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34D639-64E3-4904-8659-3D9E1C13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C8E01B-8322-4CE3-825D-D07AF1E9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A3EE52-0B44-4235-A2BE-810C1E3A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2CD4-D36F-4B5B-9178-A0D8A4EF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5F80FB-AAA3-4D46-99A8-DDF7A4A3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DEDC6-8F86-42CD-BF5B-B3949A52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27B9A-8DA7-41C2-BE2D-BF4D9CA5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40BBF1-7B5F-4AB7-8628-4414959B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C346A6-E742-46DC-9F12-A6714C34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C83BF-0359-47E4-B116-85B4D1FA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FD7731-8D69-4EC6-85A4-7593C654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033691-118E-414A-9BB3-B895E15B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D2CF28-F64F-4BF5-9272-8163183A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02A0A3-3A88-421C-849F-63DD35C9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AA9F-7069-4D79-9B78-288CB27B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49F728-E7AF-43FD-BAB5-CB206E86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425D65-D9DE-43B7-BB7C-894C84A2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F1F1A5-2104-4626-AD35-8626BC8E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37AF45-628F-4509-8305-C40E8E24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75C575-5D9F-4816-BAB5-07665835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7827BB-2594-45C1-8162-2FF07BE6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A23E09-7353-4FBC-A4BF-CF36B8B8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B4CF3C-BAED-4E2C-BD19-D2DA893A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BB4A95-0F69-498E-AC22-74F15805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C6A99-FBAA-4C30-8E96-FDFC1CBD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70AF-4C0C-4A09-AAFD-A9F1D80E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4AC3A7-611B-4A6A-96B1-4F4C621C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2BF29D-0DF7-4D5B-9694-0AFCE3DD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E4A2A0-BA2A-4D78-B0C2-552A2020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13D442-C592-4EFC-9924-7B7C1204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D8863A-C958-42A2-96F3-8594DF5A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AAC94C-15B0-4195-BE08-1CF0D4D9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F721F4-D2F2-42C2-9A1A-444D5F55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9966F3-0CA7-4165-A6FD-F6A20672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89DD6D-9E07-4760-B5D0-FD70D9B1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2139DE-40B4-426F-B9C6-BD1334DE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3603-D5DC-4DB4-94E9-8A43743F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D224EF-07CA-4CC0-B860-7C7A515F4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9786BA-F0C9-4F44-91E2-057AC126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5F50A1-A656-4092-B9BB-464B136A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BC0324-C9B3-490A-86CF-E807475F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F2BC92-1EB4-4827-BAEE-C337D008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4263B5-E761-44F2-A12C-88E85809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2C1511-ABD1-47BD-9657-8DB588B4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3ED8A4-9371-4A10-9AA9-0BDD03DA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BCF08D-910C-43B4-9A50-1426363E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BD37A0-0F5F-4841-99F9-6F9C5B42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A097-307A-4B6E-8D47-FE9EF3EA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88D2E3-E2C4-423B-B287-E2FCD030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715B18-5A19-459D-98C1-4E2A2D3C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016DA7-5B08-4C57-8718-C8B4977F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E660BF-8A62-4B86-B0EE-648FF6C1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ECA087-581C-4C2B-AF63-8F787E07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6A5492-914A-44C1-B37F-3CA0049C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D79C02-4B04-4579-B664-73BCB918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7D0973-9E21-4039-87E6-FD29D326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0C4C3D-1F81-428A-AACD-CFA09BD0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EC0A31-063E-4D58-9627-CA32003F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8825-AFC0-4FE2-A3AB-8961A7F5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3DF9-0642-4B2E-8ACC-43714FDA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037FA0-D192-417C-B48C-A8FD04A7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CBC3E1-C84F-4C70-A41A-FF61F977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D1AF2B-9FE2-4B62-873B-35353F8E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F63401-E7AA-40FD-8929-E3164AA7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7972D0-3B2B-4B91-8163-0D7519B2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ED196F-E7D5-4302-AC02-BAAF4D4B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B9147E-5AEC-46E4-A8FF-8893DB92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A7D04D-D9B3-4B4B-B31A-331E077B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BA1CF5-F045-4112-B431-A03A8CF9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4E247D-B6D8-4726-84F5-2F5438C7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5649-0AA2-47BB-8177-DFD501F2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0ED961-3F16-4FCF-9A97-3792C44F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48EA13-3100-47AD-80C5-E572C81F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6FB525-4F97-4094-B41D-4F322A7C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F4D69C-08C4-421B-BC97-5F54F035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1BD736-35C6-48F1-A311-099F7249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22CD91-8B59-42EB-95EC-8E773D71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A983EB-D31D-4DF8-BB00-B02DA0B1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B951C9-CF9B-44E9-875E-5784682C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20A696-6702-4B93-B42E-CE6712E7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799A35-F637-477D-991A-BF8E676F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BBB5-F9FF-44FF-9945-33372A59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5282B7-9D30-414A-A9A7-CD081A55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919D02-2A1A-488E-A4DC-FC55DB80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CB8D74-D9C1-4CDA-911E-09CBCF6E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E33480-0C4F-43EB-8D51-2A3F2971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A010DA-E631-436F-A3F4-11841F8D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9BA07D-A7F0-4A56-A3C3-0E2A1E3D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270B07-BFEE-42DF-AB39-2323AC60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133D7F-BBB8-4EF5-B62D-ADE5F017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F8BA6C-03AF-4C88-9FC3-C9BDEF27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AB191D-DA96-46F3-AD9B-AC0E4C2C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24AD-41EB-4F01-86B8-AAE1991D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47D40C-FCF7-47C5-8834-88CE3ED2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E0CAF8-F7F6-4015-A99A-A62E22F2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2F30AD-FE4E-4699-889B-2F41A3E9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6CB026-8D51-4D50-B19D-807772B4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F403D4-46ED-4AEC-8B96-5CB5016F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35B367-1E24-43A8-8C6C-3201461E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B2A20C-FF80-4026-989B-C654129C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513A7A-A47B-4448-AD06-9587433E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16CDD4-358D-4081-A6AC-458E47FF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752C62-8E9C-4AEC-A733-5D5217E4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9E10-80E8-4C1A-B7A2-20277B02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3A0821-F1FA-44C4-BA84-E8C5F8B6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C6736B-A511-4C6E-B414-DD3AF7E39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659D9F-E455-4442-9FB5-FD9E0E98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348924-1506-455E-A579-A720CB47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E4731B-BC3F-460B-8A82-7B9D7F2D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0F44E1-48F4-405C-9FF7-049B514E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FCA463-9A82-43F4-9849-44BE7538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BCAF05-8BE0-4AA7-9CAA-D98E7DE1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7E975C-404B-420B-B421-4FC5E244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A57DCF-BA78-4805-AFA8-20642E48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3712F-DE2F-4DDC-BEBB-CE6BDD06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044698-7A4C-4855-B2D3-86E0E015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913461-716C-49F6-878F-ED40254A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00732C-54D0-4F56-8D82-6921FC3A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D4D892-2A9E-482F-8705-FDE37C03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62CD63-0A71-45F9-9050-1E541132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4DBC31-3714-44F6-B898-347B8749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16B055-80DB-45BA-87F2-4AFB6039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26D5C1-4582-4679-8B46-279D5D7B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C6EB92-9A78-4FD6-A0B6-D463B2A2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CD8073-A712-4C49-AED5-9A63B756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0B404-9444-4E4E-8C85-8C484074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079A1C-F297-4A0F-8584-EA1E9F9E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32B6CB-2B2E-465F-B8D0-DF15CFBB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C4F26F-CAC8-4353-8A68-0558EC2A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CA8B5D-A451-4435-BA6B-96092E1D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60B45B-BE74-413B-81DC-23AC23B3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50CF26-F544-4C88-8060-1EED5DAB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352024-7D53-456D-932E-EF8B1CD7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AF37CA-1E3B-4692-ABB3-740AFE22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DEAEAB-79BF-4523-A6E3-E5981E9B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60D78A-77A5-4A99-B1CB-8588355D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4D544-DE99-4D25-A7A4-A2C8E93A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0439DA-4BE9-4A41-A484-81D6A1FA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94B1FF-370F-42BE-9677-C7977FB6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00F7D4-5DF0-4FF5-BD1F-6A3B43DE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CDE13D-2186-4DFC-8BB5-64EE46EC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D25F4C-66F9-48D1-AB87-1FAB0921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37D5F6-E039-49E9-B5D3-1666F7EC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B4047B-47AF-49D4-86BB-9DEE2032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D64727-A88D-4078-A74B-E2EBD131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C06139-756D-42B5-BDEF-5443FDD2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B5427D-3FBA-49DD-9858-DBCBD7A7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5E617-D94B-4556-993E-EF132198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756ED2-97D5-4478-BBD9-84A515C0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6BA8A4-0D9F-4DA9-B2C6-C1FD9C3E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7F5527-7EA8-4C2C-AC3B-CD2E31C4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887C62-6BE1-42DB-B9C9-0B68F704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45ECA4-D14F-4346-A45F-E0C69B81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C900E4-C778-4C9C-A868-CDF44FD6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BEFDA5-301C-468B-9DFB-0BC533F9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54C4B7-D02B-460D-9C1D-28BC0321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810851-063F-4112-A656-9DDE5F3B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F2C77D-8C38-4B9B-BF88-5038CBA3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1918A-BE40-4ADF-9B92-53F2B4CC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0B8519-4F91-4C49-B8D1-1BDF5536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51A0F0-4343-4B84-B0AA-401301CF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36CB9E-75ED-472D-B086-94F3429E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68E6A9-08F4-4912-BBB4-AD467D4B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A7FCD6-3460-41C7-A146-0C774B23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06A0A9-133C-48BA-A969-2EAA7FC8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F353EB-11A8-403B-A32D-EEE77B9C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38045B-042B-4EB1-B921-71EDDCD1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089C31-2622-4EB4-9961-061688A2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076259-A46C-493D-AA12-2E45A283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7F81-91E4-4A4F-962A-E28C6EF6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2B425-C8D3-4F01-A79D-2C9CEA9A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EF7C35-48A0-429E-80C8-FFFC80C3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96081E-44EA-49E1-A420-B25B9B7B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75AEF4-1629-49FE-9D5E-A3F69D6A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46A7F7-2C46-44F0-B3B1-DE7C7605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6A1F1E-5470-46BE-8878-3DCDADAD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333C7F-608C-4824-A546-D160D32F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B384E4-E51F-4A05-8414-820EBB21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E6371C-01EE-4DE2-A63C-A44C5057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7613D9-46C0-49D3-B9D4-21BED0B0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166DF1-C7A8-4666-A337-D5C482A5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F5840-0E5A-496C-A4CB-0CE02C54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C94C95-B50E-4CA7-B55B-7AABB7B3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197076-A315-4E10-81A4-A7E9F023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4F0A7A-8881-41C9-8C9C-075BF81C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DC3D5F-93D8-4C3D-93C7-DD21C8ED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89A3A8-7153-4A0A-8838-4BFDD9E5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EBB8C0-0DD9-4F64-BB57-8B98003E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8215AC-9AF2-4EA8-AD0F-856EAAA4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0FB6CA-2833-4D7F-B92F-F2569136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55B975-F94C-4E0D-94A5-46F8C7BE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9AF2B0-6333-4482-A04A-9EC406B0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ED0C0-9A35-4AF1-BA33-AE7139DB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2E126A-65F1-49B8-A82A-1FA3A110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00E6A5-0EB6-4E7D-B487-577C89A4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5D850F-76F4-4E12-88DA-A13063E8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06D06A-3E4D-4F29-8EBB-F0FFAFAE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14C5A7-C255-43A7-9F7E-0AFFA820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92046B-E40B-419B-8E1C-F78F885E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386C14-FCFB-4A92-8B7C-A6BA6D99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46C2A2-DC48-4744-9643-BDAA4E13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9CDEAF-9935-4A80-A541-7F5C8AC2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43564C-89AD-43A3-B37E-90DBAE6D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0EC93-5F14-4DAF-9B7C-0A6B8D9D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1F2D79-6427-4968-A677-CC6C82B5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7944D3-9A18-4EC2-A373-02A22D08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45F26C-FEB9-4821-87AE-11FDE0EA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AF38A0-73F6-49A2-BFB0-3C102FBC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01307A-9FBB-4006-BEEE-E98CACD6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D35400-E08D-4511-9AE5-1A74955E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E9B562-A159-4B05-B6C2-2A5144F6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57C039-9FE4-40B9-9583-66D3F211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8DB1EF-FEF4-4FD8-A08B-04026A64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0B0067-F87E-43F0-B0E6-6DAFC95A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62BE6-EB5E-4859-9414-FACB7C5C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C44ACE-8EE6-48AE-B897-C7A72F6B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C3735B-487C-4928-B5D4-B98764F5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8316D9-80E9-458F-B276-AC6213E4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85FE7B-E550-4148-86CA-7A5968F0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0F62E01-132B-4B51-9453-AFA99F4C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30A5DB-65C9-4478-A9C2-5F92B5C9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CA0F7E-B9E3-4DCE-906C-1A8D94E4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A10692-A873-4752-AFB4-0A1C3A62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F2A0F6-D37F-49C5-A0CB-1B0CCF73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C902F9-53ED-44F5-8471-0EAB1EFF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F3606-42E5-43C4-A4F2-A0C1C664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48D987-1CA3-4CFD-A16A-9D97AAFF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D67E1E-0F5E-490F-BC5E-230DBFC9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F519B5-9912-403F-9D54-9F23EDD4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CADC5B-5F4D-4B36-B8D4-E3489DDC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4FF48A-B089-4B12-878B-907DDF1A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D1F5A4-EA8A-4D23-BA0C-8B9A2B96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BF6E1E-AC95-4E10-8650-CFB69D68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D8F439-3F69-4D8E-B882-DE095974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49F108-0889-4D44-9BB5-43D3CC8C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FED442-A5AE-4762-985C-815D2509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8C87F-ED64-4A92-9059-704D7B78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DDC3C9-0D9F-47FC-B03D-1016E889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2A1FAB-EF4C-4834-8C33-0B3EA1F0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C675BF-6CB1-48A4-87E7-CFCF559E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756BCC-A395-41D8-8669-A9258A56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1D8317-8D4F-42C9-9D8F-B6AD0EC3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DA45E1-B606-4CC8-BED8-6ADAB940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C25540D-546E-4E92-A97A-8EF071DA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69347C-CEB5-4EDC-829D-423BB8B9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E7F563-3A0C-4876-8FDD-4E5528C6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95E0D6-75F3-4CD5-876F-5C25A6AC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B605A-C5ED-4A32-9FD1-F8E35539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190EDD-45A3-4D2C-80A2-914ED0FF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952E74-7989-4F1F-9505-EE2C73E3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AC11D9A-A721-4C97-A79F-2488F7A3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F1D1204-E006-4A5D-A446-C9A56F47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3AC8B92-A5F1-49DF-8A44-13B0BAEA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3F001AA-94EE-40BF-8CB0-655121AA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C5C6D8-3505-4956-B6E8-9494F0DF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792FD83-7005-41B8-8F8D-08CFC458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15AB8E1-90B2-4A11-B36F-07D9D398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16BEB5-117C-46BE-BD60-0355B154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2C6AF-DED3-485D-9DD4-3D60D00C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F2C566-6EC2-4068-AC7C-337945FB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3DE7D1-A8B1-4542-A2F2-49C90201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EAC1B0-33B4-456A-A415-FF3DC267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CDBE04D-E293-47B5-A793-C0F89C33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701C4C-35E7-43A6-8915-FE850E41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5B13AF4-9046-4A2F-B8ED-04F41DDD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FA482A7-0275-40D0-9ED2-37572EB0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3E9A75-2D70-4152-A26E-940A542E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53D1C8E-EE2E-4CED-B13C-B1DA4B66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73C6A0-F9A8-4341-BEB8-33747F27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22E57-30AF-4AD8-8DFA-BBB777D7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0696032-C77C-4709-9677-08D95C00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4B8593D-A73C-4BBC-BE08-E50E4308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0CA928D-C323-4AE7-A573-96E84F1C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8E2580C-CC25-464C-AB97-5C21D34E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95827C7-356D-4D9C-9584-EF9B839E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4E04BF3-18D5-4500-BA19-C981B65C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B113D7B-71B1-45F4-8350-1441EF34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A2C1F06-93E5-4BED-B03B-A4B04918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5A51A38-4395-4335-81ED-E5EB3E07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E16B036-F95D-4337-A3AD-42989E35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58D9-D0CF-4142-AA34-CA88CE2A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54487-9DAC-4274-8374-972EAEB8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41B092-F87D-44EF-863A-FFEA5DF8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95C459-952F-40AB-9E9B-43661313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6ECCEE4-D6ED-4ADB-9E5B-99982A84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C7F026-F2C8-4167-891B-513AC99F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0F8C75-A07D-44FA-A6C6-6E393CB0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3D4B011-FA14-4D46-826C-C11AC2D8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07AB768-795D-40F8-B120-BA9495E8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6E71341-18D6-41D4-BA1B-A24E378F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308D874-2348-49AB-BE2B-6F5576DF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C4C3780-E61F-44B2-B65F-36132FD2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FB00D-7971-4E11-8EC2-57B6B3FF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346425B-C2DA-476E-BDA8-5A630325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AC5F75F-153A-49B8-B85B-9E069DD4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0C2AC55-8519-489F-B04F-186FAC91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1E8981B-2399-4B6A-8A01-F44F55E1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B16793D-A1C3-45DD-BED1-F6BF55DF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A9BE895-1E95-4E8A-8090-2EDD2832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E512F3B-A816-4319-AA3D-1994AFD9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32AAED-CD93-4AD9-A28F-A6E70314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9D228F8-80BF-4987-BCE4-C152EA4F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6F36E71-5A8D-46D2-B0F8-70C1118A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06988-67AA-4776-B1BF-BFCCE4E3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F02404-A496-4A37-B855-CC9C74A3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949A1C-621D-4B09-B72B-C05575C5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679D9D9-30F4-40BD-A83D-7CF21618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D82D45F-095E-4D3C-A3A4-9F6CF2E9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BB148A3-A709-4CE1-AC5F-7E67DE81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CBCBE9D-42D2-4CBE-8729-0EC7E297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DCDE3CE-8494-48E1-9B0C-D7E177AA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0C6EC30-0B6B-4924-90FA-BF2793E7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9F3AF2-1E71-45F1-A981-C7FD46FB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B1943E-F142-45BF-B20E-5BF3C009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1C2A1-5600-47B8-8AD7-87E7BC2C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9031C01-F291-43EE-AF6E-13C6F867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45D201B-F1DD-4139-8086-5E4FC51A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8E4EACF-2DAF-4FC7-B4FD-2346BDF5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ADEC106-145E-4C57-A778-608D598A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30EBBB6-8894-4267-89B6-178D94B9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A6E3903-177C-4407-9ED3-916AD350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5589BF4-4C1B-4291-A9BF-3012A5A5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5C03A07-93A9-4569-A2B5-86115082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AE6A72B-8288-4045-A71A-7D47A4DD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058A339-A0F2-4F78-BBE5-A0BAAA1A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4FD8B-9CC2-4FEE-9DFC-14609E94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6E72CE4-E220-48FD-9A40-A4AD61D2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28D162B-591B-4E11-8977-F4B7AC59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FBAC0ED-49E8-4040-9276-0C2243E7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62942C1-7238-43EF-ABCF-563026D8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CBE03A7-A453-42C0-B3B3-F429EAF3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519204A-1EB4-4D2A-97E6-14448301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BF320DA-BD50-4B15-B44F-6035572E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F985E37-58EF-44B1-94F3-57854505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07A4BAE-CF01-4D45-86D1-02BC5F3E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CFD9792-F06D-4860-95A5-F8657BA3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05118-DEDF-47B3-A55D-265A703B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1535BBD-9FA1-4E41-8188-C5505F79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8B4AEF7-4FFA-422E-808F-2BA7B25D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71092C8-628D-4644-A9D5-8BC7EA07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F6053EE-1731-4091-B836-72B47A7F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379A646-F323-4107-9955-28D215B4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8B99248-E8C3-4990-93EB-22A8C9C3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7E7B112-554C-461D-ABC7-D529A972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EE89A-C435-46C0-B77A-60003B34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38277-69EE-4B42-960D-EC890D96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5377B-A072-43FC-9D26-05FEEF31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BFD29-1C1D-4A92-B6E1-55B88E89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5F7-85EB-4A0B-9F49-F29C6BA0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E477C-32BF-44D0-AB15-FC6271C3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B6553-0248-49BF-B91A-512C47D4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31FDF-DE4D-4D5F-A1FD-814F876A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DC4EB-C26C-45F2-B217-242008AC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AEF10-09F4-4940-9C3B-28A04802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6BA15-AD62-4D5F-BE2C-B43981AD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50E04-FE49-46C6-8087-E2E5217A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B364B-ACA4-4D0C-B192-3EE11C5D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2E127-89B7-48CF-B7CA-1AAF0828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D9AB5-8466-492D-9779-DBD5FEB9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BA75-89C7-4672-90DE-51161026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EC2CF-E240-4D36-BF90-000D251E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0DFF2-78D2-494F-9826-E5BAA98B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B8CEC-E4C2-4751-93E3-160FE7D5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269D6-46A1-48B8-BD0F-D8F91C79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D8DF2-B8DF-468E-8D30-7CC6F2A3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71B2D-E966-4E08-9133-01CDE7E2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7D7E2-6284-4FB2-A236-55303462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97B45-895A-4C47-AB83-77632968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828A1-F0F8-4B9C-9C5C-A5EF3E95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7E99B-4504-4745-BEE7-DD1976CD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6F7-5AF6-43F9-8A0A-77C5D4B9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8A394-8AAF-49A7-B51D-16B1244E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775C9-A523-4B18-8554-DEC50217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4C514-ABD8-4894-B6E9-3C919FAF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E9192-F99B-4B7C-826C-538C521C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A059E-5F32-4FDE-B2E0-701AFFE0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5D2A3-9A4E-4107-9F80-AAF1D232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F3530-3639-4FFF-9A71-E2AC6425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A0FF3-F363-4DA9-A515-855E5AFE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16A58-840C-460E-8440-F5053CC0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73439-5ECD-4ECD-95A1-17F1D131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5C74-1CB9-4BE5-9C05-D1289593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2D51B-CD75-48FB-B5C8-542CC857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EA08D-A289-4079-ACB8-D13FCEB3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3EF73-1FC3-4FA8-8808-E45360D9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C67EC-EE0A-4FE2-9164-EA74718E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984DC-EDE5-4FF0-A173-E32EA671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1C300-A59C-4627-8E03-E650BC36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106CE-A458-4CE5-9698-0867139F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D29A9-880A-49C8-9BDE-DA791AA1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7904E-68A7-4DB1-AB04-5D5DE6AE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05804-48B2-4C17-8AAE-0A691D00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C386-93EB-4759-9263-499EA49C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8E11C-9B2A-413D-AE8B-B363511B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D95BE-1382-47FA-B02C-75EFA504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7DC1C-ACC1-4D50-892E-A6E25C3D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8DE99-CC06-4465-AC28-37724DFD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C0F69-B98B-4332-B9A1-FE62D3CC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0DE7D-4164-4BA7-A8BB-9CDB9C2A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1B69F-768D-4871-B4AA-3E2328FB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D932E-7608-4454-B266-9E0E9889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2803F-AFE4-4662-94C9-C76B882E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9F604-5367-47E1-B2D4-5D81F1B1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ee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411C-E49E-41D5-951B-4786EF2B8B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3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3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3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7928-245E-4D22-AD32-D0ECA22E74BE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8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8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8261-AA40-4748-9A01-69FA4B7DF660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3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FAF2-40F2-4402-9D3A-34748662B5B8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8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0F9C-6B4E-441D-A0DF-BF8B2F904DAA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3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3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3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1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BDF2-C21F-4500-B1AC-E1E3ADA58237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8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9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9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A44F-FA6D-45C0-9FD0-4B3F664E2613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3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4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4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77B0-C78B-4367-BEE5-5EA66B068FD2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8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9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9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c7c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5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872D-DC65-4ECD-9DED-4218D9116693}" type="slidenum">
              <a:rPr b="0" lang="ru-RU" sz="1200" spc="-1" strike="noStrike">
                <a:solidFill>
                  <a:srgbClr val="bcc7c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3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4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4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5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5C52-9844-4C0E-B8A7-2228518B56FD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8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9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9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c7c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5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DA32-54B6-43EC-9F82-10468F5C4FD9}" type="slidenum">
              <a:rPr b="0" lang="ru-RU" sz="1200" spc="-1" strike="noStrike">
                <a:solidFill>
                  <a:srgbClr val="bcc7c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573D-53F3-4850-B739-9EA031A02094}" type="slidenum">
              <a:rPr b="0" lang="ru-RU" sz="1200" spc="-1" strike="noStrike">
                <a:solidFill>
                  <a:srgbClr val="5f668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3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4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4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F18B-32CA-451B-AC89-579E6C182275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9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9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 type="sldNum" idx="6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050E-20C3-4589-A91F-6C400DAFCD16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4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 type="sldNum" idx="6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B425-639B-4AB5-9282-5D0B9D8EA638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8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9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 type="sldNum" idx="6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A4B4-469F-44C0-B045-9A874E731F25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3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14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4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 type="sldNum" idx="7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5488-8920-4126-ADCD-9B10A619802B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8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19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9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5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 type="sldNum" idx="7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109D-205D-4839-AAFD-76B5ED488556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4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24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4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7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7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8668-4056-4828-A0A7-250B7030EE40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9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29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9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 type="ftr" idx="8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 type="sldNum" idx="8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669E-2C74-4160-9C70-EFC943B8407E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4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4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4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c7c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 type="ftr" idx="8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 type="sldNum" idx="8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BB1C-EAC2-4F22-B889-DCE97D272DD7}" type="slidenum">
              <a:rPr b="0" lang="ru-RU" sz="1200" spc="-1" strike="noStrike">
                <a:solidFill>
                  <a:srgbClr val="bcc7c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9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9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 type="ftr" idx="8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 type="sldNum" idx="8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A3B0-D283-494D-8C9C-962647870B42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F6C0-C458-43BC-BDDB-A20EF7EB5B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4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4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c7c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 type="ftr" idx="8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 type="sldNum" idx="9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CA67-874E-48FD-BF50-478225A059ED}" type="slidenum">
              <a:rPr b="0" lang="ru-RU" sz="1200" spc="-1" strike="noStrike">
                <a:solidFill>
                  <a:srgbClr val="bcc7c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9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9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9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 type="ftr" idx="9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 type="sldNum" idx="9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7963-AA4C-4BBE-A9BF-5338E8CB691C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4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4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ftr" idx="9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sldNum" idx="9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3B78-EB3F-4A37-8994-7FA0BB1A5CE2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9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9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9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9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9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A0ED-44FE-42F3-99A4-B3DD7BF3D569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64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64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4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 type="ftr" idx="10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 type="sldNum" idx="10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3107-50E7-4D0A-9F2F-B88314212EFB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69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69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9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 type="ftr" idx="10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5"/>
          <p:cNvSpPr>
            <a:spLocks noGrp="1"/>
          </p:cNvSpPr>
          <p:nvPr>
            <p:ph type="sldNum" idx="10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DE91-53D3-4663-BDB1-45D370A2C865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4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4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74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9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 type="ftr" idx="10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 type="sldNum" idx="10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4B47-2897-413F-B3D5-4A4B061E4935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9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9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0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 type="ftr" idx="11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 type="sldNum" idx="11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6458-B2A0-4CB1-877F-AB739CC984F5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4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4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5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 type="ftr" idx="11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 type="sldNum" idx="11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9625-5252-4EEB-9D34-DD04E3892E9C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DB96-BE36-4D4C-A624-E473345D0300}" type="slidenum">
              <a:rPr b="0" lang="ru-RU" sz="1200" spc="-1" strike="noStrike">
                <a:solidFill>
                  <a:srgbClr val="5f668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1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4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3FA1-47FC-499A-9F24-3AE55B99F9F4}" type="slidenum">
              <a:rPr b="0" lang="ru-RU" sz="1200" spc="-1" strike="noStrike">
                <a:solidFill>
                  <a:srgbClr val="5f668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1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4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3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c7c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ED0E-70E1-4036-9931-3930F638CCE4}" type="slidenum">
              <a:rPr b="0" lang="ru-RU" sz="1200" spc="-1" strike="noStrike">
                <a:solidFill>
                  <a:srgbClr val="bcc7c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2BC0-3B1D-4B47-BFFF-14A2CF3D52DC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3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3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3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c7c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D7C1-B2DB-48A7-94FB-90FB01F5CFEA}" type="slidenum">
              <a:rPr b="0" lang="ru-RU" sz="1200" spc="-1" strike="noStrike">
                <a:solidFill>
                  <a:srgbClr val="bcc7c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8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8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8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F28C-8BF6-402E-92C9-41635E2F1FAC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6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4" name="Picture 2" descr="thumb506"/>
          <p:cNvPicPr/>
          <p:nvPr/>
        </p:nvPicPr>
        <p:blipFill>
          <a:blip r:embed="rId1"/>
          <a:stretch/>
        </p:blipFill>
        <p:spPr>
          <a:xfrm rot="253200">
            <a:off x="2819520" y="1752120"/>
            <a:ext cx="2260440" cy="3200400"/>
          </a:xfrm>
          <a:prstGeom prst="rect">
            <a:avLst/>
          </a:prstGeom>
          <a:ln w="19080">
            <a:solidFill>
              <a:srgbClr val="ff66ff"/>
            </a:solidFill>
            <a:miter/>
          </a:ln>
        </p:spPr>
      </p:pic>
      <p:pic>
        <p:nvPicPr>
          <p:cNvPr id="1895" name="Picture 3" descr="thumb011"/>
          <p:cNvPicPr/>
          <p:nvPr/>
        </p:nvPicPr>
        <p:blipFill>
          <a:blip r:embed="rId2"/>
          <a:stretch/>
        </p:blipFill>
        <p:spPr>
          <a:xfrm>
            <a:off x="4876920" y="533520"/>
            <a:ext cx="3809880" cy="2536560"/>
          </a:xfrm>
          <a:prstGeom prst="rect">
            <a:avLst/>
          </a:prstGeom>
          <a:ln w="19080">
            <a:solidFill>
              <a:srgbClr val="ff66ff"/>
            </a:solidFill>
            <a:miter/>
          </a:ln>
        </p:spPr>
      </p:pic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4724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ff"/>
                </a:solidFill>
                <a:latin typeface="Arial"/>
              </a:rPr>
              <a:t>Кто такие насекомые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7" name="Picture 7" descr="thumb211"/>
          <p:cNvPicPr/>
          <p:nvPr/>
        </p:nvPicPr>
        <p:blipFill>
          <a:blip r:embed="rId3"/>
          <a:stretch/>
        </p:blipFill>
        <p:spPr>
          <a:xfrm rot="20993400">
            <a:off x="533520" y="3200040"/>
            <a:ext cx="2438280" cy="3048120"/>
          </a:xfrm>
          <a:prstGeom prst="rect">
            <a:avLst/>
          </a:prstGeom>
          <a:ln w="19080">
            <a:solidFill>
              <a:srgbClr val="ff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500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Прямоугольник 3"/>
          <p:cNvSpPr/>
          <p:nvPr/>
        </p:nvSpPr>
        <p:spPr>
          <a:xfrm>
            <a:off x="403200" y="70812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считают многих насекомых вредителями. Среди них есть паразиты (москиты, вши, постельные клопы), передающие болезни (москиты, мухи), повреждающие структуры организма (термиты) и разрушающие сельскохозяйственные товары (саранча, долгоноси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6" name="Picture 8" descr=""/>
          <p:cNvPicPr/>
          <p:nvPr/>
        </p:nvPicPr>
        <p:blipFill>
          <a:blip r:embed="rId1"/>
          <a:srcRect l="0" t="0" r="8573" b="0"/>
          <a:stretch/>
        </p:blipFill>
        <p:spPr>
          <a:xfrm>
            <a:off x="268200" y="2666880"/>
            <a:ext cx="3998880" cy="2867040"/>
          </a:xfrm>
          <a:prstGeom prst="rect">
            <a:avLst/>
          </a:prstGeom>
          <a:ln w="9360">
            <a:solidFill>
              <a:srgbClr val="9900cc"/>
            </a:solidFill>
            <a:miter/>
          </a:ln>
        </p:spPr>
      </p:pic>
      <p:sp>
        <p:nvSpPr>
          <p:cNvPr id="1937" name="Rectangle 6"/>
          <p:cNvSpPr/>
          <p:nvPr/>
        </p:nvSpPr>
        <p:spPr>
          <a:xfrm>
            <a:off x="762120" y="4191120"/>
            <a:ext cx="3657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ск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8" name="Picture 9" descr=""/>
          <p:cNvPicPr/>
          <p:nvPr/>
        </p:nvPicPr>
        <p:blipFill>
          <a:blip r:embed="rId2"/>
          <a:stretch/>
        </p:blipFill>
        <p:spPr>
          <a:xfrm>
            <a:off x="4114800" y="3581280"/>
            <a:ext cx="4862520" cy="3229200"/>
          </a:xfrm>
          <a:prstGeom prst="rect">
            <a:avLst/>
          </a:prstGeom>
          <a:ln w="9360">
            <a:solidFill>
              <a:srgbClr val="9900cc"/>
            </a:solidFill>
            <a:miter/>
          </a:ln>
        </p:spPr>
      </p:pic>
      <p:sp>
        <p:nvSpPr>
          <p:cNvPr id="1939" name="Rectangle 7"/>
          <p:cNvSpPr/>
          <p:nvPr/>
        </p:nvSpPr>
        <p:spPr>
          <a:xfrm>
            <a:off x="6310440" y="2722680"/>
            <a:ext cx="2666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ран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Rectangle 7"/>
          <p:cNvSpPr/>
          <p:nvPr/>
        </p:nvSpPr>
        <p:spPr>
          <a:xfrm>
            <a:off x="1219320" y="-277920"/>
            <a:ext cx="675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комые вреди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Прямоугольник 3"/>
          <p:cNvSpPr/>
          <p:nvPr/>
        </p:nvSpPr>
        <p:spPr>
          <a:xfrm>
            <a:off x="152280" y="60948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ляют цветущие растения (осы, пчелы, бабочки, муравь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изводят полезные вещества, например, мед, воск, лак и шелк (пчёлы-медоносы, тутовые шелкопряд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взрослые насекомые, например, сверчки, и личинки насекомых различных видов обычно используются как рыбацкая приман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ного насекомых, особенно жуки, являются мусорщиками, питаясь мертвыми животными и упавшими деревь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ые полезные из всех насекомых - насекомоядные, те, которые питаются другими насекомы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Rectangle 7"/>
          <p:cNvSpPr/>
          <p:nvPr/>
        </p:nvSpPr>
        <p:spPr>
          <a:xfrm>
            <a:off x="1219320" y="-277920"/>
            <a:ext cx="675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езные насеком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3" name="Picture 3" descr="Картинка 63 из 64000"/>
          <p:cNvPicPr/>
          <p:nvPr/>
        </p:nvPicPr>
        <p:blipFill>
          <a:blip r:embed="rId1"/>
          <a:stretch/>
        </p:blipFill>
        <p:spPr>
          <a:xfrm>
            <a:off x="5715000" y="4630680"/>
            <a:ext cx="32655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WordArt 4"/>
          <p:cNvSpPr txBox="1"/>
          <p:nvPr/>
        </p:nvSpPr>
        <p:spPr>
          <a:xfrm>
            <a:off x="380880" y="1143000"/>
            <a:ext cx="8382240" cy="8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e7c4f3"/>
                    </a:gs>
                  </a:gsLst>
                  <a:lin ang="5400000"/>
                </a:gradFill>
                <a:latin typeface="Arial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e7c4f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Rectangle 2"/>
          <p:cNvSpPr/>
          <p:nvPr/>
        </p:nvSpPr>
        <p:spPr>
          <a:xfrm>
            <a:off x="2286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насекомое происходит от слова «насечка» или «насекать», так как их тело в бороздках, как будто оно насече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9" name="Picture 2" descr="Бисероплетение схемы стрекоза объемный - Master class"/>
          <p:cNvPicPr/>
          <p:nvPr/>
        </p:nvPicPr>
        <p:blipFill>
          <a:blip r:embed="rId1"/>
          <a:stretch/>
        </p:blipFill>
        <p:spPr>
          <a:xfrm>
            <a:off x="1295280" y="2438280"/>
            <a:ext cx="6096240" cy="414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Arial"/>
              </a:rPr>
              <a:t>Насеком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193320" y="101592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известно около 1,5 млн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идов насекомых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секомые — это 80% всех животных на Земле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2" name="Object 4"/>
          <p:cNvGraphicFramePr/>
          <p:nvPr/>
        </p:nvGraphicFramePr>
        <p:xfrm>
          <a:off x="4267080" y="2921040"/>
          <a:ext cx="6018480" cy="40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921040"/>
                    <a:ext cx="6018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4" name="WordArt 6"/>
          <p:cNvSpPr txBox="1"/>
          <p:nvPr/>
        </p:nvSpPr>
        <p:spPr>
          <a:xfrm rot="20637000">
            <a:off x="5452920" y="3800160"/>
            <a:ext cx="3505320" cy="1895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4436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насеком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228600" y="23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Этимология – наука,</a:t>
            </a:r>
            <a:br>
              <a:rPr sz="4000"/>
            </a:b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изучающая насеко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о явно разделено на голову, грудь и брюшк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бывают разного размера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живут повсеместно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ладают разнообразной окраско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7" name="Picture 6" descr="Картинка 500 из 67411"/>
          <p:cNvPicPr/>
          <p:nvPr/>
        </p:nvPicPr>
        <p:blipFill>
          <a:blip r:embed="rId1"/>
          <a:stretch/>
        </p:blipFill>
        <p:spPr>
          <a:xfrm>
            <a:off x="0" y="1071720"/>
            <a:ext cx="6000840" cy="5572080"/>
          </a:xfrm>
          <a:prstGeom prst="rect">
            <a:avLst/>
          </a:prstGeom>
          <a:ln w="0">
            <a:noFill/>
          </a:ln>
        </p:spPr>
      </p:pic>
      <p:pic>
        <p:nvPicPr>
          <p:cNvPr id="1908" name="Заголовок 4" descr=""/>
          <p:cNvPicPr/>
          <p:nvPr/>
        </p:nvPicPr>
        <p:blipFill>
          <a:blip r:embed="rId2"/>
          <a:stretch/>
        </p:blipFill>
        <p:spPr>
          <a:xfrm>
            <a:off x="378000" y="-139680"/>
            <a:ext cx="8534160" cy="1577880"/>
          </a:xfrm>
          <a:prstGeom prst="rect">
            <a:avLst/>
          </a:prstGeom>
          <a:ln w="0">
            <a:noFill/>
          </a:ln>
        </p:spPr>
      </p:pic>
      <p:sp>
        <p:nvSpPr>
          <p:cNvPr id="1909" name="Блок-схема: процесс 5"/>
          <p:cNvSpPr/>
          <p:nvPr/>
        </p:nvSpPr>
        <p:spPr>
          <a:xfrm>
            <a:off x="5000760" y="5857920"/>
            <a:ext cx="1000080" cy="78588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0" name="Скругленная соединительная линия 9"/>
          <p:cNvCxnSpPr/>
          <p:nvPr/>
        </p:nvCxnSpPr>
        <p:spPr>
          <a:xfrm flipH="1" rot="16200000">
            <a:off x="4071240" y="5143320"/>
            <a:ext cx="429120" cy="14364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1911" name="Прямоугольник 12"/>
          <p:cNvSpPr/>
          <p:nvPr/>
        </p:nvSpPr>
        <p:spPr>
          <a:xfrm>
            <a:off x="3786120" y="5715000"/>
            <a:ext cx="1071720" cy="50004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У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Прямоугольник 14"/>
          <p:cNvSpPr/>
          <p:nvPr/>
        </p:nvSpPr>
        <p:spPr>
          <a:xfrm>
            <a:off x="4643280" y="4500720"/>
            <a:ext cx="1357560" cy="50004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Прямоугольник 15"/>
          <p:cNvSpPr/>
          <p:nvPr/>
        </p:nvSpPr>
        <p:spPr>
          <a:xfrm>
            <a:off x="5572080" y="3143160"/>
            <a:ext cx="1285920" cy="50004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Прямоугольник 16"/>
          <p:cNvSpPr/>
          <p:nvPr/>
        </p:nvSpPr>
        <p:spPr>
          <a:xfrm>
            <a:off x="642960" y="6072120"/>
            <a:ext cx="1643040" cy="50004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РЮШ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Прямоугольник 17"/>
          <p:cNvSpPr/>
          <p:nvPr/>
        </p:nvSpPr>
        <p:spPr>
          <a:xfrm>
            <a:off x="214200" y="1928880"/>
            <a:ext cx="1643040" cy="50004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ЫЛ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ecee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380880" y="126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ус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124920" y="1720440"/>
            <a:ext cx="4343400" cy="30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ки помогают насекомым ориентироваться в окружающей среде. Они чувствительны к прикосновениям и вибрациям, а также к переносимым по воздуху запах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8" name="Picture 10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191120" y="3549600"/>
            <a:ext cx="2222280" cy="3164040"/>
          </a:xfrm>
          <a:prstGeom prst="rect">
            <a:avLst/>
          </a:prstGeom>
          <a:ln w="0">
            <a:noFill/>
          </a:ln>
        </p:spPr>
      </p:pic>
      <p:pic>
        <p:nvPicPr>
          <p:cNvPr id="1919" name="Picture 1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659640" y="3573360"/>
            <a:ext cx="2327040" cy="2637000"/>
          </a:xfrm>
          <a:prstGeom prst="rect">
            <a:avLst/>
          </a:prstGeom>
          <a:ln w="0">
            <a:noFill/>
          </a:ln>
        </p:spPr>
      </p:pic>
      <p:pic>
        <p:nvPicPr>
          <p:cNvPr id="1920" name="Picture 12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715000" y="977760"/>
            <a:ext cx="2592360" cy="2446560"/>
          </a:xfrm>
          <a:prstGeom prst="rect">
            <a:avLst/>
          </a:prstGeom>
          <a:ln w="0">
            <a:noFill/>
          </a:ln>
        </p:spPr>
      </p:pic>
      <p:sp>
        <p:nvSpPr>
          <p:cNvPr id="1921" name="Стрелка вправо 1"/>
          <p:cNvSpPr/>
          <p:nvPr/>
        </p:nvSpPr>
        <p:spPr>
          <a:xfrm>
            <a:off x="8153280" y="6359400"/>
            <a:ext cx="833400" cy="3747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5181120" y="53316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за насеко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3" name="Picture 3" descr="Картинка 83 из 64000"/>
          <p:cNvPicPr/>
          <p:nvPr/>
        </p:nvPicPr>
        <p:blipFill>
          <a:blip r:embed="rId1"/>
          <a:stretch/>
        </p:blipFill>
        <p:spPr>
          <a:xfrm>
            <a:off x="304920" y="536400"/>
            <a:ext cx="5195880" cy="5196240"/>
          </a:xfrm>
          <a:prstGeom prst="rect">
            <a:avLst/>
          </a:prstGeom>
          <a:ln w="9360">
            <a:solidFill>
              <a:srgbClr val="9900cc"/>
            </a:solidFill>
            <a:miter/>
          </a:ln>
        </p:spPr>
      </p:pic>
      <p:sp>
        <p:nvSpPr>
          <p:cNvPr id="1924" name="Стрелка вправо 7"/>
          <p:cNvSpPr/>
          <p:nvPr/>
        </p:nvSpPr>
        <p:spPr>
          <a:xfrm>
            <a:off x="8229600" y="6324480"/>
            <a:ext cx="833400" cy="3747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Прямоугольник 1"/>
          <p:cNvSpPr/>
          <p:nvPr/>
        </p:nvSpPr>
        <p:spPr>
          <a:xfrm>
            <a:off x="5500800" y="2057400"/>
            <a:ext cx="35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Особенности зрения насекомых обусловлены фасеточным строением глаз, которые состоят из большого числа омматидиев, то есть маленьких глазиков (до 12 тысяч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6" name="Выноска-облако 2"/>
          <p:cNvGrpSpPr/>
          <p:nvPr/>
        </p:nvGrpSpPr>
        <p:grpSpPr>
          <a:xfrm>
            <a:off x="66600" y="768240"/>
            <a:ext cx="8998200" cy="4973760"/>
            <a:chOff x="66600" y="768240"/>
            <a:chExt cx="8998200" cy="4973760"/>
          </a:xfrm>
        </p:grpSpPr>
        <p:pic>
          <p:nvPicPr>
            <p:cNvPr id="1927" name="Выноска-облако 2" descr=""/>
            <p:cNvPicPr/>
            <p:nvPr/>
          </p:nvPicPr>
          <p:blipFill>
            <a:blip r:embed="rId1"/>
            <a:stretch/>
          </p:blipFill>
          <p:spPr>
            <a:xfrm>
              <a:off x="66600" y="768240"/>
              <a:ext cx="8998200" cy="497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8" name=""/>
            <p:cNvSpPr/>
            <p:nvPr/>
          </p:nvSpPr>
          <p:spPr>
            <a:xfrm>
              <a:off x="1362240" y="1276200"/>
              <a:ext cx="5779800" cy="21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Хотя насекомые очень разные, у них одни и те же части тела, и у всех насекомых шесть ног. Значит, чтобы узнать, какое животное — насекомое, а какое — нет, надо посчитать его ножк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9" name="Picture 4" descr="Картинка 114 из 6085"/>
          <p:cNvPicPr/>
          <p:nvPr/>
        </p:nvPicPr>
        <p:blipFill>
          <a:blip r:embed="rId2"/>
          <a:stretch/>
        </p:blipFill>
        <p:spPr>
          <a:xfrm>
            <a:off x="5562720" y="4191120"/>
            <a:ext cx="3141720" cy="2357280"/>
          </a:xfrm>
          <a:prstGeom prst="rect">
            <a:avLst/>
          </a:prstGeom>
          <a:ln w="0">
            <a:noFill/>
          </a:ln>
        </p:spPr>
      </p:pic>
    </p:spTree>
  </p:cSld>
  <p:transition advTm="5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0" name="Выноска-облако 2"/>
          <p:cNvGrpSpPr/>
          <p:nvPr/>
        </p:nvGrpSpPr>
        <p:grpSpPr>
          <a:xfrm>
            <a:off x="139680" y="768240"/>
            <a:ext cx="8467920" cy="7601040"/>
            <a:chOff x="139680" y="768240"/>
            <a:chExt cx="8467920" cy="7601040"/>
          </a:xfrm>
        </p:grpSpPr>
        <p:pic>
          <p:nvPicPr>
            <p:cNvPr id="1931" name="Выноска-облако 2" descr=""/>
            <p:cNvPicPr/>
            <p:nvPr/>
          </p:nvPicPr>
          <p:blipFill>
            <a:blip r:embed="rId1"/>
            <a:stretch/>
          </p:blipFill>
          <p:spPr>
            <a:xfrm>
              <a:off x="139680" y="768240"/>
              <a:ext cx="8467920" cy="760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2" name=""/>
            <p:cNvSpPr/>
            <p:nvPr/>
          </p:nvSpPr>
          <p:spPr>
            <a:xfrm>
              <a:off x="1360440" y="1276200"/>
              <a:ext cx="5435640" cy="21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Все насекомые питаются по-разному. Одни едят растения, другие – мельчайшую живность, третьи – и то, и другое. Некоторые питаются кровью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3" name="Picture 4" descr="Картинка 246 из 26406"/>
          <p:cNvPicPr/>
          <p:nvPr/>
        </p:nvPicPr>
        <p:blipFill>
          <a:blip r:embed="rId2"/>
          <a:stretch/>
        </p:blipFill>
        <p:spPr>
          <a:xfrm rot="765000">
            <a:off x="630360" y="4049640"/>
            <a:ext cx="1757160" cy="2455920"/>
          </a:xfrm>
          <a:prstGeom prst="rect">
            <a:avLst/>
          </a:prstGeom>
          <a:ln w="0">
            <a:noFill/>
          </a:ln>
        </p:spPr>
      </p:pic>
      <p:pic>
        <p:nvPicPr>
          <p:cNvPr id="1934" name="Picture 6" descr="Картинка 252 из 26406"/>
          <p:cNvPicPr/>
          <p:nvPr/>
        </p:nvPicPr>
        <p:blipFill>
          <a:blip r:embed="rId3"/>
          <a:stretch/>
        </p:blipFill>
        <p:spPr>
          <a:xfrm rot="18903000">
            <a:off x="6165360" y="3360600"/>
            <a:ext cx="3160800" cy="2370240"/>
          </a:xfrm>
          <a:prstGeom prst="rect">
            <a:avLst/>
          </a:prstGeom>
          <a:ln w="0">
            <a:noFill/>
          </a:ln>
        </p:spPr>
      </p:pic>
    </p:spTree>
  </p:cSld>
  <p:transition advTm="5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</dc:creator>
  <dc:description/>
  <dc:language>en-US</dc:language>
  <cp:lastModifiedBy>Irina Truman</cp:lastModifiedBy>
  <dcterms:modified xsi:type="dcterms:W3CDTF">2016-04-01T07:14:30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