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8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9E50-BAF8-4880-AF57-E7323EE1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1BA-D7A8-43F6-89F0-5EF9505F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995C7-2A9C-4180-9762-FD2E9773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8C55E-F295-4748-915A-4DE8B88D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B057A-86B1-4E11-8737-54FEC337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E153F-E715-4DF5-8DDA-25427366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ECB68-0EC3-4517-80A3-659FC8E5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9CA87-6CE4-4C92-AE32-45E7D68D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E8EBA-99C8-4720-A711-2F551ACF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226A7-5670-405A-98CE-BFEAECB7B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6D83C-5D92-4DB9-967C-B5716AC6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3B8400-7EDF-4BD7-BC58-8F3EA3A5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9E7A-FFF9-4D40-8C21-5ECFB500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34180-3786-47B3-9EB6-DF2CE0CC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C402B6-3D94-4FA1-86E2-ED424567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2D05E-3269-4E3E-97FD-486B802D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0C82A-0C0B-4480-8DAB-057DE833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31F74-88E1-4B45-8342-E34C1BB5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4A85F-E08A-4626-8983-D563BD2F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4DBCD-A5CC-4FD9-BFF7-5010A5ED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395ED1-82E8-4943-BBBB-A299435C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42875-7139-4EB4-9CE7-1D51E5F7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6EF6A-3ED4-480D-85CF-9FFB07CD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28E-89F1-4D84-A7F4-46AE4CF4D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8C0A9-5F90-40E8-B8C1-3A1E1D7B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42536A-CFBC-41A7-A530-5C93E648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F7799E-5D02-4FF9-BBD0-C6490655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CA849E-34C8-4F70-808A-DF2ADB5E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69D19-9077-40D8-A7DC-406ACEB9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32AA0-2010-42CE-AF08-3364B9A4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F600D-F5B6-4EE2-8081-D0199E8B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30980-5FC4-4240-B24D-A3F56C41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CC081-E105-47D1-89A9-2893001E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8F4B1-783B-49FC-BA40-0AD2A629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FD28-D0C5-48AA-8ABA-ABB6267C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C150D-804A-48FF-A693-C29F92EC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A2679-3F77-4D73-BB10-0EAB15C2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9C3EE-FFE4-47E3-8EA9-B76B0CF8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40652-37A4-423F-8268-65424A14F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BC882-2525-4C4A-9558-0516E38F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2A383-DC6D-41CB-AB71-24FF75AC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16057-8811-4E6B-A489-ECD63D01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04F15-5C26-46BC-A8C4-499D959B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D26AF-A14F-44DC-960A-5AA5985B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757A7-4056-480B-B13B-CFA91608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38DBE-FD4F-48D6-B838-435D5594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1C1206-D9DF-4522-95F0-8C919A64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968C6-23F3-4912-A7F8-5531A3F8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FC179-884E-4F16-BD54-A6ECC21E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AF8C8-9CAA-482C-8EE8-30C28AA23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558C65-0882-469C-BA77-9CEBD4EC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FB8E0-EDF1-42DD-96A0-961AC83F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A07450-BEED-42DC-A30B-B8AE3B9A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DC511-2633-419D-BA3A-1730BC67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55CF2A-A7EA-4B0B-B7AB-904358EE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562E59-B5C4-493B-90A8-9E5D35AB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9D12-546C-40AC-8C21-AD288F4E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EEA52B-7E2A-4324-B301-DD05AE03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34680-ED96-46D6-AACC-1EA487AF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7ADBD-9FC0-4F1A-B255-4A522008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66424B-B318-4625-B4F8-63A22F5B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AA7A9-5676-4F3B-8583-39B88D94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9BC00-5B1A-4C2B-9ECD-E581D7DC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A9495-D46E-44DE-A21D-BA976F5C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12105-03E7-4FB0-AEF9-82BE1E5C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D2509F-0608-4907-A083-25152D93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C57778-F402-4BCB-A6AA-BA020311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B381-8336-42A4-B710-D74A8BA5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FFC6FB-7ED2-4A8C-BE45-579344D4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C2B314-624D-45FD-8CF0-E15E0924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9E50E7-2F6D-4831-AFF1-D5B7E640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A9E4C0-BDAB-4CC6-B438-2E2203A9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21BB7-20A2-4760-B674-D8C1DE60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9288C9-7AFE-4FA6-9B37-E44AFA22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288BCF-23F2-4BCF-8CED-5D3D99F1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7E56A0-09DE-41DE-A05A-4344ED9B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A4736E-331E-4C5C-B9B7-890DA0792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6939C3-0585-4CAF-9EF1-4CD1DB51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4F56-3DE0-435F-B520-B27F8AE3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29AAB6-1082-4D17-8B7B-D23DF97F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264D10-41E3-406A-B840-59B4E66A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B5E9F7-A35E-4287-86E7-D9F39258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36A5B0-7F54-45EB-8144-F1ED80D8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D9EA5-C219-40D2-8DB6-D34765C6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46FD3F-4895-4AB9-8F95-017241DA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1AF366-C759-4982-A374-ED503CF7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BF0C23-919E-4DC8-A11D-0BB85F69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C042BA-7111-49B7-BBA1-4DF5707D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7C447C-048A-49BE-B05D-6C031E2F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970B-6F76-4CD2-92B3-68C9ED60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6C7EDD-F79F-4A2A-959B-49C912094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F0572-B24F-49AA-A2F6-8867D5547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CF48A5-2A84-4A8D-BD37-53A77364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4C0496-1E86-4E65-8C8D-AD1A716D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B17FD5-DFE4-4A84-90E1-26CFD68E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C57AE6-B99B-443E-A9B8-DD5175B4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11A900-F57B-4334-BA8D-98654959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9FF36A-B784-4EC2-AE9A-7F8265E2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4E9EF8-C238-4454-ACC3-F3A177CD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C226A9-2D23-43CB-9990-4A8F4DA1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D77A-85BB-46B3-8FBC-E5D228EA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F92757-CA07-40C6-A5EC-F15FD9E0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3E2049-0360-4F32-B89C-9EEC2300B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DB320C-3375-4CE5-98A3-508D134A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848E55-20E5-41C5-920C-58494067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2962F4-503D-4CDF-982D-D8651C23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19937D-D82F-4C27-A637-A3AAC809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D1DDEE-C922-4E50-8FBF-22BC3475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5EA2AF-837E-4AA0-B430-C2602C19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3FD449-B420-4B1B-BE3B-78880F80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92F3B-9695-48D4-9298-2F270F4A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6885-FB9F-4085-AE9D-01A88D97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927F-8627-4B9A-ABF1-AE8AD304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EDBA83-8D8B-418D-AAA5-46324C50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BF6605-3C98-4B1E-87EB-B29792B1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7B1715-AADA-41B8-8CAD-990AABF1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BAD08A-1250-4F93-A5A9-CBF449722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F1EE84-C949-4EE1-8925-226EEBDB2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FC13B0-515A-43DE-8885-9CF2C591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D424AB-EC42-45E1-9B79-2CF2749C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5CF33F-76D2-4C1B-9639-5CA696F7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EA5547-5D42-4EF2-B44F-DAFE25D3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2859CF-D50A-419E-88CC-446F2287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A45F-F45C-4F6B-882E-06FD1F0D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EE169C-F6E0-4816-853B-516136E9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7966EA-6503-4471-9623-35F81A01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07EBAB-0A69-44C4-A46C-4CE38ADD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C4D240-D169-4868-9048-FDA39F38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63A819-2A1B-46EF-8A2B-AC2D1039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3D616B-B2BB-423C-8E4C-0F11F5C58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36ED7D-E1DA-4F7B-B03A-1134898A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BD7C29-F97A-4268-B219-68E65E97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915271-1457-498F-AD60-73363FE7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03E691-49BF-4FF7-AAF8-2374B0721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9309-88E2-4DF3-88BF-965DD96F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9A7EF0-7ABB-47D3-84B4-B13D8D5C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ACDC5A-3811-45BC-85A0-480DCBBD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C3B138-AB3E-4A5D-B49E-9E682A56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52CEFA-02D2-40FD-933D-4AA4BCC5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8B24DA-503A-4342-A3C3-5540BBB0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07E1FA-46A6-49BC-BD7F-C1FCF469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9E277C-4540-4DD0-8333-4DE916F8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E1DEF9-5744-4AC0-AE77-0126467A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9260AC-B1A9-48BF-83BB-C3FF3F5F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F9F5D7-C762-4261-B54F-2219083D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6CC2-09F6-4BB0-99D2-9FA3AB8E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0D772C-CD69-4726-BD92-949507D2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5A876B-5FE9-4B85-AB62-FF7A2E6C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1596E0-A2CD-4666-BF93-A0399AF9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F5261A-B669-4EC3-85C6-F2C11F10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293787-A53C-46AA-9EC1-29A5F3C7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99574C-E95F-4A2F-802B-073A917E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A7688E-4CFD-41D7-89DF-711C2C1A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0DE010-A0ED-429E-A746-AE113C87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72848B-6EB1-4CA6-B157-19528DB3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12BF4C-4778-460E-AE12-446DA874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C208-2D1F-4F61-B3E1-A5DEE435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299DDC-5ED4-4C51-BDF5-AB1E7800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853263-6521-43E4-9CA9-120EAB52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D3F396-70F2-43D8-87FE-5D9BA528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46A0F1-3F67-4147-8DFC-61634FA4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52BF74-2088-4419-B6D2-A71282FE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5BF670-C107-4CBF-B031-857D4079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DA6A24-2292-4314-97BD-E9C79AF7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482EE9-64F3-41E2-95C6-49D3004A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401A75-CA68-46B9-B96D-EA98AEDA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EAC322-24F9-4DF3-9A5F-42D970F7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7A7B7-9CD3-4943-9B13-9C42ECD7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AFF381-39C2-4CA8-9842-16959F79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479241-E913-4044-A912-2306C853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53A13C-CF1F-477C-8EF5-7DB99F53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6E0116-A1C5-4964-8AF2-C9F22F91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7EF417-8903-4233-9C7B-85B48804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7ADE7A-0E33-4D03-A85F-5F7C5B27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5D24CB-F923-46F4-8842-FC5F5EC5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69CE92-D58E-4656-A90E-EE60EEAAC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DA1416-A351-4079-8791-711AADD7C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15957B-1C14-4185-871E-8BD5EAE2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B8151-5BBB-4F9B-86C6-DCE28905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DC5679-F48A-4B8A-8C3C-18165954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FB244D-5FC3-461A-ADE3-B38CD1B9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4A4C10-2F22-4AC8-9527-570115C4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AAE3AE-67B2-463A-8C2B-96692ABBD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E7988F-0E06-46EF-A576-DD4DB0F2C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96A964-568E-4A8A-82F3-92F7B878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51E17D-0612-4747-ACA8-58BF1FF22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97084E-6E83-406B-A442-D2B5D518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6DF9DB-0962-4976-B453-06EDCFAF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B77A13-AF76-4AC7-B2B8-70CC49F0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09902-4247-41AD-878B-6368C8C1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22C04B-19B3-4222-AD48-7128AA98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EEC866B-CDB6-4576-B3C8-6CC9CABD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951885-FDB6-46CA-BB11-E1F4F9CF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45A31E-2266-4B2D-BC47-6EFFE4F7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C7E3C6-3BC0-4D72-B2BD-CD127484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123FDD-D9C2-4DB3-B362-FC9C22F5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904DF4-486C-4EB5-BCE8-DCD736CC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517980-6239-4F28-A7C7-24ABBA60A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D18755-B8D5-4FCD-A6CE-9EA4B2D0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D86AD7-96F8-4C96-8758-B0500FE6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4EA09-C5C7-4FBF-B279-675B5699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0CB467-83B9-4235-8732-536D1F2F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6F2A5A-1F98-4720-AA1B-33E9FB76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CD1102-8F73-4BDF-949D-C9BD5882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B4A904-BB82-4303-BF70-9A4FAAA2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C0EDA1-A2F7-45B2-8553-22796B02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212B28-0202-4E43-96DB-853A4194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E997A7-5292-4104-BB44-712302E6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A3DC3C-2213-4AE7-B9B2-8696B1EC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34C2AC-EE14-4202-BA74-5F053984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740486-5B6B-455F-85F8-97FE9EFFA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9C2E5-51E4-45AD-9B6E-C98A3DEFD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542328-32DD-4A45-BEB7-9B282973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EBE9AC-7EA0-4E70-9F45-AD5278BF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E90FDB-4EAE-4CB0-9853-297B53D2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74EC0E-1F04-4ACD-9953-022797CA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4883B3-5055-49E6-9642-439FFF65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5BF55D-BE93-4123-A494-34E9F816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40E295-814E-4735-ABEB-9B5CBB54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A442E0-C955-482A-8ACB-377A2874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2074EF-0683-4A9A-B9CB-1A3D1750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4AAB69-B718-48F3-87B7-F3D08CF1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AC8-89F1-4633-9B43-BD4C9D14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14381-2A20-4B43-AA07-0D037C2E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41DC7B-B5D4-4612-B04F-7FE6EAD77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AF486A-FCFB-4A78-9DBE-BB84CDE9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9E4B45-8AD7-4BF6-BC00-78DBDC1A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164B90-20D6-4DA1-AA45-4121A81E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8372C4-3F8F-4A64-9371-E668BD6E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0903CB-63B6-4F1D-A675-8F9F1C0E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66693F-73AD-40F1-BDE1-CBC1ED3C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B593BD-F979-4310-BBEE-9898CAAA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6618429-DCD9-4607-925B-01A34509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F473A2-5AA0-40E8-8291-023D7DD3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2AEAA-4365-4135-8EF3-5654665A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9790E2-4B45-4F7A-B711-9ADED789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36D3C5-DFC6-4D83-8E56-D82CB95A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6D238F-60A2-489A-B530-B9B53872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7C26D8-BFCE-4051-AD1E-30857E03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279DC9-22DC-4F8B-B69A-67954AB2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93CE1E-5536-4BA4-99DE-7763B2BF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AAD51B-D796-48FF-946A-CE15B8A5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6B56E5-19BB-48D2-8850-0953DF8F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A6CE91-2DC7-469B-BEC1-8B93B437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7FC522-D946-4C6B-B6C4-54CA4E4D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2EE02-9C97-432D-8C85-1B7D4220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F6D1D4-426E-4876-9D33-3AB85BF6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00C639B-CE0F-4D37-8AFE-6C0A72D7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73C780-6DD8-4B3E-9682-F7D35E49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606C8C-79F7-4476-823A-9B876CD4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6BE1CF8-AFEE-4700-AEFA-63F808A28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5B2D013-9DC2-47FF-9EFB-81F2853A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920A81-BD4F-4AC6-8BE3-9449C9FD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DB4332-3892-44C1-9EFA-F9D9DE94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3FF55C-B167-45A2-89DA-61C60FD4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F83D43-145F-4DEB-BAFE-F6CED0DD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22069-5A80-4E59-BA09-573444E9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7367DD3-F82A-43F1-9A1C-4F726E4B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901C812-3B1B-41F3-AA33-ED8820BD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ACE645-8438-46AA-9E50-49105C51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82F4AB-9B56-4F67-A5A6-AC1AD0E8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B4ADF2-D232-4435-B3A0-D420F49F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113015-18C3-4852-A069-144AB944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7CAAF8-A891-47F9-8E2A-B70F68DB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43FC15-34DF-44AF-9BCE-3F9B7AE5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089E44B-50E0-49AE-B0CF-E7AF2368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DAFE44-195F-4907-9311-9B04C5B5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B8497-1D95-4E73-8E54-EE69DF3C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FEB70F-67E4-4C5D-A688-9E40B080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345BED-DD26-49AA-9459-54A7B0BC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0D19372-2037-4EC8-B2BE-9062817E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900C91-B69C-411B-AEB4-17ED7980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F61FBB-46C3-488A-995C-2450B252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49020A-0F3A-4D54-A8CE-0614F671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A8A84B6-F1D8-4813-BAE9-2998E726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A78B3A-8E2B-43B8-9683-5CB55F9E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27D32F-D3F7-4E84-8C34-AE3B5EBB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4CD3D8-9254-4E13-A514-0FEC0E98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C2954-6CA3-4D44-A041-46BC0E02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F8AEAC7-4034-46D2-9DA3-02943D08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E5592F5-C8F5-4C0A-86D1-5C3562C8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7A15BA-8590-4318-B71E-3FDEC478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173AB6-64FC-4732-9406-D9B53F40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0C68E0-2246-4253-826C-F4CE614D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35EFD6-05DB-44C4-9F86-F58980B6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82EBCAE-CF63-4208-A544-0AAABB55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39E254-7990-4361-800B-D0153007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728236-07E8-4BC1-926E-31C0B2A1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0A540D-97D0-43BD-B3EF-741992E15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9112E-1CCA-4444-BEA1-32F608863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31BDCF-9619-4271-B525-2EA0456D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D7A0EF-AABE-476E-A0B8-9647CFA5C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5F3C8A-8EB6-416D-8567-203F13EC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FB77EB-353A-43B3-AB04-EBF26945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11B52E-AA8E-4E8A-8DED-CA9AE387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C05A76-4BE9-4A28-9B2E-5643B654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A1EB61-4F98-4A1F-82F3-09A423D8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8AC281-127C-40A3-B605-97E2F6C7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7A1A0B-96EA-4788-9A13-5B548599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D6AF25-AA6E-408B-B2CF-279BFF87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0BA30-3376-4E82-AEDB-06D210BF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F7C24D9-BC8A-491E-8B39-C2017331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DDECD1-48C7-47E5-B857-CEF11298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0A6493-EB61-42BE-8F51-17583764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10A059-4DCD-4021-970D-443A8425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3873CA-CE5C-4A5F-A9EC-DC272EA7C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943E3B6-CE66-4648-B233-5621BEE2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2695F38-FF92-4B84-91E7-267489F2C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FA3308C-5336-44AA-895C-BF4A4620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423DF4-641D-49CF-BA9D-4E952AD4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9C0153-B93D-43B2-998B-84323DD4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F76E6-B62A-47E0-B6DF-5F67EE78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FF71E2-29D4-4865-9CAE-B170CBD0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B4B4A9D-237F-4A68-BB65-EE9ADC3A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F96D59-1818-4341-8903-608682B9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DD31B5-D699-456C-B5A2-05800EF2F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7925C2-F342-4173-8A62-BE49646E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C609E1-30C4-47AF-A162-CDEFA534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C2C64E-8C1D-4B0B-BF27-E59D32E2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DC3BFC-93CE-44D4-882D-EB520A99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76533C-90B5-47C1-A327-B5451D62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76F571-6DF8-4E6B-A69A-E30A0283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0087E-0BFA-435F-9731-2E3C0034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075366E-2BD3-4A29-9275-8E33A24C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3294FF-1B40-4EFF-AA79-B1922ADC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C4B312-BC5D-4CE2-BDFA-8839E1BB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95D40E-13BA-4155-855B-4B6D6C74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08930F-F105-4069-B120-23B4835E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9FAF8A8-7340-4144-8E80-B8BF2E03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D6EBE0-D856-45B6-A96B-A482DB23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14392C-D01B-415D-B117-530ABD5E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FDC8AF5-32DE-4069-993E-FCEC05C6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ABABB13-7C4B-4565-B551-D26D547B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097-A959-4AE0-BF96-E51E9E96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7F568-BD52-4DC7-8361-B23860B2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CAECA2-4E85-480A-825F-FA4F01FA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6F5137D-5F53-44DA-B026-EB87216F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F36FD2-A96A-4E7C-96AD-F8DA2A60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E0E984-69C8-45C4-87CE-9AB765B9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A26B3F-9DCB-4C9F-A901-F2E23011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144DAB-F83F-46B6-98A3-90A21B42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E86396-0A2F-4223-B0C1-DE700838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22C46FE-0763-48BA-844A-E1AA3ED3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87FF1F4-E76B-4B63-B583-5F127973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C463864-8D95-437B-B4E2-C9D1860CB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561D8-A27A-4076-A5FA-6807187A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F9A308A-6F2A-4018-9AB8-8424D811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A34396E-C27B-47C6-84F0-32C120B3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BE2A007-9454-43A2-88CE-15E21A73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C009A9D-E17F-4A06-9ECD-54030E43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F1F367E-0C2E-4681-B133-93D732798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0252AC-5F8E-4C47-825C-38789D14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42CE5B4-C930-4355-99EE-83FAC219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199F4FA-4A9D-4764-AEFD-0C5C6E41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08D09B-D144-4796-98EE-4DD8A674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1E2608-4C2A-4BF2-9137-5DCA785F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241BC-4105-4AA0-A42C-4CE47FD3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C334A90-D1C2-43BC-8174-0B073A86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E6270B6-7960-416C-9FAE-0907E813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EC5AF5-3FBA-4873-B329-4F06F76D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3CAF383-CD3E-4707-A3AF-B04906C6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67675B-61DB-4905-B11D-9274530D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AE3C66-D81D-45AE-8947-16303A8E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1B51CC-8B4C-4003-87F6-90EF1A9B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3352D4F-4F16-4F00-AD2A-250308A0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CF77B04-57A4-47B8-A2B6-82C3E7E9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BAAB72E-B847-4D63-B428-2FDC9A35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E8F35-2C29-4CA6-917F-6266C968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0889E15-BDF9-494D-B58B-0C17432A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C9CF4C8-6970-48F1-885A-C1953585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D11933-EF6B-46BD-A366-5979EBCB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6A50F3-325E-4BAE-9412-C09080C1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681DA6-EA0B-41D8-BA68-95CFF2978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B699D3C-D739-4260-8EA2-361CA913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BCF8B4-A143-4477-918D-A125CEC2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EE27715-F20D-4DA5-940A-EAEFE187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CBDD8E8-82FB-48E0-AD71-746FAE97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B5B2AC-030B-409C-83B4-6187E1C1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935F0-14BE-4732-9ECA-3EC22297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17CAAA-34DF-474A-836C-27CC7572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E1FB8C7-DABB-4816-8621-9B7F1EF3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C7F4727-738E-49A4-827B-6FDBB963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3CDF5E9-B8CB-4E00-8E00-9E8CDFF3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C096048-2123-4A2D-99F0-6BD78DF9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B1B59A8-6EA6-4403-9588-24D86194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8E09B00-71D7-4BD8-A412-04DCECED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6CFE542-891F-407C-8FBA-1D5536F8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1BB2E5C-C1FB-4578-BAC7-CE3D8DAC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06A8510-2367-4B72-A6F9-D7728A06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9B277-BA94-43C6-AC91-6B3B41ED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29E3196-26A3-4B2B-A85E-962E28D0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753D51B-0531-43B2-B5B9-CC25B164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B0FC686-F4BC-4E9E-A127-0BC02FA6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9555A22-4A37-4AF1-81D5-3D539932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5002798-C4D4-4773-8CE5-236AA4DB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3E58C74-4E7D-479A-AAD8-32FB4231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FDBAE23-08D2-47AB-A6E8-8AA5A6C3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4D309-E4BC-4323-8960-89810657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20C17-45FB-4F95-9C21-B644C60C5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6EEE6-55F3-4C56-B63D-2695C970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F9C9B-7A9A-4747-9B0F-6EC03A6E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1836-06B8-4276-A7B0-F8BCF38B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EA609-FE1C-4C8B-B884-AB8B209F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F4C0F-D948-4DE5-A179-6600C78A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8B1DB-5FC0-4CD0-93CD-A18ECB03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1D1E5-D720-419A-951B-C2F1F152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71868-124B-4B5C-92C8-AEECF851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96AD7-C850-409C-9120-FBA32D39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0FF60-CACB-4645-B609-38ECC044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A2034-512A-42F7-8079-B02A0741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B3CFE-92C2-4F29-9978-EB332A21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C4C42-DD2C-4679-80CD-21404432C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18D-03BF-4698-98C7-06D59462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92D5B-B318-46C9-8968-4F47A8CB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FA1E9-5C6D-4C98-AFE3-4A36C962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951BB-CD11-407A-A29F-2FCB8818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C814E-EE14-4104-82F6-238FBA5A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F8E46-EA6B-45A6-B5BC-D184ACEB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33E56-0DCC-49E5-8874-15E3AA29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1533A-7777-4FF9-AFBD-49D6EDF5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23220-D12E-4DC5-9A0A-14879427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54485-A777-48BC-B451-D4F67334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58FE3-011E-4DCA-9248-AA9C4C4A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6454-70A8-4AED-A7B5-38BF6A1D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FA602-B64A-4132-9460-2E9C692D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C8DCE-7E7F-4977-BF50-DDAE488C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5C5DA-2D31-4C62-A6F5-91186069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DB1CD-CA60-441E-8963-7232D55F4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A7815-3F13-4434-9EBC-77BE1757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66878-777F-4834-9B52-AC10DFCC9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A178D-A0E0-4000-81FE-BCB2FC9F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EBD73-1F12-42F4-9889-A8AE578D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33B86-29D6-4780-93A9-19515970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9EE5E-F782-46BC-B6C7-60D92D52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B59-DFEC-4849-8B48-033BEA70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E3568-28FD-47E2-A45B-FF4BCFF7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9C74F-768C-4EA9-862E-C6143AF8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F5984-D406-422C-B3C4-DD927725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5884A-F917-48D9-B097-A9F6A53C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DE710-52CF-4B2E-ABCB-7BA46758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A6219-23E9-4FA9-A5D9-3A069F76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CE4DD-7B14-4514-A378-1DF1C0FB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EFDD0-2995-48D5-8840-AACAF428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61C1C-3F3D-45FC-B33B-F1BACFAD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46386-F3D5-4C97-A4AD-3D100F92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D0B-A9AB-453F-AE55-4F4C0337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FFA917-9D00-4FFA-ABC3-8914AAFF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C7623-9B7C-4486-90D2-0107BCA7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87E92-7A1A-4054-90EE-DCB57993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4B53A-4185-441D-9A5A-D7394422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4A5DD-55CE-431C-9C15-32A6DB3A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40C88-A217-48EC-A856-238FEB1C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7ABA6-776C-4194-8B56-561126E5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8F1A8-48E7-474F-BD2E-DDB9920D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0797FB-1411-411E-978D-29B638CB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A228B-7BDF-4B32-AC35-C1E2E5DA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ecee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815C-9941-4374-9850-97062A28FE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3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3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744E-A135-4B67-8B07-2F980D45291D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6C67-C2ED-4463-A6B1-4C103AC3062E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3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4B67-98D1-4B78-A71E-3FDB6121F0ED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8416-D840-482D-9226-BE575F9259E6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3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D932-2176-4116-97C2-DAF5900992F5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8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9D5C-C5FD-46B0-AAD4-D2113F1978E6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4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CE9A-E68C-4767-AC2E-DFC7CE95E8A1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8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5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5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D1F5-F415-4880-82F2-3D4DC239E8C0}" type="slidenum">
              <a:rPr b="0" lang="ru-RU" sz="1200" spc="-1" strike="noStrike">
                <a:solidFill>
                  <a:srgbClr val="bcc7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5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6D48-7E3E-4315-AA09-C3B6EAF23EB7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8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8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8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5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5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5C1E-04A7-4512-AAEB-4F2BC745D4AA}" type="slidenum">
              <a:rPr b="0" lang="ru-RU" sz="1200" spc="-1" strike="noStrike">
                <a:solidFill>
                  <a:srgbClr val="bcc7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82E7-8CF6-43CD-9E01-7DBF0F147E7E}" type="slidenum">
              <a:rPr b="0" lang="ru-RU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2592-49FA-46D3-8492-CEB9A7881E6A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6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6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60C9-2B1C-4B43-8C7F-DE209CAC7F8C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 type="ftr" idx="6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 type="sldNum" idx="6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EA79-85AF-472D-BD91-A0840C058A44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8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1AB6-132E-4FA7-8C9C-6634885B5DD5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3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4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4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 type="sldNum" idx="7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4321-A980-46C6-8739-0030E000D7C5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189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19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2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9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5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AC73-F4A0-4CD0-9D26-7F2DEF1BAC91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4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4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4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7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7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20E5-8E08-4E55-BA6B-3FD4C5627BB2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2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2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 type="ftr" idx="8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 type="sldNum" idx="8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7FB9-39FE-4326-AB8C-82EE8026FC52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4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4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4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 type="ftr" idx="8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 type="sldNum" idx="8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DBDA-218D-4590-AC63-7465094F75B0}" type="slidenum">
              <a:rPr b="0" lang="ru-RU" sz="1200" spc="-1" strike="noStrike">
                <a:solidFill>
                  <a:srgbClr val="bcc7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8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8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809F-CEDA-4C9C-B73E-5AF30C7CE5B7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FF9B-EBC9-45CE-9F9D-24D0352534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4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4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 type="ftr" idx="8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5"/>
          <p:cNvSpPr>
            <a:spLocks noGrp="1"/>
          </p:cNvSpPr>
          <p:nvPr>
            <p:ph type="sldNum" idx="9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941B-DF7E-4529-AEEC-8072EDD711B0}" type="slidenum">
              <a:rPr b="0" lang="ru-RU" sz="1200" spc="-1" strike="noStrike">
                <a:solidFill>
                  <a:srgbClr val="bcc7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 type="ftr" idx="9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 type="sldNum" idx="9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415F-3807-4F07-82F4-C1C6DDE5D5E7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4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4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9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9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8F23-3A55-43EC-B4D9-CD1D1B29F347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9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9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A9C0-605E-4BB7-9B1D-E7F527BB408E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64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64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4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 type="ftr" idx="10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 type="sldNum" idx="10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71F9-0CB6-475C-8B7A-8CBA65CD4C0F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69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69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9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 type="ftr" idx="10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 type="sldNum" idx="10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9B3F-5900-43FF-9D9E-BFE17A877363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4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4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74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9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 type="ftr" idx="10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 type="sldNum" idx="10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743D-1902-4968-8122-0B020A0617F0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79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79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0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 type="dt" idx="10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 type="ftr" idx="11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 type="sldNum" idx="11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6151-BAA6-4F86-95A4-FC20040BA84E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4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4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5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 type="dt" idx="1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 type="ftr" idx="11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 type="sldNum" idx="11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422C-6F8B-43AF-A1C5-8025CF5E23C2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D083-F5EE-4D3F-82ED-E4DF6E5BA2F2}" type="slidenum">
              <a:rPr b="0" lang="ru-RU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41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4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FA65-74A3-4CB6-ADF7-D5A68388D250}" type="slidenum">
              <a:rPr b="0" lang="ru-RU" sz="1200" spc="-1" strike="noStrike">
                <a:solidFill>
                  <a:srgbClr val="5f668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0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1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4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2B1F-968A-45BF-A446-A28F02BF5342}" type="slidenum">
              <a:rPr b="0" lang="ru-RU" sz="1200" spc="-1" strike="noStrike">
                <a:solidFill>
                  <a:srgbClr val="bcc7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BC02-9B53-4C07-88C9-F3162D250BC8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3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3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5d1d7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c5d1d7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c7c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c7c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D0FB-5EAD-4986-AC45-AA37F41D27CE}" type="slidenum">
              <a:rPr b="0" lang="ru-RU" sz="1200" spc="-1" strike="noStrike">
                <a:solidFill>
                  <a:srgbClr val="bcc7c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48f00">
                  <a:alpha val="45098"/>
                </a:srgbClr>
              </a:gs>
              <a:gs pos="100000">
                <a:srgbClr val="76a4a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28283">
                  <a:alpha val="45098"/>
                </a:srgbClr>
              </a:gs>
              <a:gs pos="100000">
                <a:srgbClr val="d7b900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8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86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89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46b8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46b86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8cadae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cb4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8cadae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c7b7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f668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f66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2670-0F35-4BA3-A69E-82A1F002D15D}" type="slidenum">
              <a:rPr b="0" lang="ru-RU" sz="1200" spc="-1" strike="noStrike">
                <a:solidFill>
                  <a:srgbClr val="5f66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6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4" name="Picture 2" descr="thumb506"/>
          <p:cNvPicPr/>
          <p:nvPr/>
        </p:nvPicPr>
        <p:blipFill>
          <a:blip r:embed="rId1"/>
          <a:stretch/>
        </p:blipFill>
        <p:spPr>
          <a:xfrm rot="253200">
            <a:off x="2819520" y="1752120"/>
            <a:ext cx="2260440" cy="3200400"/>
          </a:xfrm>
          <a:prstGeom prst="rect">
            <a:avLst/>
          </a:prstGeom>
          <a:ln w="19080">
            <a:solidFill>
              <a:srgbClr val="ff66ff"/>
            </a:solidFill>
            <a:miter/>
          </a:ln>
        </p:spPr>
      </p:pic>
      <p:pic>
        <p:nvPicPr>
          <p:cNvPr id="1895" name="Picture 3" descr="thumb011"/>
          <p:cNvPicPr/>
          <p:nvPr/>
        </p:nvPicPr>
        <p:blipFill>
          <a:blip r:embed="rId2"/>
          <a:stretch/>
        </p:blipFill>
        <p:spPr>
          <a:xfrm>
            <a:off x="4876920" y="533520"/>
            <a:ext cx="3809880" cy="2536560"/>
          </a:xfrm>
          <a:prstGeom prst="rect">
            <a:avLst/>
          </a:prstGeom>
          <a:ln w="19080">
            <a:solidFill>
              <a:srgbClr val="ff66ff"/>
            </a:solidFill>
            <a:miter/>
          </a:ln>
        </p:spPr>
      </p:pic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4724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ff"/>
                </a:solidFill>
                <a:latin typeface="Arial"/>
              </a:rPr>
              <a:t>Кто такие насекомые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7" name="Picture 7" descr="thumb211"/>
          <p:cNvPicPr/>
          <p:nvPr/>
        </p:nvPicPr>
        <p:blipFill>
          <a:blip r:embed="rId3"/>
          <a:stretch/>
        </p:blipFill>
        <p:spPr>
          <a:xfrm rot="20993400">
            <a:off x="533520" y="3200040"/>
            <a:ext cx="2438280" cy="3048120"/>
          </a:xfrm>
          <a:prstGeom prst="rect">
            <a:avLst/>
          </a:prstGeom>
          <a:ln w="19080">
            <a:solidFill>
              <a:srgbClr val="ff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500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Прямоугольник 3"/>
          <p:cNvSpPr/>
          <p:nvPr/>
        </p:nvSpPr>
        <p:spPr>
          <a:xfrm>
            <a:off x="403200" y="70812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считают многих насекомых вредителями. Среди них есть паразиты (москиты, вши, постельные клопы), передающие болезни (москиты, мухи), повреждающие структуры организма (термиты) и разрушающие сельскохозяйственные товары (саранча, долгоносик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6" name="Picture 8" descr=""/>
          <p:cNvPicPr/>
          <p:nvPr/>
        </p:nvPicPr>
        <p:blipFill>
          <a:blip r:embed="rId1"/>
          <a:srcRect l="0" t="0" r="8573" b="0"/>
          <a:stretch/>
        </p:blipFill>
        <p:spPr>
          <a:xfrm>
            <a:off x="268200" y="2666880"/>
            <a:ext cx="3998880" cy="286704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sp>
        <p:nvSpPr>
          <p:cNvPr id="1937" name="Rectangle 6"/>
          <p:cNvSpPr/>
          <p:nvPr/>
        </p:nvSpPr>
        <p:spPr>
          <a:xfrm>
            <a:off x="762120" y="4191120"/>
            <a:ext cx="3657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ски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8" name="Picture 9" descr=""/>
          <p:cNvPicPr/>
          <p:nvPr/>
        </p:nvPicPr>
        <p:blipFill>
          <a:blip r:embed="rId2"/>
          <a:stretch/>
        </p:blipFill>
        <p:spPr>
          <a:xfrm>
            <a:off x="4114800" y="3581280"/>
            <a:ext cx="4862520" cy="322920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sp>
        <p:nvSpPr>
          <p:cNvPr id="1939" name="Rectangle 7"/>
          <p:cNvSpPr/>
          <p:nvPr/>
        </p:nvSpPr>
        <p:spPr>
          <a:xfrm>
            <a:off x="6310440" y="2722680"/>
            <a:ext cx="2666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ран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Rectangle 7"/>
          <p:cNvSpPr/>
          <p:nvPr/>
        </p:nvSpPr>
        <p:spPr>
          <a:xfrm>
            <a:off x="1219320" y="-277920"/>
            <a:ext cx="67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секомые вред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Прямоугольник 3"/>
          <p:cNvSpPr/>
          <p:nvPr/>
        </p:nvSpPr>
        <p:spPr>
          <a:xfrm>
            <a:off x="152280" y="60948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ляют цветущие растения (осы, пчелы, бабочки, муравь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изводят полезные вещества, например, мед, воск, лак и шелк (пчёлы-медоносы, тутовые шелкопряд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взрослые насекомые, например, сверчки, и личинки насекомых различных видов обычно используются как рыбацкая приман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ного насекомых, особенно жуки, являются мусорщиками, питаясь мертвыми животными и упавшими деревь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мые полезные из всех насекомых - насекомоядные, те, которые питаются другими насекомы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Rectangle 7"/>
          <p:cNvSpPr/>
          <p:nvPr/>
        </p:nvSpPr>
        <p:spPr>
          <a:xfrm>
            <a:off x="1219320" y="-277920"/>
            <a:ext cx="6750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езные насеко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3" name="Picture 3" descr="Картинка 63 из 64000"/>
          <p:cNvPicPr/>
          <p:nvPr/>
        </p:nvPicPr>
        <p:blipFill>
          <a:blip r:embed="rId1"/>
          <a:stretch/>
        </p:blipFill>
        <p:spPr>
          <a:xfrm>
            <a:off x="5715000" y="4630680"/>
            <a:ext cx="32655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WordArt 4"/>
          <p:cNvSpPr txBox="1"/>
          <p:nvPr/>
        </p:nvSpPr>
        <p:spPr>
          <a:xfrm>
            <a:off x="380880" y="1143000"/>
            <a:ext cx="8382240" cy="87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e7c4f3"/>
                    </a:gs>
                  </a:gsLst>
                  <a:lin ang="5400000"/>
                </a:gradFill>
                <a:latin typeface="Arial"/>
              </a:rPr>
              <a:t>Спасибо за внимание!</a:t>
            </a:r>
            <a:endParaRPr b="1" lang="en-US" sz="1800" spc="1" strike="noStrike">
              <a:ln w="1260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e7c4f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Rectangle 2"/>
          <p:cNvSpPr/>
          <p:nvPr/>
        </p:nvSpPr>
        <p:spPr>
          <a:xfrm>
            <a:off x="2286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 насекомое происходит от слова «насечка» или «насекать», так как их тело в бороздках, как будто оно насече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9" name="Picture 2" descr="Бисероплетение схемы стрекоза объемный - Master class"/>
          <p:cNvPicPr/>
          <p:nvPr/>
        </p:nvPicPr>
        <p:blipFill>
          <a:blip r:embed="rId1"/>
          <a:stretch/>
        </p:blipFill>
        <p:spPr>
          <a:xfrm>
            <a:off x="1295280" y="2438280"/>
            <a:ext cx="6096240" cy="414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Насеком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193320" y="1015920"/>
            <a:ext cx="84582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известно около 1,5 млн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идов насекомых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Насекомые — это 80% всех животных на Земл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2" name="Object 4"/>
          <p:cNvGraphicFramePr/>
          <p:nvPr/>
        </p:nvGraphicFramePr>
        <p:xfrm>
          <a:off x="4267080" y="2921040"/>
          <a:ext cx="6018480" cy="40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921040"/>
                    <a:ext cx="601848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4" name="WordArt 6"/>
          <p:cNvSpPr txBox="1"/>
          <p:nvPr/>
        </p:nvSpPr>
        <p:spPr>
          <a:xfrm rot="20637000">
            <a:off x="5452920" y="3800160"/>
            <a:ext cx="3505320" cy="1895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4436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насеко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9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9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228600" y="23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Этимология – наука,</a:t>
            </a:r>
            <a:br>
              <a:rPr sz="4000"/>
            </a:b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изучающая насеко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явно разделено на голову, грудь и брюшк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ывают разного размера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живут повсеместно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бладают разнообразной окраской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9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7" name="Picture 6" descr="Картинка 500 из 67411"/>
          <p:cNvPicPr/>
          <p:nvPr/>
        </p:nvPicPr>
        <p:blipFill>
          <a:blip r:embed="rId1"/>
          <a:stretch/>
        </p:blipFill>
        <p:spPr>
          <a:xfrm>
            <a:off x="0" y="1071720"/>
            <a:ext cx="6000840" cy="5572080"/>
          </a:xfrm>
          <a:prstGeom prst="rect">
            <a:avLst/>
          </a:prstGeom>
          <a:ln w="0">
            <a:noFill/>
          </a:ln>
        </p:spPr>
      </p:pic>
      <p:pic>
        <p:nvPicPr>
          <p:cNvPr id="1908" name="Заголовок 4" descr=""/>
          <p:cNvPicPr/>
          <p:nvPr/>
        </p:nvPicPr>
        <p:blipFill>
          <a:blip r:embed="rId2"/>
          <a:stretch/>
        </p:blipFill>
        <p:spPr>
          <a:xfrm>
            <a:off x="378000" y="-139680"/>
            <a:ext cx="8534160" cy="1577880"/>
          </a:xfrm>
          <a:prstGeom prst="rect">
            <a:avLst/>
          </a:prstGeom>
          <a:ln w="0">
            <a:noFill/>
          </a:ln>
        </p:spPr>
      </p:pic>
      <p:sp>
        <p:nvSpPr>
          <p:cNvPr id="1909" name="Блок-схема: процесс 5"/>
          <p:cNvSpPr/>
          <p:nvPr/>
        </p:nvSpPr>
        <p:spPr>
          <a:xfrm>
            <a:off x="5000760" y="5857920"/>
            <a:ext cx="1000080" cy="785880"/>
          </a:xfrm>
          <a:prstGeom prst="flowChartProcess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0" name="Скругленная соединительная линия 9"/>
          <p:cNvCxnSpPr/>
          <p:nvPr/>
        </p:nvCxnSpPr>
        <p:spPr>
          <a:xfrm flipH="1" rot="16200000">
            <a:off x="4071240" y="5143320"/>
            <a:ext cx="429120" cy="14364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1911" name="Прямоугольник 12"/>
          <p:cNvSpPr/>
          <p:nvPr/>
        </p:nvSpPr>
        <p:spPr>
          <a:xfrm>
            <a:off x="3786120" y="5715000"/>
            <a:ext cx="1071720" cy="50004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У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Прямоугольник 14"/>
          <p:cNvSpPr/>
          <p:nvPr/>
        </p:nvSpPr>
        <p:spPr>
          <a:xfrm>
            <a:off x="4643280" y="4500720"/>
            <a:ext cx="1357560" cy="50004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Прямоугольник 15"/>
          <p:cNvSpPr/>
          <p:nvPr/>
        </p:nvSpPr>
        <p:spPr>
          <a:xfrm>
            <a:off x="5572080" y="3143160"/>
            <a:ext cx="1285920" cy="50004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Прямоугольник 16"/>
          <p:cNvSpPr/>
          <p:nvPr/>
        </p:nvSpPr>
        <p:spPr>
          <a:xfrm>
            <a:off x="642960" y="6072120"/>
            <a:ext cx="1643040" cy="50004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РЮШ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Прямоугольник 17"/>
          <p:cNvSpPr/>
          <p:nvPr/>
        </p:nvSpPr>
        <p:spPr>
          <a:xfrm>
            <a:off x="214200" y="1928880"/>
            <a:ext cx="1643040" cy="500040"/>
          </a:xfrm>
          <a:prstGeom prst="rect">
            <a:avLst/>
          </a:prstGeom>
          <a:solidFill>
            <a:srgbClr val="ffc000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ecee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380880" y="126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24920" y="1720440"/>
            <a:ext cx="4343400" cy="30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8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191120" y="3549600"/>
            <a:ext cx="2222280" cy="3164040"/>
          </a:xfrm>
          <a:prstGeom prst="rect">
            <a:avLst/>
          </a:prstGeom>
          <a:ln w="0">
            <a:noFill/>
          </a:ln>
        </p:spPr>
      </p:pic>
      <p:pic>
        <p:nvPicPr>
          <p:cNvPr id="1919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1920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715000" y="977760"/>
            <a:ext cx="2592360" cy="2446560"/>
          </a:xfrm>
          <a:prstGeom prst="rect">
            <a:avLst/>
          </a:prstGeom>
          <a:ln w="0">
            <a:noFill/>
          </a:ln>
        </p:spPr>
      </p:pic>
      <p:sp>
        <p:nvSpPr>
          <p:cNvPr id="1921" name="Стрелка вправо 1"/>
          <p:cNvSpPr/>
          <p:nvPr/>
        </p:nvSpPr>
        <p:spPr>
          <a:xfrm>
            <a:off x="8153280" y="6359400"/>
            <a:ext cx="833400" cy="3747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5181120" y="53316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лаза насеком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3" name="Picture 3" descr="Картинка 83 из 64000"/>
          <p:cNvPicPr/>
          <p:nvPr/>
        </p:nvPicPr>
        <p:blipFill>
          <a:blip r:embed="rId1"/>
          <a:stretch/>
        </p:blipFill>
        <p:spPr>
          <a:xfrm>
            <a:off x="304920" y="536400"/>
            <a:ext cx="5195880" cy="519624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sp>
        <p:nvSpPr>
          <p:cNvPr id="1924" name="Стрелка вправо 7"/>
          <p:cNvSpPr/>
          <p:nvPr/>
        </p:nvSpPr>
        <p:spPr>
          <a:xfrm>
            <a:off x="8229600" y="6324480"/>
            <a:ext cx="833400" cy="37476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Прямоугольник 1"/>
          <p:cNvSpPr/>
          <p:nvPr/>
        </p:nvSpPr>
        <p:spPr>
          <a:xfrm>
            <a:off x="5500800" y="205740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2525"/>
                </a:solidFill>
                <a:latin typeface="Arial"/>
              </a:rPr>
              <a:t>Особенности зрения насекомых обусловлены фасеточным строением глаз, которые состоят из большого числа омматидиев, то есть маленьких глазиков (до 12 тысяч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6" name="Выноска-облако 2"/>
          <p:cNvGrpSpPr/>
          <p:nvPr/>
        </p:nvGrpSpPr>
        <p:grpSpPr>
          <a:xfrm>
            <a:off x="66600" y="768240"/>
            <a:ext cx="8998200" cy="4973760"/>
            <a:chOff x="66600" y="768240"/>
            <a:chExt cx="8998200" cy="4973760"/>
          </a:xfrm>
        </p:grpSpPr>
        <p:pic>
          <p:nvPicPr>
            <p:cNvPr id="1927" name="Выноска-облако 2" descr=""/>
            <p:cNvPicPr/>
            <p:nvPr/>
          </p:nvPicPr>
          <p:blipFill>
            <a:blip r:embed="rId1"/>
            <a:stretch/>
          </p:blipFill>
          <p:spPr>
            <a:xfrm>
              <a:off x="66600" y="768240"/>
              <a:ext cx="8998200" cy="497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8" name=""/>
            <p:cNvSpPr/>
            <p:nvPr/>
          </p:nvSpPr>
          <p:spPr>
            <a:xfrm>
              <a:off x="1362240" y="1276200"/>
              <a:ext cx="5779800" cy="21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Хотя насекомые очень разные, у них одни и те же части тела, и у всех насекомых шесть ног. Значит, чтобы узнать, какое животное — насекомое, а какое — нет, надо посчитать его ножк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9" name="Picture 4" descr="Картинка 114 из 6085"/>
          <p:cNvPicPr/>
          <p:nvPr/>
        </p:nvPicPr>
        <p:blipFill>
          <a:blip r:embed="rId2"/>
          <a:stretch/>
        </p:blipFill>
        <p:spPr>
          <a:xfrm>
            <a:off x="5562720" y="4191120"/>
            <a:ext cx="3141720" cy="235728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0" name="Выноска-облако 2"/>
          <p:cNvGrpSpPr/>
          <p:nvPr/>
        </p:nvGrpSpPr>
        <p:grpSpPr>
          <a:xfrm>
            <a:off x="139680" y="768240"/>
            <a:ext cx="8467920" cy="7601040"/>
            <a:chOff x="139680" y="768240"/>
            <a:chExt cx="8467920" cy="7601040"/>
          </a:xfrm>
        </p:grpSpPr>
        <p:pic>
          <p:nvPicPr>
            <p:cNvPr id="1931" name="Выноска-облако 2" descr=""/>
            <p:cNvPicPr/>
            <p:nvPr/>
          </p:nvPicPr>
          <p:blipFill>
            <a:blip r:embed="rId1"/>
            <a:stretch/>
          </p:blipFill>
          <p:spPr>
            <a:xfrm>
              <a:off x="139680" y="768240"/>
              <a:ext cx="8467920" cy="760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2" name=""/>
            <p:cNvSpPr/>
            <p:nvPr/>
          </p:nvSpPr>
          <p:spPr>
            <a:xfrm>
              <a:off x="1360440" y="1276200"/>
              <a:ext cx="5435640" cy="21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Все насекомые питаются по-разному. Одни едят растения, другие – мельчайшую живность, третьи – и то, и другое. Некоторые питаются кровью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3" name="Picture 4" descr="Картинка 246 из 26406"/>
          <p:cNvPicPr/>
          <p:nvPr/>
        </p:nvPicPr>
        <p:blipFill>
          <a:blip r:embed="rId2"/>
          <a:stretch/>
        </p:blipFill>
        <p:spPr>
          <a:xfrm rot="765000">
            <a:off x="630360" y="4049640"/>
            <a:ext cx="1757160" cy="2455920"/>
          </a:xfrm>
          <a:prstGeom prst="rect">
            <a:avLst/>
          </a:prstGeom>
          <a:ln w="0">
            <a:noFill/>
          </a:ln>
        </p:spPr>
      </p:pic>
      <p:pic>
        <p:nvPicPr>
          <p:cNvPr id="1934" name="Picture 6" descr="Картинка 252 из 26406"/>
          <p:cNvPicPr/>
          <p:nvPr/>
        </p:nvPicPr>
        <p:blipFill>
          <a:blip r:embed="rId3"/>
          <a:stretch/>
        </p:blipFill>
        <p:spPr>
          <a:xfrm rot="18903000">
            <a:off x="6165360" y="3360600"/>
            <a:ext cx="3160800" cy="2370240"/>
          </a:xfrm>
          <a:prstGeom prst="rect">
            <a:avLst/>
          </a:prstGeom>
          <a:ln w="0">
            <a:noFill/>
          </a:ln>
        </p:spPr>
      </p:pic>
    </p:spTree>
  </p:cSld>
  <p:transition advTm="5000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Irina Truman</cp:lastModifiedBy>
  <dcterms:modified xsi:type="dcterms:W3CDTF">2016-04-01T07:14:30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