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E8F-C4FE-43D1-8C28-25DCE807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6D52-FBAA-4F85-AA93-19CDD119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27D-EB68-4E88-8A63-BD86A960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900-A0EC-4083-8F77-5CE6D6F1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8B47-16C7-45F6-9B8E-3D706520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3BEA-104B-4C17-A4EC-F5A033236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5803-0725-4502-B90C-0AE6E572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9382-A209-4E4A-847D-F52C0BDB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6A8A-37CB-4771-9D64-4421EFD3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16AD-C0D2-406E-80ED-1708B62C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E4FF-3A5A-44C7-942D-A17D06C4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9FD-A048-4B7C-8DED-C2ADC235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EA68-253F-43A8-BA6C-123F851A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7E5E-48B5-4588-A7FE-70EE5CC8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C9BB-1CF3-4BF1-9D58-35155ECD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EF5D-93CF-4A47-BE6E-4F706F9D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F4F31-A9A3-4728-9BE9-55A552F7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91E-593C-4907-877B-D31F0E1E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735B-88C3-4303-9F68-9F3C9994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2D13-BED8-494B-B9FD-D080B44D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295-B058-4C43-A6F4-7671F4D9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0D60-E864-4D2A-9BE3-9A2D07FE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2631-1E32-4F3C-96CD-CABAFEC5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C49-08F9-4EDA-A27A-F50870A3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6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7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8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9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10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5730-D402-4C11-8D7F-7F975E459D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8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4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2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2C0E-5FF0-4E29-B433-946694D40B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3"/>
          <p:cNvSpPr/>
          <p:nvPr/>
        </p:nvSpPr>
        <p:spPr>
          <a:xfrm>
            <a:off x="1042920" y="549360"/>
            <a:ext cx="7416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Merry Christmas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ree"/>
          <p:cNvSpPr/>
          <p:nvPr/>
        </p:nvSpPr>
        <p:spPr>
          <a:xfrm>
            <a:off x="3203640" y="3500280"/>
            <a:ext cx="3024000" cy="3097440"/>
          </a:xfrm>
          <a:custGeom>
            <a:avLst/>
            <a:gdLst>
              <a:gd name="textAreaLeft" fmla="*/ 106200 w 3024000"/>
              <a:gd name="textAreaRight" fmla="*/ 2949840 w 3024000"/>
              <a:gd name="textAreaTop" fmla="*/ 3220200 h 3097440"/>
              <a:gd name="textAreaBottom" fmla="*/ 4055760 h 309744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Boney M - Jingle Bells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723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403280" y="620640"/>
            <a:ext cx="72723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Thank you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684360" y="692280"/>
            <a:ext cx="7991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33ff"/>
                </a:solidFill>
                <a:latin typeface="Arial"/>
              </a:rPr>
              <a:t>We wish you every luck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j02995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1187280" y="62064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9640" y="549360"/>
            <a:ext cx="806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Arial"/>
              </a:rPr>
              <a:t>Happy New Year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bba - Happy New Year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64838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j0183290"/>
          <p:cNvPicPr/>
          <p:nvPr/>
        </p:nvPicPr>
        <p:blipFill>
          <a:blip r:embed="rId1"/>
          <a:stretch/>
        </p:blipFill>
        <p:spPr>
          <a:xfrm>
            <a:off x="250920" y="765000"/>
            <a:ext cx="5437080" cy="5832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364000" y="549360"/>
            <a:ext cx="378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580000" y="692280"/>
            <a:ext cx="295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I am Grand father  Fro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ree"/>
          <p:cNvSpPr/>
          <p:nvPr/>
        </p:nvSpPr>
        <p:spPr>
          <a:xfrm>
            <a:off x="4427640" y="476280"/>
            <a:ext cx="3889440" cy="5832360"/>
          </a:xfrm>
          <a:custGeom>
            <a:avLst/>
            <a:gdLst>
              <a:gd name="textAreaLeft" fmla="*/ 136800 w 3889440"/>
              <a:gd name="textAreaRight" fmla="*/ 3794040 w 3889440"/>
              <a:gd name="textAreaTop" fmla="*/ 6063120 h 5832360"/>
              <a:gd name="textAreaBottom" fmla="*/ 7637040 h 58323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24000" y="404640"/>
            <a:ext cx="338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ask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№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“Words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68360" y="2133720"/>
            <a:ext cx="359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Arial"/>
              </a:rPr>
              <a:t>shmacri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39640" y="335772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39640" y="342900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Arial"/>
              </a:rPr>
              <a:t>Wen re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179280" y="472428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Arial"/>
              </a:rPr>
              <a:t>nmasw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j0299587"/>
          <p:cNvPicPr/>
          <p:nvPr/>
        </p:nvPicPr>
        <p:blipFill>
          <a:blip r:embed="rId1"/>
          <a:stretch/>
        </p:blipFill>
        <p:spPr>
          <a:xfrm>
            <a:off x="3657600" y="251604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9587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611280" y="549360"/>
            <a:ext cx="820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</a:rPr>
              <a:t>Task </a:t>
            </a:r>
            <a:r>
              <a:rPr b="1" lang="ru-RU" sz="6600" spc="-1" strike="noStrike">
                <a:solidFill>
                  <a:srgbClr val="ff3300"/>
                </a:solidFill>
                <a:latin typeface="Arial"/>
              </a:rPr>
              <a:t>№ 2 Продолжи логическую цепочк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j0299587"/>
          <p:cNvPicPr/>
          <p:nvPr/>
        </p:nvPicPr>
        <p:blipFill>
          <a:blip r:embed="rId1"/>
          <a:stretch/>
        </p:blipFill>
        <p:spPr>
          <a:xfrm>
            <a:off x="3657600" y="2516040"/>
            <a:ext cx="1827360" cy="1824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j0183290"/>
          <p:cNvPicPr/>
          <p:nvPr/>
        </p:nvPicPr>
        <p:blipFill>
          <a:blip r:embed="rId2"/>
          <a:stretch/>
        </p:blipFill>
        <p:spPr>
          <a:xfrm>
            <a:off x="1835280" y="0"/>
            <a:ext cx="5400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826920" y="69228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ff"/>
                </a:solidFill>
                <a:latin typeface="Arial"/>
              </a:rPr>
              <a:t>Task </a:t>
            </a:r>
            <a:r>
              <a:rPr b="1" lang="ru-RU" sz="5400" spc="-1" strike="noStrike">
                <a:solidFill>
                  <a:srgbClr val="9933ff"/>
                </a:solidFill>
                <a:latin typeface="Arial"/>
              </a:rPr>
              <a:t>№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09480" y="2286000"/>
            <a:ext cx="7925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Игра « Двенадцать месяцев» Желающие из зала 4 ученика. Каждый получает набор карточек с названиями месяцев. Ребята должны разложить карточки по порядку в 4 колонки: 1 колонка - зимние месяцы, 2 колонка - весенние, 3 колонка – осенние, 4 колонка – летние. Задание выполняется на скорость. Выигрывает команда, быстрее выполнившая задание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116000" y="333360"/>
            <a:ext cx="712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33ff"/>
                </a:solidFill>
                <a:latin typeface="Arial"/>
              </a:rPr>
              <a:t>Task </a:t>
            </a:r>
            <a:r>
              <a:rPr b="1" lang="ru-RU" sz="9600" spc="-1" strike="noStrike">
                <a:solidFill>
                  <a:srgbClr val="9933ff"/>
                </a:solidFill>
                <a:latin typeface="Arial"/>
              </a:rPr>
              <a:t>№ 4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042920" y="31240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1295280" y="2438280"/>
            <a:ext cx="6705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ираются 2 команды из зала. По очереди их просят называть слова, связанные с Новым годом (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now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ros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nowma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.). Победит та команда, которая последняя назовет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04920" y="350496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914400" y="2895480"/>
            <a:ext cx="74674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курс рисования. Командам выдаются большие листы, на которых они должны нарисовать новогоднюю елку, зимние пейзаж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735200" y="1143000"/>
            <a:ext cx="567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9933ff"/>
                </a:solidFill>
                <a:latin typeface="Arial"/>
              </a:rPr>
              <a:t>Task </a:t>
            </a:r>
            <a:r>
              <a:rPr b="1" lang="ru-RU" sz="9600" spc="-1" strike="noStrike">
                <a:solidFill>
                  <a:srgbClr val="9933ff"/>
                </a:solidFill>
                <a:latin typeface="Arial"/>
              </a:rPr>
              <a:t>№ </a:t>
            </a:r>
            <a:r>
              <a:rPr b="1" lang="en-US" sz="9600" spc="-1" strike="noStrike">
                <a:solidFill>
                  <a:srgbClr val="9933ff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1T13:25:25Z</dcterms:created>
  <dc:creator>АРЖАН</dc:creator>
  <dc:description/>
  <dc:language>en-US</dc:language>
  <cp:lastModifiedBy>Елена</cp:lastModifiedBy>
  <dcterms:modified xsi:type="dcterms:W3CDTF">2017-01-09T19:15:01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