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7D3-963D-43DA-AA6D-82BAA86E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13B-7420-47B3-8DF9-04D2762C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7F954-46BB-4446-8243-93641C8E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09458-66EE-45EE-B3FA-2C3EE750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62A13-B435-4A67-BF06-25E00DFF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7D981-78F0-414E-99D8-56579431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F71A2-8166-460F-BF83-432499A6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7B86F-607C-4708-A352-663B7929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18768-3635-43D6-8E09-F814EBE8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BEF94-3815-43DE-A1F6-008B1D35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22ACB-E2CD-4A42-9EA7-5E78C574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4909A-4651-4038-9096-E7DB8DAA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ADF-9C21-4629-B590-29F48E8D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78EB7-D643-4976-AF0A-8AA534BA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49A08-0C83-4C15-9843-EE46CC9A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65C67-0854-48EC-B5DE-F478ED49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5BA30-0987-4B30-8E52-150CFA8B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60661-A0C4-4851-A549-415CF098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964CB-AB65-4C2F-BAF1-B048E78C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E0039-B9C2-4F70-8BA0-22F8E9FC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46271-BFE5-40E5-A0F4-9B872220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6BA67-C6D1-4C47-9BBB-CCB9EF52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B5210-2574-4FB1-8231-2A7E45C2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820-EC42-484A-8BF8-3A857C85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BD2B9-4B78-43C5-8E76-7E6354E9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4A36F-6D2D-46E9-8D57-3B257659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AE058-911E-4406-B4D5-DDBAF3D2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772A1-90A1-4064-98E8-28776857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2176D-189A-4219-80CC-694706F2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4FE84-CCA9-42B1-BB19-6C29FE26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2051A-2382-4D6A-9A23-2D21D084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D8B81-8405-441F-86BB-43AA723B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7EC09-1373-4DFE-8C53-E133D13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23171-377C-465B-8D59-C27D94F9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BF48-B042-479B-B1FF-D02817F4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34EC0-54A9-4746-9AC0-ED3001B1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8F41C-8AEE-4C06-B22B-6ABBCCC6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F098E-941B-47AB-B162-B5CF127C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D6805-327B-41A5-BA7A-A8A2FD98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DDF76-4017-4A74-9718-326E81C4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B4820-119B-443F-A32C-5399E715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6DDD5-DF25-40AB-A9B6-437F5EB6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430B1-4514-45B4-8F1E-66B734FD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1CB5C-F4E1-4D2D-AC98-96AB7BCC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83DC7-CCFC-422C-8F72-746933D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F65E-B311-479A-BFD1-7CD8F5C7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48D86-9DB4-4423-B233-1C8C1ADA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54EE0-2F00-4B0D-98A5-E48701A2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8EE12-426F-4F3D-9C28-A77BA90A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C46F5-26F3-4C03-957E-E134F643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71033-741C-42CF-984D-D24F7288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58D9-AA50-450E-BA48-352AC967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E74B-4E45-432E-A96F-83D8562B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441B-32E8-4F42-90ED-86E3AD7D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17F4-3A35-415F-A82E-521FEFDF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0818-6E69-4887-B199-B7E24D61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990D-32A5-4F99-A6BD-CF19B5B7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A8FF-D4AA-4A48-BE40-F7727265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5DA2-5976-455C-BD5F-A1C1BABC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9408-A9E9-4E54-8D12-3C2F7356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4886-8189-4584-80FB-20D47D47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3C87-68EE-4017-9FFA-1C79C44A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250A-5A06-4DA6-9709-55E9C543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44DA-D173-48A6-8FB9-EA77AB26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FD156-E714-4FDF-B8E1-FCBDE1C2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B8EEA-BD6A-4E56-BCB7-3A5DCF7B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CB0B-7C59-48D3-859E-18E93C48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592-91B8-4320-B517-70EBF6CD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E330E-0480-4DA5-B268-CADD2B57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FC37-A3EE-4E7E-8F36-3964F10C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115E-1971-4C91-8A30-711DE29D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F927-BA7F-4816-823E-BF31D79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C364-E69A-462D-9328-F405B19B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2FD3-97CE-4FFB-B0BD-BE652150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8970-EF11-49A7-8F1B-73FCAD55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DEA43-9FC8-470E-9490-75D572FC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EDED-4249-4C26-BBB7-244AD284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AA519-1D35-4E14-8947-E533A158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628-85C9-43D5-8876-156B726D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6DF94-C179-4D20-B32F-76EA5AC4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7C761-CB65-440C-ABA0-378060B5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761AC-2C0D-4290-ADF8-6CE9BABA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14AEA-1E82-4A27-A740-2EB53402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58D8-25FD-480A-A970-903F22EF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DD8B0-78FF-4F9C-A48E-B5CBED78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E6EF5-7DBF-4EB1-85AA-5576CE14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B1EC2-3422-49F5-B33B-C743AE18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78800-043B-4E98-88DF-19C14C2F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08A3C-A135-4447-978F-58E9FC88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290-D956-413F-8B11-7746C31D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EFBBB-F2ED-427C-BE95-D3921BF5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E89A1-BC31-44EA-BE13-D219B13A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226A2-0B59-4698-8DEA-42436EB7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13BDD-1DE8-4930-B2F9-64B7BCB2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C40F1-0BDB-44B1-AB6F-827FFDF1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2727C-8C18-4E44-9739-650F3DA3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52B3C-B0AC-4757-92FF-58A698E1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7BE4-23BC-4602-BB96-E1372D94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39CF3-92C8-497A-A8CF-95B91856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8DAA-F29B-4742-B492-35F748B8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84A-8788-4B60-831D-9D0A6B56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02244-6BF5-48D4-830C-10E48057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5062B-D5D6-4ABC-B518-B0E8D675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DBB1E-288A-4F29-BDBD-72499703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0689E-E060-4BA1-BC15-36B26816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811EC-1232-4682-99CE-D8D0A2FE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C6615-B38A-45C7-A2FF-FCDF075D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4BBAC-5676-40DD-8A39-BDAA259D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6B203-9E6E-4054-A2C8-12060B60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DB8CC-A370-4D96-B0D3-96B33F90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DFED5-7308-40B6-81C8-83F84577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63B-7790-45C5-9EC7-2FE4A128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402C-D855-4A06-AB75-D8556AB2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5EF32-43F7-47B8-BCA5-D6500018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E15FF-9B17-4776-8129-B4C8B579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14698-D474-48DE-AC3E-E0C58D0E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955EC-1ADF-4082-88E6-6D9EF113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1B7B8-4F1F-4953-90FD-D3B02150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0C0F7-706E-432C-B397-5C9C5295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787B9-D528-4A69-8B86-D020DF8C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603F3-3EF5-4ED3-A1FB-C1A0C93F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36444-3D98-4CB4-84CB-CF27544A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1EC-0F7E-4044-A3CA-8CC3FF1A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98FBD-361E-4108-A6AB-53F83421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BA520-366E-48D8-B030-AD8C76AC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16D97-C338-4CA7-A069-161C3BEA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220CD-AA89-45D2-8E93-2442523C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DE79-2028-4F44-A3AB-41F8CE02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268C3-1668-4D65-B118-F995749E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322FE-8026-4A4C-A81C-B5374B11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52297-90AC-47AF-9102-16136F0F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08883-B7BA-4CC1-9D80-EC487742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44F80-B4A7-41B0-823F-4C955EFA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28D-F730-4665-8638-0329BA11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69D56-F1A1-43CE-A9F5-64D55563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38E4B-B76E-4323-8EA2-8BD38A5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34E24-9DE0-4831-85B4-9093B21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9D2E7-0474-4382-A54C-ECF5B8B4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FE87E-7D1B-4B8C-B73B-1D4DE41F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4078F-7E55-46D9-B245-684EC06D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58695-17B0-43AA-A972-A73A0DA5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D9359-832A-4BDC-9977-6C5628D0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1C555-7C2D-4D11-A52E-AEE2058C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4EAD8-6725-4F6E-A184-4522BE80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C965-AD22-46F8-AEFC-78E838971AF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C14A-CC44-4066-B0D5-0991D66DC1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львенок фон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8" descr="пальма.png"/>
          <p:cNvPicPr/>
          <p:nvPr/>
        </p:nvPicPr>
        <p:blipFill>
          <a:blip r:embed="rId4"/>
          <a:stretch/>
        </p:blipFill>
        <p:spPr>
          <a:xfrm>
            <a:off x="214200" y="3214800"/>
            <a:ext cx="2694240" cy="35082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7" descr="львенок 2.png"/>
          <p:cNvPicPr/>
          <p:nvPr/>
        </p:nvPicPr>
        <p:blipFill>
          <a:blip r:embed="rId5"/>
          <a:stretch/>
        </p:blipFill>
        <p:spPr>
          <a:xfrm>
            <a:off x="6734160" y="4929120"/>
            <a:ext cx="2171880" cy="1747800"/>
          </a:xfrm>
          <a:prstGeom prst="rect">
            <a:avLst/>
          </a:prstGeom>
          <a:ln w="0">
            <a:noFill/>
          </a:ln>
        </p:spPr>
      </p:pic>
      <p:sp>
        <p:nvSpPr>
          <p:cNvPr id="8" name="TextBox 9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46c0a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5D47-8925-4961-85C2-463D480CD71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93C1-9ADC-4B96-92BA-0CCE5C96A6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C719-FBCC-4CC9-801D-1AE3BF4D11D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F5BE-7EC1-43AD-990E-21BCE4AA3D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C289-6B4F-4015-975A-AEA98C0F742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B25D-EC9C-4E0C-908F-38942A4451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6464-A0A1-432E-86E6-42E25D449A8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4EAB-8B9B-4661-BD4A-4C6BC02608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0" descr="львенок5.jpg"/>
          <p:cNvPicPr/>
          <p:nvPr/>
        </p:nvPicPr>
        <p:blipFill>
          <a:blip r:embed="rId3"/>
          <a:srcRect l="5297" t="3122" r="11922" b="8150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93960" y="6500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46c0a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A910-7AAB-480D-B22D-A2D5173517B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D3D1-3E04-4453-BC3F-DAC1779D3B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3E9C-16D1-4E33-B962-64804475228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CEFB-4549-4CF8-8C19-DFCAE4DDF6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4CE6-1101-4402-B864-EF4D6A0864AA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9BE7-C852-4674-AB77-463BEB938A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CD74-281C-4916-918D-8D1B899B81D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BE06-C307-4706-8F39-ECF4C86FE1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A5E4-2FBC-4ED5-8002-23DC67B13C0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498C-C0D1-4347-8706-13FDA29972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8298-9B2B-42F9-8D7D-0822217DE10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14F9-2D6C-4DE4-8190-3D2F45FEFC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9655-F1DD-4CA7-8507-36C1B897162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75DC-BAEF-453C-A0CA-5A96344595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7360" y="-360"/>
            <a:ext cx="7772400" cy="25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ренажер по математик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1 класс</a:t>
            </a:r>
            <a:br>
              <a:rPr sz="4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чет в пределах 20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ычитание без перехода через деся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410920" y="7101000"/>
            <a:ext cx="520092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0" name="Нижний колонтитул 1"/>
          <p:cNvSpPr/>
          <p:nvPr/>
        </p:nvSpPr>
        <p:spPr>
          <a:xfrm>
            <a:off x="0" y="6567480"/>
            <a:ext cx="842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7-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510760" y="6211800"/>
            <a:ext cx="714240" cy="64152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1520"/>
              <a:gd name="textAreaBottom" fmla="*/ 600120 h 641520"/>
            </a:gdLst>
            <a:ahLst/>
            <a:rect l="textAreaLeft" t="textAreaTop" r="textAreaRight" b="textAreaBottom"/>
            <a:pathLst>
              <a:path w="24047" h="21600">
                <a:moveTo>
                  <a:pt x="0" y="0"/>
                </a:moveTo>
                <a:lnTo>
                  <a:pt x="24047" y="0"/>
                </a:lnTo>
                <a:lnTo>
                  <a:pt x="24047" y="21600"/>
                </a:lnTo>
                <a:lnTo>
                  <a:pt x="0" y="21600"/>
                </a:lnTo>
                <a:close/>
              </a:path>
              <a:path fill="lightenLess" w="24047" h="21600">
                <a:moveTo>
                  <a:pt x="0" y="0"/>
                </a:moveTo>
                <a:lnTo>
                  <a:pt x="24047" y="0"/>
                </a:lnTo>
                <a:lnTo>
                  <a:pt x="22647" y="1400"/>
                </a:lnTo>
                <a:lnTo>
                  <a:pt x="1400" y="1400"/>
                </a:lnTo>
                <a:close/>
              </a:path>
              <a:path fill="darken" w="24047" h="21600">
                <a:moveTo>
                  <a:pt x="24047" y="0"/>
                </a:moveTo>
                <a:lnTo>
                  <a:pt x="24047" y="21600"/>
                </a:lnTo>
                <a:lnTo>
                  <a:pt x="22647" y="20200"/>
                </a:lnTo>
                <a:lnTo>
                  <a:pt x="22647" y="1400"/>
                </a:lnTo>
                <a:close/>
              </a:path>
              <a:path fill="darkenLess" w="24047" h="21600">
                <a:moveTo>
                  <a:pt x="24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7" y="20200"/>
                </a:lnTo>
                <a:close/>
              </a:path>
              <a:path fill="lighten" w="24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7" h="21600">
                <a:moveTo>
                  <a:pt x="12024" y="3837"/>
                </a:moveTo>
                <a:lnTo>
                  <a:pt x="14600" y="6448"/>
                </a:lnTo>
                <a:lnTo>
                  <a:pt x="14600" y="4707"/>
                </a:lnTo>
                <a:lnTo>
                  <a:pt x="16375" y="4707"/>
                </a:lnTo>
                <a:lnTo>
                  <a:pt x="16375" y="8224"/>
                </a:lnTo>
                <a:lnTo>
                  <a:pt x="18987" y="10800"/>
                </a:lnTo>
                <a:lnTo>
                  <a:pt x="17333" y="10800"/>
                </a:lnTo>
                <a:lnTo>
                  <a:pt x="17333" y="17989"/>
                </a:lnTo>
                <a:lnTo>
                  <a:pt x="6714" y="17989"/>
                </a:lnTo>
                <a:lnTo>
                  <a:pt x="6714" y="10800"/>
                </a:lnTo>
                <a:lnTo>
                  <a:pt x="5061" y="10800"/>
                </a:lnTo>
                <a:close/>
              </a:path>
              <a:path fill="darkenLess" w="24047" h="21600">
                <a:moveTo>
                  <a:pt x="14600" y="6448"/>
                </a:moveTo>
                <a:lnTo>
                  <a:pt x="14600" y="4707"/>
                </a:lnTo>
                <a:lnTo>
                  <a:pt x="16375" y="4707"/>
                </a:lnTo>
                <a:lnTo>
                  <a:pt x="16375" y="8224"/>
                </a:lnTo>
                <a:close/>
              </a:path>
              <a:path fill="darkenLess" w="24047" h="21600">
                <a:moveTo>
                  <a:pt x="11101" y="14299"/>
                </a:moveTo>
                <a:lnTo>
                  <a:pt x="12946" y="14299"/>
                </a:lnTo>
                <a:lnTo>
                  <a:pt x="12946" y="17989"/>
                </a:lnTo>
                <a:lnTo>
                  <a:pt x="17333" y="17989"/>
                </a:lnTo>
                <a:lnTo>
                  <a:pt x="17333" y="10800"/>
                </a:lnTo>
                <a:lnTo>
                  <a:pt x="6714" y="10800"/>
                </a:lnTo>
                <a:lnTo>
                  <a:pt x="6714" y="17989"/>
                </a:lnTo>
                <a:lnTo>
                  <a:pt x="11101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Выноска-облако 2" descr=""/>
          <p:cNvPicPr/>
          <p:nvPr/>
        </p:nvPicPr>
        <p:blipFill>
          <a:blip r:embed="rId1"/>
          <a:stretch/>
        </p:blipFill>
        <p:spPr>
          <a:xfrm>
            <a:off x="1676520" y="-6480"/>
            <a:ext cx="5505480" cy="3140280"/>
          </a:xfrm>
          <a:prstGeom prst="rect">
            <a:avLst/>
          </a:prstGeom>
          <a:ln w="0">
            <a:noFill/>
          </a:ln>
        </p:spPr>
      </p:pic>
      <p:sp>
        <p:nvSpPr>
          <p:cNvPr id="53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510760" y="6211800"/>
            <a:ext cx="714240" cy="64152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1520"/>
              <a:gd name="textAreaBottom" fmla="*/ 600120 h 641520"/>
            </a:gdLst>
            <a:ahLst/>
            <a:rect l="textAreaLeft" t="textAreaTop" r="textAreaRight" b="textAreaBottom"/>
            <a:pathLst>
              <a:path w="24047" h="21600">
                <a:moveTo>
                  <a:pt x="0" y="0"/>
                </a:moveTo>
                <a:lnTo>
                  <a:pt x="24047" y="0"/>
                </a:lnTo>
                <a:lnTo>
                  <a:pt x="24047" y="21600"/>
                </a:lnTo>
                <a:lnTo>
                  <a:pt x="0" y="21600"/>
                </a:lnTo>
                <a:close/>
              </a:path>
              <a:path fill="lightenLess" w="24047" h="21600">
                <a:moveTo>
                  <a:pt x="0" y="0"/>
                </a:moveTo>
                <a:lnTo>
                  <a:pt x="24047" y="0"/>
                </a:lnTo>
                <a:lnTo>
                  <a:pt x="22647" y="1400"/>
                </a:lnTo>
                <a:lnTo>
                  <a:pt x="1400" y="1400"/>
                </a:lnTo>
                <a:close/>
              </a:path>
              <a:path fill="darken" w="24047" h="21600">
                <a:moveTo>
                  <a:pt x="24047" y="0"/>
                </a:moveTo>
                <a:lnTo>
                  <a:pt x="24047" y="21600"/>
                </a:lnTo>
                <a:lnTo>
                  <a:pt x="22647" y="20200"/>
                </a:lnTo>
                <a:lnTo>
                  <a:pt x="22647" y="1400"/>
                </a:lnTo>
                <a:close/>
              </a:path>
              <a:path fill="darkenLess" w="24047" h="21600">
                <a:moveTo>
                  <a:pt x="24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7" y="20200"/>
                </a:lnTo>
                <a:close/>
              </a:path>
              <a:path fill="lighten" w="24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7" h="21600">
                <a:moveTo>
                  <a:pt x="12024" y="3837"/>
                </a:moveTo>
                <a:lnTo>
                  <a:pt x="14600" y="6448"/>
                </a:lnTo>
                <a:lnTo>
                  <a:pt x="14600" y="4707"/>
                </a:lnTo>
                <a:lnTo>
                  <a:pt x="16375" y="4707"/>
                </a:lnTo>
                <a:lnTo>
                  <a:pt x="16375" y="8224"/>
                </a:lnTo>
                <a:lnTo>
                  <a:pt x="18987" y="10800"/>
                </a:lnTo>
                <a:lnTo>
                  <a:pt x="17333" y="10800"/>
                </a:lnTo>
                <a:lnTo>
                  <a:pt x="17333" y="17989"/>
                </a:lnTo>
                <a:lnTo>
                  <a:pt x="6714" y="17989"/>
                </a:lnTo>
                <a:lnTo>
                  <a:pt x="6714" y="10800"/>
                </a:lnTo>
                <a:lnTo>
                  <a:pt x="5061" y="10800"/>
                </a:lnTo>
                <a:close/>
              </a:path>
              <a:path fill="darkenLess" w="24047" h="21600">
                <a:moveTo>
                  <a:pt x="14600" y="6448"/>
                </a:moveTo>
                <a:lnTo>
                  <a:pt x="14600" y="4707"/>
                </a:lnTo>
                <a:lnTo>
                  <a:pt x="16375" y="4707"/>
                </a:lnTo>
                <a:lnTo>
                  <a:pt x="16375" y="8224"/>
                </a:lnTo>
                <a:close/>
              </a:path>
              <a:path fill="darkenLess" w="24047" h="21600">
                <a:moveTo>
                  <a:pt x="11101" y="14299"/>
                </a:moveTo>
                <a:lnTo>
                  <a:pt x="12946" y="14299"/>
                </a:lnTo>
                <a:lnTo>
                  <a:pt x="12946" y="17989"/>
                </a:lnTo>
                <a:lnTo>
                  <a:pt x="17333" y="17989"/>
                </a:lnTo>
                <a:lnTo>
                  <a:pt x="17333" y="10800"/>
                </a:lnTo>
                <a:lnTo>
                  <a:pt x="6714" y="10800"/>
                </a:lnTo>
                <a:lnTo>
                  <a:pt x="6714" y="17989"/>
                </a:lnTo>
                <a:lnTo>
                  <a:pt x="11101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Выноска-облако 2" descr=""/>
          <p:cNvPicPr/>
          <p:nvPr/>
        </p:nvPicPr>
        <p:blipFill>
          <a:blip r:embed="rId1"/>
          <a:stretch/>
        </p:blipFill>
        <p:spPr>
          <a:xfrm>
            <a:off x="1676520" y="-6480"/>
            <a:ext cx="5505480" cy="3140280"/>
          </a:xfrm>
          <a:prstGeom prst="rect">
            <a:avLst/>
          </a:prstGeom>
          <a:ln w="0">
            <a:noFill/>
          </a:ln>
        </p:spPr>
      </p:pic>
      <p:sp>
        <p:nvSpPr>
          <p:cNvPr id="5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6-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20-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5-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триггер"/>
          <p:cNvSpPr/>
          <p:nvPr/>
        </p:nvSpPr>
        <p:spPr>
          <a:xfrm>
            <a:off x="3676680" y="2349360"/>
            <a:ext cx="5040360" cy="362448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8-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9-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20-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4-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8-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06:45:37Z</dcterms:created>
  <dc:creator>Admin</dc:creator>
  <dc:description/>
  <dc:language>en-US</dc:language>
  <cp:lastModifiedBy>user</cp:lastModifiedBy>
  <dcterms:modified xsi:type="dcterms:W3CDTF">2016-12-26T08:57:38Z</dcterms:modified>
  <cp:revision>22</cp:revision>
  <dc:subject/>
  <dc:title>Слайд 1</dc:title>
</cp:coreProperties>
</file>