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F22C-DE90-4646-ACA4-9BEC6B388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552-F338-45EC-A87C-C8A6AF6D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96614-ECE2-41B8-A326-18831298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9753-8900-48C7-95CA-43667EC3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CAC233-0059-49C5-8E00-14FE3EBE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DAA6D0-0D1E-4359-A965-1BD4423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0F5F8-8937-4B4D-8F76-A9328869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BC232-6159-4F85-85DF-5252FCF2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BD2C3-2989-4DC6-AC90-44C68D86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36E6C-2060-43F8-886D-F787E4A2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C96E8-F5C2-4E2C-B31C-0831F4F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74FE0-626C-455F-A350-684C629E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EA7-69A4-480C-87D8-C0E7B535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211F1-4DB0-4DFF-B711-93DE7180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41323F-D1AB-4AE0-AA37-4A9E8A30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CD75D-3411-49E2-88EB-7FF37B99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C5852-4163-48E9-868A-EA3531D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549BA-5744-4C05-B13C-417942EC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AAEAC-5A23-4C91-83AE-2A29FD89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1AB18-83D3-4B25-BB23-924A1D25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290C6-16A0-4D9C-B23F-CC56843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80F3B-7616-49D9-B0DC-AD516369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7EF3E-CE96-4F75-B3EE-579F2E20F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EEE5-5124-4162-9980-C915F7F4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63D40-069B-484E-BA4B-4287711F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2867-687E-481C-914A-4FD2FE84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D526C-0403-495B-814B-F7092468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4C0A5-FEB1-4827-A8FE-F8D95A3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DD9C9-E6C5-49E7-AF0C-DEB4080A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A4260-A39F-4B64-A9E7-99F19F7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5B63-43AE-45A5-A635-BAAE8A5B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3C9DE-80B8-44C7-96A2-63CF232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1FF79-5B3E-47F9-BD31-E088C963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0EE63-2E75-4A1C-B89B-61EF359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E578-444D-4462-AA71-E95155092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2BA0D-3F88-47AB-89D1-7EE2EF37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B7FF7-0277-4449-BFD6-EA504241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CAB641-3D36-4932-BE7A-39A4D2F5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AD2D3-0C4B-4531-8CA7-5C2F71DA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A2949-C4F7-4874-8692-A0A1DA04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BD8C3-FDBB-49F4-87E3-49CFADC5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E1D9F-4408-4973-B82A-7E1598E1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07291-637F-443D-9069-FD303063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4D9D6-B30B-41C1-8E90-E9993FAC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1BC916-D93B-4FB7-9492-BE6F8B0D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682C-2002-45FA-A11A-3AF771C2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0ED89-4964-4873-BE30-602D68D0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183A6-83E9-4828-99CA-EFB99954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6675C-FDA9-4033-90B9-D5C9F360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2931A-C742-4BB1-B3E3-02A1E9C8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6AA18-1545-4C68-A194-A88D7657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0F8B-3629-4129-82A7-A48D3113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3B9A-AB4E-4A48-8C1D-4D54759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BE9C-C141-42D4-B673-43107F3A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0D99-4883-4F6E-90A6-52992FB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6089-B2A7-4FED-A35E-372C3FE4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E9D1-28C1-496D-87C1-62DD700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3E0F-8655-4B94-80EF-357F027B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92C7-485C-498D-9A8E-917E6781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4FD9-64F2-4C6D-B8A6-61E9C86B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531-119D-4266-B847-999469D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F156-DA61-4A4E-98F4-DF7441B2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F09DB-D442-40DB-9D5E-374EF7474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17A7-916D-42D6-80C0-8A718D7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CCD75-14E9-4E68-B81F-8E3464CD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03BEF-CCC9-46C2-857F-C37D78E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EC42B-9A9C-4366-AAE0-0BFB646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0C1B-3B42-4244-AE7C-F463D421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7BC81-B27D-4E9B-AE12-583E4418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28683-70E2-4577-A398-BA44D2F3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FBC2D-FF10-416C-829C-E3F7A9A0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EB636-8FEE-406E-92AC-915DBFC1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2B74-0D19-4E0F-A517-0F264709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11B6-4F8D-44D1-96A8-A6702B3E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1E602-19A1-478C-8A2F-6F473EAB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94A3-476B-49FE-93B8-D2BB89EB5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8FB6B-0BE1-4A77-B696-4F230BDF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3EF1-D6D7-4C15-B8FC-3A5E44F7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0F60-A4DF-43DF-8F39-5503108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F32F-8D23-4978-A7D8-5573A9FA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4C9F-3113-41CC-9B10-5CD2FA23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F1EE6-5266-413A-958B-59AC561C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A77F7-94B2-458D-B671-79AC92D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8661-5C7D-4D29-8D03-A1FCF94F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8DEB-5BFE-45C8-9AB1-C831EFB8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6071-4CF2-4D87-BFFE-6E9A2F2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9C0A-8824-4073-883E-BFFA6264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4BB79-51BB-4D78-8D21-A73F6519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BEB38-C954-4B86-8337-1BFC9E09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AFB5-585B-4E8D-85E4-6605CC50F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D0BB2-F341-487F-8029-5AB086E2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4EBF7-3038-438E-BFB3-99581D2D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2B5C9-B26F-470B-BCD5-82538BE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E08DB-2270-40C0-9C96-F4BA6290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1BEC-98C7-448F-9E68-1DE30D3F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E6D2-A233-44F8-80FC-373338DA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B742E-8ECE-43A3-8C4D-7E099E77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393AA-529C-4ED8-B94C-66B81E58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6572-30BF-4B13-9935-CD8EB42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62A21-2502-4E15-9682-153997A7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4AD1-6B21-4949-9887-F12A34A9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C5063-D5F7-4C22-B059-3FBF9090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11A3-09B0-49DB-979E-5FF93AEC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A4325-4BBE-4300-9CDF-E0077A53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3E008-81EE-4875-952F-8FD69262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B8BEC-A278-484D-8748-0FEE715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99A4E-FF72-45D4-9F6F-C2FA1AFF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09672-F39F-41A6-B25E-810DB52D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2A65-B7EC-4315-9A41-53FE12A4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6771-4B80-4EC7-98AC-592CC89A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0E2CA-ABBB-4E1B-A227-78F558CC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393-D9FA-4CB0-8D2B-83C49356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9C4A-4816-4128-BA7B-BFC37F55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AE558-37E6-43E8-9B3A-E0D65B78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87AC-9465-4847-BE07-43010223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35F09-C835-4DDC-8AA8-B54DEDED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AB8F2-1B60-4AA1-AB76-CF0BBD6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04090-0D27-46C5-83C0-D7B9AF55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A2883-7404-46B6-9489-6A097559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A35C9-AA5F-4495-AF7C-FC94846A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372E-6A06-4F2A-9163-27A719AC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4B9F-6EFF-4A5C-B940-15B85830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9F8-B446-42BB-B297-5B3D2BCF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5D1E-BFA4-42F8-A949-1E0CD7DD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B880C-F7F3-4B2D-8BDE-C5917B42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C7E10-BDAB-4C87-BD03-4B689FF9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5D27B-35D8-4BAD-8AC8-A104F737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A09D-D0F1-413C-A63C-3AA1C10E3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FD8A-96DA-4414-B53E-6EA9FA89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4D93-ADE9-495B-9452-E8C40522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C65B-1775-4AC3-A7F4-367893C5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0871E-AF02-4250-9149-A7F1A19E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52577-7EAB-4081-BC61-EC8B50E3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ECE-E120-4DC8-9755-F51F2575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4B8CB-C1E6-4E12-A253-42A37F4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CFA78-1959-489E-A7DB-0827C4A1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CEE56-5804-4807-930B-6D5B152F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92D17-68B2-4603-B563-0FBBC208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52173-F3A1-441B-8DAD-2D1D1864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1B38C-DF81-4179-B20E-5ADFBBA7A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C6EA0-F26F-463A-9B41-CF1B02AC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704DE-5F54-4B09-BA86-7B173F6A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C9CB5-7509-4822-B5E5-365EBBE0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6BF59-4A77-4079-893C-EAECCE3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A4C9-4234-4678-8D28-0EC44F77051C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E899-9A39-4A55-BBC5-91F621072B1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львенок фон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8" descr="пальма.png"/>
          <p:cNvPicPr/>
          <p:nvPr/>
        </p:nvPicPr>
        <p:blipFill>
          <a:blip r:embed="rId4"/>
          <a:stretch/>
        </p:blipFill>
        <p:spPr>
          <a:xfrm>
            <a:off x="214200" y="3214800"/>
            <a:ext cx="2694240" cy="350820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7" descr="львенок 2.png"/>
          <p:cNvPicPr/>
          <p:nvPr/>
        </p:nvPicPr>
        <p:blipFill>
          <a:blip r:embed="rId5"/>
          <a:stretch/>
        </p:blipFill>
        <p:spPr>
          <a:xfrm>
            <a:off x="6734160" y="4929120"/>
            <a:ext cx="2171880" cy="1747800"/>
          </a:xfrm>
          <a:prstGeom prst="rect">
            <a:avLst/>
          </a:prstGeom>
          <a:ln w="0">
            <a:noFill/>
          </a:ln>
        </p:spPr>
      </p:pic>
      <p:sp>
        <p:nvSpPr>
          <p:cNvPr id="8" name="TextBox 9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6c0a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D135-3817-44D8-815A-7DBC6ED367E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C35-4F1C-4990-AFC0-8D340AD0AB3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BED6-CF57-4C02-B889-49F7A56B16AE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F9A-9DBC-4422-BFE9-F323B8D24C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5269-0A70-430E-AEAE-1A72F119CF3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5084-C6E4-40E5-BCC2-7BBAB5F71D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28C7-C414-4A6D-9542-523A5D0CFA18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0F13-2D21-4017-9AAD-A1CED72BDE2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0" descr="львенок5.jpg"/>
          <p:cNvPicPr/>
          <p:nvPr/>
        </p:nvPicPr>
        <p:blipFill>
          <a:blip r:embed="rId3"/>
          <a:srcRect l="5297" t="3122" r="11922" b="8150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93960" y="6500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46c0a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66EA-C2A0-488A-BB3B-6535103E4DA1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6731-7193-4366-88A9-323FA869520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89DD-194B-4DFD-9491-E7AA236E28F9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71F3-DCCA-4D75-8DCB-10D173B9FB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43B6-8C31-4094-A149-EFA19DF7C18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6234-C95F-4F58-8EE8-980610EC13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FD49-A82C-4CC3-B823-57A2B8A2F92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BAD6-0FB3-4345-9B82-17B51EBEB84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288D-08D1-44DE-9743-53EBAE16908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47D6-7B4D-4A46-892F-A6415D3444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10BC-EB35-4CA6-9055-B6DC4644ED66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B0A5-903D-430B-87A0-4099DD706B1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81E-30EF-45DC-8016-4103D74EFAE7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E7E8-2362-4BBC-9334-63E42C7F1F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57360" y="-360"/>
            <a:ext cx="77724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Тренажер по математик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1 класс</a:t>
            </a:r>
            <a:br>
              <a:rPr sz="4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Счет в пределах 20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Вычитание без перехода через деся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2410920" y="7101000"/>
            <a:ext cx="520092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0" name="Нижний колонтитул 1"/>
          <p:cNvSpPr/>
          <p:nvPr/>
        </p:nvSpPr>
        <p:spPr>
          <a:xfrm>
            <a:off x="0" y="6567480"/>
            <a:ext cx="8429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7-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510760" y="6211800"/>
            <a:ext cx="714240" cy="64152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1520"/>
              <a:gd name="textAreaBottom" fmla="*/ 600120 h 641520"/>
            </a:gdLst>
            <a:ahLst/>
            <a:rect l="textAreaLeft" t="textAreaTop" r="textAreaRight" b="textAreaBottom"/>
            <a:pathLst>
              <a:path w="24047" h="21600">
                <a:moveTo>
                  <a:pt x="0" y="0"/>
                </a:moveTo>
                <a:lnTo>
                  <a:pt x="24047" y="0"/>
                </a:lnTo>
                <a:lnTo>
                  <a:pt x="24047" y="21600"/>
                </a:lnTo>
                <a:lnTo>
                  <a:pt x="0" y="21600"/>
                </a:lnTo>
                <a:close/>
              </a:path>
              <a:path fill="lightenLess" w="24047" h="21600">
                <a:moveTo>
                  <a:pt x="0" y="0"/>
                </a:moveTo>
                <a:lnTo>
                  <a:pt x="24047" y="0"/>
                </a:lnTo>
                <a:lnTo>
                  <a:pt x="22647" y="1400"/>
                </a:lnTo>
                <a:lnTo>
                  <a:pt x="1400" y="1400"/>
                </a:lnTo>
                <a:close/>
              </a:path>
              <a:path fill="darken" w="24047" h="21600">
                <a:moveTo>
                  <a:pt x="24047" y="0"/>
                </a:moveTo>
                <a:lnTo>
                  <a:pt x="24047" y="21600"/>
                </a:lnTo>
                <a:lnTo>
                  <a:pt x="22647" y="20200"/>
                </a:lnTo>
                <a:lnTo>
                  <a:pt x="22647" y="1400"/>
                </a:lnTo>
                <a:close/>
              </a:path>
              <a:path fill="darkenLess" w="24047" h="21600">
                <a:moveTo>
                  <a:pt x="24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7" y="20200"/>
                </a:lnTo>
                <a:close/>
              </a:path>
              <a:path fill="lighten" w="24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7" h="21600">
                <a:moveTo>
                  <a:pt x="12024" y="3837"/>
                </a:moveTo>
                <a:lnTo>
                  <a:pt x="14600" y="6448"/>
                </a:ln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lnTo>
                  <a:pt x="18987" y="10800"/>
                </a:lnTo>
                <a:lnTo>
                  <a:pt x="17333" y="10800"/>
                </a:lnTo>
                <a:lnTo>
                  <a:pt x="17333" y="17989"/>
                </a:lnTo>
                <a:lnTo>
                  <a:pt x="6714" y="17989"/>
                </a:lnTo>
                <a:lnTo>
                  <a:pt x="6714" y="10800"/>
                </a:lnTo>
                <a:lnTo>
                  <a:pt x="5061" y="10800"/>
                </a:lnTo>
                <a:close/>
              </a:path>
              <a:path fill="darkenLess" w="24047" h="21600">
                <a:moveTo>
                  <a:pt x="14600" y="6448"/>
                </a:move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close/>
              </a:path>
              <a:path fill="darkenLess" w="24047" h="21600">
                <a:moveTo>
                  <a:pt x="11101" y="14299"/>
                </a:moveTo>
                <a:lnTo>
                  <a:pt x="12946" y="14299"/>
                </a:lnTo>
                <a:lnTo>
                  <a:pt x="12946" y="17989"/>
                </a:lnTo>
                <a:lnTo>
                  <a:pt x="17333" y="17989"/>
                </a:lnTo>
                <a:lnTo>
                  <a:pt x="17333" y="10800"/>
                </a:lnTo>
                <a:lnTo>
                  <a:pt x="6714" y="10800"/>
                </a:lnTo>
                <a:lnTo>
                  <a:pt x="6714" y="17989"/>
                </a:lnTo>
                <a:lnTo>
                  <a:pt x="11101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Выноска-облако 2" descr=""/>
          <p:cNvPicPr/>
          <p:nvPr/>
        </p:nvPicPr>
        <p:blipFill>
          <a:blip r:embed="rId1"/>
          <a:stretch/>
        </p:blipFill>
        <p:spPr>
          <a:xfrm>
            <a:off x="1676520" y="-6480"/>
            <a:ext cx="5505480" cy="31402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Управляющая кнопка: домой 5">
            <a:hlinkClick r:id="" action="ppaction://hlinkshowjump?jump=firstslide"/>
          </p:cNvPr>
          <p:cNvSpPr/>
          <p:nvPr/>
        </p:nvSpPr>
        <p:spPr>
          <a:xfrm>
            <a:off x="8510760" y="6211800"/>
            <a:ext cx="714240" cy="64152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1520"/>
              <a:gd name="textAreaBottom" fmla="*/ 600120 h 641520"/>
            </a:gdLst>
            <a:ahLst/>
            <a:rect l="textAreaLeft" t="textAreaTop" r="textAreaRight" b="textAreaBottom"/>
            <a:pathLst>
              <a:path w="24047" h="21600">
                <a:moveTo>
                  <a:pt x="0" y="0"/>
                </a:moveTo>
                <a:lnTo>
                  <a:pt x="24047" y="0"/>
                </a:lnTo>
                <a:lnTo>
                  <a:pt x="24047" y="21600"/>
                </a:lnTo>
                <a:lnTo>
                  <a:pt x="0" y="21600"/>
                </a:lnTo>
                <a:close/>
              </a:path>
              <a:path fill="lightenLess" w="24047" h="21600">
                <a:moveTo>
                  <a:pt x="0" y="0"/>
                </a:moveTo>
                <a:lnTo>
                  <a:pt x="24047" y="0"/>
                </a:lnTo>
                <a:lnTo>
                  <a:pt x="22647" y="1400"/>
                </a:lnTo>
                <a:lnTo>
                  <a:pt x="1400" y="1400"/>
                </a:lnTo>
                <a:close/>
              </a:path>
              <a:path fill="darken" w="24047" h="21600">
                <a:moveTo>
                  <a:pt x="24047" y="0"/>
                </a:moveTo>
                <a:lnTo>
                  <a:pt x="24047" y="21600"/>
                </a:lnTo>
                <a:lnTo>
                  <a:pt x="22647" y="20200"/>
                </a:lnTo>
                <a:lnTo>
                  <a:pt x="22647" y="1400"/>
                </a:lnTo>
                <a:close/>
              </a:path>
              <a:path fill="darkenLess" w="24047" h="21600">
                <a:moveTo>
                  <a:pt x="24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47" y="20200"/>
                </a:lnTo>
                <a:close/>
              </a:path>
              <a:path fill="lighten" w="24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47" h="21600">
                <a:moveTo>
                  <a:pt x="12024" y="3837"/>
                </a:moveTo>
                <a:lnTo>
                  <a:pt x="14600" y="6448"/>
                </a:ln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lnTo>
                  <a:pt x="18987" y="10800"/>
                </a:lnTo>
                <a:lnTo>
                  <a:pt x="17333" y="10800"/>
                </a:lnTo>
                <a:lnTo>
                  <a:pt x="17333" y="17989"/>
                </a:lnTo>
                <a:lnTo>
                  <a:pt x="6714" y="17989"/>
                </a:lnTo>
                <a:lnTo>
                  <a:pt x="6714" y="10800"/>
                </a:lnTo>
                <a:lnTo>
                  <a:pt x="5061" y="10800"/>
                </a:lnTo>
                <a:close/>
              </a:path>
              <a:path fill="darkenLess" w="24047" h="21600">
                <a:moveTo>
                  <a:pt x="14600" y="6448"/>
                </a:moveTo>
                <a:lnTo>
                  <a:pt x="14600" y="4707"/>
                </a:lnTo>
                <a:lnTo>
                  <a:pt x="16375" y="4707"/>
                </a:lnTo>
                <a:lnTo>
                  <a:pt x="16375" y="8224"/>
                </a:lnTo>
                <a:close/>
              </a:path>
              <a:path fill="darkenLess" w="24047" h="21600">
                <a:moveTo>
                  <a:pt x="11101" y="14299"/>
                </a:moveTo>
                <a:lnTo>
                  <a:pt x="12946" y="14299"/>
                </a:lnTo>
                <a:lnTo>
                  <a:pt x="12946" y="17989"/>
                </a:lnTo>
                <a:lnTo>
                  <a:pt x="17333" y="17989"/>
                </a:lnTo>
                <a:lnTo>
                  <a:pt x="17333" y="10800"/>
                </a:lnTo>
                <a:lnTo>
                  <a:pt x="6714" y="10800"/>
                </a:lnTo>
                <a:lnTo>
                  <a:pt x="6714" y="17989"/>
                </a:lnTo>
                <a:lnTo>
                  <a:pt x="11101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Выноска-облако 2" descr=""/>
          <p:cNvPicPr/>
          <p:nvPr/>
        </p:nvPicPr>
        <p:blipFill>
          <a:blip r:embed="rId1"/>
          <a:stretch/>
        </p:blipFill>
        <p:spPr>
          <a:xfrm>
            <a:off x="1676520" y="-6480"/>
            <a:ext cx="5505480" cy="3140280"/>
          </a:xfrm>
          <a:prstGeom prst="rect">
            <a:avLst/>
          </a:prstGeom>
          <a:ln w="0">
            <a:noFill/>
          </a:ln>
        </p:spPr>
      </p:pic>
      <p:sp>
        <p:nvSpPr>
          <p:cNvPr id="5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20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5-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триггер"/>
          <p:cNvSpPr/>
          <p:nvPr/>
        </p:nvSpPr>
        <p:spPr>
          <a:xfrm>
            <a:off x="3676680" y="2349360"/>
            <a:ext cx="5040360" cy="362448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8-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9-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20-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4-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вопрос"/>
          <p:cNvSpPr/>
          <p:nvPr/>
        </p:nvSpPr>
        <p:spPr>
          <a:xfrm>
            <a:off x="2340000" y="399960"/>
            <a:ext cx="3857760" cy="2259000"/>
          </a:xfrm>
          <a:prstGeom prst="cloudCallout">
            <a:avLst>
              <a:gd name="adj1" fmla="val -17810"/>
              <a:gd name="adj2" fmla="val 68138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8-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Трутнева Татьяна Петровна, МБОУ "Школа № 94" г.Нижний Новг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твет"/>
          <p:cNvSpPr/>
          <p:nvPr/>
        </p:nvSpPr>
        <p:spPr>
          <a:xfrm>
            <a:off x="2340000" y="351000"/>
            <a:ext cx="3857760" cy="2357280"/>
          </a:xfrm>
          <a:prstGeom prst="cloudCallout">
            <a:avLst>
              <a:gd name="adj1" fmla="val -17810"/>
              <a:gd name="adj2" fmla="val 65087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1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триггер"/>
          <p:cNvSpPr/>
          <p:nvPr/>
        </p:nvSpPr>
        <p:spPr>
          <a:xfrm>
            <a:off x="2340000" y="189000"/>
            <a:ext cx="5040360" cy="3624120"/>
          </a:xfrm>
          <a:prstGeom prst="cloudCallout">
            <a:avLst>
              <a:gd name="adj1" fmla="val -12212"/>
              <a:gd name="adj2" fmla="val 366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19" presetSubtype="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40000">
                                          <p:val>
                                            <p:strVal val="-#ppt_h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h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h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h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h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h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6T06:45:37Z</dcterms:created>
  <dc:creator>Admin</dc:creator>
  <dc:description/>
  <dc:language>en-US</dc:language>
  <cp:lastModifiedBy>user</cp:lastModifiedBy>
  <dcterms:modified xsi:type="dcterms:W3CDTF">2016-12-26T08:57:38Z</dcterms:modified>
  <cp:revision>22</cp:revision>
  <dc:subject/>
  <dc:title>Слайд 1</dc:title>
</cp:coreProperties>
</file>