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E64-AE41-4ABE-A4E0-F0E0F1DC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952-14E5-4150-8A79-9184A3D6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312-B3D9-443E-A308-94764C02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43F-49E5-4032-AD66-B3E2991D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CD95-123B-4B91-8799-CA03272D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42E-F7DA-4A73-924C-95983F8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968-3A13-415F-A01C-C650E3A8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D79A-14F5-4142-BD55-A59C47E0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575C-95EB-4FE7-9A1D-3F2688D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41CF-4B3E-4C99-9435-4BE5A3F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E9D-B7C1-4E6C-B035-393543E4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1DB-3A92-4584-B8A3-F34B76CC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4D86-5F79-460B-AFC9-101AF37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70A-B29C-4D68-AF85-0072D6D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204D-8145-4172-84B4-6113FD2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BCE0-C813-4808-8471-31C6F7FB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6D2-9581-4A61-A6E7-414C5A4F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BEC-9B5F-48C7-8F43-91D60F02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B81-D931-46DC-8771-0EE87AB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FFD-ABAF-43B3-B0B7-4366B847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EA8-5AF5-4630-9265-B4E2022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90C-9FAF-4328-AD99-505383D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3A3-3F2A-40F5-B528-E683AC4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C3B-1C66-4D86-A122-3D81638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C85-F2D8-454C-98F7-536E0309B9F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5751-7F70-4D41-9EBD-3920C959DCB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Times New Roman"/>
              </a:rPr>
              <a:t>Но чаще всего лошади вызывали у меня чувство жалости…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071800" y="2714760"/>
            <a:ext cx="4733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И все – таки Рыжуха выгодно выделялась среди своих сородичей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143160" y="2857680"/>
            <a:ext cx="319716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Сегодня Рыжуха при моем приближении не выказала ни малейшего воодушевл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31100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были времена, когда… лошадей жалели и берегли пуще всего на свете…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1455840" cy="171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6000840" y="2357280"/>
            <a:ext cx="2287440" cy="1717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1952640" y="5000760"/>
            <a:ext cx="2259000" cy="157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4"/>
          <a:stretch/>
        </p:blipFill>
        <p:spPr>
          <a:xfrm>
            <a:off x="6143760" y="4786200"/>
            <a:ext cx="1144440" cy="135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3132000" y="2349360"/>
            <a:ext cx="101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Times New Roman"/>
              </a:rPr>
              <a:t>О чем плачут лошади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201840" cy="2427120"/>
          </a:xfrm>
          <a:prstGeom prst="rect">
            <a:avLst/>
          </a:prstGeom>
          <a:ln w="0">
            <a:noFill/>
          </a:ln>
        </p:spPr>
      </p:pic>
      <p:pic>
        <p:nvPicPr>
          <p:cNvPr id="104" name="Krasnyj_kon(2).mp3" descr=""/>
          <p:cNvPicPr/>
          <p:nvPr/>
        </p:nvPicPr>
        <p:blipFill>
          <a:blip r:embed="rId2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1182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рассказ Е. Носова «Кукла», вступительную статью «Из автобиографии» и ответить на вопрос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питает «писательское вдохновение» и что является неизменной темой писателя Е.И. Носов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6:08:26Z</dcterms:created>
  <dc:creator>Customer</dc:creator>
  <dc:description/>
  <dc:language>en-US</dc:language>
  <cp:lastModifiedBy>user</cp:lastModifiedBy>
  <dcterms:modified xsi:type="dcterms:W3CDTF">2017-01-09T16:27:45Z</dcterms:modified>
  <cp:revision>6</cp:revision>
  <dc:subject/>
  <dc:title>Слайд 1</dc:title>
</cp:coreProperties>
</file>