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055-98C5-41DF-8A34-CA86F88B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BD6-9171-441B-A7E2-485195EE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BBE-8437-4164-A04E-8B8845BD6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55AB-4F80-4AB2-9733-5681B704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A792-2F12-43E3-8CB2-89203F77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B364-07E8-4895-B1A6-69F43094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6914-07AB-4A31-B9AF-9CF87AE9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E100-0CD4-4A3B-A8DA-FF5E1DA6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3A8D-5164-41CF-8AC2-9E20641F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4111-4E40-41E2-AFA3-C00F5BB7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F3DD-F8DB-4BD2-A470-EFDB406D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4B9D-C1A2-49FC-9F96-68E3EAA1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A4EA-B444-40D3-AB63-74F46AF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BA93-408A-4B26-A464-A6CA9558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2AD8-7F39-4991-BD22-11650080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697B-9472-4681-A295-3BFB9ABB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1340-BC54-4D53-A52C-9CC37036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CEE2-FFF5-4D0F-9351-099A4C03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D65-62FC-4C99-AEDD-3A8EEEF2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11C5-AAF7-49DE-A50E-BF6787ED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25E5-BF45-4BD3-AE53-58721300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0C81-B9DE-4F16-B200-C75EB3B3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BA60-9806-4132-BAEE-83FE0359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B55-E014-4D31-AC98-CF15E61A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6C94-C3DB-4929-80D7-9FC184503AB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f1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7EEC-B872-45C9-A152-FB9BD5D52F8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Times New Roman"/>
              </a:rPr>
              <a:t>Но чаще всего лошади вызывали у меня чувство жалости…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071800" y="2714760"/>
            <a:ext cx="473364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Times New Roman"/>
              </a:rPr>
              <a:t>И все – таки Рыжуха выгодно выделялась среди своих сородичей.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143160" y="2857680"/>
            <a:ext cx="319716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Times New Roman"/>
              </a:rPr>
              <a:t>Сегодня Рыжуха при моем приближении не выказала ни малейшего воодушевл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2928960" y="2643120"/>
            <a:ext cx="3110040" cy="23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Times New Roman"/>
              </a:rPr>
              <a:t>…</a:t>
            </a:r>
            <a:r>
              <a:rPr b="1" lang="ru-RU" sz="3200" spc="-1" strike="noStrike">
                <a:solidFill>
                  <a:srgbClr val="999900"/>
                </a:solidFill>
                <a:latin typeface="Times New Roman"/>
              </a:rPr>
              <a:t>были времена, когда… лошадей жалели и берегли пуще всего на свете…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1455840" cy="171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2"/>
          <a:stretch/>
        </p:blipFill>
        <p:spPr>
          <a:xfrm>
            <a:off x="6000840" y="2357280"/>
            <a:ext cx="2287440" cy="1717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3"/>
          <a:stretch/>
        </p:blipFill>
        <p:spPr>
          <a:xfrm>
            <a:off x="1952640" y="5000760"/>
            <a:ext cx="2259000" cy="157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"/>
          <p:cNvPicPr/>
          <p:nvPr/>
        </p:nvPicPr>
        <p:blipFill>
          <a:blip r:embed="rId4"/>
          <a:stretch/>
        </p:blipFill>
        <p:spPr>
          <a:xfrm>
            <a:off x="6143760" y="4786200"/>
            <a:ext cx="1144440" cy="1354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"/>
          <p:cNvPicPr/>
          <p:nvPr/>
        </p:nvPicPr>
        <p:blipFill>
          <a:blip r:embed="rId5"/>
          <a:stretch/>
        </p:blipFill>
        <p:spPr>
          <a:xfrm>
            <a:off x="3132000" y="2349360"/>
            <a:ext cx="1014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Times New Roman"/>
              </a:rPr>
              <a:t>О чем плачут лошади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1"/>
          <a:stretch/>
        </p:blipFill>
        <p:spPr>
          <a:xfrm>
            <a:off x="2928960" y="2714760"/>
            <a:ext cx="3201840" cy="2427120"/>
          </a:xfrm>
          <a:prstGeom prst="rect">
            <a:avLst/>
          </a:prstGeom>
          <a:ln w="0">
            <a:noFill/>
          </a:ln>
        </p:spPr>
      </p:pic>
      <p:pic>
        <p:nvPicPr>
          <p:cNvPr id="104" name="Krasnyj_kon(2).mp3" descr=""/>
          <p:cNvPicPr/>
          <p:nvPr/>
        </p:nvPicPr>
        <p:blipFill>
          <a:blip r:embed="rId2"/>
          <a:stretch/>
        </p:blipFill>
        <p:spPr>
          <a:xfrm>
            <a:off x="684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11822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99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читать рассказ Е. Носова «Кукла», вступительную статью «Из автобиографии» и ответить на вопрос: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о питает «писательское вдохновение» и что является неизменной темой писателя Е.И. Носова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6:08:26Z</dcterms:created>
  <dc:creator>Customer</dc:creator>
  <dc:description/>
  <dc:language>en-US</dc:language>
  <cp:lastModifiedBy>user</cp:lastModifiedBy>
  <dcterms:modified xsi:type="dcterms:W3CDTF">2017-01-09T16:27:45Z</dcterms:modified>
  <cp:revision>6</cp:revision>
  <dc:subject/>
  <dc:title>Слайд 1</dc:title>
</cp:coreProperties>
</file>