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30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41.png" ContentType="image/png"/>
  <Override PartName="/ppt/media/image34.wmf" ContentType="image/x-wmf"/>
  <Override PartName="/ppt/media/image11.png" ContentType="image/png"/>
  <Override PartName="/ppt/media/image36.png" ContentType="image/png"/>
  <Override PartName="/ppt/media/image4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8.gif" ContentType="image/gif"/>
  <Override PartName="/ppt/media/image39.png" ContentType="image/png"/>
  <Override PartName="/ppt/media/image46.gif" ContentType="image/gif"/>
  <Override PartName="/ppt/media/image9.png" ContentType="image/png"/>
  <Override PartName="/ppt/media/image13.png" ContentType="image/png"/>
  <Override PartName="/ppt/media/image28.wmf" ContentType="image/x-wmf"/>
  <Override PartName="/ppt/media/image37.jpeg" ContentType="image/jpeg"/>
  <Override PartName="/ppt/media/image12.wmf" ContentType="image/x-wmf"/>
  <Override PartName="/ppt/media/image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3.wmf" ContentType="image/x-wmf"/>
  <Override PartName="/ppt/media/image15.jpeg" ContentType="image/jpe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63C-FBED-4A0C-BA07-311BE8B4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2D1-F857-4AF3-A289-5A8DFAD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C3C-6E0B-41BE-BF22-58E21285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33E-E1C8-4334-B0BB-4F975614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67E6-B9B5-4814-A6A4-27AA6466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F6EB-8FE7-4503-B0F1-2245066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E60F-3091-4A26-919A-6A424D82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0E1F-740F-4ABD-817A-3A342B30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A550-56A4-4001-B952-1864540F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DBC9-ABFF-4320-AA7E-7E813E9D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0C94-E420-4667-805B-64B0BD3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8D3-1246-450B-9A8D-EE1C98CF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9D55-D7E8-4C27-AF71-15A23D0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12FB-66E7-4F78-BDFF-E35D2E7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518D-EA1C-43EC-B775-8F9108AA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4FE9-87F1-4475-9167-410D00BE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BF6D-2C31-4E22-A618-23EBB3BB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8B8A6-25E4-4421-92C2-F2205F79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D158B-E513-446E-ACC4-D6A75B6F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03B2C-BFD8-44A5-AE2D-C7605484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87B0D-D673-4A05-91F4-4F10ACB1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A7050-62D3-47EC-BE55-EEE926FF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1AF-244F-4552-A342-D5A8AEFD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501CE-EFB6-42A1-812C-F8E0739D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3920C-C3FD-40C8-9369-17408329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1E9B7-49A9-426A-9A9E-3278420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00406-A373-4B42-A13E-F95E3A9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0C5C2-2DE3-401B-BC95-E650C748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679E0-C3AA-4BCE-A1EE-AAB9635E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CB20A-F7E4-4E5A-BFF2-375B5818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B5A-F46C-4F23-856D-941CE94D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46E-5DC6-4BB6-A5D3-54463DC7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F6D-D65F-48BC-8919-79F09B17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132-E4A6-4B18-93D1-0FFB6F67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7F6-B7A2-4579-B656-9E3F6B3B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C79-8CFE-4D1D-BAD7-DF47A08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CC64-3927-4EE2-A841-935E45992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10A2-0992-4BD8-A0F0-F474929121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FB03-C438-47DF-926A-5EAAD70491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4.wmf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wmf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gif"/><Relationship Id="rId8" Type="http://schemas.openxmlformats.org/officeDocument/2006/relationships/image" Target="../media/image47.png"/><Relationship Id="rId9" Type="http://schemas.openxmlformats.org/officeDocument/2006/relationships/image" Target="../media/image48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gif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384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общающий урок по теме «Безударная гласная в корне слова, проверяемая ударением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ой школ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Алгасовской 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ршанского района Тамбовской обла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опьянова Т.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ставьте пропущенные буквы.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одберите проверочны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12" descr="prd0046.gif"/>
          <p:cNvPicPr/>
          <p:nvPr/>
        </p:nvPicPr>
        <p:blipFill>
          <a:blip r:embed="rId2"/>
          <a:stretch/>
        </p:blipFill>
        <p:spPr>
          <a:xfrm>
            <a:off x="1511280" y="5437080"/>
            <a:ext cx="1098720" cy="12384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1" descr="prd0002.gif"/>
          <p:cNvPicPr/>
          <p:nvPr/>
        </p:nvPicPr>
        <p:blipFill>
          <a:blip r:embed="rId3"/>
          <a:stretch/>
        </p:blipFill>
        <p:spPr>
          <a:xfrm>
            <a:off x="6437160" y="5370480"/>
            <a:ext cx="1103400" cy="12747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monitor.wmf"/>
          <p:cNvPicPr/>
          <p:nvPr/>
        </p:nvPicPr>
        <p:blipFill>
          <a:blip r:embed="rId4"/>
          <a:stretch/>
        </p:blipFill>
        <p:spPr>
          <a:xfrm>
            <a:off x="4643280" y="1428840"/>
            <a:ext cx="4357800" cy="39798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5000760" y="1428840"/>
            <a:ext cx="392904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42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в хор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мол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л_зал с крыши–  сл_зал смет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13" descr="monitor.wmf"/>
          <p:cNvPicPr/>
          <p:nvPr/>
        </p:nvPicPr>
        <p:blipFill>
          <a:blip r:embed="rId5"/>
          <a:stretch/>
        </p:blipFill>
        <p:spPr>
          <a:xfrm>
            <a:off x="214200" y="1428840"/>
            <a:ext cx="4286520" cy="3914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571680" y="1857240"/>
            <a:ext cx="4000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Сыро в л_с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увидел л_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двер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12" descr="prd0046.gif"/>
          <p:cNvPicPr/>
          <p:nvPr/>
        </p:nvPicPr>
        <p:blipFill>
          <a:blip r:embed="rId2"/>
          <a:stretch/>
        </p:blipFill>
        <p:spPr>
          <a:xfrm>
            <a:off x="225360" y="1152360"/>
            <a:ext cx="17193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5" descr="monitor.wmf"/>
          <p:cNvPicPr/>
          <p:nvPr/>
        </p:nvPicPr>
        <p:blipFill>
          <a:blip r:embed="rId3"/>
          <a:stretch/>
        </p:blipFill>
        <p:spPr>
          <a:xfrm>
            <a:off x="2071800" y="214200"/>
            <a:ext cx="4786200" cy="43704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6"/>
          <p:cNvSpPr/>
          <p:nvPr/>
        </p:nvSpPr>
        <p:spPr>
          <a:xfrm>
            <a:off x="3000240" y="20001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7"/>
          <p:cNvSpPr/>
          <p:nvPr/>
        </p:nvSpPr>
        <p:spPr>
          <a:xfrm>
            <a:off x="0" y="4572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ыро в л_су – увидел л_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0" descr="Изображение 073"/>
          <p:cNvPicPr/>
          <p:nvPr/>
        </p:nvPicPr>
        <p:blipFill>
          <a:blip r:embed="rId4"/>
          <a:stretch/>
        </p:blipFill>
        <p:spPr>
          <a:xfrm>
            <a:off x="2714760" y="714240"/>
            <a:ext cx="3571920" cy="27241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9"/>
          <p:cNvSpPr/>
          <p:nvPr/>
        </p:nvSpPr>
        <p:spPr>
          <a:xfrm>
            <a:off x="0" y="5286240"/>
            <a:ext cx="95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в_рил дверь – отв_рил карто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5789880" y="142884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2"/>
          <p:cNvSpPr/>
          <p:nvPr/>
        </p:nvSpPr>
        <p:spPr>
          <a:xfrm>
            <a:off x="2788920" y="2714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5"/>
          <a:stretch/>
        </p:blipFill>
        <p:spPr>
          <a:xfrm>
            <a:off x="4500720" y="1928880"/>
            <a:ext cx="1571400" cy="11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9" descr="H59"/>
          <p:cNvPicPr/>
          <p:nvPr/>
        </p:nvPicPr>
        <p:blipFill>
          <a:blip r:embed="rId6"/>
          <a:stretch/>
        </p:blipFill>
        <p:spPr>
          <a:xfrm>
            <a:off x="2571840" y="642960"/>
            <a:ext cx="3786120" cy="279396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5"/>
          <p:cNvSpPr/>
          <p:nvPr/>
        </p:nvSpPr>
        <p:spPr>
          <a:xfrm>
            <a:off x="4643280" y="178596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27" descr="prd0028.gif"/>
          <p:cNvPicPr/>
          <p:nvPr/>
        </p:nvPicPr>
        <p:blipFill>
          <a:blip r:embed="rId7"/>
          <a:stretch/>
        </p:blipFill>
        <p:spPr>
          <a:xfrm>
            <a:off x="2919240" y="781200"/>
            <a:ext cx="2586240" cy="2601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6" descr="F12"/>
          <p:cNvPicPr/>
          <p:nvPr/>
        </p:nvPicPr>
        <p:blipFill>
          <a:blip r:embed="rId8"/>
          <a:stretch/>
        </p:blipFill>
        <p:spPr>
          <a:xfrm>
            <a:off x="4992840" y="2352600"/>
            <a:ext cx="1236600" cy="9446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29"/>
          <p:cNvSpPr/>
          <p:nvPr/>
        </p:nvSpPr>
        <p:spPr>
          <a:xfrm>
            <a:off x="3003120" y="1714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1736 0.13773 -0.03455 0.27546 E">
                                      <p:cBhvr>
                                        <p:cTn id="726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0069 0.22662 -0.00121 0.45347 E">
                                      <p:cBhvr>
                                        <p:cTn id="73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76 0.16736 -0.07152 0.33496 -0.12899 0.4132 C -0.18645 0.49144 -0.30347 0.45232 -0.34444 0.46945 C -0.38541 0.48658 -0.38003 0.50093 -0.37447 0.51551 E">
                                      <p:cBhvr>
                                        <p:cTn id="75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132 0.03102 0.18281 0.06204 0.25885 0.11389 C 0.3349 0.16574 0.42431 0.25648 0.4566 0.31111 C 0.48889 0.36574 0.48889 0.41505 0.45226 0.44144 C 0.41563 0.46783 0.27326 0.45764 0.23663 0.46945 C 0.2 0.48125 0.21615 0.49676 0.23229 0.5125 E">
                                      <p:cBhvr>
                                        <p:cTn id="765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monitor.wmf"/>
          <p:cNvPicPr/>
          <p:nvPr/>
        </p:nvPicPr>
        <p:blipFill>
          <a:blip r:embed="rId2"/>
          <a:stretch/>
        </p:blipFill>
        <p:spPr>
          <a:xfrm>
            <a:off x="2000160" y="357120"/>
            <a:ext cx="4786560" cy="43704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" descr="prd0002.gif"/>
          <p:cNvPicPr/>
          <p:nvPr/>
        </p:nvPicPr>
        <p:blipFill>
          <a:blip r:embed="rId3"/>
          <a:stretch/>
        </p:blipFill>
        <p:spPr>
          <a:xfrm>
            <a:off x="7083360" y="1152360"/>
            <a:ext cx="1633680" cy="21085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6"/>
          <p:cNvSpPr/>
          <p:nvPr/>
        </p:nvSpPr>
        <p:spPr>
          <a:xfrm>
            <a:off x="142920" y="492912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Зап_вает в хоре – зап_вает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142920" y="514368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Сл_зал с крыши–  сл_зал смет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5" descr="prd000l"/>
          <p:cNvPicPr/>
          <p:nvPr/>
        </p:nvPicPr>
        <p:blipFill>
          <a:blip r:embed="rId4"/>
          <a:stretch/>
        </p:blipFill>
        <p:spPr>
          <a:xfrm>
            <a:off x="2928960" y="1071720"/>
            <a:ext cx="2786040" cy="25174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9"/>
          <p:cNvSpPr/>
          <p:nvPr/>
        </p:nvSpPr>
        <p:spPr>
          <a:xfrm>
            <a:off x="378900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7" descr="F64"/>
          <p:cNvPicPr/>
          <p:nvPr/>
        </p:nvPicPr>
        <p:blipFill>
          <a:blip r:embed="rId5"/>
          <a:stretch/>
        </p:blipFill>
        <p:spPr>
          <a:xfrm>
            <a:off x="2714760" y="857160"/>
            <a:ext cx="3429000" cy="27129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1"/>
          <p:cNvSpPr/>
          <p:nvPr/>
        </p:nvSpPr>
        <p:spPr>
          <a:xfrm>
            <a:off x="3289680" y="24289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8" descr="H70"/>
          <p:cNvPicPr/>
          <p:nvPr/>
        </p:nvPicPr>
        <p:blipFill>
          <a:blip r:embed="rId6"/>
          <a:stretch/>
        </p:blipFill>
        <p:spPr>
          <a:xfrm>
            <a:off x="2714760" y="85716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3" descr="ФОТО 138.gif"/>
          <p:cNvPicPr/>
          <p:nvPr/>
        </p:nvPicPr>
        <p:blipFill>
          <a:blip r:embed="rId7"/>
          <a:stretch/>
        </p:blipFill>
        <p:spPr>
          <a:xfrm>
            <a:off x="3714840" y="1928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4"/>
          <p:cNvSpPr/>
          <p:nvPr/>
        </p:nvSpPr>
        <p:spPr>
          <a:xfrm>
            <a:off x="4646160" y="107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1" descr="F69"/>
          <p:cNvPicPr/>
          <p:nvPr/>
        </p:nvPicPr>
        <p:blipFill>
          <a:blip r:embed="rId8"/>
          <a:stretch/>
        </p:blipFill>
        <p:spPr>
          <a:xfrm>
            <a:off x="2571840" y="857160"/>
            <a:ext cx="36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6" descr="Лизун.gif"/>
          <p:cNvPicPr/>
          <p:nvPr/>
        </p:nvPicPr>
        <p:blipFill>
          <a:blip r:embed="rId9"/>
          <a:stretch/>
        </p:blipFill>
        <p:spPr>
          <a:xfrm>
            <a:off x="3857760" y="1077840"/>
            <a:ext cx="928440" cy="11606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7"/>
          <p:cNvSpPr/>
          <p:nvPr/>
        </p:nvSpPr>
        <p:spPr>
          <a:xfrm>
            <a:off x="4146840" y="21430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67 0.05945 -0.03316 0.1189 -0.07466 0.17465 C -0.11615 0.2304 -0.21719 0.29239 -0.24948 0.33403 C -0.28178 0.37566 -0.27535 0.39995 -0.26893 0.42424 E">
                                      <p:cBhvr>
                                        <p:cTn id="799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22 0.01873 0.14445 0.0377 0.18837 0.06292 C 0.23229 0.08813 0.25261 0.12237 0.2632 0.15174 C 0.27379 0.18112 0.25712 0.20402 0.25174 0.23895 C 0.24636 0.27388 0.23854 0.3176 0.23091 0.36155 E">
                                      <p:cBhvr>
                                        <p:cTn id="811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86 0.07472 -0.01771 0.14967 -0.02414 0.24035 C -0.03056 0.33102 -0.02396 0.47745 -0.03907 0.54361 C -0.05417 0.60977 -0.06927 0.62179 -0.11493 0.63706 C -0.16059 0.65233 -0.27084 0.63197 -0.31268 0.63567 C -0.35452 0.63914 -0.35643 0.65071 -0.36563 0.65996 C -0.37483 0.66922 -0.37136 0.67986 -0.36789 0.69073 E">
                                      <p:cBhvr>
                                        <p:cTn id="832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93 C 0.09392 0.02128 0.19027 0.03886 0.246 0.06986 C 0.30173 0.10086 0.32777 0.14758 0.33229 0.18922 C 0.3368 0.23086 0.28437 0.27828 0.27361 0.31946 C 0.26284 0.36063 0.27829 0.4099 0.26788 0.43581 C 0.25746 0.46172 0.23194 0.4675 0.21145 0.4756 C 0.19097 0.48369 0.15781 0.4756 0.14479 0.48485 C 0.13177 0.4941 0.13524 0.52302 0.13333 0.53065 E">
                                      <p:cBhvr>
                                        <p:cTn id="847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e1e8f5">
                <a:alpha val="45098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j0289434.jpg"/>
          <p:cNvPicPr/>
          <p:nvPr/>
        </p:nvPicPr>
        <p:blipFill>
          <a:blip r:embed="rId1"/>
          <a:stretch/>
        </p:blipFill>
        <p:spPr>
          <a:xfrm>
            <a:off x="285840" y="1000080"/>
            <a:ext cx="733320" cy="11145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j0289434.jpg"/>
          <p:cNvPicPr/>
          <p:nvPr/>
        </p:nvPicPr>
        <p:blipFill>
          <a:blip r:embed="rId2"/>
          <a:stretch/>
        </p:blipFill>
        <p:spPr>
          <a:xfrm>
            <a:off x="285840" y="4214880"/>
            <a:ext cx="733320" cy="1114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notepad2.wmf"/>
          <p:cNvPicPr/>
          <p:nvPr/>
        </p:nvPicPr>
        <p:blipFill>
          <a:blip r:embed="rId3"/>
          <a:stretch/>
        </p:blipFill>
        <p:spPr>
          <a:xfrm>
            <a:off x="1285920" y="428760"/>
            <a:ext cx="7572240" cy="2398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notepad2.wmf"/>
          <p:cNvPicPr/>
          <p:nvPr/>
        </p:nvPicPr>
        <p:blipFill>
          <a:blip r:embed="rId4"/>
          <a:stretch/>
        </p:blipFill>
        <p:spPr>
          <a:xfrm>
            <a:off x="1357200" y="3643200"/>
            <a:ext cx="7500960" cy="2398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2325960" y="928800"/>
            <a:ext cx="53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cc"/>
                </a:solidFill>
                <a:latin typeface="Calibri"/>
              </a:rPr>
              <a:t>о м р т а г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000160" y="4000680"/>
            <a:ext cx="65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50"/>
                </a:solidFill>
                <a:latin typeface="Calibri"/>
              </a:rPr>
              <a:t>а к и з о т н</a:t>
            </a:r>
            <a:r>
              <a:rPr b="1" lang="ru-RU" sz="96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7" descr="notepad2.wmf"/>
          <p:cNvPicPr/>
          <p:nvPr/>
        </p:nvPicPr>
        <p:blipFill>
          <a:blip r:embed="rId5"/>
          <a:stretch/>
        </p:blipFill>
        <p:spPr>
          <a:xfrm>
            <a:off x="1214280" y="428760"/>
            <a:ext cx="7572600" cy="2398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1785960" y="85716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cc"/>
                </a:solidFill>
                <a:latin typeface="Calibri"/>
              </a:rPr>
              <a:t>г р а м о т е 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9" descr="notepad2.wmf"/>
          <p:cNvPicPr/>
          <p:nvPr/>
        </p:nvPicPr>
        <p:blipFill>
          <a:blip r:embed="rId6"/>
          <a:stretch/>
        </p:blipFill>
        <p:spPr>
          <a:xfrm>
            <a:off x="1357200" y="3643200"/>
            <a:ext cx="7572600" cy="23986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2071800" y="40006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50"/>
                </a:solidFill>
                <a:latin typeface="Calibri"/>
              </a:rPr>
              <a:t>з н а т о к 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1" descr="prd0002.gif"/>
          <p:cNvPicPr/>
          <p:nvPr/>
        </p:nvPicPr>
        <p:blipFill>
          <a:blip r:embed="rId7"/>
          <a:stretch/>
        </p:blipFill>
        <p:spPr>
          <a:xfrm>
            <a:off x="12600" y="3797280"/>
            <a:ext cx="134640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2" descr="prd0046.gif"/>
          <p:cNvPicPr/>
          <p:nvPr/>
        </p:nvPicPr>
        <p:blipFill>
          <a:blip r:embed="rId8"/>
          <a:stretch/>
        </p:blipFill>
        <p:spPr>
          <a:xfrm>
            <a:off x="12600" y="512640"/>
            <a:ext cx="134640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453600" y="907920"/>
            <a:ext cx="81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Ш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р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ка  стр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на  м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я  р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дн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71680" y="9079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3286080" y="90792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4929120" y="90792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6143760" y="9079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1214280" y="907920"/>
            <a:ext cx="6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9" descr=""/>
          <p:cNvPicPr/>
          <p:nvPr/>
        </p:nvPicPr>
        <p:blipFill>
          <a:blip r:embed="rId2"/>
          <a:stretch/>
        </p:blipFill>
        <p:spPr>
          <a:xfrm>
            <a:off x="3333600" y="2090880"/>
            <a:ext cx="2554560" cy="12492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11" descr=""/>
          <p:cNvPicPr/>
          <p:nvPr/>
        </p:nvPicPr>
        <p:blipFill>
          <a:blip r:embed="rId3"/>
          <a:stretch/>
        </p:blipFill>
        <p:spPr>
          <a:xfrm>
            <a:off x="480960" y="3681360"/>
            <a:ext cx="8723520" cy="276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ezhik_800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2000160" y="214200"/>
            <a:ext cx="4572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езударный гласный 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998000" y="642960"/>
            <a:ext cx="31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ичиняет много му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996200" y="1357200"/>
            <a:ext cx="40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ак писать г(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о,а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)ра, тр(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о,а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)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997280" y="1857240"/>
            <a:ext cx="3577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 слова м(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о,а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)ря, д(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е,и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)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85840" y="271476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Чтобы не было сомнень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284760" y="3286080"/>
            <a:ext cx="37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тавим звук под ударень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284760" y="3929040"/>
            <a:ext cx="35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Г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ры, тр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вы, м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ре, д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л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285840" y="4429080"/>
            <a:ext cx="4714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ff"/>
                </a:solidFill>
                <a:latin typeface="Arial"/>
              </a:rPr>
              <a:t>Вот теперь напишем сме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1" descr="59I.bmp"/>
          <p:cNvPicPr/>
          <p:nvPr/>
        </p:nvPicPr>
        <p:blipFill>
          <a:blip r:embed="rId2"/>
          <a:stretch/>
        </p:blipFill>
        <p:spPr>
          <a:xfrm>
            <a:off x="-146160" y="5778360"/>
            <a:ext cx="1578240" cy="9763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flower_03.png"/>
          <p:cNvPicPr/>
          <p:nvPr/>
        </p:nvPicPr>
        <p:blipFill>
          <a:blip r:embed="rId3"/>
          <a:stretch/>
        </p:blipFill>
        <p:spPr>
          <a:xfrm>
            <a:off x="857160" y="557208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3" descr="flower_03.png"/>
          <p:cNvPicPr/>
          <p:nvPr/>
        </p:nvPicPr>
        <p:blipFill>
          <a:blip r:embed="rId4"/>
          <a:stretch/>
        </p:blipFill>
        <p:spPr>
          <a:xfrm>
            <a:off x="0" y="607680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4" descr="flower_03.png"/>
          <p:cNvPicPr/>
          <p:nvPr/>
        </p:nvPicPr>
        <p:blipFill>
          <a:blip r:embed="rId5"/>
          <a:stretch/>
        </p:blipFill>
        <p:spPr>
          <a:xfrm>
            <a:off x="1857240" y="607680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flower_03.png"/>
          <p:cNvPicPr/>
          <p:nvPr/>
        </p:nvPicPr>
        <p:blipFill>
          <a:blip r:embed="rId6"/>
          <a:stretch/>
        </p:blipFill>
        <p:spPr>
          <a:xfrm>
            <a:off x="7500960" y="5357880"/>
            <a:ext cx="762120" cy="7808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6" descr="flower_03.png"/>
          <p:cNvPicPr/>
          <p:nvPr/>
        </p:nvPicPr>
        <p:blipFill>
          <a:blip r:embed="rId7"/>
          <a:stretch/>
        </p:blipFill>
        <p:spPr>
          <a:xfrm>
            <a:off x="4714920" y="607680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7" descr="flower_03.png"/>
          <p:cNvPicPr/>
          <p:nvPr/>
        </p:nvPicPr>
        <p:blipFill>
          <a:blip r:embed="rId8"/>
          <a:stretch/>
        </p:blipFill>
        <p:spPr>
          <a:xfrm>
            <a:off x="8381880" y="607680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8" descr="flower_03.png"/>
          <p:cNvPicPr/>
          <p:nvPr/>
        </p:nvPicPr>
        <p:blipFill>
          <a:blip r:embed="rId9"/>
          <a:stretch/>
        </p:blipFill>
        <p:spPr>
          <a:xfrm>
            <a:off x="5500800" y="5500800"/>
            <a:ext cx="761760" cy="78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3" descr="paper.wmf"/>
          <p:cNvPicPr/>
          <p:nvPr/>
        </p:nvPicPr>
        <p:blipFill>
          <a:blip r:embed="rId1"/>
          <a:stretch/>
        </p:blipFill>
        <p:spPr>
          <a:xfrm flipH="1" rot="16003200">
            <a:off x="3797640" y="1465560"/>
            <a:ext cx="2700360" cy="7489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paper.wmf"/>
          <p:cNvPicPr/>
          <p:nvPr/>
        </p:nvPicPr>
        <p:blipFill>
          <a:blip r:embed="rId2"/>
          <a:stretch/>
        </p:blipFill>
        <p:spPr>
          <a:xfrm flipH="1" rot="16003200">
            <a:off x="3769200" y="-1837800"/>
            <a:ext cx="2700360" cy="7669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2124000" y="162864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од_нокий,  од_н,  од_ноче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од_нёшен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85840" y="29289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од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700000" y="4653000"/>
            <a:ext cx="40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з_мелька з_мля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з_мля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з_мли  з_мл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14920" y="60721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2" descr="prd0046.gif"/>
          <p:cNvPicPr/>
          <p:nvPr/>
        </p:nvPicPr>
        <p:blipFill>
          <a:blip r:embed="rId3"/>
          <a:stretch/>
        </p:blipFill>
        <p:spPr>
          <a:xfrm>
            <a:off x="79200" y="865080"/>
            <a:ext cx="1352880" cy="19940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prd0002.gif"/>
          <p:cNvPicPr/>
          <p:nvPr/>
        </p:nvPicPr>
        <p:blipFill>
          <a:blip r:embed="rId4"/>
          <a:stretch/>
        </p:blipFill>
        <p:spPr>
          <a:xfrm>
            <a:off x="0" y="4114800"/>
            <a:ext cx="1347840" cy="2004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7"/>
          <p:cNvSpPr/>
          <p:nvPr/>
        </p:nvSpPr>
        <p:spPr>
          <a:xfrm>
            <a:off x="7359480" y="214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7361280" y="53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69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7" descr="notepad2.wmf"/>
          <p:cNvPicPr/>
          <p:nvPr/>
        </p:nvPicPr>
        <p:blipFill>
          <a:blip r:embed="rId2"/>
          <a:stretch/>
        </p:blipFill>
        <p:spPr>
          <a:xfrm>
            <a:off x="324000" y="260280"/>
            <a:ext cx="3357360" cy="17287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notepad2.wmf"/>
          <p:cNvPicPr/>
          <p:nvPr/>
        </p:nvPicPr>
        <p:blipFill>
          <a:blip r:embed="rId3"/>
          <a:stretch/>
        </p:blipFill>
        <p:spPr>
          <a:xfrm>
            <a:off x="324000" y="2205000"/>
            <a:ext cx="3357360" cy="17287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notepad2.wmf"/>
          <p:cNvPicPr/>
          <p:nvPr/>
        </p:nvPicPr>
        <p:blipFill>
          <a:blip r:embed="rId4"/>
          <a:stretch/>
        </p:blipFill>
        <p:spPr>
          <a:xfrm>
            <a:off x="324000" y="4292640"/>
            <a:ext cx="3357360" cy="17287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notepad2.wmf"/>
          <p:cNvPicPr/>
          <p:nvPr/>
        </p:nvPicPr>
        <p:blipFill>
          <a:blip r:embed="rId5"/>
          <a:stretch/>
        </p:blipFill>
        <p:spPr>
          <a:xfrm>
            <a:off x="5219640" y="4292640"/>
            <a:ext cx="3357720" cy="1728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7" descr="notepad2.wmf"/>
          <p:cNvPicPr/>
          <p:nvPr/>
        </p:nvPicPr>
        <p:blipFill>
          <a:blip r:embed="rId6"/>
          <a:stretch/>
        </p:blipFill>
        <p:spPr>
          <a:xfrm>
            <a:off x="5219640" y="2205000"/>
            <a:ext cx="3357720" cy="17287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notepad2.wmf"/>
          <p:cNvPicPr/>
          <p:nvPr/>
        </p:nvPicPr>
        <p:blipFill>
          <a:blip r:embed="rId7"/>
          <a:stretch/>
        </p:blipFill>
        <p:spPr>
          <a:xfrm>
            <a:off x="5214960" y="28584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971640" y="404640"/>
            <a:ext cx="225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971640" y="234936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зм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т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н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ма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900000" y="4508640"/>
            <a:ext cx="21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с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п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сл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гл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5786280" y="428760"/>
            <a:ext cx="21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г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н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з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т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гр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796000" y="2421000"/>
            <a:ext cx="217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5867280" y="4508640"/>
            <a:ext cx="22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с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к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о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п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г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3" descr="notepad2.wmf"/>
          <p:cNvPicPr/>
          <p:nvPr/>
        </p:nvPicPr>
        <p:blipFill>
          <a:blip r:embed="rId8"/>
          <a:stretch/>
        </p:blipFill>
        <p:spPr>
          <a:xfrm>
            <a:off x="357120" y="28584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1"/>
          <p:cNvSpPr/>
          <p:nvPr/>
        </p:nvSpPr>
        <p:spPr>
          <a:xfrm>
            <a:off x="1004760" y="430200"/>
            <a:ext cx="22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7" descr="notepad2.wmf"/>
          <p:cNvPicPr/>
          <p:nvPr/>
        </p:nvPicPr>
        <p:blipFill>
          <a:blip r:embed="rId9"/>
          <a:stretch/>
        </p:blipFill>
        <p:spPr>
          <a:xfrm>
            <a:off x="285840" y="2214720"/>
            <a:ext cx="3357360" cy="1728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928800" y="235728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зм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т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н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ма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7" descr="notepad2.wmf"/>
          <p:cNvPicPr/>
          <p:nvPr/>
        </p:nvPicPr>
        <p:blipFill>
          <a:blip r:embed="rId10"/>
          <a:stretch/>
        </p:blipFill>
        <p:spPr>
          <a:xfrm>
            <a:off x="357120" y="428616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3"/>
          <p:cNvSpPr/>
          <p:nvPr/>
        </p:nvSpPr>
        <p:spPr>
          <a:xfrm>
            <a:off x="933480" y="4502160"/>
            <a:ext cx="21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с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п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сл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гл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7" descr="notepad2.wmf"/>
          <p:cNvPicPr/>
          <p:nvPr/>
        </p:nvPicPr>
        <p:blipFill>
          <a:blip r:embed="rId11"/>
          <a:stretch/>
        </p:blipFill>
        <p:spPr>
          <a:xfrm>
            <a:off x="5214960" y="28584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4"/>
          <p:cNvSpPr/>
          <p:nvPr/>
        </p:nvSpPr>
        <p:spPr>
          <a:xfrm>
            <a:off x="5786280" y="428760"/>
            <a:ext cx="21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г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н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з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т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гр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7" descr="notepad2.wmf"/>
          <p:cNvPicPr/>
          <p:nvPr/>
        </p:nvPicPr>
        <p:blipFill>
          <a:blip r:embed="rId12"/>
          <a:stretch/>
        </p:blipFill>
        <p:spPr>
          <a:xfrm>
            <a:off x="5214960" y="221472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5791320" y="2430360"/>
            <a:ext cx="217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7" descr="notepad2.wmf"/>
          <p:cNvPicPr/>
          <p:nvPr/>
        </p:nvPicPr>
        <p:blipFill>
          <a:blip r:embed="rId13"/>
          <a:stretch/>
        </p:blipFill>
        <p:spPr>
          <a:xfrm>
            <a:off x="5214960" y="428616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6"/>
          <p:cNvSpPr/>
          <p:nvPr/>
        </p:nvSpPr>
        <p:spPr>
          <a:xfrm>
            <a:off x="5862600" y="4502160"/>
            <a:ext cx="22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с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к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о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п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г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7" descr="snowman.gif"/>
          <p:cNvPicPr/>
          <p:nvPr/>
        </p:nvPicPr>
        <p:blipFill>
          <a:blip r:embed="rId2"/>
          <a:stretch/>
        </p:blipFill>
        <p:spPr>
          <a:xfrm>
            <a:off x="7286760" y="4429080"/>
            <a:ext cx="1590480" cy="19810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8" descr="snow.png"/>
          <p:cNvPicPr/>
          <p:nvPr/>
        </p:nvPicPr>
        <p:blipFill>
          <a:blip r:embed="rId3"/>
          <a:stretch/>
        </p:blipFill>
        <p:spPr>
          <a:xfrm>
            <a:off x="578628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9" descr=""/>
          <p:cNvPicPr/>
          <p:nvPr/>
        </p:nvPicPr>
        <p:blipFill>
          <a:blip r:embed="rId4"/>
          <a:stretch/>
        </p:blipFill>
        <p:spPr>
          <a:xfrm>
            <a:off x="42840" y="2157480"/>
            <a:ext cx="2200320" cy="115236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3" descr=""/>
          <p:cNvPicPr/>
          <p:nvPr/>
        </p:nvPicPr>
        <p:blipFill>
          <a:blip r:embed="rId5"/>
          <a:stretch/>
        </p:blipFill>
        <p:spPr>
          <a:xfrm>
            <a:off x="669960" y="1011240"/>
            <a:ext cx="1262160" cy="113508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17" descr=""/>
          <p:cNvPicPr/>
          <p:nvPr/>
        </p:nvPicPr>
        <p:blipFill>
          <a:blip r:embed="rId6"/>
          <a:stretch/>
        </p:blipFill>
        <p:spPr>
          <a:xfrm>
            <a:off x="1547640" y="5084640"/>
            <a:ext cx="3200400" cy="86544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19" descr=""/>
          <p:cNvPicPr/>
          <p:nvPr/>
        </p:nvPicPr>
        <p:blipFill>
          <a:blip r:embed="rId7"/>
          <a:stretch/>
        </p:blipFill>
        <p:spPr>
          <a:xfrm>
            <a:off x="3492360" y="2779560"/>
            <a:ext cx="2421000" cy="86544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0" descr=""/>
          <p:cNvPicPr/>
          <p:nvPr/>
        </p:nvPicPr>
        <p:blipFill>
          <a:blip r:embed="rId8"/>
          <a:stretch/>
        </p:blipFill>
        <p:spPr>
          <a:xfrm>
            <a:off x="2908440" y="66600"/>
            <a:ext cx="2852640" cy="8604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22" descr=""/>
          <p:cNvPicPr/>
          <p:nvPr/>
        </p:nvPicPr>
        <p:blipFill>
          <a:blip r:embed="rId9"/>
          <a:stretch/>
        </p:blipFill>
        <p:spPr>
          <a:xfrm>
            <a:off x="4784760" y="5877000"/>
            <a:ext cx="2663640" cy="8650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25" descr="fata_fatina_architetto_f_01.png"/>
          <p:cNvPicPr/>
          <p:nvPr/>
        </p:nvPicPr>
        <p:blipFill>
          <a:blip r:embed="rId10"/>
          <a:stretch/>
        </p:blipFill>
        <p:spPr>
          <a:xfrm>
            <a:off x="642960" y="4357800"/>
            <a:ext cx="1285920" cy="2233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550872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е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99 0.06898 0.00816 0.13819 0.00972 0.16574 E">
                                      <p:cBhvr>
                                        <p:cTn id="433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0" descr="Изображение 11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Изображение 1156"/>
          <p:cNvPicPr/>
          <p:nvPr/>
        </p:nvPicPr>
        <p:blipFill>
          <a:blip r:embed="rId2"/>
          <a:stretch/>
        </p:blipFill>
        <p:spPr>
          <a:xfrm>
            <a:off x="-428760" y="-2142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NA01682_"/>
          <p:cNvPicPr/>
          <p:nvPr/>
        </p:nvPicPr>
        <p:blipFill>
          <a:blip r:embed="rId3"/>
          <a:stretch/>
        </p:blipFill>
        <p:spPr>
          <a:xfrm>
            <a:off x="4572000" y="142920"/>
            <a:ext cx="4437000" cy="3025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6"/>
          <p:cNvSpPr/>
          <p:nvPr/>
        </p:nvSpPr>
        <p:spPr>
          <a:xfrm>
            <a:off x="6807600" y="292428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575640" y="3357720"/>
            <a:ext cx="24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8" descr="drop"/>
          <p:cNvPicPr/>
          <p:nvPr/>
        </p:nvPicPr>
        <p:blipFill>
          <a:blip r:embed="rId4"/>
          <a:stretch/>
        </p:blipFill>
        <p:spPr>
          <a:xfrm>
            <a:off x="3286080" y="2928960"/>
            <a:ext cx="792360" cy="1371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9"/>
          <p:cNvSpPr/>
          <p:nvPr/>
        </p:nvSpPr>
        <p:spPr>
          <a:xfrm>
            <a:off x="4721400" y="429264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839240" y="5877000"/>
            <a:ext cx="25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е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6012000" y="5950080"/>
            <a:ext cx="27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866920" y="596880"/>
            <a:ext cx="21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361160" y="100008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72 0.02801 -0.06944 0.05602 -0.10781 0.07986 C -0.14618 0.1037 -0.16771 0.13356 -0.23003 0.14352 C -0.29236 0.15347 -0.43194 0.15278 -0.48229 0.13912 C -0.53264 0.12546 -0.53247 0.09375 -0.53229 0.06204 E">
                                      <p:cBhvr>
                                        <p:cTn id="4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4144 -0.00538 0.0831 0.03108 0.13912 C 0.06754 0.19514 0.14306 0.26551 0.21875 0.33611 E">
                                      <p:cBhvr>
                                        <p:cTn id="50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2" descr="paper.wmf"/>
          <p:cNvPicPr/>
          <p:nvPr/>
        </p:nvPicPr>
        <p:blipFill>
          <a:blip r:embed="rId1"/>
          <a:stretch/>
        </p:blipFill>
        <p:spPr>
          <a:xfrm>
            <a:off x="0" y="692280"/>
            <a:ext cx="270036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paper.wmf"/>
          <p:cNvPicPr/>
          <p:nvPr/>
        </p:nvPicPr>
        <p:blipFill>
          <a:blip r:embed="rId2"/>
          <a:stretch/>
        </p:blipFill>
        <p:spPr>
          <a:xfrm flipH="1">
            <a:off x="6443280" y="3789360"/>
            <a:ext cx="2700360" cy="26654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parchment_paper_landsca_.png"/>
          <p:cNvPicPr/>
          <p:nvPr/>
        </p:nvPicPr>
        <p:blipFill>
          <a:blip r:embed="rId3"/>
          <a:stretch/>
        </p:blipFill>
        <p:spPr>
          <a:xfrm>
            <a:off x="3000240" y="1071720"/>
            <a:ext cx="5643720" cy="6429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parchment_paper_landsca_.png"/>
          <p:cNvPicPr/>
          <p:nvPr/>
        </p:nvPicPr>
        <p:blipFill>
          <a:blip r:embed="rId4"/>
          <a:stretch/>
        </p:blipFill>
        <p:spPr>
          <a:xfrm>
            <a:off x="2484360" y="2492280"/>
            <a:ext cx="5000760" cy="6429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6" descr="parchment_paper_landsca_.png"/>
          <p:cNvPicPr/>
          <p:nvPr/>
        </p:nvPicPr>
        <p:blipFill>
          <a:blip r:embed="rId5"/>
          <a:stretch/>
        </p:blipFill>
        <p:spPr>
          <a:xfrm>
            <a:off x="1619280" y="3933720"/>
            <a:ext cx="500076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7" descr="parchment_paper_landsca_.png"/>
          <p:cNvPicPr/>
          <p:nvPr/>
        </p:nvPicPr>
        <p:blipFill>
          <a:blip r:embed="rId6"/>
          <a:stretch/>
        </p:blipFill>
        <p:spPr>
          <a:xfrm>
            <a:off x="755640" y="5516640"/>
            <a:ext cx="5832360" cy="6429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8"/>
          <p:cNvSpPr/>
          <p:nvPr/>
        </p:nvSpPr>
        <p:spPr>
          <a:xfrm>
            <a:off x="3286080" y="1143000"/>
            <a:ext cx="48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Красив цветок, да остёр шипо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7254720" y="4508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а  е _ 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2" descr="parchment_paper_landsca_.png"/>
          <p:cNvPicPr/>
          <p:nvPr/>
        </p:nvPicPr>
        <p:blipFill>
          <a:blip r:embed="rId7"/>
          <a:stretch/>
        </p:blipFill>
        <p:spPr>
          <a:xfrm>
            <a:off x="2987640" y="1052640"/>
            <a:ext cx="5643720" cy="6429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3"/>
          <p:cNvSpPr/>
          <p:nvPr/>
        </p:nvSpPr>
        <p:spPr>
          <a:xfrm>
            <a:off x="3419640" y="1197000"/>
            <a:ext cx="48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Кр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сив цв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ток, да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стёр ш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по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14" descr="AG00090_.GIF"/>
          <p:cNvPicPr/>
          <p:nvPr/>
        </p:nvPicPr>
        <p:blipFill>
          <a:blip r:embed="rId8"/>
          <a:stretch/>
        </p:blipFill>
        <p:spPr>
          <a:xfrm flipH="1" rot="19170600">
            <a:off x="6522840" y="4527000"/>
            <a:ext cx="226800" cy="1081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5"/>
          <p:cNvSpPr/>
          <p:nvPr/>
        </p:nvSpPr>
        <p:spPr>
          <a:xfrm>
            <a:off x="3132000" y="2637000"/>
            <a:ext cx="35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Своя земля и в горсти ми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5" descr="parchment_paper_landsca_.png"/>
          <p:cNvPicPr/>
          <p:nvPr/>
        </p:nvPicPr>
        <p:blipFill>
          <a:blip r:embed="rId9"/>
          <a:stretch/>
        </p:blipFill>
        <p:spPr>
          <a:xfrm>
            <a:off x="2411280" y="2492280"/>
            <a:ext cx="5000760" cy="6429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8"/>
          <p:cNvSpPr/>
          <p:nvPr/>
        </p:nvSpPr>
        <p:spPr>
          <a:xfrm>
            <a:off x="3061080" y="2637000"/>
            <a:ext cx="35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в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 з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ля и в г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рсти м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6" descr="parchment_paper_landsca_.png"/>
          <p:cNvPicPr/>
          <p:nvPr/>
        </p:nvPicPr>
        <p:blipFill>
          <a:blip r:embed="rId10"/>
          <a:stretch/>
        </p:blipFill>
        <p:spPr>
          <a:xfrm>
            <a:off x="1619280" y="3933720"/>
            <a:ext cx="5000760" cy="6429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1"/>
          <p:cNvSpPr/>
          <p:nvPr/>
        </p:nvSpPr>
        <p:spPr>
          <a:xfrm>
            <a:off x="2340000" y="4076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озёл трясёт седой бор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2340720" y="4076640"/>
            <a:ext cx="36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ёл тр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ёт с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й б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7" descr="parchment_paper_landsca_.png"/>
          <p:cNvPicPr/>
          <p:nvPr/>
        </p:nvPicPr>
        <p:blipFill>
          <a:blip r:embed="rId11"/>
          <a:stretch/>
        </p:blipFill>
        <p:spPr>
          <a:xfrm>
            <a:off x="755640" y="5516640"/>
            <a:ext cx="5616720" cy="6429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4"/>
          <p:cNvSpPr/>
          <p:nvPr/>
        </p:nvSpPr>
        <p:spPr>
          <a:xfrm>
            <a:off x="104292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есна красна цветами, а осень - пло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1042920" y="5661000"/>
            <a:ext cx="57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на кр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на цв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ами, а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ень - пл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468360" y="1125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 е _ о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7093080" y="508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 я е   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0"/>
          <p:cNvSpPr/>
          <p:nvPr/>
        </p:nvSpPr>
        <p:spPr>
          <a:xfrm>
            <a:off x="468360" y="17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 а е _ о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4" descr="AG00090_.GIF"/>
          <p:cNvPicPr/>
          <p:nvPr/>
        </p:nvPicPr>
        <p:blipFill>
          <a:blip r:embed="rId12"/>
          <a:stretch/>
        </p:blipFill>
        <p:spPr>
          <a:xfrm flipH="1" rot="21315000">
            <a:off x="7952400" y="2123640"/>
            <a:ext cx="217440" cy="17892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4" descr="AG00090_.GIF"/>
          <p:cNvPicPr/>
          <p:nvPr/>
        </p:nvPicPr>
        <p:blipFill>
          <a:blip r:embed="rId13"/>
          <a:stretch/>
        </p:blipFill>
        <p:spPr>
          <a:xfrm rot="10185600">
            <a:off x="768240" y="2857680"/>
            <a:ext cx="216000" cy="2303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4" descr="AG00090_.GIF"/>
          <p:cNvPicPr/>
          <p:nvPr/>
        </p:nvPicPr>
        <p:blipFill>
          <a:blip r:embed="rId14"/>
          <a:stretch/>
        </p:blipFill>
        <p:spPr>
          <a:xfrm flipH="1" rot="7502400">
            <a:off x="2795040" y="1017360"/>
            <a:ext cx="220680" cy="180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2:04:03Z</dcterms:created>
  <dc:creator>Елена Селезнева</dc:creator>
  <dc:description/>
  <dc:language>en-US</dc:language>
  <cp:lastModifiedBy>user</cp:lastModifiedBy>
  <dcterms:modified xsi:type="dcterms:W3CDTF">2017-01-09T11:45:18Z</dcterms:modified>
  <cp:revision>69</cp:revision>
  <dc:subject/>
  <dc:title>Слайд 1</dc:title>
</cp:coreProperties>
</file>