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DA4A-9AC0-4A71-B568-1041B5632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2083-42E1-4AE6-B2FC-00ACAE586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0F6D-697E-48FF-B8F6-8F1DDE05B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6B69-C390-4227-8555-EB07F0CF6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CFC25-4991-410A-A32C-E44D0A8D6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68A71-5471-4086-873E-39D8F7488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D22C7-2C5B-4AB9-B32C-880C01E62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41152-A384-4AE4-B2F4-F8F609EBA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FF1EE-3358-43CB-9CA2-3DD60A259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F48C2-C3CE-4AB3-B1D3-ED7AE9835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E98CD-2886-4957-8171-04C461B39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FF71-1534-40F6-8F2B-B07227D71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F7950-4E7D-4F13-B8C7-4DB5C8D23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72E37-F9EB-4232-A2C5-FB1C3DBA2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DBA85-AE47-41F9-8133-E0722EA41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E47C1-8C28-4393-AC3A-EA0F22073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A3F68-B5BB-413C-8F82-496EE4621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E72C16-18E0-448F-8E56-7F6C232D7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2AADA5-FA40-4223-A8E0-38AB0D495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ECE45D-E10B-47BA-B611-2C5FBC5C5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D1764D-C357-4A2D-94E7-EB8CEE18D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CFE7AB-D030-4EED-B383-7524B2C86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7E64-1973-45C7-AC61-B07376F17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5CF20C-2615-41F0-94E2-EF6846A56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2912D8-42FE-417A-B51C-E600B2959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96D3C5-4FB4-48CC-9C58-69DB30E07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A78421-C146-4F75-9865-9EDA60F23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28930B-40F0-4671-B43F-329C5161A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B98F54-FBD2-4247-B088-A8E9B84B3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3BDD28-0A4D-4D88-898B-3F18D7D15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28B888-3DB6-4486-87D2-8A81B8F24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89A2DE-2BBF-431A-A17E-A24331017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A71D75-3323-468F-BAD6-60D030F5A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7FF2-12AC-4D2C-B121-DE10E7B74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76A538-5BE0-45C9-805B-E90B2F5BC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31A31C-3D66-4665-8BDC-96A97CBB8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791023-2680-40E5-909E-F1B3DFA61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2121D7-6650-426A-9CC5-E744C5534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03C483-FC5A-45CA-8817-F13F6C782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0F967D-B10E-4E74-B8DE-46917A36D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F79145-377D-42AF-BEF6-B310F89F7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9292B6-9D50-4099-83B5-35B47D347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03936E-AFFF-4428-9293-D3DDD6C97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37E075-ED3B-4EF6-B026-1D1840205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2D8E-A49C-48DD-A3D2-63109131D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C62511-5481-4307-8B7C-1F9AA0F83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6128BD-4252-445E-AED7-25BE20A86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C1BBC5-BE00-40A3-AFE1-1777E1B25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75677B-CDEF-41FC-AEC0-FCA0B791F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B0A381-1E5D-40E8-B377-4A1DE3A43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A4CE32-2848-4ED6-8A8B-B072442B0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08ED63-76BA-4F51-AF6D-13207D119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863F81-6314-46C0-BC13-18FAA698B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F0AD58-619A-49EA-8D1D-4D855BA89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A8FA3C-8295-45A4-99A4-485668489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A2DB-BDA8-44C9-B202-7316F884C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E1EE69-2C36-4744-B3D4-3B6B2E7FA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C8287E-5834-4FD9-B71B-F179A767B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D15624-5A9C-4876-A495-9C5B187A3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E3BEAF-E679-4554-877F-AAAE0690E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BF7F98-37E8-434E-AC8B-DAD8F08E0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4FBCF8-0BC5-4EFA-BA9A-59AB4ED40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DFCD75-5061-41FF-BF02-FB32BC57F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B6BD73-3865-4916-9419-1C42524FF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0A2BC9-B5F0-4C43-993D-A8F5E9FE3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859917-70D0-47F6-9372-94B9B78B6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484B-3E03-4C57-AFA1-77384778E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2C4EEA-95A0-478A-A41E-D673EC9EC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DCE19F-7897-4454-8638-CFA9C5DE6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1C86E4-BE8D-4EAB-BCF2-548EAE586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769E88-CB5C-4CC7-B8AE-67DEAA6B7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74E03B-5F55-4971-A921-0C9B992AB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30E840-4903-4BC1-831E-8DF470673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512859-4C9D-456B-8746-797CB51D9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B04703-E05A-4647-8B11-0AA525F2C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8F04C5-C331-4F78-B4B8-F3FC07050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8F5497-5439-4C66-8714-E48B1D17A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699D-71EE-4690-91A2-13EE1D97B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3EF524-5377-4F84-A0C4-2BA8476E5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6B4538-75C4-4A12-927F-1FB3885EF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F76DC5-271F-4919-A7BE-0911A4A66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F367E2-554A-4E5D-BC70-1247AB6FE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2DC286-2481-4A6C-8418-683FED571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2331-D84C-4124-8664-24BA0E47A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05279-6EFA-4616-B30E-0C7E959128B3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B7B63-CB02-4A62-A93B-02A63C0EC5C7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40E8A-C5EE-4428-8E5A-298175337CC9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73ABB-82E6-4AD0-9101-431BACEF731B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E70C5-93B6-4A7A-A9D8-01EA63512B03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A7027-D810-43E5-960A-229AE892B454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EFEDE-6111-43AC-B14A-9135902C1446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       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320e04"/>
              </a:solidFill>
              <a:latin typeface="Corbel"/>
            </a:endParaRPr>
          </a:p>
        </p:txBody>
      </p:sp>
      <p:pic>
        <p:nvPicPr>
          <p:cNvPr id="320" name="Рисунок 3" descr="http://cs614617.vk.me/v614617151/12225/bBBoSHbG0uY.jpg"/>
          <p:cNvPicPr/>
          <p:nvPr/>
        </p:nvPicPr>
        <p:blipFill>
          <a:blip r:embed="rId1"/>
          <a:stretch/>
        </p:blipFill>
        <p:spPr>
          <a:xfrm>
            <a:off x="1785960" y="214200"/>
            <a:ext cx="6643800" cy="2862360"/>
          </a:xfrm>
          <a:prstGeom prst="rect">
            <a:avLst/>
          </a:prstGeom>
          <a:ln w="0">
            <a:noFill/>
          </a:ln>
        </p:spPr>
      </p:pic>
      <p:pic>
        <p:nvPicPr>
          <p:cNvPr id="321" name="Рисунок 4" descr="http://ru.convdocs.org/pars_docs/refs/238/237275/237275_html_m70894325.gif"/>
          <p:cNvPicPr/>
          <p:nvPr/>
        </p:nvPicPr>
        <p:blipFill>
          <a:blip r:embed="rId2"/>
          <a:stretch/>
        </p:blipFill>
        <p:spPr>
          <a:xfrm>
            <a:off x="1714680" y="3214800"/>
            <a:ext cx="5940360" cy="34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ема урока: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«Однокоренные 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( родственные ) слова»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81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Вода-водитель</a:t>
            </a:r>
            <a:endParaRPr b="0" lang="en-US" sz="81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1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день-деньги</a:t>
            </a:r>
            <a:endParaRPr b="0" lang="en-US" sz="81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81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1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650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9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ИГРУШКА</a:t>
            </a:r>
            <a:br>
              <a:rPr sz="5900"/>
            </a:br>
            <a:endParaRPr b="0" lang="en-US" sz="5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8" name="Picture 4" descr=""/>
          <p:cNvPicPr/>
          <p:nvPr/>
        </p:nvPicPr>
        <p:blipFill>
          <a:blip r:embed="rId1"/>
          <a:stretch/>
        </p:blipFill>
        <p:spPr>
          <a:xfrm>
            <a:off x="2627280" y="2133720"/>
            <a:ext cx="511344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0" name="Рисунок 3" descr="http://hallenna.narod.ru/tutchev_p_1876.JPG"/>
          <p:cNvPicPr/>
          <p:nvPr/>
        </p:nvPicPr>
        <p:blipFill>
          <a:blip r:embed="rId1"/>
          <a:stretch/>
        </p:blipFill>
        <p:spPr>
          <a:xfrm>
            <a:off x="2428920" y="1571760"/>
            <a:ext cx="4214880" cy="4929120"/>
          </a:xfrm>
          <a:prstGeom prst="rect">
            <a:avLst/>
          </a:prstGeom>
          <a:ln w="0">
            <a:noFill/>
          </a:ln>
        </p:spPr>
      </p:pic>
      <p:sp>
        <p:nvSpPr>
          <p:cNvPr id="331" name="Rectangle 1"/>
          <p:cNvSpPr/>
          <p:nvPr/>
        </p:nvSpPr>
        <p:spPr>
          <a:xfrm>
            <a:off x="12960" y="5760"/>
            <a:ext cx="8047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1" lang="ru-RU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Фёдор Иванович Тютче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                </a:t>
            </a:r>
            <a:r>
              <a:rPr b="1" lang="ru-RU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(1803 – 187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        </a:t>
            </a:r>
            <a:r>
              <a:rPr b="1" lang="ru-RU" sz="39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ётр Ильич Чайковский</a:t>
            </a:r>
            <a:br>
              <a:rPr sz="3900"/>
            </a:br>
            <a:r>
              <a:rPr b="1" lang="ru-RU" sz="39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           (1840 -1893)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3" name="Содержимое 3" descr="http://www.mosconcert.com/images/abd0b1e4569fb9bbad7592caa8d7c7df.jpg"/>
          <p:cNvPicPr/>
          <p:nvPr/>
        </p:nvPicPr>
        <p:blipFill>
          <a:blip r:embed="rId1"/>
          <a:stretch/>
        </p:blipFill>
        <p:spPr>
          <a:xfrm>
            <a:off x="3182760" y="1447920"/>
            <a:ext cx="40039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1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Рукам- работа,</a:t>
            </a:r>
            <a:endParaRPr b="0" lang="en-US" sz="71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1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душе - праздник!</a:t>
            </a:r>
            <a:endParaRPr b="0" lang="en-US" sz="71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71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    </a:t>
            </a:r>
            <a:r>
              <a:rPr b="0" lang="ru-RU" sz="8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ЛАНДЫШ</a:t>
            </a:r>
            <a:endParaRPr b="0" lang="en-US" sz="80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7" name="Содержимое 3" descr="http://static.kupindoslike.com/DJURDJEVAK-Convallaria-majalis_slika_XL_4071876.jpg"/>
          <p:cNvPicPr/>
          <p:nvPr/>
        </p:nvPicPr>
        <p:blipFill>
          <a:blip r:embed="rId1"/>
          <a:stretch/>
        </p:blipFill>
        <p:spPr>
          <a:xfrm>
            <a:off x="1785960" y="1500120"/>
            <a:ext cx="6929280" cy="469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3T08:55:46Z</dcterms:created>
  <dc:creator>Admin</dc:creator>
  <dc:description/>
  <dc:language>en-US</dc:language>
  <cp:lastModifiedBy>school12</cp:lastModifiedBy>
  <dcterms:modified xsi:type="dcterms:W3CDTF">2016-12-20T05:22:42Z</dcterms:modified>
  <cp:revision>7</cp:revision>
  <dc:subject/>
  <dc:title>Слайд 1</dc:title>
</cp:coreProperties>
</file>