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EF2-86EC-4A7D-8F93-BFF82E10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C9EA-6155-4A3F-86B8-7D36254E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AC1-266E-4DDD-BC32-427CB5A2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D8E-FFA5-4FD2-AE57-3A91E51F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1C04-79E4-4BE0-8C7D-CD2458AC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36B5-7CDC-439C-88FB-224CE429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BCF3-E91A-483D-BB84-FFA65D6A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464A-BA15-42FB-8247-EE4CA25C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62D4-5BD8-4E65-B66C-174271C2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8E63-AAA2-466C-8A3E-339C6866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CC41-5691-463E-B095-8C62399C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A15-970C-490D-AC77-09AEF1AF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3F0E-7777-43D4-B4C4-6A7B5851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8CD8-8937-45E3-A34A-C62E2739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0B48-3607-4B6A-B470-75EADC94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BADD-04F0-44F3-B49B-66ACD319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C0CF-C4AF-4D59-BEF6-30D53AB7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2F77-48E4-48F2-84A9-029D4834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67F4-ACFE-4791-AA96-2E00D09F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07D5-8158-4BB9-A04C-DD294EEC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A4C7-A8A9-4697-B0B7-CA69FAC8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8F94-CEF5-4B7C-B47E-580B9252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6EF-771B-47C2-B23E-9B6C8304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54C5-58FA-4033-B958-33BC5FB5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823F7-174B-4534-BD6A-0C8B832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9E2E-677D-4E44-85B7-6E919D66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CD99-1817-4C4D-AC42-176584A0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E237-B0DF-409D-9639-E5E96512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B927D-F40D-4B86-B93A-1EA85176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4725-1587-40EF-A255-CF56B6A6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E5629-4FAB-4132-9195-563DDCED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E789-DA73-4DF9-9F86-85E02B59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6EDC2-205C-49BC-BDA6-C859E053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989-82C0-4BA5-AAF8-5D752F5C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6EEA6-8AFC-4030-AA7F-B199CA42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9322-C8A8-4D08-BA99-ABFC9308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8580-999C-4963-82E7-1BD3FE11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5F65D-7FF9-4DB6-8C51-8BFE396A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D48D-B3A8-4AFB-A0B7-888D894E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9956-6835-4604-816C-0871FC73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0A492-B2DB-42BE-AC23-6A9D32F2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56A9D-4AA4-4089-BDD1-E242AA69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05027-1E0E-4185-86ED-37B7D5E9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0AC04-1345-430E-8766-79F2CE5A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30D-4F36-4943-8FF0-3B7D4315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D02C-73A6-4C19-BF03-E6F317AB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6FF8A-AFEE-4C28-B71F-03275877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07149-F2E6-47F6-A763-9382DBAA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FFBA9-BABC-4A64-B3C5-4230CEDA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2101D-AA51-49CB-8976-8F9698E7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E2C3D-FC31-4CC3-BF1E-74D070E5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F8F3B-39FF-4CFF-9F72-A6D38AC6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FAF24-1204-403D-8C62-8DCAEAAA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384E1-F074-44B0-8680-0F24D9BF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0ED2-3BE6-43C2-93D9-4EB4940D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EB2-C501-4397-A39D-3AF5568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8377A-4474-43D6-AFA6-286DD024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75582-F2D3-4DAC-9DBB-3364B389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7F33D-F452-4816-85F0-4EC8B440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853AA-0B3F-4FCA-B3D3-3B16720C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3A9D8-6EC8-4DA6-B39E-C5FC4879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AF4DC-7BC1-4792-9950-8E5139E7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C95C3-A8C2-4F4E-B92A-BE1AFDB5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363D7-AEA2-468F-8341-4671DB11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2CDBD-CAAD-4446-8C9C-27A8F1BA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FAB8-8913-4E5D-B4F5-0B632BF9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E98-2DA8-46D9-A29B-62FD7836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FCAF3-CA98-4E79-BDF5-A92174D5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3F8FC-9D32-4A64-A67B-C9441F65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DE07F-78BC-42B8-B42E-DF3B7A88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CE97E-301F-4979-AB12-EECD3265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EB3C1-6210-41B8-8149-4E9EFF8B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E69AD-F9CE-4841-9663-2F72EB09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8A18A-FD77-4FC6-9DA3-A7A5E25B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4EB47-2357-464E-9F29-EB0F5C75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8C92B-A4CC-4896-AA26-1CAC4BA9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D4152-6D0C-43D1-B5E9-C5CC38BC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820-6A0E-4BEA-ABD7-1DC41CE1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DA9E7-BE61-42E8-8A0B-17F73C10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6C22-C3F7-43E1-BA3A-446CBC59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7EF7F-971B-41AB-B170-AB7DA98D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7F1E3-B3F0-4329-A4D1-90F6D569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92748-7FD1-422C-87E8-048BEBC4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472-2C21-453D-8EB2-AE02A82A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DF41-2B3C-43FA-A5CA-16FFD1EECE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07A0-7A72-48F3-B37E-05223C8E2C5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81F6-1F36-45E8-8037-4057A49493B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309-A45F-4A83-B0B3-8D6BF714B0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3C37-4BED-4D19-85FE-D0E3B2F0464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9459-B11E-49D8-A03E-2B333B0F005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DFAA-6A13-459C-BA97-1DB22790BEF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Рисунок 3" descr="http://cs614617.vk.me/v614617151/12225/bBBoSHbG0uY.jpg"/>
          <p:cNvPicPr/>
          <p:nvPr/>
        </p:nvPicPr>
        <p:blipFill>
          <a:blip r:embed="rId1"/>
          <a:stretch/>
        </p:blipFill>
        <p:spPr>
          <a:xfrm>
            <a:off x="1785960" y="214200"/>
            <a:ext cx="6643800" cy="28623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4" descr="http://ru.convdocs.org/pars_docs/refs/238/237275/237275_html_m70894325.gif"/>
          <p:cNvPicPr/>
          <p:nvPr/>
        </p:nvPicPr>
        <p:blipFill>
          <a:blip r:embed="rId2"/>
          <a:stretch/>
        </p:blipFill>
        <p:spPr>
          <a:xfrm>
            <a:off x="1714680" y="3214800"/>
            <a:ext cx="59403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Однокоренные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 родственные ) слова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8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да-водитель</a:t>
            </a:r>
            <a:endParaRPr b="0" lang="en-US" sz="8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нь-деньги</a:t>
            </a:r>
            <a:endParaRPr b="0" lang="en-US" sz="8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ГРУШКА</a:t>
            </a:r>
            <a:br>
              <a:rPr sz="5900"/>
            </a:b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5113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Рисунок 3" descr="http://hallenna.narod.ru/tutchev_p_1876.JPG"/>
          <p:cNvPicPr/>
          <p:nvPr/>
        </p:nvPicPr>
        <p:blipFill>
          <a:blip r:embed="rId1"/>
          <a:stretch/>
        </p:blipFill>
        <p:spPr>
          <a:xfrm>
            <a:off x="2428920" y="1571760"/>
            <a:ext cx="4214880" cy="49291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/>
          <p:cNvSpPr/>
          <p:nvPr/>
        </p:nvSpPr>
        <p:spPr>
          <a:xfrm>
            <a:off x="12960" y="5760"/>
            <a:ext cx="804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ёдор Иванович Тют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803 – 187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</a:t>
            </a:r>
            <a:r>
              <a:rPr b="1" lang="ru-RU" sz="3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ётр Ильич Чайковский</a:t>
            </a:r>
            <a:br>
              <a:rPr sz="3900"/>
            </a:br>
            <a:r>
              <a:rPr b="1" lang="ru-RU" sz="3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(1840 -1893)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3" descr="http://www.mosconcert.com/images/abd0b1e4569fb9bbad7592caa8d7c7df.jpg"/>
          <p:cNvPicPr/>
          <p:nvPr/>
        </p:nvPicPr>
        <p:blipFill>
          <a:blip r:embed="rId1"/>
          <a:stretch/>
        </p:blipFill>
        <p:spPr>
          <a:xfrm>
            <a:off x="3182760" y="1447920"/>
            <a:ext cx="4003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кам- работа,</a:t>
            </a:r>
            <a:endParaRPr b="0" lang="en-US" sz="7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уше - праздник!</a:t>
            </a:r>
            <a:endParaRPr b="0" lang="en-US" sz="7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7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</a:t>
            </a:r>
            <a:r>
              <a:rPr b="0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НДЫШ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3" descr="http://static.kupindoslike.com/DJURDJEVAK-Convallaria-majalis_slika_XL_4071876.jpg"/>
          <p:cNvPicPr/>
          <p:nvPr/>
        </p:nvPicPr>
        <p:blipFill>
          <a:blip r:embed="rId1"/>
          <a:stretch/>
        </p:blipFill>
        <p:spPr>
          <a:xfrm>
            <a:off x="1785960" y="1500120"/>
            <a:ext cx="69292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3T08:55:46Z</dcterms:created>
  <dc:creator>Admin</dc:creator>
  <dc:description/>
  <dc:language>en-US</dc:language>
  <cp:lastModifiedBy>school12</cp:lastModifiedBy>
  <dcterms:modified xsi:type="dcterms:W3CDTF">2016-12-20T05:22:42Z</dcterms:modified>
  <cp:revision>7</cp:revision>
  <dc:subject/>
  <dc:title>Слайд 1</dc:title>
</cp:coreProperties>
</file>